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84D-150D-470C-B684-209EA5C5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3C90-AA5C-40F2-8EC4-E5FB749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607-14B4-4762-9C9F-086B8286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C9C-03A2-45B9-B03D-ED19F34C3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665-5B65-4321-9582-B62C73DD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5BCF-8171-4467-A4F5-221B7CC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623-6BD5-4D2F-ABE2-0607988C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280-0B11-4943-BFA7-8310A7D6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DC1-67FC-4414-8F47-F33D320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F165-1E6A-456D-A7EE-996EF498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AD6-3DB4-493A-B9D8-168F9171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B76-A600-4F6E-95C3-A31160A6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EA01-9267-4206-80EE-FB58278BD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957240" y="895320"/>
            <a:ext cx="6821640" cy="17874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"/>
          <p:cNvPicPr/>
          <p:nvPr/>
        </p:nvPicPr>
        <p:blipFill>
          <a:blip r:embed="rId1"/>
          <a:srcRect l="14567" t="16412" r="14567" b="15366"/>
          <a:stretch/>
        </p:blipFill>
        <p:spPr>
          <a:xfrm>
            <a:off x="1187280" y="0"/>
            <a:ext cx="6840720" cy="4221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468360" y="4221000"/>
            <a:ext cx="8101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就在这时候，水彩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叭的一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掉到了纸上，把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弄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了，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哇地哭了起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"/>
          <p:cNvPicPr/>
          <p:nvPr/>
        </p:nvPicPr>
        <p:blipFill>
          <a:blip r:embed="rId1"/>
          <a:srcRect l="26168" t="58669" r="47149" b="100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3"/>
          <p:cNvGrpSpPr/>
          <p:nvPr/>
        </p:nvGrpSpPr>
        <p:grpSpPr>
          <a:xfrm>
            <a:off x="5508720" y="1052640"/>
            <a:ext cx="2663640" cy="1081080"/>
            <a:chOff x="5508720" y="1052640"/>
            <a:chExt cx="2663640" cy="1081080"/>
          </a:xfrm>
        </p:grpSpPr>
        <p:sp>
          <p:nvSpPr>
            <p:cNvPr id="71" name="AutoShape 4"/>
            <p:cNvSpPr/>
            <p:nvPr/>
          </p:nvSpPr>
          <p:spPr>
            <a:xfrm>
              <a:off x="5508720" y="1052640"/>
              <a:ext cx="2663640" cy="1081080"/>
            </a:xfrm>
            <a:prstGeom prst="cloudCallout">
              <a:avLst>
                <a:gd name="adj1" fmla="val -24254"/>
                <a:gd name="adj2" fmla="val 1078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5"/>
            <p:cNvSpPr/>
            <p:nvPr/>
          </p:nvSpPr>
          <p:spPr>
            <a:xfrm>
              <a:off x="6285960" y="1268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哇</a:t>
              </a:r>
              <a:r>
                <a:rPr b="1" lang="en-US" sz="3600" spc="-1" strike="noStrike">
                  <a:solidFill>
                    <a:srgbClr val="06521e"/>
                  </a:solidFill>
                  <a:latin typeface="Arial"/>
                  <a:ea typeface="楷体_GB2312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6"/>
          <p:cNvSpPr/>
          <p:nvPr/>
        </p:nvSpPr>
        <p:spPr>
          <a:xfrm>
            <a:off x="6607800" y="610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玲玲哇的哭了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3"/>
          <p:cNvGrpSpPr/>
          <p:nvPr/>
        </p:nvGrpSpPr>
        <p:grpSpPr>
          <a:xfrm>
            <a:off x="3564000" y="549360"/>
            <a:ext cx="3600360" cy="1295280"/>
            <a:chOff x="3564000" y="549360"/>
            <a:chExt cx="3600360" cy="1295280"/>
          </a:xfrm>
        </p:grpSpPr>
        <p:sp>
          <p:nvSpPr>
            <p:cNvPr id="76" name="AutoShape 4"/>
            <p:cNvSpPr/>
            <p:nvPr/>
          </p:nvSpPr>
          <p:spPr>
            <a:xfrm>
              <a:off x="3564000" y="549360"/>
              <a:ext cx="3600360" cy="1295280"/>
            </a:xfrm>
            <a:prstGeom prst="cloudCallout">
              <a:avLst>
                <a:gd name="adj1" fmla="val -57361"/>
                <a:gd name="adj2" fmla="val 7181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"/>
            <p:cNvSpPr/>
            <p:nvPr/>
          </p:nvSpPr>
          <p:spPr>
            <a:xfrm>
              <a:off x="4425480" y="836640"/>
              <a:ext cx="210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怎么了，孩子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6"/>
          <p:cNvGrpSpPr/>
          <p:nvPr/>
        </p:nvGrpSpPr>
        <p:grpSpPr>
          <a:xfrm>
            <a:off x="4788000" y="2637000"/>
            <a:ext cx="4608360" cy="1512720"/>
            <a:chOff x="4788000" y="2637000"/>
            <a:chExt cx="4608360" cy="1512720"/>
          </a:xfrm>
        </p:grpSpPr>
        <p:sp>
          <p:nvSpPr>
            <p:cNvPr id="79" name="AutoShape 7"/>
            <p:cNvSpPr/>
            <p:nvPr/>
          </p:nvSpPr>
          <p:spPr>
            <a:xfrm>
              <a:off x="4788000" y="2637000"/>
              <a:ext cx="4608360" cy="1512720"/>
            </a:xfrm>
            <a:prstGeom prst="cloudCallout">
              <a:avLst>
                <a:gd name="adj1" fmla="val -53374"/>
                <a:gd name="adj2" fmla="val 460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5075280" y="2853000"/>
              <a:ext cx="403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我的画弄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脏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了，另画一张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也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来不及了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705040" y="2997360"/>
            <a:ext cx="383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看了画后，怎么说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3"/>
          <p:cNvGrpSpPr/>
          <p:nvPr/>
        </p:nvGrpSpPr>
        <p:grpSpPr>
          <a:xfrm>
            <a:off x="3492360" y="549360"/>
            <a:ext cx="5111640" cy="1728720"/>
            <a:chOff x="3492360" y="549360"/>
            <a:chExt cx="5111640" cy="1728720"/>
          </a:xfrm>
        </p:grpSpPr>
        <p:sp>
          <p:nvSpPr>
            <p:cNvPr id="85" name="AutoShape 4"/>
            <p:cNvSpPr/>
            <p:nvPr/>
          </p:nvSpPr>
          <p:spPr>
            <a:xfrm>
              <a:off x="3492360" y="549360"/>
              <a:ext cx="5111640" cy="1728720"/>
            </a:xfrm>
            <a:prstGeom prst="cloudCallout">
              <a:avLst>
                <a:gd name="adj1" fmla="val -58976"/>
                <a:gd name="adj2" fmla="val 47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"/>
            <p:cNvSpPr/>
            <p:nvPr/>
          </p:nvSpPr>
          <p:spPr>
            <a:xfrm>
              <a:off x="3781440" y="766800"/>
              <a:ext cx="475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别哭，孩子。在这儿画点什么，不是很好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3002760" y="1773360"/>
            <a:ext cx="4295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玲玲听了爸爸的话后是怎么做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18040" y="3141720"/>
            <a:ext cx="349056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你们觉得玲玲的做法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195640" y="3705120"/>
            <a:ext cx="532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玲玲这回满意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71640" y="486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小花狗懒洋洋地趴在楼梯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4"/>
          <p:cNvPicPr/>
          <p:nvPr/>
        </p:nvPicPr>
        <p:blipFill>
          <a:blip r:embed="rId1"/>
          <a:srcRect l="15748" t="16777" r="14567" b="16015"/>
          <a:stretch/>
        </p:blipFill>
        <p:spPr>
          <a:xfrm>
            <a:off x="1619280" y="114480"/>
            <a:ext cx="6372360" cy="46098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971640" y="5921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玲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满意地笑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181080" y="333360"/>
            <a:ext cx="33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家的一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4"/>
          <p:cNvPicPr/>
          <p:nvPr/>
        </p:nvPicPr>
        <p:blipFill>
          <a:blip r:embed="rId3"/>
          <a:srcRect l="15748" t="16777" r="14567" b="16015"/>
          <a:stretch/>
        </p:blipFill>
        <p:spPr>
          <a:xfrm>
            <a:off x="1332000" y="1484280"/>
            <a:ext cx="6480000" cy="4969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7389000" y="615168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黑体"/>
                <a:ea typeface="黑体"/>
              </a:rPr>
              <a:t>玲玲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258920" y="2276640"/>
            <a:ext cx="74754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针对这件事是怎么教育玲玲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2"/>
          <p:cNvPicPr/>
          <p:nvPr/>
        </p:nvPicPr>
        <p:blipFill>
          <a:blip r:embed="rId1"/>
          <a:srcRect l="25126" t="42875" r="33791" b="1039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3"/>
          <p:cNvGrpSpPr/>
          <p:nvPr/>
        </p:nvGrpSpPr>
        <p:grpSpPr>
          <a:xfrm>
            <a:off x="3419640" y="620640"/>
            <a:ext cx="5830200" cy="2881440"/>
            <a:chOff x="3419640" y="620640"/>
            <a:chExt cx="5830200" cy="2881440"/>
          </a:xfrm>
        </p:grpSpPr>
        <p:sp>
          <p:nvSpPr>
            <p:cNvPr id="103" name="AutoShape 4"/>
            <p:cNvSpPr/>
            <p:nvPr/>
          </p:nvSpPr>
          <p:spPr>
            <a:xfrm>
              <a:off x="3419640" y="620640"/>
              <a:ext cx="5651280" cy="2881440"/>
            </a:xfrm>
            <a:prstGeom prst="cloudCallout">
              <a:avLst>
                <a:gd name="adj1" fmla="val -59384"/>
                <a:gd name="adj2" fmla="val 17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3778200" y="1028520"/>
              <a:ext cx="54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6521e"/>
                  </a:solidFill>
                  <a:latin typeface="楷体_GB2312"/>
                  <a:ea typeface="楷体_GB2312"/>
                </a:rPr>
                <a:t>看到了吧，孩子。好多事情并不像我们想象的那么糟。只要肯动脑筋，坏事往往能变成好事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440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1619280" y="1845360"/>
            <a:ext cx="6912000" cy="342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l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í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x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g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ú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　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i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玲   详   幅   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z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g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ī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催   叭   脏   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900000" y="765000"/>
            <a:ext cx="23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11"/>
          <p:cNvSpPr/>
          <p:nvPr/>
        </p:nvSpPr>
        <p:spPr>
          <a:xfrm>
            <a:off x="3059280" y="620640"/>
            <a:ext cx="5545080" cy="3672000"/>
          </a:xfrm>
          <a:prstGeom prst="wedgeRoundRectCallout">
            <a:avLst>
              <a:gd name="adj1" fmla="val -65976"/>
              <a:gd name="adj2" fmla="val 53416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48000" y="1268280"/>
            <a:ext cx="48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好多事情并不像我们想象的那么糟。只要肯动脑筋，坏事往往能变成好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796000" y="299736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4427640" y="3573360"/>
            <a:ext cx="720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2CRN4_ZACHD]XS9W[AO3_9C"/>
          <p:cNvPicPr/>
          <p:nvPr/>
        </p:nvPicPr>
        <p:blipFill>
          <a:blip r:embed="rId1"/>
          <a:stretch/>
        </p:blipFill>
        <p:spPr>
          <a:xfrm>
            <a:off x="250920" y="189000"/>
            <a:ext cx="22208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3FD-464E-4F6F-8F24-6C3277CC8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1116000" y="2492280"/>
            <a:ext cx="7777080" cy="21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爸爸的话有道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6521e"/>
                </a:solidFill>
                <a:latin typeface="宋体"/>
              </a:rPr>
              <a:t>听了爸爸的话，你有什么想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4"/>
          <p:cNvPicPr/>
          <p:nvPr/>
        </p:nvPicPr>
        <p:blipFill>
          <a:blip r:embed="rId2"/>
          <a:srcRect l="9676" t="12812" r="38694" b="16213"/>
          <a:stretch/>
        </p:blipFill>
        <p:spPr>
          <a:xfrm>
            <a:off x="7740720" y="5805360"/>
            <a:ext cx="115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187280" y="2276640"/>
            <a:ext cx="7380360" cy="192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说说你在生活中有没有遇到过类似的事？是否也曾体会过坏事变好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250920" y="1413000"/>
            <a:ext cx="87138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天到了，老师有一天穿了件裙子，裙子新买来的，朋友们都说好看，可是不小心被钉子挂了个洞，岂不是不能穿了吗？老师就想了个办法：在破洞的地方用红线绣了朵小花，裙子更漂亮了，谁也看不出是破了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一次，我和小朋友玩过家家的时候，不小心把水洒了一地，我收拾好玩具，就把地拖了一遍，妈妈回来了，夸我是个爱劳动的好孩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915360" y="148428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2436840" y="2671920"/>
            <a:ext cx="5087880" cy="1225440"/>
            <a:chOff x="2436840" y="2671920"/>
            <a:chExt cx="5087880" cy="1225440"/>
          </a:xfrm>
        </p:grpSpPr>
        <p:grpSp>
          <p:nvGrpSpPr>
            <p:cNvPr id="124" name="Group 5"/>
            <p:cNvGrpSpPr/>
            <p:nvPr/>
          </p:nvGrpSpPr>
          <p:grpSpPr>
            <a:xfrm>
              <a:off x="6253200" y="2708280"/>
              <a:ext cx="1271520" cy="1189080"/>
              <a:chOff x="6253200" y="2708280"/>
              <a:chExt cx="1271520" cy="118908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625320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"/>
              <p:cNvSpPr/>
              <p:nvPr/>
            </p:nvSpPr>
            <p:spPr>
              <a:xfrm flipH="1">
                <a:off x="625320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>
                <a:off x="688932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9"/>
            <p:cNvGrpSpPr/>
            <p:nvPr/>
          </p:nvGrpSpPr>
          <p:grpSpPr>
            <a:xfrm>
              <a:off x="4981680" y="2708280"/>
              <a:ext cx="1271520" cy="1189080"/>
              <a:chOff x="4981680" y="2708280"/>
              <a:chExt cx="1271520" cy="1189080"/>
            </a:xfrm>
          </p:grpSpPr>
          <p:sp>
            <p:nvSpPr>
              <p:cNvPr id="129" name="Rectangle 10"/>
              <p:cNvSpPr/>
              <p:nvPr/>
            </p:nvSpPr>
            <p:spPr>
              <a:xfrm>
                <a:off x="498168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1"/>
              <p:cNvSpPr/>
              <p:nvPr/>
            </p:nvSpPr>
            <p:spPr>
              <a:xfrm flipH="1">
                <a:off x="498168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561780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13"/>
            <p:cNvGrpSpPr/>
            <p:nvPr/>
          </p:nvGrpSpPr>
          <p:grpSpPr>
            <a:xfrm>
              <a:off x="3708000" y="2708280"/>
              <a:ext cx="1273680" cy="1189080"/>
              <a:chOff x="3708000" y="2708280"/>
              <a:chExt cx="1273680" cy="1189080"/>
            </a:xfrm>
          </p:grpSpPr>
          <p:sp>
            <p:nvSpPr>
              <p:cNvPr id="133" name="Rectangle 14"/>
              <p:cNvSpPr/>
              <p:nvPr/>
            </p:nvSpPr>
            <p:spPr>
              <a:xfrm>
                <a:off x="3708360" y="2708280"/>
                <a:ext cx="12733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>
                <a:off x="3708000" y="330300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>
                <a:off x="434520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17"/>
            <p:cNvGrpSpPr/>
            <p:nvPr/>
          </p:nvGrpSpPr>
          <p:grpSpPr>
            <a:xfrm>
              <a:off x="2436840" y="2708280"/>
              <a:ext cx="1271520" cy="1189080"/>
              <a:chOff x="2436840" y="2708280"/>
              <a:chExt cx="1271520" cy="1189080"/>
            </a:xfrm>
          </p:grpSpPr>
          <p:sp>
            <p:nvSpPr>
              <p:cNvPr id="137" name="Rectangle 18"/>
              <p:cNvSpPr/>
              <p:nvPr/>
            </p:nvSpPr>
            <p:spPr>
              <a:xfrm>
                <a:off x="2436840" y="270828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9"/>
              <p:cNvSpPr/>
              <p:nvPr/>
            </p:nvSpPr>
            <p:spPr>
              <a:xfrm flipH="1">
                <a:off x="2436840" y="330300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0"/>
              <p:cNvSpPr/>
              <p:nvPr/>
            </p:nvSpPr>
            <p:spPr>
              <a:xfrm>
                <a:off x="3072960" y="273744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Text Box 21"/>
            <p:cNvSpPr/>
            <p:nvPr/>
          </p:nvSpPr>
          <p:spPr>
            <a:xfrm>
              <a:off x="2484360" y="2671920"/>
              <a:ext cx="504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叭玲狗糟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2"/>
          <p:cNvGrpSpPr/>
          <p:nvPr/>
        </p:nvGrpSpPr>
        <p:grpSpPr>
          <a:xfrm>
            <a:off x="1834920" y="4221000"/>
            <a:ext cx="6337440" cy="1224000"/>
            <a:chOff x="1834920" y="4221000"/>
            <a:chExt cx="6337440" cy="1224000"/>
          </a:xfrm>
        </p:grpSpPr>
        <p:grpSp>
          <p:nvGrpSpPr>
            <p:cNvPr id="142" name="Group 23"/>
            <p:cNvGrpSpPr/>
            <p:nvPr/>
          </p:nvGrpSpPr>
          <p:grpSpPr>
            <a:xfrm>
              <a:off x="6876360" y="4255920"/>
              <a:ext cx="1270080" cy="1187280"/>
              <a:chOff x="6876360" y="4255920"/>
              <a:chExt cx="1270080" cy="1187280"/>
            </a:xfrm>
          </p:grpSpPr>
          <p:sp>
            <p:nvSpPr>
              <p:cNvPr id="143" name="Rectangle 24"/>
              <p:cNvSpPr/>
              <p:nvPr/>
            </p:nvSpPr>
            <p:spPr>
              <a:xfrm>
                <a:off x="6876720" y="4255920"/>
                <a:ext cx="126972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25"/>
              <p:cNvSpPr/>
              <p:nvPr/>
            </p:nvSpPr>
            <p:spPr>
              <a:xfrm flipH="1">
                <a:off x="6876360" y="4849560"/>
                <a:ext cx="12697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6"/>
              <p:cNvSpPr/>
              <p:nvPr/>
            </p:nvSpPr>
            <p:spPr>
              <a:xfrm>
                <a:off x="7511760" y="42850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7"/>
            <p:cNvGrpSpPr/>
            <p:nvPr/>
          </p:nvGrpSpPr>
          <p:grpSpPr>
            <a:xfrm>
              <a:off x="5650920" y="4255920"/>
              <a:ext cx="1271520" cy="1189080"/>
              <a:chOff x="5650920" y="4255920"/>
              <a:chExt cx="1271520" cy="1189080"/>
            </a:xfrm>
          </p:grpSpPr>
          <p:sp>
            <p:nvSpPr>
              <p:cNvPr id="147" name="Rectangle 28"/>
              <p:cNvSpPr/>
              <p:nvPr/>
            </p:nvSpPr>
            <p:spPr>
              <a:xfrm>
                <a:off x="565128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29"/>
              <p:cNvSpPr/>
              <p:nvPr/>
            </p:nvSpPr>
            <p:spPr>
              <a:xfrm flipH="1">
                <a:off x="565092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0"/>
              <p:cNvSpPr/>
              <p:nvPr/>
            </p:nvSpPr>
            <p:spPr>
              <a:xfrm>
                <a:off x="62870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31"/>
            <p:cNvGrpSpPr/>
            <p:nvPr/>
          </p:nvGrpSpPr>
          <p:grpSpPr>
            <a:xfrm>
              <a:off x="4379400" y="4255920"/>
              <a:ext cx="1271520" cy="1189080"/>
              <a:chOff x="4379400" y="4255920"/>
              <a:chExt cx="1271520" cy="1189080"/>
            </a:xfrm>
          </p:grpSpPr>
          <p:sp>
            <p:nvSpPr>
              <p:cNvPr id="151" name="Rectangle 32"/>
              <p:cNvSpPr/>
              <p:nvPr/>
            </p:nvSpPr>
            <p:spPr>
              <a:xfrm>
                <a:off x="437976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33"/>
              <p:cNvSpPr/>
              <p:nvPr/>
            </p:nvSpPr>
            <p:spPr>
              <a:xfrm flipH="1">
                <a:off x="437940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34"/>
              <p:cNvSpPr/>
              <p:nvPr/>
            </p:nvSpPr>
            <p:spPr>
              <a:xfrm>
                <a:off x="501552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35"/>
            <p:cNvGrpSpPr/>
            <p:nvPr/>
          </p:nvGrpSpPr>
          <p:grpSpPr>
            <a:xfrm>
              <a:off x="3106440" y="4255920"/>
              <a:ext cx="1272960" cy="1189080"/>
              <a:chOff x="3106440" y="4255920"/>
              <a:chExt cx="1272960" cy="1189080"/>
            </a:xfrm>
          </p:grpSpPr>
          <p:sp>
            <p:nvSpPr>
              <p:cNvPr id="155" name="Rectangle 36"/>
              <p:cNvSpPr/>
              <p:nvPr/>
            </p:nvSpPr>
            <p:spPr>
              <a:xfrm>
                <a:off x="3106440" y="4255920"/>
                <a:ext cx="12729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7"/>
              <p:cNvSpPr/>
              <p:nvPr/>
            </p:nvSpPr>
            <p:spPr>
              <a:xfrm flipH="1">
                <a:off x="3106440" y="4850640"/>
                <a:ext cx="12729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8"/>
              <p:cNvSpPr/>
              <p:nvPr/>
            </p:nvSpPr>
            <p:spPr>
              <a:xfrm>
                <a:off x="374328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39"/>
            <p:cNvGrpSpPr/>
            <p:nvPr/>
          </p:nvGrpSpPr>
          <p:grpSpPr>
            <a:xfrm>
              <a:off x="1834920" y="4255920"/>
              <a:ext cx="1271520" cy="1189080"/>
              <a:chOff x="1834920" y="4255920"/>
              <a:chExt cx="1271520" cy="1189080"/>
            </a:xfrm>
          </p:grpSpPr>
          <p:sp>
            <p:nvSpPr>
              <p:cNvPr id="159" name="Rectangle 40"/>
              <p:cNvSpPr/>
              <p:nvPr/>
            </p:nvSpPr>
            <p:spPr>
              <a:xfrm>
                <a:off x="1835280" y="4255920"/>
                <a:ext cx="127116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41"/>
              <p:cNvSpPr/>
              <p:nvPr/>
            </p:nvSpPr>
            <p:spPr>
              <a:xfrm flipH="1">
                <a:off x="1834920" y="4850640"/>
                <a:ext cx="127116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42"/>
              <p:cNvSpPr/>
              <p:nvPr/>
            </p:nvSpPr>
            <p:spPr>
              <a:xfrm>
                <a:off x="24710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Text Box 43"/>
            <p:cNvSpPr/>
            <p:nvPr/>
          </p:nvSpPr>
          <p:spPr>
            <a:xfrm>
              <a:off x="1835280" y="4221000"/>
              <a:ext cx="633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楼梯肯脑筋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-1260360" y="-357120"/>
            <a:ext cx="1154412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1187280" y="2060640"/>
            <a:ext cx="7056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    详    幅   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催    叭    脏   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900000" y="765000"/>
            <a:ext cx="194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609560" y="597528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7920" y="0"/>
            <a:ext cx="8466120" cy="6858000"/>
            <a:chOff x="-7920" y="0"/>
            <a:chExt cx="8466120" cy="6858000"/>
          </a:xfrm>
        </p:grpSpPr>
        <p:sp>
          <p:nvSpPr>
            <p:cNvPr id="193" name="矩形 4"/>
            <p:cNvSpPr/>
            <p:nvPr/>
          </p:nvSpPr>
          <p:spPr>
            <a:xfrm>
              <a:off x="5702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-792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TextBox 7"/>
            <p:cNvSpPr/>
            <p:nvPr/>
          </p:nvSpPr>
          <p:spPr>
            <a:xfrm rot="20926800">
              <a:off x="19130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332000" y="1844640"/>
            <a:ext cx="6913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玲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玲     端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详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一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幅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评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奖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一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弄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脏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动脑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900000" y="765000"/>
            <a:ext cx="1943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我还会认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175914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684360" y="836640"/>
            <a:ext cx="770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玲玲满意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端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着自己画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家的一角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这幅画明天就要参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评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玲玲，时间不早了，快去睡吧！”爸爸又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就在这时候，水彩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叭的一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掉到了纸上，把画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弄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，玲玲哇地哭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只要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动脑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坏事往往能变成好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054960" y="2805120"/>
            <a:ext cx="402120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玲玲开始对自己画的画满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你从哪里看出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"/>
          <p:cNvPicPr/>
          <p:nvPr/>
        </p:nvPicPr>
        <p:blipFill>
          <a:blip r:embed="rId1"/>
          <a:srcRect l="21800" t="25552" r="35427" b="236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584680" y="6165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玲玲满意地端详着自己画的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"/>
          <p:cNvPicPr/>
          <p:nvPr/>
        </p:nvPicPr>
        <p:blipFill>
          <a:blip r:embed="rId1"/>
          <a:srcRect l="13003" t="13633" r="12587" b="10767"/>
          <a:stretch/>
        </p:blipFill>
        <p:spPr>
          <a:xfrm>
            <a:off x="900000" y="0"/>
            <a:ext cx="7632720" cy="4437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755640" y="436572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玲玲满意地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端详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着自己画的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家的一角</a:t>
            </a: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这幅画明天就要参加评奖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e999"/>
            </a:gs>
            <a:gs pos="50000">
              <a:srgbClr val="ffffff"/>
            </a:gs>
            <a:gs pos="100000">
              <a:srgbClr val="ebe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5a31062d3704f5161f3089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853920" y="1452600"/>
            <a:ext cx="7740720" cy="80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6521e"/>
                </a:solidFill>
                <a:latin typeface="宋体"/>
              </a:rPr>
              <a:t>爸爸催她睡觉，在她收拾画笔时发生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3103920" y="3500280"/>
            <a:ext cx="4222080" cy="86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如果此时你就是玲玲，你会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2595600" y="4653000"/>
            <a:ext cx="275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她为什么急得直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835280" y="5013360"/>
            <a:ext cx="59306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</a:t>
            </a:r>
            <a:r>
              <a:rPr b="1" lang="zh-CN" sz="3200" spc="-1" strike="noStrike">
                <a:solidFill>
                  <a:srgbClr val="06521e"/>
                </a:solidFill>
                <a:latin typeface="黑体"/>
                <a:ea typeface="黑体"/>
              </a:rPr>
              <a:t>此时玲玲的心情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11:43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24:08Z</dcterms:modified>
  <cp:revision>56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