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588-3EDF-4358-B145-96A41E6C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BDD-B5CB-46B0-A9DD-AF5B843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1EA-ECB6-421B-8E7C-EC6EF241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793-1026-4914-870A-1AD345E7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02B-E638-49ED-A528-FDB228D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EAD-782A-4137-A665-456EA56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4C4-1B8A-4114-AC0B-8977FBA4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C2F-9B7E-4A3A-9514-450C2987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444-392E-4414-8E55-B025E543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71E-DC05-42B9-97F1-CFA57780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BC5-AF85-4BBE-AAB5-41BC1E3D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8A7-F859-4E89-B875-82C9DDC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5D2E-52BA-4BCE-9270-A1E9E8FA1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file:///tmp/home/.config/libreoffice/4/user/gallery/copy.wav" TargetMode="External"/><Relationship Id="rId9" Type="http://schemas.microsoft.com/office/2007/relationships/media" Target="file:///tmp/home/.config/libreoffice/4/user/gallery/copy.wav" TargetMode="Externa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eeppt.com/dongtai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20089515246525_2"/>
          <p:cNvPicPr/>
          <p:nvPr/>
        </p:nvPicPr>
        <p:blipFill>
          <a:blip r:embed="rId1"/>
          <a:srcRect l="5534" t="89421" r="90787" b="5565"/>
          <a:stretch/>
        </p:blipFill>
        <p:spPr>
          <a:xfrm>
            <a:off x="4140360" y="4894200"/>
            <a:ext cx="431640" cy="26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1" descr="20089515246525_2"/>
          <p:cNvPicPr/>
          <p:nvPr/>
        </p:nvPicPr>
        <p:blipFill>
          <a:blip r:embed="rId2"/>
          <a:srcRect l="5534" t="89421" r="90787" b="5565"/>
          <a:stretch/>
        </p:blipFill>
        <p:spPr>
          <a:xfrm>
            <a:off x="4710240" y="4894200"/>
            <a:ext cx="431640" cy="263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2" descr="20089515246525_2"/>
          <p:cNvPicPr/>
          <p:nvPr/>
        </p:nvPicPr>
        <p:blipFill>
          <a:blip r:embed="rId3"/>
          <a:srcRect l="5534" t="5565" r="90787" b="89421"/>
          <a:stretch/>
        </p:blipFill>
        <p:spPr>
          <a:xfrm>
            <a:off x="4140360" y="919080"/>
            <a:ext cx="431640" cy="23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20089515246525_2"/>
          <p:cNvPicPr/>
          <p:nvPr/>
        </p:nvPicPr>
        <p:blipFill>
          <a:blip r:embed="rId4"/>
          <a:srcRect l="5534" t="5565" r="90787" b="89421"/>
          <a:stretch/>
        </p:blipFill>
        <p:spPr>
          <a:xfrm>
            <a:off x="4710240" y="919080"/>
            <a:ext cx="431640" cy="23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20089515246525_2"/>
          <p:cNvPicPr/>
          <p:nvPr/>
        </p:nvPicPr>
        <p:blipFill>
          <a:blip r:embed="rId5"/>
          <a:srcRect l="9229" t="12603" r="9899" b="13092"/>
          <a:stretch/>
        </p:blipFill>
        <p:spPr>
          <a:xfrm>
            <a:off x="684360" y="1119240"/>
            <a:ext cx="7959600" cy="38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20089515246525_2"/>
          <p:cNvPicPr/>
          <p:nvPr/>
        </p:nvPicPr>
        <p:blipFill>
          <a:blip r:embed="rId6"/>
          <a:srcRect l="5534" t="12540" r="90685" b="13945"/>
          <a:stretch/>
        </p:blipFill>
        <p:spPr>
          <a:xfrm>
            <a:off x="4065480" y="1112760"/>
            <a:ext cx="590760" cy="38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20089515246525_2"/>
          <p:cNvPicPr/>
          <p:nvPr/>
        </p:nvPicPr>
        <p:blipFill>
          <a:blip r:embed="rId7"/>
          <a:srcRect l="89602" t="12509" r="6251" b="13976"/>
          <a:stretch/>
        </p:blipFill>
        <p:spPr>
          <a:xfrm>
            <a:off x="4630680" y="1112760"/>
            <a:ext cx="647640" cy="381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-755640" y="636588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50" name="矩形 11"/>
          <p:cNvSpPr/>
          <p:nvPr/>
        </p:nvSpPr>
        <p:spPr>
          <a:xfrm>
            <a:off x="805824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4416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0.41736 7.40741E-007 E">
                                      <p:cBhvr>
                                        <p:cTn id="42" dur="8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8000" fill="hold"/>
                                        <p:tgtEl>
                                          <p:spTgt spid="48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41649 0 E">
                                      <p:cBhvr>
                                        <p:cTn id="46" dur="8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8000" fill="hold"/>
                                        <p:tgtEl>
                                          <p:spTgt spid="47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8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41649 0 E">
                                      <p:cBhvr>
                                        <p:cTn id="53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L 0.41805 -1.11111E-006 E">
                                      <p:cBhvr>
                                        <p:cTn id="55" dur="8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41649 0 E">
                                      <p:cBhvr>
                                        <p:cTn id="57" dur="8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L 0.41805 -1.11111E-006 E">
                                      <p:cBhvr>
                                        <p:cTn id="59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0089515246525_2"/>
          <p:cNvPicPr/>
          <p:nvPr/>
        </p:nvPicPr>
        <p:blipFill>
          <a:blip r:embed="rId1"/>
          <a:srcRect l="9196" t="12478" r="10303" b="14007"/>
          <a:stretch/>
        </p:blipFill>
        <p:spPr>
          <a:xfrm>
            <a:off x="615960" y="1104840"/>
            <a:ext cx="7923240" cy="381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20089515246525_2"/>
          <p:cNvPicPr/>
          <p:nvPr/>
        </p:nvPicPr>
        <p:blipFill>
          <a:blip r:embed="rId2"/>
          <a:srcRect l="5534" t="89421" r="90787" b="5565"/>
          <a:stretch/>
        </p:blipFill>
        <p:spPr>
          <a:xfrm>
            <a:off x="293760" y="4886280"/>
            <a:ext cx="431640" cy="26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20089515246525_2"/>
          <p:cNvPicPr/>
          <p:nvPr/>
        </p:nvPicPr>
        <p:blipFill>
          <a:blip r:embed="rId3"/>
          <a:srcRect l="5534" t="89421" r="90787" b="5565"/>
          <a:stretch/>
        </p:blipFill>
        <p:spPr>
          <a:xfrm>
            <a:off x="658800" y="4883040"/>
            <a:ext cx="431640" cy="26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20089515246525_2"/>
          <p:cNvPicPr/>
          <p:nvPr/>
        </p:nvPicPr>
        <p:blipFill>
          <a:blip r:embed="rId4"/>
          <a:srcRect l="5534" t="5565" r="90787" b="89421"/>
          <a:stretch/>
        </p:blipFill>
        <p:spPr>
          <a:xfrm>
            <a:off x="303120" y="911160"/>
            <a:ext cx="432000" cy="2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20089515246525_2"/>
          <p:cNvPicPr/>
          <p:nvPr/>
        </p:nvPicPr>
        <p:blipFill>
          <a:blip r:embed="rId5"/>
          <a:srcRect l="5534" t="5565" r="90787" b="89421"/>
          <a:stretch/>
        </p:blipFill>
        <p:spPr>
          <a:xfrm>
            <a:off x="615960" y="907920"/>
            <a:ext cx="431640" cy="23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089515246525_2"/>
          <p:cNvPicPr/>
          <p:nvPr/>
        </p:nvPicPr>
        <p:blipFill>
          <a:blip r:embed="rId6"/>
          <a:srcRect l="89417" t="12483" r="6256" b="14564"/>
          <a:stretch/>
        </p:blipFill>
        <p:spPr>
          <a:xfrm>
            <a:off x="687240" y="1104840"/>
            <a:ext cx="374760" cy="379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20089515246525_2"/>
          <p:cNvPicPr/>
          <p:nvPr/>
        </p:nvPicPr>
        <p:blipFill>
          <a:blip r:embed="rId7"/>
          <a:srcRect l="5534" t="12540" r="91244" b="13945"/>
          <a:stretch/>
        </p:blipFill>
        <p:spPr>
          <a:xfrm>
            <a:off x="250920" y="1106640"/>
            <a:ext cx="503280" cy="38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8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5E-006 4.44444E-006 L 0.85364 4.44444E-006 E">
                                      <p:cBhvr>
                                        <p:cTn id="88" dur="8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-2.59259E-006 L 0.85937 -2.59259E-006 E">
                                      <p:cBhvr>
                                        <p:cTn id="90" dur="8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778E-017 1.48148E-006 L 0.85833 1.48148E-006 E">
                                      <p:cBhvr>
                                        <p:cTn id="92" dur="8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4" dur="8000" fill="hold"/>
                                        <p:tgtEl>
                                          <p:spTgt spid="59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0F5-50EA-4C50-8915-B9389486DB80}" type="slidenum">
              <a:t>3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2:26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0:08Z</dcterms:modified>
  <cp:revision>2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