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D98-2BCA-4397-98A9-6B423EFB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EB8-1AFB-4D0E-BC11-7AD77FB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E14-5E17-4A58-BD83-7F36AAEF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EA4-EF32-4D16-9DC9-30A65F27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E266-B34B-4F6F-A49E-F8CDB596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D63-CA9B-4B65-ACD2-C382EFE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71E1-0D99-48CD-A2AA-CECF83C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A319-BAD4-46A1-AE7A-D6BA2F1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2DD0-1489-4CF4-8C46-D875F19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97D-96F5-46CF-930E-112AAE7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A7A2-8034-4DA4-9FBB-ECF9AB4E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EB0-18BF-4A78-8F4D-7CAE16BE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73A-14A8-4874-B9DA-E51E18C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B07-041F-453E-8E39-2F6C7D6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339-BDEA-4607-8185-E4443CB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6F9-364B-4961-9922-6CC54611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70C-38EB-42C6-B73A-B5A687C6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BFF-1B02-458B-8726-D9E692B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EA6-F4D3-475D-B92B-D02C294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C95-A3F1-4EE7-8F1F-BE21CD2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232-402A-4CB0-85C2-2A7D095A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A1C-F9B1-4569-9F5C-8AB2C7F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019-9D73-4412-97BA-410C49B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276-F8D7-4C40-AF0C-16F60AF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2041-A4E0-4026-A48A-2676538C7DCA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2335320"/>
            <a:ext cx="4427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63C-BCBC-40DE-A431-DE4EB561E1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2034" t="20338" r="0" b="0"/>
          <a:stretch/>
        </p:blipFill>
        <p:spPr>
          <a:xfrm>
            <a:off x="0" y="0"/>
            <a:ext cx="398448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4354560" cy="85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5897520" y="2000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創英角ｺﾞｼｯｸUB"/>
              </a:rPr>
              <a:t>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26000" y="350028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8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版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66092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88960" y="10587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民族风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001000" y="142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42920" y="40006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071800" y="0"/>
            <a:ext cx="5008320" cy="500076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1071720" y="2000160"/>
            <a:ext cx="6929280" cy="785880"/>
          </a:xfrm>
          <a:prstGeom prst="rect">
            <a:avLst/>
          </a:prstGeom>
          <a:solidFill>
            <a:srgbClr val="ffffff">
              <a:alpha val="69000"/>
            </a:srgbClr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401940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創英角ｺﾞｼｯｸUB"/>
              </a:rPr>
              <a:t>输入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D2B-DABB-4CB6-AE84-9D713E0BC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4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8:20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LCID">
    <vt:r8>2052</vt:r8>
  </property>
  <property fmtid="{D5CDD505-2E9C-101B-9397-08002B2CF9AE}" pid="4" name="_Version">
    <vt:lpwstr>12.0.4518</vt:lpwstr>
  </property>
</Properties>
</file>