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43A-1864-4EF0-A3EF-977C2A9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207-3411-4D89-9816-E3C3C22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037-F7F4-4F13-A952-FD6162AC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865-E8EA-411B-BD56-75FA89A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DCCC-E4BF-493A-AAAF-83681E44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76F2-9517-4469-80C1-43CA963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068-A37C-4997-9739-CF74580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8C07-CAD9-4A93-9081-14844BE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B5E0-03B3-423F-999C-6503C50B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93E-553D-42FD-BE57-015E0A8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255-A74E-4C30-B9D1-FB59238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541-BC01-479B-BD86-4AE35CB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B04D-185B-4DC3-BC44-DF4D743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89A-A106-4EF1-9AC3-245DFCD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802-49EE-4AC7-B3FA-4427E7A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0C40-3C7E-4F55-AA09-3C3F2BFB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FC62-44E4-4D05-9167-2B727432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976-09D3-410D-AEA2-C2A09EC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AF3-9BF0-4AB9-8803-359D303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6AD-8049-4BD9-998D-2978F47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6B1-10EC-43BB-A5FA-92146F1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317-347B-4CA3-9907-779D34A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FA0-807D-4C99-B2B2-E9F41AE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265-2F97-4DBD-BA81-0E8CC54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82D-09DF-4CD6-A3B6-B1A503156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600"/>
              <a:ext cx="673200" cy="672840"/>
              <a:chOff x="6480" y="5340600"/>
              <a:chExt cx="673200" cy="67284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600"/>
                <a:ext cx="673200" cy="672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52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600"/>
              <a:chOff x="131760" y="6039000"/>
              <a:chExt cx="444600" cy="44460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6200"/>
              <a:ext cx="368280" cy="368280"/>
              <a:chOff x="6480" y="442620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620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720" y="451044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920" y="64915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6000" cy="216000"/>
              <a:chOff x="8693280" y="2521080"/>
              <a:chExt cx="216000" cy="21600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600" y="158760"/>
              <a:ext cx="368280" cy="368280"/>
              <a:chOff x="191160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60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84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3200" cy="673200"/>
              <a:chOff x="6480" y="5340240"/>
              <a:chExt cx="67320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52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600" cy="444600"/>
              <a:chOff x="6151680" y="5734080"/>
              <a:chExt cx="44460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72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3200" cy="673200"/>
              <a:chOff x="5492880" y="615960"/>
              <a:chExt cx="67320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2000" y="920880"/>
              <a:ext cx="368280" cy="368280"/>
              <a:chOff x="511200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200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6240" y="10051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92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6000" cy="215640"/>
              <a:chOff x="8693280" y="2521080"/>
              <a:chExt cx="21600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48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800" y="1225440"/>
              <a:ext cx="520560" cy="520560"/>
              <a:chOff x="1225800" y="1225440"/>
              <a:chExt cx="52056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800" y="122544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2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23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DA2-134E-4D17-AAAF-69678D72D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17960" y="220500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泡泡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背景素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387-5580-488D-B778-5A8B20396EA4}" type="slidenum">
              <a:t>2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5:43Z</dcterms:modified>
  <cp:revision>1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