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535-9E21-4384-A2F9-0BF9D720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DF8-D193-4FC6-B269-8880D885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D54-8BB7-433F-9342-32E1F11F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723-D054-4A74-8368-7CC28AFF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2B1-FA87-437F-918C-30FF9EC9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1DC-3A84-4DDC-9B24-593757F3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F92-5596-4D8B-93D8-F7EF6DDE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BD3-8FA4-41C4-914C-EC5D5886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2A9-4372-4397-B4ED-BA572067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B49-3337-457E-BC57-8E29846A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6C9-319B-46DB-859A-373B243A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623-1493-42C7-BBAD-6452B7AA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6E98-BC8C-468E-B4DD-958D216CD39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C743-45D4-4867-B3FC-902F274F95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"/>
          <p:cNvGrpSpPr/>
          <p:nvPr/>
        </p:nvGrpSpPr>
        <p:grpSpPr>
          <a:xfrm>
            <a:off x="785880" y="2058840"/>
            <a:ext cx="7602480" cy="2757240"/>
            <a:chOff x="785880" y="2058840"/>
            <a:chExt cx="7602480" cy="2757240"/>
          </a:xfrm>
        </p:grpSpPr>
        <p:grpSp>
          <p:nvGrpSpPr>
            <p:cNvPr id="43" name="Group 14"/>
            <p:cNvGrpSpPr/>
            <p:nvPr/>
          </p:nvGrpSpPr>
          <p:grpSpPr>
            <a:xfrm>
              <a:off x="1135440" y="2058840"/>
              <a:ext cx="6759000" cy="2077920"/>
              <a:chOff x="1135440" y="2058840"/>
              <a:chExt cx="6759000" cy="2077920"/>
            </a:xfrm>
          </p:grpSpPr>
          <p:grpSp>
            <p:nvGrpSpPr>
              <p:cNvPr id="44" name="Group 15"/>
              <p:cNvGrpSpPr/>
              <p:nvPr/>
            </p:nvGrpSpPr>
            <p:grpSpPr>
              <a:xfrm>
                <a:off x="1135440" y="2058840"/>
                <a:ext cx="6755040" cy="2077920"/>
                <a:chOff x="1135440" y="2058840"/>
                <a:chExt cx="6755040" cy="2077920"/>
              </a:xfrm>
            </p:grpSpPr>
            <p:grpSp>
              <p:nvGrpSpPr>
                <p:cNvPr id="45" name="Group 16"/>
                <p:cNvGrpSpPr/>
                <p:nvPr/>
              </p:nvGrpSpPr>
              <p:grpSpPr>
                <a:xfrm>
                  <a:off x="1135440" y="2511000"/>
                  <a:ext cx="995400" cy="1356480"/>
                  <a:chOff x="1135440" y="2511000"/>
                  <a:chExt cx="995400" cy="1356480"/>
                </a:xfrm>
              </p:grpSpPr>
              <p:sp>
                <p:nvSpPr>
                  <p:cNvPr id="46" name="AutoShape 17"/>
                  <p:cNvSpPr/>
                  <p:nvPr/>
                </p:nvSpPr>
                <p:spPr>
                  <a:xfrm>
                    <a:off x="1135440" y="2511000"/>
                    <a:ext cx="995400" cy="930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666b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AutoShape 18"/>
                  <p:cNvSpPr/>
                  <p:nvPr/>
                </p:nvSpPr>
                <p:spPr>
                  <a:xfrm>
                    <a:off x="1259640" y="2635560"/>
                    <a:ext cx="746640" cy="6717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AutoShape 19"/>
                  <p:cNvSpPr/>
                  <p:nvPr/>
                </p:nvSpPr>
                <p:spPr>
                  <a:xfrm rot="10800000">
                    <a:off x="1491480" y="3433320"/>
                    <a:ext cx="311040" cy="434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666b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" name="Group 20"/>
                <p:cNvGrpSpPr/>
                <p:nvPr/>
              </p:nvGrpSpPr>
              <p:grpSpPr>
                <a:xfrm>
                  <a:off x="2558880" y="2058840"/>
                  <a:ext cx="995400" cy="1354320"/>
                  <a:chOff x="2558880" y="2058840"/>
                  <a:chExt cx="995400" cy="1354320"/>
                </a:xfrm>
              </p:grpSpPr>
              <p:sp>
                <p:nvSpPr>
                  <p:cNvPr id="50" name="AutoShape 21"/>
                  <p:cNvSpPr/>
                  <p:nvPr/>
                </p:nvSpPr>
                <p:spPr>
                  <a:xfrm>
                    <a:off x="2558880" y="205884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AutoShape 22"/>
                  <p:cNvSpPr/>
                  <p:nvPr/>
                </p:nvSpPr>
                <p:spPr>
                  <a:xfrm>
                    <a:off x="2683080" y="218268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AutoShape 23"/>
                  <p:cNvSpPr/>
                  <p:nvPr/>
                </p:nvSpPr>
                <p:spPr>
                  <a:xfrm rot="10800000">
                    <a:off x="2914560" y="297864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Group 24"/>
                <p:cNvGrpSpPr/>
                <p:nvPr/>
              </p:nvGrpSpPr>
              <p:grpSpPr>
                <a:xfrm>
                  <a:off x="3997800" y="2617920"/>
                  <a:ext cx="995400" cy="1354320"/>
                  <a:chOff x="3997800" y="2617920"/>
                  <a:chExt cx="995400" cy="1354320"/>
                </a:xfrm>
              </p:grpSpPr>
              <p:sp>
                <p:nvSpPr>
                  <p:cNvPr id="54" name="AutoShape 25"/>
                  <p:cNvSpPr/>
                  <p:nvPr/>
                </p:nvSpPr>
                <p:spPr>
                  <a:xfrm>
                    <a:off x="3997800" y="261792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AutoShape 26"/>
                  <p:cNvSpPr/>
                  <p:nvPr/>
                </p:nvSpPr>
                <p:spPr>
                  <a:xfrm>
                    <a:off x="4122000" y="274176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096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AutoShape 27"/>
                  <p:cNvSpPr/>
                  <p:nvPr/>
                </p:nvSpPr>
                <p:spPr>
                  <a:xfrm rot="10800000">
                    <a:off x="4353480" y="353772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28"/>
                <p:cNvGrpSpPr/>
                <p:nvPr/>
              </p:nvGrpSpPr>
              <p:grpSpPr>
                <a:xfrm>
                  <a:off x="5447880" y="2782440"/>
                  <a:ext cx="995400" cy="1354320"/>
                  <a:chOff x="5447880" y="2782440"/>
                  <a:chExt cx="995400" cy="1354320"/>
                </a:xfrm>
              </p:grpSpPr>
              <p:sp>
                <p:nvSpPr>
                  <p:cNvPr id="58" name="AutoShape 29"/>
                  <p:cNvSpPr/>
                  <p:nvPr/>
                </p:nvSpPr>
                <p:spPr>
                  <a:xfrm>
                    <a:off x="5447880" y="278244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9096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AutoShape 30"/>
                  <p:cNvSpPr/>
                  <p:nvPr/>
                </p:nvSpPr>
                <p:spPr>
                  <a:xfrm>
                    <a:off x="5572080" y="290628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AutoShape 31"/>
                  <p:cNvSpPr/>
                  <p:nvPr/>
                </p:nvSpPr>
                <p:spPr>
                  <a:xfrm rot="10800000">
                    <a:off x="5803560" y="370224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096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Group 32"/>
                <p:cNvGrpSpPr/>
                <p:nvPr/>
              </p:nvGrpSpPr>
              <p:grpSpPr>
                <a:xfrm>
                  <a:off x="6895080" y="2157480"/>
                  <a:ext cx="995400" cy="1354320"/>
                  <a:chOff x="6895080" y="2157480"/>
                  <a:chExt cx="995400" cy="1354320"/>
                </a:xfrm>
              </p:grpSpPr>
              <p:sp>
                <p:nvSpPr>
                  <p:cNvPr id="62" name="AutoShape 33"/>
                  <p:cNvSpPr/>
                  <p:nvPr/>
                </p:nvSpPr>
                <p:spPr>
                  <a:xfrm>
                    <a:off x="6895080" y="2157480"/>
                    <a:ext cx="995400" cy="930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AutoShape 34"/>
                  <p:cNvSpPr/>
                  <p:nvPr/>
                </p:nvSpPr>
                <p:spPr>
                  <a:xfrm>
                    <a:off x="7019280" y="2281320"/>
                    <a:ext cx="745920" cy="671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394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AutoShape 35"/>
                  <p:cNvSpPr/>
                  <p:nvPr/>
                </p:nvSpPr>
                <p:spPr>
                  <a:xfrm rot="10800000">
                    <a:off x="7250760" y="3077280"/>
                    <a:ext cx="310680" cy="434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bdd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" name="Text Box 36"/>
              <p:cNvSpPr/>
              <p:nvPr/>
            </p:nvSpPr>
            <p:spPr>
              <a:xfrm>
                <a:off x="2554560" y="232992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汉仪中圆简"/>
                  </a:rPr>
                  <a:t>15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37"/>
              <p:cNvSpPr/>
              <p:nvPr/>
            </p:nvSpPr>
            <p:spPr>
              <a:xfrm>
                <a:off x="4002840" y="289764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汉仪中圆简"/>
                  </a:rPr>
                  <a:t>8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38"/>
              <p:cNvSpPr/>
              <p:nvPr/>
            </p:nvSpPr>
            <p:spPr>
              <a:xfrm>
                <a:off x="5451120" y="306612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  <a:ea typeface="汉仪中圆简"/>
                  </a:rPr>
                  <a:t>7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39"/>
              <p:cNvSpPr/>
              <p:nvPr/>
            </p:nvSpPr>
            <p:spPr>
              <a:xfrm>
                <a:off x="6899040" y="244512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  <a:ea typeface="汉仪中圆简"/>
                  </a:rPr>
                  <a:t>14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40"/>
              <p:cNvSpPr/>
              <p:nvPr/>
            </p:nvSpPr>
            <p:spPr>
              <a:xfrm>
                <a:off x="1135440" y="2794680"/>
                <a:ext cx="9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汉仪中圆简"/>
                    <a:ea typeface="汉仪中圆简"/>
                  </a:rPr>
                  <a:t>¥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  <a:ea typeface="汉仪中圆简"/>
                  </a:rPr>
                  <a:t>10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41"/>
            <p:cNvGrpSpPr/>
            <p:nvPr/>
          </p:nvGrpSpPr>
          <p:grpSpPr>
            <a:xfrm>
              <a:off x="785880" y="3597120"/>
              <a:ext cx="7602480" cy="1218960"/>
              <a:chOff x="785880" y="3597120"/>
              <a:chExt cx="7602480" cy="1218960"/>
            </a:xfrm>
          </p:grpSpPr>
          <p:grpSp>
            <p:nvGrpSpPr>
              <p:cNvPr id="71" name="Group 42"/>
              <p:cNvGrpSpPr/>
              <p:nvPr/>
            </p:nvGrpSpPr>
            <p:grpSpPr>
              <a:xfrm>
                <a:off x="1565640" y="3597120"/>
                <a:ext cx="5944320" cy="1218960"/>
                <a:chOff x="1565640" y="3597120"/>
                <a:chExt cx="5944320" cy="1218960"/>
              </a:xfrm>
            </p:grpSpPr>
            <p:sp>
              <p:nvSpPr>
                <p:cNvPr id="72" name="Arc 43"/>
                <p:cNvSpPr/>
                <p:nvPr/>
              </p:nvSpPr>
              <p:spPr>
                <a:xfrm flipH="1" flipV="1" rot="5400000">
                  <a:off x="4250160" y="4482000"/>
                  <a:ext cx="54612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Arc 44"/>
                <p:cNvSpPr/>
                <p:nvPr/>
              </p:nvSpPr>
              <p:spPr>
                <a:xfrm flipH="1" flipV="1" rot="5400000">
                  <a:off x="2518920" y="4213440"/>
                  <a:ext cx="110664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Arc 45"/>
                <p:cNvSpPr/>
                <p:nvPr/>
              </p:nvSpPr>
              <p:spPr>
                <a:xfrm flipH="1" flipV="1" rot="5400000">
                  <a:off x="1341360" y="4416480"/>
                  <a:ext cx="63720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Arc 46"/>
                <p:cNvSpPr/>
                <p:nvPr/>
              </p:nvSpPr>
              <p:spPr>
                <a:xfrm flipH="1" flipV="1" rot="5400000">
                  <a:off x="5776920" y="4548240"/>
                  <a:ext cx="36396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Arc 47"/>
                <p:cNvSpPr/>
                <p:nvPr/>
              </p:nvSpPr>
              <p:spPr>
                <a:xfrm flipH="1" flipV="1" rot="5400000">
                  <a:off x="6955920" y="4279320"/>
                  <a:ext cx="910440" cy="98640"/>
                </a:xfrm>
                <a:prstGeom prst="pie">
                  <a:avLst/>
                </a:prstGeom>
                <a:noFill/>
                <a:ln w="76320">
                  <a:solidFill>
                    <a:srgbClr val="cbdd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曲线 568"/>
                <p:cNvSpPr/>
                <p:nvPr/>
              </p:nvSpPr>
              <p:spPr>
                <a:xfrm>
                  <a:off x="1666440" y="3675600"/>
                  <a:ext cx="5800680" cy="918720"/>
                </a:xfrm>
                <a:prstGeom prst="pie">
                  <a:avLst/>
                </a:prstGeom>
                <a:noFill/>
                <a:ln w="28440">
                  <a:solidFill>
                    <a:srgbClr val="9096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AutoShape 49"/>
                <p:cNvSpPr/>
                <p:nvPr/>
              </p:nvSpPr>
              <p:spPr>
                <a:xfrm>
                  <a:off x="1565640" y="4039920"/>
                  <a:ext cx="180720" cy="181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AutoShape 50"/>
                <p:cNvSpPr/>
                <p:nvPr/>
              </p:nvSpPr>
              <p:spPr>
                <a:xfrm>
                  <a:off x="2997360" y="3597120"/>
                  <a:ext cx="180720" cy="181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51"/>
                <p:cNvSpPr/>
                <p:nvPr/>
              </p:nvSpPr>
              <p:spPr>
                <a:xfrm>
                  <a:off x="7329240" y="3741840"/>
                  <a:ext cx="180720" cy="181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utoShape 52"/>
                <p:cNvSpPr/>
                <p:nvPr/>
              </p:nvSpPr>
              <p:spPr>
                <a:xfrm>
                  <a:off x="4445280" y="4143240"/>
                  <a:ext cx="180720" cy="18216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AutoShape 53"/>
                <p:cNvSpPr/>
                <p:nvPr/>
              </p:nvSpPr>
              <p:spPr>
                <a:xfrm>
                  <a:off x="5881320" y="4300560"/>
                  <a:ext cx="180720" cy="181800"/>
                </a:xfrm>
                <a:prstGeom prst="sun">
                  <a:avLst>
                    <a:gd name="adj" fmla="val 25000"/>
                  </a:avLst>
                </a:prstGeom>
                <a:solidFill>
                  <a:srgbClr val="394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785880" y="4772160"/>
                <a:ext cx="7602480" cy="720"/>
                <a:chOff x="785880" y="4772160"/>
                <a:chExt cx="7602480" cy="720"/>
              </a:xfrm>
            </p:grpSpPr>
            <p:sp>
              <p:nvSpPr>
                <p:cNvPr id="84" name="Line 54"/>
                <p:cNvSpPr/>
                <p:nvPr/>
              </p:nvSpPr>
              <p:spPr>
                <a:xfrm>
                  <a:off x="785880" y="4772160"/>
                  <a:ext cx="7602480" cy="720"/>
                </a:xfrm>
                <a:prstGeom prst="line">
                  <a:avLst/>
                </a:prstGeom>
                <a:ln w="76320">
                  <a:solidFill>
                    <a:srgbClr val="666b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785880" y="4772160"/>
                  <a:ext cx="7602480" cy="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" name=""/>
          <p:cNvSpPr/>
          <p:nvPr/>
        </p:nvSpPr>
        <p:spPr>
          <a:xfrm>
            <a:off x="18108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40464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图表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186-EA03-4391-81A0-3B2744BB1D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20:28Z</dcterms:modified>
  <cp:revision>106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