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440" y="336960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440" y="336960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600" y="336960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44792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440" y="336960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36960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4760" y="336960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440" y="144792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440" y="228240"/>
            <a:ext cx="8364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440" y="336960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600" y="336960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440" y="336960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4792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1"/>
          <p:cNvSpPr/>
          <p:nvPr/>
        </p:nvSpPr>
        <p:spPr>
          <a:xfrm>
            <a:off x="0" y="6129360"/>
            <a:ext cx="91440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图表 51" descr=""/>
          <p:cNvPicPr/>
          <p:nvPr/>
        </p:nvPicPr>
        <p:blipFill>
          <a:blip r:embed="rId2"/>
          <a:stretch/>
        </p:blipFill>
        <p:spPr>
          <a:xfrm>
            <a:off x="1332000" y="1359000"/>
            <a:ext cx="6122880" cy="411624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206280" y="6039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286000" y="414360"/>
            <a:ext cx="31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图表饼图图示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6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2:40:1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42:56Z</dcterms:modified>
  <cp:revision>11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