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2700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144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4256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2700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144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042560" y="227628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2700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11440" y="29253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04256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2700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11440" y="454176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42560" y="227628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9360" y="45417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25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9360" y="292536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42560" y="4541760"/>
            <a:ext cx="764388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4005360"/>
            <a:ext cx="9144000" cy="2852640"/>
          </a:xfrm>
          <a:prstGeom prst="rect">
            <a:avLst/>
          </a:prstGeom>
          <a:gradFill rotWithShape="0">
            <a:gsLst>
              <a:gs pos="0">
                <a:srgbClr val="00ccff">
                  <a:alpha val="0"/>
                </a:srgbClr>
              </a:gs>
              <a:gs pos="100000">
                <a:srgbClr val="af78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60080" indent="-19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48520" indent="-194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48520" indent="-194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00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042560" y="2925360"/>
            <a:ext cx="764388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60080" indent="-19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48520" indent="-194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48520" indent="-194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57120" y="18900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汽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ru-RU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ru-RU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1:09:47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37:41Z</dcterms:modified>
  <cp:revision>8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