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90C6-D6B4-4EC5-A276-9C9ECA762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DCD1-3465-4CDB-9BBC-ED1C9300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05D5-04D0-45EE-8EB8-4B2F6CCDE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4DB0-144D-43E6-9F18-2247FCBA2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A4E5-00B7-4131-850F-9A87E052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F7DB-776D-4DFD-BCEC-24AE7F38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7510-D5A1-4EAC-8E61-BC374CE1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5DEF-A03D-49FD-BF58-FD1A961C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EC35-3FB5-4B2C-BB94-34F2EB3A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D606-D2FE-43DC-9CB3-6BE320DD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D19E-32DD-49B9-9176-B54A7195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B0D0-1D70-4DEB-A1D7-C8842521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7D38-2FFF-419D-AFE0-E1708A34DB0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302D-8A61-4D48-9398-29992892F7A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>
            <a:off x="5986440" y="282600"/>
            <a:ext cx="362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7"/>
          <p:cNvSpPr/>
          <p:nvPr/>
        </p:nvSpPr>
        <p:spPr>
          <a:xfrm>
            <a:off x="-23400" y="257040"/>
            <a:ext cx="50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『第一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』—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免费下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18" descr=""/>
          <p:cNvPicPr/>
          <p:nvPr/>
        </p:nvPicPr>
        <p:blipFill>
          <a:blip r:embed="rId1"/>
          <a:srcRect l="0" t="11537" r="0" b="4068"/>
          <a:stretch/>
        </p:blipFill>
        <p:spPr>
          <a:xfrm>
            <a:off x="250920" y="765000"/>
            <a:ext cx="2905200" cy="36738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9" descr=""/>
          <p:cNvPicPr/>
          <p:nvPr/>
        </p:nvPicPr>
        <p:blipFill>
          <a:blip r:embed="rId2"/>
          <a:stretch/>
        </p:blipFill>
        <p:spPr>
          <a:xfrm>
            <a:off x="3276720" y="765000"/>
            <a:ext cx="2784240" cy="17672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20" descr=""/>
          <p:cNvPicPr/>
          <p:nvPr/>
        </p:nvPicPr>
        <p:blipFill>
          <a:blip r:embed="rId3"/>
          <a:stretch/>
        </p:blipFill>
        <p:spPr>
          <a:xfrm>
            <a:off x="6300720" y="2886120"/>
            <a:ext cx="2656080" cy="17668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21" descr=""/>
          <p:cNvPicPr/>
          <p:nvPr/>
        </p:nvPicPr>
        <p:blipFill>
          <a:blip r:embed="rId4"/>
          <a:stretch/>
        </p:blipFill>
        <p:spPr>
          <a:xfrm>
            <a:off x="3565440" y="3090960"/>
            <a:ext cx="2206800" cy="3606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36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7800" y="4428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人群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5"/>
          <p:cNvSpPr/>
          <p:nvPr/>
        </p:nvSpPr>
        <p:spPr>
          <a:xfrm>
            <a:off x="5986440" y="282600"/>
            <a:ext cx="362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-23400" y="257040"/>
            <a:ext cx="50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『第一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』—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免费下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352000" cy="4943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124000" y="631044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7022-FC9C-48CA-9331-638B40F9A1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6:42:02Z</dcterms:modified>
  <cp:revision>108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