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371-DF91-4553-8B85-5C5A4E78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F8C-119B-4F28-93F8-2085105D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D34-5F5D-43AA-B146-28552994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0E2-4B0D-409E-BF58-F1D6C2E8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9DC-9D6C-4942-954D-B4464D82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2CC-B342-49EA-A536-CB1A19F9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337-DADF-4E51-820D-2BC6851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59F-FE4E-4F93-B09A-64A06C47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009-08A5-462D-B1D3-AFAD2E6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15E-4974-4757-9107-94B7F4C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978-FA68-48C5-8622-C94C53A2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A4D-D3C4-4438-BF5A-64C4DF3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6CD4-3CEE-4735-B696-DFFD6994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2000160" cy="1801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84720" y="5013360"/>
            <a:ext cx="28810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84360" y="981000"/>
            <a:ext cx="2881440" cy="145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71640" y="1917720"/>
            <a:ext cx="2882880" cy="159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69080" y="333360"/>
            <a:ext cx="880920" cy="250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7440" y="3789360"/>
            <a:ext cx="1703520" cy="25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8360" y="3718080"/>
            <a:ext cx="1533600" cy="25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021440" y="260280"/>
            <a:ext cx="1417680" cy="20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268360" y="4654440"/>
            <a:ext cx="1563840" cy="179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96880" y="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圣诞老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3440" y="117360"/>
            <a:ext cx="2498760" cy="360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288288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8720" y="693720"/>
            <a:ext cx="1200240" cy="123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68360" y="3070080"/>
            <a:ext cx="2881440" cy="246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781440" y="2421000"/>
            <a:ext cx="1398600" cy="179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581800" y="3933720"/>
            <a:ext cx="2881080" cy="255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75B-22A7-479E-9262-575BA02E4E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22:59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55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