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2.png" ContentType="image/png"/>
  <Override PartName="/ppt/media/image2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20.wmf" ContentType="image/x-wmf"/>
  <Override PartName="/ppt/media/image5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8100-D758-463C-ADB0-9877D420E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1EB6-B0F1-4C2F-9E80-C9970BF1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50C9-5D85-40BD-8AB2-16E162849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0CA1-404A-4A36-93AB-C92091B3E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0F99-344A-476C-81D9-F64B66D2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629C-BEC9-4ABC-B969-97CEEB58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032C-828A-4415-AF71-2F90CA2D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9089-E4B2-4BA9-81A1-85D822BE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B0C2-4626-4795-AEF6-F2D71D29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48C5-1978-4875-B428-E1BC5D11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4A6A-1BFF-49E1-BFD2-6FC7A7C0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5246-DE66-4005-9E1B-ECD08F90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D5DD-5C3A-46FF-B31F-24833BF6F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wmf"/><Relationship Id="rId3" Type="http://schemas.openxmlformats.org/officeDocument/2006/relationships/image" Target="../media/image20.wmf"/><Relationship Id="rId4" Type="http://schemas.openxmlformats.org/officeDocument/2006/relationships/image" Target="../media/image20.wmf"/><Relationship Id="rId5" Type="http://schemas.openxmlformats.org/officeDocument/2006/relationships/image" Target="../media/image20.wmf"/><Relationship Id="rId6" Type="http://schemas.openxmlformats.org/officeDocument/2006/relationships/image" Target="../media/image20.wmf"/><Relationship Id="rId7" Type="http://schemas.openxmlformats.org/officeDocument/2006/relationships/image" Target="../media/image20.wmf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wmf"/><Relationship Id="rId3" Type="http://schemas.openxmlformats.org/officeDocument/2006/relationships/image" Target="../media/image20.wmf"/><Relationship Id="rId4" Type="http://schemas.openxmlformats.org/officeDocument/2006/relationships/image" Target="../media/image20.wmf"/><Relationship Id="rId5" Type="http://schemas.openxmlformats.org/officeDocument/2006/relationships/image" Target="../media/image20.wmf"/><Relationship Id="rId6" Type="http://schemas.openxmlformats.org/officeDocument/2006/relationships/image" Target="../media/image20.wmf"/><Relationship Id="rId7" Type="http://schemas.openxmlformats.org/officeDocument/2006/relationships/image" Target="../media/image20.wmf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7620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468360" y="692280"/>
            <a:ext cx="251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103480" y="13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950760" y="1123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63480" y="62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6" name="Picture 9" descr="685206967045"/>
          <p:cNvPicPr/>
          <p:nvPr/>
        </p:nvPicPr>
        <p:blipFill>
          <a:blip r:embed="rId1"/>
          <a:stretch/>
        </p:blipFill>
        <p:spPr>
          <a:xfrm>
            <a:off x="1187280" y="1368360"/>
            <a:ext cx="6409080" cy="48513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1"/>
          <p:cNvSpPr/>
          <p:nvPr/>
        </p:nvSpPr>
        <p:spPr>
          <a:xfrm>
            <a:off x="250920" y="333360"/>
            <a:ext cx="86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世界地图引出的发现幻灯片免费下载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8000" y="65260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魏格纳病床看地图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1968120" y="1052640"/>
            <a:ext cx="481356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华文行楷"/>
              </a:rPr>
              <a:t>随着大陆漂移说发现的深入，最初在</a:t>
            </a:r>
            <a:endParaRPr b="0" lang="en-US" sz="3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华文行楷"/>
              </a:rPr>
              <a:t>病房里坐卧不安的魏格纳，心情也随</a:t>
            </a:r>
            <a:endParaRPr b="0" lang="en-US" sz="3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华文行楷"/>
              </a:rPr>
              <a:t>之产生了变化。请大家默读课文</a:t>
            </a:r>
            <a:r>
              <a:rPr b="0" lang="en-US" sz="3800" spc="-1" strike="noStrike">
                <a:solidFill>
                  <a:srgbClr val="ff0000"/>
                </a:solidFill>
                <a:latin typeface="Arial"/>
                <a:ea typeface="华文行楷"/>
              </a:rPr>
              <a:t>2—4</a:t>
            </a:r>
            <a:endParaRPr b="0" lang="en-US" sz="3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华文行楷"/>
              </a:rPr>
              <a:t>自然段，找出描写魏格纳发现及其心</a:t>
            </a:r>
            <a:endParaRPr b="0" lang="en-US" sz="3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华文行楷"/>
              </a:rPr>
              <a:t>情的句子。</a:t>
            </a:r>
            <a:endParaRPr b="0" lang="en-US" sz="3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4000" y="76500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发现一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突然，他的手指    了下来，    在地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南美洲上巴西的一块突出的部分，眼睛却    住非洲西海岸呈直角凹进的几内亚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4356000" y="1341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慢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6443640" y="13366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停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1116000" y="2421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盯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5796000" y="54936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观察仔细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2124000" y="4653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巴西突出部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1403280" y="537372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非洲几内亚湾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8" name="AutoShape 12"/>
          <p:cNvSpPr/>
          <p:nvPr/>
        </p:nvSpPr>
        <p:spPr>
          <a:xfrm>
            <a:off x="4859280" y="486900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5003640" y="501336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形状吻合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0" name="Rectangle 21"/>
          <p:cNvSpPr/>
          <p:nvPr/>
        </p:nvSpPr>
        <p:spPr>
          <a:xfrm>
            <a:off x="684360" y="2852640"/>
            <a:ext cx="7551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瞧！这两个地方的形状竟是这般不可思议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吻合！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5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5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5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0" y="0"/>
            <a:ext cx="9601200" cy="6872400"/>
            <a:chOff x="0" y="0"/>
            <a:chExt cx="9601200" cy="6872400"/>
          </a:xfrm>
        </p:grpSpPr>
        <p:pic>
          <p:nvPicPr>
            <p:cNvPr id="113" name="Picture 3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601200" cy="687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 txBox="1"/>
            <p:nvPr/>
          </p:nvSpPr>
          <p:spPr>
            <a:xfrm>
              <a:off x="0" y="0"/>
              <a:ext cx="9601200" cy="6872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 Box 4"/>
          <p:cNvSpPr/>
          <p:nvPr/>
        </p:nvSpPr>
        <p:spPr>
          <a:xfrm>
            <a:off x="4200480" y="3213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6600"/>
                </a:solidFill>
                <a:uFillTx/>
                <a:latin typeface="Arial"/>
                <a:ea typeface="楷体_GB2312"/>
              </a:rPr>
              <a:t>几内亚湾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235320" y="3500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6600"/>
                </a:solidFill>
                <a:uFillTx/>
                <a:latin typeface="Arial Black"/>
                <a:ea typeface="楷体_GB2312"/>
              </a:rPr>
              <a:t>巴西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1258920" y="12682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北美洲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2411280" y="328464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南美洲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3995640" y="6308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4356000" y="6308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南极洲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4788000" y="2637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非洲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4500720" y="134136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欧洲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6227640" y="134136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亚洲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7596360" y="4149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大洋洲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3567240" y="2131920"/>
            <a:ext cx="54612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大 西 洋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6257880" y="3068640"/>
            <a:ext cx="5461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印 度 洋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542880" y="2205000"/>
            <a:ext cx="5461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太  平  洋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8391600" y="1989000"/>
            <a:ext cx="54612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太  平  洋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4284720" y="260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北 冰 洋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发现二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果然，巴西东海岸的每一个突出部分，都能在非洲西海岸找到形状相似的海湾；同时，巴西的每个海湾，又能在非洲找到相应的突出部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4"/>
          <p:cNvSpPr/>
          <p:nvPr/>
        </p:nvSpPr>
        <p:spPr>
          <a:xfrm>
            <a:off x="1908000" y="2421000"/>
            <a:ext cx="1511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3924360" y="2421000"/>
            <a:ext cx="1439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914480" y="1916280"/>
            <a:ext cx="515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精神大振，仔细端详着美洲和非洲大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陆形状上的不同点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发现三：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魏格纳兴奋极了，将地图上一块块陆地进行了比较，结果发现，从海岸线的相似情形看，地球上所有的大陆块都能够较好地吻合在一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2916360" y="2276640"/>
            <a:ext cx="1439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2012040" y="1125360"/>
            <a:ext cx="5392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Arial"/>
                <a:ea typeface="华文行楷"/>
              </a:rPr>
              <a:t>学到这里，你觉得魏格纳是个怎样的人？</a:t>
            </a:r>
            <a:endParaRPr b="0" lang="en-US" sz="3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2644560" y="19890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仔细观察，认真思考。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1913760" y="2819520"/>
            <a:ext cx="531288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Arial"/>
                <a:ea typeface="华文行楷"/>
              </a:rPr>
              <a:t>魏格纳的优秀品质何止于此，请大家朗</a:t>
            </a:r>
            <a:endParaRPr b="0" lang="en-US" sz="3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Arial"/>
                <a:ea typeface="华文行楷"/>
              </a:rPr>
              <a:t>读</a:t>
            </a:r>
            <a:r>
              <a:rPr b="1" lang="en-US" sz="3800" spc="-1" strike="noStrike">
                <a:solidFill>
                  <a:srgbClr val="ff0000"/>
                </a:solidFill>
                <a:latin typeface="Arial"/>
                <a:ea typeface="华文行楷"/>
              </a:rPr>
              <a:t>7</a:t>
            </a:r>
            <a:r>
              <a:rPr b="1" lang="zh-CN" sz="3800" spc="-1" strike="noStrike">
                <a:solidFill>
                  <a:srgbClr val="ff0000"/>
                </a:solidFill>
                <a:latin typeface="Arial"/>
                <a:ea typeface="华文行楷"/>
              </a:rPr>
              <a:t>自然段，看看魏格纳还是个怎样的</a:t>
            </a:r>
            <a:endParaRPr b="0" lang="en-US" sz="3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Arial"/>
                <a:ea typeface="华文行楷"/>
              </a:rPr>
              <a:t>人？</a:t>
            </a:r>
            <a:endParaRPr b="0" lang="en-US" sz="3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4269960" y="4767120"/>
            <a:ext cx="1032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华文中宋"/>
              </a:rPr>
              <a:t>魏格纳并不是一个轻易改变自己想法的人。</a:t>
            </a:r>
            <a:endParaRPr b="0" lang="en-US" sz="3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从哪里可以看出魏格纳不是一个轻易改变自己想法的人？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行楷"/>
              </a:rPr>
              <a:t>6--8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373200" y="1700280"/>
            <a:ext cx="186264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华文中宋"/>
              </a:rPr>
              <a:t>1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  <a:ea typeface="华文中宋"/>
              </a:rPr>
              <a:t>、著名科学家劝他打消念头，不必为此</a:t>
            </a:r>
            <a:r>
              <a:rPr b="1" lang="zh-CN" sz="3300" spc="-1" strike="noStrike">
                <a:solidFill>
                  <a:srgbClr val="ff0000"/>
                </a:solidFill>
                <a:latin typeface="Arial"/>
                <a:ea typeface="华文中宋"/>
              </a:rPr>
              <a:t>枉</a:t>
            </a:r>
            <a:endParaRPr b="0" lang="en-US" sz="33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Arial"/>
                <a:ea typeface="华文中宋"/>
              </a:rPr>
              <a:t>费心机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  <a:ea typeface="华文中宋"/>
              </a:rPr>
              <a:t>，他还是坚信自己的想法。</a:t>
            </a:r>
            <a:endParaRPr b="0" lang="en-US" sz="33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华文中宋"/>
                <a:ea typeface="华文中宋"/>
              </a:rPr>
              <a:t>“</a:t>
            </a:r>
            <a:r>
              <a:rPr b="1" lang="zh-CN" sz="3300" spc="-1" strike="noStrike">
                <a:solidFill>
                  <a:srgbClr val="ff0000"/>
                </a:solidFill>
                <a:latin typeface="Arial"/>
                <a:ea typeface="华文中宋"/>
              </a:rPr>
              <a:t>枉费心机</a:t>
            </a:r>
            <a:r>
              <a:rPr b="1" lang="zh-CN" sz="3300" spc="-1" strike="noStrike">
                <a:solidFill>
                  <a:srgbClr val="ff0000"/>
                </a:solidFill>
                <a:latin typeface="华文中宋"/>
                <a:ea typeface="华文中宋"/>
              </a:rPr>
              <a:t>”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  <a:ea typeface="华文中宋"/>
              </a:rPr>
              <a:t>：白白耗费心思。</a:t>
            </a:r>
            <a:endParaRPr b="0" lang="en-US" sz="33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3786120" y="4508640"/>
            <a:ext cx="19162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华文中宋"/>
              </a:rPr>
              <a:t>3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  <a:ea typeface="华文中宋"/>
              </a:rPr>
              <a:t>、他在</a:t>
            </a:r>
            <a:r>
              <a:rPr b="1" lang="zh-CN" sz="3300" spc="-1" strike="noStrike">
                <a:solidFill>
                  <a:srgbClr val="ff0000"/>
                </a:solidFill>
                <a:latin typeface="Arial"/>
                <a:ea typeface="华文中宋"/>
              </a:rPr>
              <a:t>浩如烟海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  <a:ea typeface="华文中宋"/>
              </a:rPr>
              <a:t>的资料中寻找大陆漂移证据。</a:t>
            </a:r>
            <a:endParaRPr b="0" lang="en-US" sz="33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1" lang="zh-CN" sz="3300" spc="-1" strike="noStrike">
                <a:solidFill>
                  <a:srgbClr val="ff0000"/>
                </a:solidFill>
                <a:latin typeface="Arial"/>
                <a:ea typeface="华文中宋"/>
              </a:rPr>
              <a:t>浩如烟海</a:t>
            </a:r>
            <a:r>
              <a:rPr b="1" lang="zh-CN" sz="33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  <a:ea typeface="华文中宋"/>
              </a:rPr>
              <a:t>形容文献资料非常丰富。</a:t>
            </a:r>
            <a:endParaRPr b="0" lang="en-US" sz="33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3291840" y="5805360"/>
            <a:ext cx="910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华文中宋"/>
              </a:rPr>
              <a:t>4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  <a:ea typeface="华文中宋"/>
              </a:rPr>
              <a:t>、他奔赴世界各地进行实地考察。</a:t>
            </a:r>
            <a:endParaRPr b="0" lang="en-US" sz="33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3501360" y="3500280"/>
            <a:ext cx="910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华文中宋"/>
              </a:rPr>
              <a:t>2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  <a:ea typeface="华文中宋"/>
              </a:rPr>
              <a:t>、在各洲的联系和对比中进行考察。</a:t>
            </a:r>
            <a:endParaRPr b="0" lang="en-US" sz="33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www.eeppt.com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B0A2-548E-4BA9-8001-6C5DFE84C5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2"/>
          <a:stretch/>
        </p:blipFill>
        <p:spPr>
          <a:xfrm>
            <a:off x="228600" y="1455840"/>
            <a:ext cx="8610480" cy="48528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266760" y="1652760"/>
            <a:ext cx="2576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难道仅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仅是巧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合吗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?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 rot="20004000">
            <a:off x="685080" y="4476240"/>
            <a:ext cx="124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可能是巧合吧？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除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3"/>
          <a:stretch/>
        </p:blipFill>
        <p:spPr>
          <a:xfrm>
            <a:off x="1371600" y="5745240"/>
            <a:ext cx="4267080" cy="5792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324000" y="43488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imes New Roman"/>
              </a:rPr>
              <a:t>地图上的发现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54" name="Group 8"/>
            <p:cNvGrpSpPr/>
            <p:nvPr/>
          </p:nvGrpSpPr>
          <p:grpSpPr>
            <a:xfrm>
              <a:off x="0" y="0"/>
              <a:ext cx="5292720" cy="6815160"/>
              <a:chOff x="0" y="0"/>
              <a:chExt cx="5292720" cy="6815160"/>
            </a:xfrm>
          </p:grpSpPr>
          <p:pic>
            <p:nvPicPr>
              <p:cNvPr id="155" name="Pictur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5219640" cy="456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Picture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4508640"/>
                <a:ext cx="5292720" cy="2306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7" name="Picture 11" descr=""/>
            <p:cNvPicPr/>
            <p:nvPr/>
          </p:nvPicPr>
          <p:blipFill>
            <a:blip r:embed="rId6"/>
            <a:stretch/>
          </p:blipFill>
          <p:spPr>
            <a:xfrm>
              <a:off x="4389480" y="0"/>
              <a:ext cx="475452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Text Box 12"/>
          <p:cNvSpPr/>
          <p:nvPr/>
        </p:nvSpPr>
        <p:spPr>
          <a:xfrm>
            <a:off x="250920" y="4508640"/>
            <a:ext cx="47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08c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4108c0"/>
                </a:solidFill>
                <a:latin typeface="宋体"/>
              </a:rPr>
              <a:t>魏格纳认为：全球的陆地在</a:t>
            </a:r>
            <a:r>
              <a:rPr b="1" lang="en-US" sz="2800" spc="-1" strike="noStrike">
                <a:solidFill>
                  <a:srgbClr val="4108c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4108c0"/>
                </a:solidFill>
                <a:latin typeface="宋体"/>
              </a:rPr>
              <a:t>亿年前还是彼此相连的一个整体，后来，由于受到力的作用，才不断分离并漂移到现在海陆分布。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21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0" y="0"/>
            <a:ext cx="9601200" cy="6872400"/>
            <a:chOff x="0" y="0"/>
            <a:chExt cx="9601200" cy="6872400"/>
          </a:xfrm>
        </p:grpSpPr>
        <p:pic>
          <p:nvPicPr>
            <p:cNvPr id="52" name="Picture 3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601200" cy="687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 txBox="1"/>
            <p:nvPr/>
          </p:nvSpPr>
          <p:spPr>
            <a:xfrm>
              <a:off x="0" y="0"/>
              <a:ext cx="9601200" cy="6872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 Box 4"/>
          <p:cNvSpPr/>
          <p:nvPr/>
        </p:nvSpPr>
        <p:spPr>
          <a:xfrm>
            <a:off x="4200480" y="3213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6600"/>
                </a:solidFill>
                <a:uFillTx/>
                <a:latin typeface="Arial"/>
                <a:ea typeface="楷体_GB2312"/>
              </a:rPr>
              <a:t>几内亚湾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235320" y="3500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6600"/>
                </a:solidFill>
                <a:uFillTx/>
                <a:latin typeface="Arial Black"/>
                <a:ea typeface="楷体_GB2312"/>
              </a:rPr>
              <a:t>巴西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258920" y="12682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北美洲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2411280" y="328464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南美洲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3995640" y="6308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4356000" y="6308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南极洲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4788000" y="2637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非洲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4500720" y="134136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欧洲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6227640" y="134136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亚洲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7596360" y="4149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大洋洲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3567240" y="2131920"/>
            <a:ext cx="54612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大 西 洋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6257880" y="3068640"/>
            <a:ext cx="5461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印 度 洋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542880" y="2205000"/>
            <a:ext cx="5461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太  平  洋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8391600" y="1989000"/>
            <a:ext cx="54612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太  平  洋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4284720" y="260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北 冰 洋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026" descr="map"/>
          <p:cNvPicPr/>
          <p:nvPr/>
        </p:nvPicPr>
        <p:blipFill>
          <a:blip r:embed="rId2"/>
          <a:srcRect l="0" t="4039" r="0" b="3000"/>
          <a:stretch/>
        </p:blipFill>
        <p:spPr>
          <a:xfrm>
            <a:off x="0" y="692280"/>
            <a:ext cx="9144000" cy="49687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027"/>
          <p:cNvSpPr/>
          <p:nvPr/>
        </p:nvSpPr>
        <p:spPr>
          <a:xfrm>
            <a:off x="3708360" y="60213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世界地图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推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种叫中龙的爬行动物，既见于巴西东部，也见于非洲西南部，显然，这些动物当时生活在同一块大陆上，否则，即使是插上翅膀也难以飞渡重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684360" y="2492280"/>
            <a:ext cx="69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中龙既见于巴西东部，也见于非洲西南部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684360" y="3116160"/>
            <a:ext cx="52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中龙插上翅膀也难以飞渡重洋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611280" y="261144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7164360" y="2755800"/>
            <a:ext cx="297000" cy="792360"/>
          </a:xfrm>
          <a:custGeom>
            <a:avLst/>
            <a:gdLst>
              <a:gd name="textAreaLeft" fmla="*/ 0 w 297000"/>
              <a:gd name="textAreaRight" fmla="*/ 107280 w 29700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7524720" y="2971800"/>
            <a:ext cx="878040" cy="1368360"/>
          </a:xfrm>
          <a:custGeom>
            <a:avLst/>
            <a:gdLst>
              <a:gd name="textAreaLeft" fmla="*/ 117360 w 878040"/>
              <a:gd name="textAreaRight" fmla="*/ 760680 w 878040"/>
              <a:gd name="textAreaTop" fmla="*/ 239400 h 1368360"/>
              <a:gd name="textAreaBottom" fmla="*/ 99216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1979640" y="3645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这些动物当时生活在同一块大陆上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4788000" y="4149720"/>
            <a:ext cx="288720" cy="431640"/>
          </a:xfrm>
          <a:prstGeom prst="downArrow">
            <a:avLst>
              <a:gd name="adj1" fmla="val 50000"/>
              <a:gd name="adj2" fmla="val 37375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1979640" y="458136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南美洲和非洲是连在一起的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0" name="AutoShape 11"/>
          <p:cNvSpPr/>
          <p:nvPr/>
        </p:nvSpPr>
        <p:spPr>
          <a:xfrm>
            <a:off x="4788000" y="5013360"/>
            <a:ext cx="360360" cy="504720"/>
          </a:xfrm>
          <a:prstGeom prst="downArrow">
            <a:avLst>
              <a:gd name="adj1" fmla="val 50000"/>
              <a:gd name="adj2" fmla="val 35015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1258920" y="5445000"/>
            <a:ext cx="63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当时，地球上所有的陆地连在一起的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72" name="Picture 14" descr="04"/>
          <p:cNvPicPr/>
          <p:nvPr/>
        </p:nvPicPr>
        <p:blipFill>
          <a:blip r:embed="rId1"/>
          <a:stretch/>
        </p:blipFill>
        <p:spPr>
          <a:xfrm>
            <a:off x="2484360" y="5877000"/>
            <a:ext cx="43340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9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67"/>
          <p:cNvPicPr/>
          <p:nvPr/>
        </p:nvPicPr>
        <p:blipFill>
          <a:blip r:embed="rId1"/>
          <a:stretch/>
        </p:blipFill>
        <p:spPr>
          <a:xfrm>
            <a:off x="0" y="404640"/>
            <a:ext cx="6443640" cy="48340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3"/>
          <p:cNvSpPr/>
          <p:nvPr/>
        </p:nvSpPr>
        <p:spPr>
          <a:xfrm>
            <a:off x="6588000" y="765000"/>
            <a:ext cx="255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大西洋两岸的非洲和南美洲的很多动物有亲缘关系。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两岸都有鸵鸟，而鸵鸟不会飞，更不会游，所以无法跨越大西洋。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2843280" y="5373720"/>
            <a:ext cx="409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大陆漂移学说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rcRect l="15479" t="0" r="0" b="0"/>
          <a:stretch/>
        </p:blipFill>
        <p:spPr>
          <a:xfrm>
            <a:off x="3276720" y="3141720"/>
            <a:ext cx="5410080" cy="34052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"/>
          <p:cNvPicPr/>
          <p:nvPr/>
        </p:nvPicPr>
        <p:blipFill>
          <a:blip r:embed="rId2"/>
          <a:srcRect l="0" t="0" r="2090" b="3765"/>
          <a:stretch/>
        </p:blipFill>
        <p:spPr>
          <a:xfrm>
            <a:off x="533520" y="685800"/>
            <a:ext cx="3581280" cy="25909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1353600" y="3276720"/>
            <a:ext cx="134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舌草齿化石 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2847960" y="594360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一种岩石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发现地点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8431200" y="4419720"/>
            <a:ext cx="62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化石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产地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468360" y="450864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科学依据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4427640" y="40464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一种叫舌羊齿的植物化石在印度、澳大利亚和非洲的岩层中被发现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于舌羊齿的“种子”太大，不能随风漂移，另一方面它容易破碎，不可能漂移过海。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尽管现在大陆之间呈犬牙交错状，但仍能说明它们在以前曾是连成一片的。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79280" y="549000"/>
            <a:ext cx="896472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事情发展的顺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发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3"/>
          <p:cNvSpPr/>
          <p:nvPr/>
        </p:nvSpPr>
        <p:spPr>
          <a:xfrm>
            <a:off x="1476360" y="148428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3132000" y="148428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1953360" y="2349360"/>
            <a:ext cx="5297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小结：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此后，魏格纳为了进一步寻找有力证据，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只身前往格林兰岛考察，在他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行楷"/>
              </a:rPr>
              <a:t>50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岁生日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那天不幸遇难。值得欣慰的是他的大陆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漂移说使人类重新认识了地球。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2185920" y="1268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推测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3841920" y="1268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论证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5979960" y="1268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引起学界震动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0" name="AutoShape 9"/>
          <p:cNvSpPr/>
          <p:nvPr/>
        </p:nvSpPr>
        <p:spPr>
          <a:xfrm>
            <a:off x="4788000" y="148428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魏格纳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发现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并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考证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了</a:t>
            </a:r>
            <a:r>
              <a:rPr b="0" lang="zh-CN" sz="6000" spc="-1" strike="noStrike">
                <a:solidFill>
                  <a:srgbClr val="0000cc"/>
                </a:solidFill>
                <a:latin typeface="Arial"/>
              </a:rPr>
              <a:t>大陆漂移假说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高度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赞扬了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他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勇于探索大自然奥秘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执著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精神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611280" y="1341360"/>
            <a:ext cx="784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领悟道理：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仔细观察，认真思考，反复论证，是魏格纳获得成功的不可缺少的几个因素。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1393920" y="1035000"/>
            <a:ext cx="1143000" cy="1008360"/>
            <a:chOff x="1393920" y="1035000"/>
            <a:chExt cx="1143000" cy="1008360"/>
          </a:xfrm>
        </p:grpSpPr>
        <p:sp>
          <p:nvSpPr>
            <p:cNvPr id="194" name="Oval 3"/>
            <p:cNvSpPr/>
            <p:nvPr/>
          </p:nvSpPr>
          <p:spPr>
            <a:xfrm>
              <a:off x="1393920" y="1111320"/>
              <a:ext cx="1143000" cy="914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5" name="Text Box 4"/>
            <p:cNvSpPr/>
            <p:nvPr/>
          </p:nvSpPr>
          <p:spPr>
            <a:xfrm>
              <a:off x="1470240" y="103500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谧</a:t>
              </a:r>
              <a:endParaRPr b="0" lang="en-US" sz="6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96" name="Group 5"/>
          <p:cNvGrpSpPr/>
          <p:nvPr/>
        </p:nvGrpSpPr>
        <p:grpSpPr>
          <a:xfrm>
            <a:off x="4005360" y="1127160"/>
            <a:ext cx="1143000" cy="1008360"/>
            <a:chOff x="4005360" y="1127160"/>
            <a:chExt cx="1143000" cy="1008360"/>
          </a:xfrm>
        </p:grpSpPr>
        <p:sp>
          <p:nvSpPr>
            <p:cNvPr id="197" name="Oval 6"/>
            <p:cNvSpPr/>
            <p:nvPr/>
          </p:nvSpPr>
          <p:spPr>
            <a:xfrm>
              <a:off x="4005360" y="1203480"/>
              <a:ext cx="1143000" cy="914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8" name="Text Box 7"/>
            <p:cNvSpPr/>
            <p:nvPr/>
          </p:nvSpPr>
          <p:spPr>
            <a:xfrm>
              <a:off x="4081680" y="112716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振</a:t>
              </a:r>
              <a:endParaRPr b="0" lang="en-US" sz="6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99" name="Group 8"/>
          <p:cNvGrpSpPr/>
          <p:nvPr/>
        </p:nvGrpSpPr>
        <p:grpSpPr>
          <a:xfrm>
            <a:off x="6524640" y="1127160"/>
            <a:ext cx="1143000" cy="1008360"/>
            <a:chOff x="6524640" y="1127160"/>
            <a:chExt cx="1143000" cy="1008360"/>
          </a:xfrm>
        </p:grpSpPr>
        <p:sp>
          <p:nvSpPr>
            <p:cNvPr id="200" name="Oval 9"/>
            <p:cNvSpPr/>
            <p:nvPr/>
          </p:nvSpPr>
          <p:spPr>
            <a:xfrm>
              <a:off x="6524640" y="1203480"/>
              <a:ext cx="1143000" cy="914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1" name="Text Box 10"/>
            <p:cNvSpPr/>
            <p:nvPr/>
          </p:nvSpPr>
          <p:spPr>
            <a:xfrm>
              <a:off x="6600960" y="112716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枉</a:t>
              </a:r>
              <a:endParaRPr b="0" lang="en-US" sz="6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02" name="Group 11"/>
          <p:cNvGrpSpPr/>
          <p:nvPr/>
        </p:nvGrpSpPr>
        <p:grpSpPr>
          <a:xfrm>
            <a:off x="684360" y="3143160"/>
            <a:ext cx="1143000" cy="1008360"/>
            <a:chOff x="684360" y="3143160"/>
            <a:chExt cx="1143000" cy="1008360"/>
          </a:xfrm>
        </p:grpSpPr>
        <p:sp>
          <p:nvSpPr>
            <p:cNvPr id="203" name="Oval 12"/>
            <p:cNvSpPr/>
            <p:nvPr/>
          </p:nvSpPr>
          <p:spPr>
            <a:xfrm>
              <a:off x="684360" y="3219480"/>
              <a:ext cx="1143000" cy="914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4" name="Text Box 13"/>
            <p:cNvSpPr/>
            <p:nvPr/>
          </p:nvSpPr>
          <p:spPr>
            <a:xfrm>
              <a:off x="760680" y="314316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浩</a:t>
              </a:r>
              <a:endParaRPr b="0" lang="en-US" sz="6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05" name="Group 14"/>
          <p:cNvGrpSpPr/>
          <p:nvPr/>
        </p:nvGrpSpPr>
        <p:grpSpPr>
          <a:xfrm>
            <a:off x="2979720" y="3071880"/>
            <a:ext cx="1143000" cy="1008360"/>
            <a:chOff x="2979720" y="3071880"/>
            <a:chExt cx="1143000" cy="1008360"/>
          </a:xfrm>
        </p:grpSpPr>
        <p:sp>
          <p:nvSpPr>
            <p:cNvPr id="206" name="Oval 15"/>
            <p:cNvSpPr/>
            <p:nvPr/>
          </p:nvSpPr>
          <p:spPr>
            <a:xfrm>
              <a:off x="2979720" y="3148200"/>
              <a:ext cx="1143000" cy="914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7" name="Text Box 16"/>
            <p:cNvSpPr/>
            <p:nvPr/>
          </p:nvSpPr>
          <p:spPr>
            <a:xfrm>
              <a:off x="3056040" y="307188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资</a:t>
              </a:r>
              <a:endParaRPr b="0" lang="en-US" sz="6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08" name="Group 17"/>
          <p:cNvGrpSpPr/>
          <p:nvPr/>
        </p:nvGrpSpPr>
        <p:grpSpPr>
          <a:xfrm>
            <a:off x="5068800" y="3071880"/>
            <a:ext cx="1143000" cy="1008360"/>
            <a:chOff x="5068800" y="3071880"/>
            <a:chExt cx="1143000" cy="1008360"/>
          </a:xfrm>
        </p:grpSpPr>
        <p:sp>
          <p:nvSpPr>
            <p:cNvPr id="209" name="Oval 18"/>
            <p:cNvSpPr/>
            <p:nvPr/>
          </p:nvSpPr>
          <p:spPr>
            <a:xfrm>
              <a:off x="5068800" y="3148200"/>
              <a:ext cx="1143000" cy="914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0" name="Text Box 19"/>
            <p:cNvSpPr/>
            <p:nvPr/>
          </p:nvSpPr>
          <p:spPr>
            <a:xfrm>
              <a:off x="5145120" y="307188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召</a:t>
              </a:r>
              <a:endParaRPr b="0" lang="en-US" sz="6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11" name="Group 20"/>
          <p:cNvGrpSpPr/>
          <p:nvPr/>
        </p:nvGrpSpPr>
        <p:grpSpPr>
          <a:xfrm>
            <a:off x="7227720" y="3002040"/>
            <a:ext cx="1143000" cy="1008360"/>
            <a:chOff x="7227720" y="3002040"/>
            <a:chExt cx="1143000" cy="1008360"/>
          </a:xfrm>
        </p:grpSpPr>
        <p:sp>
          <p:nvSpPr>
            <p:cNvPr id="212" name="Oval 21"/>
            <p:cNvSpPr/>
            <p:nvPr/>
          </p:nvSpPr>
          <p:spPr>
            <a:xfrm>
              <a:off x="7227720" y="3078360"/>
              <a:ext cx="1143000" cy="914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3" name="Text Box 22"/>
            <p:cNvSpPr/>
            <p:nvPr/>
          </p:nvSpPr>
          <p:spPr>
            <a:xfrm>
              <a:off x="7304040" y="300204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源</a:t>
              </a:r>
              <a:endParaRPr b="0" lang="en-US" sz="6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14" name="Group 23"/>
          <p:cNvGrpSpPr/>
          <p:nvPr/>
        </p:nvGrpSpPr>
        <p:grpSpPr>
          <a:xfrm>
            <a:off x="324000" y="5157720"/>
            <a:ext cx="8516880" cy="1434960"/>
            <a:chOff x="324000" y="5157720"/>
            <a:chExt cx="8516880" cy="1434960"/>
          </a:xfrm>
        </p:grpSpPr>
        <p:pic>
          <p:nvPicPr>
            <p:cNvPr id="215" name="Picture 24" descr="NA00763_"/>
            <p:cNvPicPr/>
            <p:nvPr/>
          </p:nvPicPr>
          <p:blipFill>
            <a:blip r:embed="rId2"/>
            <a:stretch/>
          </p:blipFill>
          <p:spPr>
            <a:xfrm>
              <a:off x="324000" y="5157720"/>
              <a:ext cx="3335400" cy="14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25" descr="NA00763_"/>
            <p:cNvPicPr/>
            <p:nvPr/>
          </p:nvPicPr>
          <p:blipFill>
            <a:blip r:embed="rId3"/>
            <a:stretch/>
          </p:blipFill>
          <p:spPr>
            <a:xfrm>
              <a:off x="1417680" y="5157720"/>
              <a:ext cx="3335400" cy="14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26" descr="NA00763_"/>
            <p:cNvPicPr/>
            <p:nvPr/>
          </p:nvPicPr>
          <p:blipFill>
            <a:blip r:embed="rId4"/>
            <a:stretch/>
          </p:blipFill>
          <p:spPr>
            <a:xfrm>
              <a:off x="2565720" y="5157720"/>
              <a:ext cx="3335040" cy="14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27" descr="NA00763_"/>
            <p:cNvPicPr/>
            <p:nvPr/>
          </p:nvPicPr>
          <p:blipFill>
            <a:blip r:embed="rId5"/>
            <a:stretch/>
          </p:blipFill>
          <p:spPr>
            <a:xfrm>
              <a:off x="3713400" y="5157720"/>
              <a:ext cx="3335400" cy="14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28" descr="NA00763_"/>
            <p:cNvPicPr/>
            <p:nvPr/>
          </p:nvPicPr>
          <p:blipFill>
            <a:blip r:embed="rId6"/>
            <a:stretch/>
          </p:blipFill>
          <p:spPr>
            <a:xfrm>
              <a:off x="4819680" y="5157720"/>
              <a:ext cx="3335400" cy="14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29" descr="NA00763_"/>
            <p:cNvPicPr/>
            <p:nvPr/>
          </p:nvPicPr>
          <p:blipFill>
            <a:blip r:embed="rId7"/>
            <a:stretch/>
          </p:blipFill>
          <p:spPr>
            <a:xfrm>
              <a:off x="5505480" y="5157720"/>
              <a:ext cx="3335400" cy="143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1" name="WordArt 30" descr=""/>
          <p:cNvPicPr/>
          <p:nvPr/>
        </p:nvPicPr>
        <p:blipFill>
          <a:blip r:embed="rId8"/>
          <a:stretch/>
        </p:blipFill>
        <p:spPr>
          <a:xfrm>
            <a:off x="7302600" y="5084640"/>
            <a:ext cx="1560240" cy="79236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31"/>
          <p:cNvSpPr/>
          <p:nvPr/>
        </p:nvSpPr>
        <p:spPr>
          <a:xfrm>
            <a:off x="826920" y="5445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  <a:ea typeface="幼圆"/>
              </a:rPr>
              <a:t>读一读，记一记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2"/>
          <p:cNvGrpSpPr/>
          <p:nvPr/>
        </p:nvGrpSpPr>
        <p:grpSpPr>
          <a:xfrm>
            <a:off x="1355760" y="457200"/>
            <a:ext cx="1143000" cy="1008360"/>
            <a:chOff x="1355760" y="457200"/>
            <a:chExt cx="1143000" cy="1008360"/>
          </a:xfrm>
        </p:grpSpPr>
        <p:sp>
          <p:nvSpPr>
            <p:cNvPr id="224" name="Oval 3"/>
            <p:cNvSpPr/>
            <p:nvPr/>
          </p:nvSpPr>
          <p:spPr>
            <a:xfrm>
              <a:off x="1355760" y="533520"/>
              <a:ext cx="1143000" cy="914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5" name="Text Box 4"/>
            <p:cNvSpPr/>
            <p:nvPr/>
          </p:nvSpPr>
          <p:spPr>
            <a:xfrm>
              <a:off x="1432080" y="45720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谧</a:t>
              </a:r>
              <a:endParaRPr b="0" lang="en-US" sz="6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26" name="Group 5"/>
          <p:cNvGrpSpPr/>
          <p:nvPr/>
        </p:nvGrpSpPr>
        <p:grpSpPr>
          <a:xfrm>
            <a:off x="1050840" y="1600200"/>
            <a:ext cx="1828800" cy="825120"/>
            <a:chOff x="1050840" y="1600200"/>
            <a:chExt cx="1828800" cy="825120"/>
          </a:xfrm>
        </p:grpSpPr>
        <p:sp>
          <p:nvSpPr>
            <p:cNvPr id="227" name="AutoShape 6"/>
            <p:cNvSpPr/>
            <p:nvPr/>
          </p:nvSpPr>
          <p:spPr>
            <a:xfrm>
              <a:off x="1279440" y="1676520"/>
              <a:ext cx="137160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8" name="Text Box 7"/>
            <p:cNvSpPr/>
            <p:nvPr/>
          </p:nvSpPr>
          <p:spPr>
            <a:xfrm>
              <a:off x="1050840" y="160020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6633"/>
                  </a:solidFill>
                  <a:latin typeface="Times New Roman"/>
                  <a:ea typeface="楷体_GB2312"/>
                </a:rPr>
                <a:t>静谧</a:t>
              </a:r>
              <a:endParaRPr b="0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29" name="Group 8"/>
          <p:cNvGrpSpPr/>
          <p:nvPr/>
        </p:nvGrpSpPr>
        <p:grpSpPr>
          <a:xfrm>
            <a:off x="3606840" y="1628640"/>
            <a:ext cx="1828800" cy="825120"/>
            <a:chOff x="3606840" y="1628640"/>
            <a:chExt cx="1828800" cy="825120"/>
          </a:xfrm>
        </p:grpSpPr>
        <p:sp>
          <p:nvSpPr>
            <p:cNvPr id="230" name="AutoShape 9"/>
            <p:cNvSpPr/>
            <p:nvPr/>
          </p:nvSpPr>
          <p:spPr>
            <a:xfrm>
              <a:off x="3835440" y="1704960"/>
              <a:ext cx="137160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1" name="Text Box 10"/>
            <p:cNvSpPr/>
            <p:nvPr/>
          </p:nvSpPr>
          <p:spPr>
            <a:xfrm>
              <a:off x="3606840" y="162864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6633"/>
                  </a:solidFill>
                  <a:latin typeface="Times New Roman"/>
                  <a:ea typeface="楷体_GB2312"/>
                </a:rPr>
                <a:t>振奋</a:t>
              </a:r>
              <a:endParaRPr b="0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32" name="Group 11"/>
          <p:cNvGrpSpPr/>
          <p:nvPr/>
        </p:nvGrpSpPr>
        <p:grpSpPr>
          <a:xfrm>
            <a:off x="6127920" y="1628640"/>
            <a:ext cx="1828800" cy="825120"/>
            <a:chOff x="6127920" y="1628640"/>
            <a:chExt cx="1828800" cy="825120"/>
          </a:xfrm>
        </p:grpSpPr>
        <p:sp>
          <p:nvSpPr>
            <p:cNvPr id="233" name="AutoShape 12"/>
            <p:cNvSpPr/>
            <p:nvPr/>
          </p:nvSpPr>
          <p:spPr>
            <a:xfrm>
              <a:off x="6356520" y="1704960"/>
              <a:ext cx="137160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4" name="Text Box 13"/>
            <p:cNvSpPr/>
            <p:nvPr/>
          </p:nvSpPr>
          <p:spPr>
            <a:xfrm>
              <a:off x="6127920" y="162864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6633"/>
                  </a:solidFill>
                  <a:latin typeface="Times New Roman"/>
                  <a:ea typeface="楷体_GB2312"/>
                </a:rPr>
                <a:t>枉费</a:t>
              </a:r>
              <a:endParaRPr b="0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35" name="Group 14"/>
          <p:cNvGrpSpPr/>
          <p:nvPr/>
        </p:nvGrpSpPr>
        <p:grpSpPr>
          <a:xfrm>
            <a:off x="34920" y="4005360"/>
            <a:ext cx="3203280" cy="825120"/>
            <a:chOff x="34920" y="4005360"/>
            <a:chExt cx="3203280" cy="825120"/>
          </a:xfrm>
        </p:grpSpPr>
        <p:sp>
          <p:nvSpPr>
            <p:cNvPr id="236" name="AutoShape 15"/>
            <p:cNvSpPr/>
            <p:nvPr/>
          </p:nvSpPr>
          <p:spPr>
            <a:xfrm>
              <a:off x="435240" y="4081320"/>
              <a:ext cx="2402280" cy="685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7" name="Text Box 16"/>
            <p:cNvSpPr/>
            <p:nvPr/>
          </p:nvSpPr>
          <p:spPr>
            <a:xfrm>
              <a:off x="34920" y="4005360"/>
              <a:ext cx="3203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6633"/>
                  </a:solidFill>
                  <a:latin typeface="Times New Roman"/>
                  <a:ea typeface="楷体_GB2312"/>
                </a:rPr>
                <a:t>浩如烟海</a:t>
              </a:r>
              <a:endParaRPr b="0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38" name="Group 17"/>
          <p:cNvGrpSpPr/>
          <p:nvPr/>
        </p:nvGrpSpPr>
        <p:grpSpPr>
          <a:xfrm>
            <a:off x="3174840" y="3933720"/>
            <a:ext cx="1828800" cy="825120"/>
            <a:chOff x="3174840" y="3933720"/>
            <a:chExt cx="1828800" cy="825120"/>
          </a:xfrm>
        </p:grpSpPr>
        <p:sp>
          <p:nvSpPr>
            <p:cNvPr id="239" name="AutoShape 18"/>
            <p:cNvSpPr/>
            <p:nvPr/>
          </p:nvSpPr>
          <p:spPr>
            <a:xfrm>
              <a:off x="3403440" y="4010040"/>
              <a:ext cx="137160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0" name="Text Box 19"/>
            <p:cNvSpPr/>
            <p:nvPr/>
          </p:nvSpPr>
          <p:spPr>
            <a:xfrm>
              <a:off x="3174840" y="393372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6633"/>
                  </a:solidFill>
                  <a:latin typeface="Times New Roman"/>
                  <a:ea typeface="楷体_GB2312"/>
                </a:rPr>
                <a:t>资料</a:t>
              </a:r>
              <a:endParaRPr b="0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41" name="Group 20"/>
          <p:cNvGrpSpPr/>
          <p:nvPr/>
        </p:nvGrpSpPr>
        <p:grpSpPr>
          <a:xfrm>
            <a:off x="5048280" y="3933720"/>
            <a:ext cx="1828800" cy="825120"/>
            <a:chOff x="5048280" y="3933720"/>
            <a:chExt cx="1828800" cy="825120"/>
          </a:xfrm>
        </p:grpSpPr>
        <p:sp>
          <p:nvSpPr>
            <p:cNvPr id="242" name="AutoShape 21"/>
            <p:cNvSpPr/>
            <p:nvPr/>
          </p:nvSpPr>
          <p:spPr>
            <a:xfrm>
              <a:off x="5276880" y="4010040"/>
              <a:ext cx="137160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3" name="Text Box 22"/>
            <p:cNvSpPr/>
            <p:nvPr/>
          </p:nvSpPr>
          <p:spPr>
            <a:xfrm>
              <a:off x="5048280" y="393372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6633"/>
                  </a:solidFill>
                  <a:latin typeface="Times New Roman"/>
                  <a:ea typeface="楷体_GB2312"/>
                </a:rPr>
                <a:t>召开</a:t>
              </a:r>
              <a:endParaRPr b="0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44" name="Group 23"/>
          <p:cNvGrpSpPr/>
          <p:nvPr/>
        </p:nvGrpSpPr>
        <p:grpSpPr>
          <a:xfrm>
            <a:off x="3967200" y="549360"/>
            <a:ext cx="1143000" cy="1008360"/>
            <a:chOff x="3967200" y="549360"/>
            <a:chExt cx="1143000" cy="1008360"/>
          </a:xfrm>
        </p:grpSpPr>
        <p:sp>
          <p:nvSpPr>
            <p:cNvPr id="245" name="Oval 24"/>
            <p:cNvSpPr/>
            <p:nvPr/>
          </p:nvSpPr>
          <p:spPr>
            <a:xfrm>
              <a:off x="3967200" y="625680"/>
              <a:ext cx="1143000" cy="914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6" name="Text Box 25"/>
            <p:cNvSpPr/>
            <p:nvPr/>
          </p:nvSpPr>
          <p:spPr>
            <a:xfrm>
              <a:off x="4043520" y="54936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振</a:t>
              </a:r>
              <a:endParaRPr b="0" lang="en-US" sz="6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47" name="Group 26"/>
          <p:cNvGrpSpPr/>
          <p:nvPr/>
        </p:nvGrpSpPr>
        <p:grpSpPr>
          <a:xfrm>
            <a:off x="6486480" y="549360"/>
            <a:ext cx="1143000" cy="1008360"/>
            <a:chOff x="6486480" y="549360"/>
            <a:chExt cx="1143000" cy="1008360"/>
          </a:xfrm>
        </p:grpSpPr>
        <p:sp>
          <p:nvSpPr>
            <p:cNvPr id="248" name="Oval 27"/>
            <p:cNvSpPr/>
            <p:nvPr/>
          </p:nvSpPr>
          <p:spPr>
            <a:xfrm>
              <a:off x="6486480" y="625680"/>
              <a:ext cx="1143000" cy="914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9" name="Text Box 28"/>
            <p:cNvSpPr/>
            <p:nvPr/>
          </p:nvSpPr>
          <p:spPr>
            <a:xfrm>
              <a:off x="6562800" y="54936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枉</a:t>
              </a:r>
              <a:endParaRPr b="0" lang="en-US" sz="6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50" name="Group 29"/>
          <p:cNvGrpSpPr/>
          <p:nvPr/>
        </p:nvGrpSpPr>
        <p:grpSpPr>
          <a:xfrm>
            <a:off x="979560" y="2924280"/>
            <a:ext cx="1143000" cy="1008360"/>
            <a:chOff x="979560" y="2924280"/>
            <a:chExt cx="1143000" cy="1008360"/>
          </a:xfrm>
        </p:grpSpPr>
        <p:sp>
          <p:nvSpPr>
            <p:cNvPr id="251" name="Oval 30"/>
            <p:cNvSpPr/>
            <p:nvPr/>
          </p:nvSpPr>
          <p:spPr>
            <a:xfrm>
              <a:off x="979560" y="3000240"/>
              <a:ext cx="1143000" cy="914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2" name="Text Box 31"/>
            <p:cNvSpPr/>
            <p:nvPr/>
          </p:nvSpPr>
          <p:spPr>
            <a:xfrm>
              <a:off x="1055880" y="292428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浩</a:t>
              </a:r>
              <a:endParaRPr b="0" lang="en-US" sz="6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53" name="Group 32"/>
          <p:cNvGrpSpPr/>
          <p:nvPr/>
        </p:nvGrpSpPr>
        <p:grpSpPr>
          <a:xfrm>
            <a:off x="3535200" y="2852640"/>
            <a:ext cx="1143000" cy="1008360"/>
            <a:chOff x="3535200" y="2852640"/>
            <a:chExt cx="1143000" cy="1008360"/>
          </a:xfrm>
        </p:grpSpPr>
        <p:sp>
          <p:nvSpPr>
            <p:cNvPr id="254" name="Oval 33"/>
            <p:cNvSpPr/>
            <p:nvPr/>
          </p:nvSpPr>
          <p:spPr>
            <a:xfrm>
              <a:off x="3535200" y="2928960"/>
              <a:ext cx="1143000" cy="914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5" name="Text Box 34"/>
            <p:cNvSpPr/>
            <p:nvPr/>
          </p:nvSpPr>
          <p:spPr>
            <a:xfrm>
              <a:off x="3611520" y="285264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资</a:t>
              </a:r>
              <a:endParaRPr b="0" lang="en-US" sz="6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56" name="Group 35"/>
          <p:cNvGrpSpPr/>
          <p:nvPr/>
        </p:nvGrpSpPr>
        <p:grpSpPr>
          <a:xfrm>
            <a:off x="5481720" y="2852640"/>
            <a:ext cx="1143000" cy="1008360"/>
            <a:chOff x="5481720" y="2852640"/>
            <a:chExt cx="1143000" cy="1008360"/>
          </a:xfrm>
        </p:grpSpPr>
        <p:sp>
          <p:nvSpPr>
            <p:cNvPr id="257" name="Oval 36"/>
            <p:cNvSpPr/>
            <p:nvPr/>
          </p:nvSpPr>
          <p:spPr>
            <a:xfrm>
              <a:off x="5481720" y="2928960"/>
              <a:ext cx="1143000" cy="914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58" name="Text Box 37"/>
            <p:cNvSpPr/>
            <p:nvPr/>
          </p:nvSpPr>
          <p:spPr>
            <a:xfrm>
              <a:off x="5558040" y="285264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召</a:t>
              </a:r>
              <a:endParaRPr b="0" lang="en-US" sz="6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59" name="Group 38"/>
          <p:cNvGrpSpPr/>
          <p:nvPr/>
        </p:nvGrpSpPr>
        <p:grpSpPr>
          <a:xfrm>
            <a:off x="7236000" y="2782800"/>
            <a:ext cx="1143000" cy="1008360"/>
            <a:chOff x="7236000" y="2782800"/>
            <a:chExt cx="1143000" cy="1008360"/>
          </a:xfrm>
        </p:grpSpPr>
        <p:sp>
          <p:nvSpPr>
            <p:cNvPr id="260" name="Oval 39"/>
            <p:cNvSpPr/>
            <p:nvPr/>
          </p:nvSpPr>
          <p:spPr>
            <a:xfrm>
              <a:off x="7236000" y="2859120"/>
              <a:ext cx="1143000" cy="914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61" name="Text Box 40"/>
            <p:cNvSpPr/>
            <p:nvPr/>
          </p:nvSpPr>
          <p:spPr>
            <a:xfrm>
              <a:off x="7312320" y="278280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源</a:t>
              </a:r>
              <a:endParaRPr b="0" lang="en-US" sz="6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62" name="Group 41"/>
          <p:cNvGrpSpPr/>
          <p:nvPr/>
        </p:nvGrpSpPr>
        <p:grpSpPr>
          <a:xfrm>
            <a:off x="6919920" y="3933720"/>
            <a:ext cx="1828800" cy="825120"/>
            <a:chOff x="6919920" y="3933720"/>
            <a:chExt cx="1828800" cy="825120"/>
          </a:xfrm>
        </p:grpSpPr>
        <p:sp>
          <p:nvSpPr>
            <p:cNvPr id="263" name="AutoShape 42"/>
            <p:cNvSpPr/>
            <p:nvPr/>
          </p:nvSpPr>
          <p:spPr>
            <a:xfrm>
              <a:off x="7148520" y="4010040"/>
              <a:ext cx="137160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64" name="Text Box 43"/>
            <p:cNvSpPr/>
            <p:nvPr/>
          </p:nvSpPr>
          <p:spPr>
            <a:xfrm>
              <a:off x="6919920" y="393372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6633"/>
                  </a:solidFill>
                  <a:latin typeface="Times New Roman"/>
                  <a:ea typeface="楷体_GB2312"/>
                </a:rPr>
                <a:t>起源</a:t>
              </a:r>
              <a:endParaRPr b="0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65" name="Group 44"/>
          <p:cNvGrpSpPr/>
          <p:nvPr/>
        </p:nvGrpSpPr>
        <p:grpSpPr>
          <a:xfrm>
            <a:off x="250920" y="5157720"/>
            <a:ext cx="8516880" cy="1434960"/>
            <a:chOff x="250920" y="5157720"/>
            <a:chExt cx="8516880" cy="1434960"/>
          </a:xfrm>
        </p:grpSpPr>
        <p:pic>
          <p:nvPicPr>
            <p:cNvPr id="266" name="Picture 45" descr="NA00763_"/>
            <p:cNvPicPr/>
            <p:nvPr/>
          </p:nvPicPr>
          <p:blipFill>
            <a:blip r:embed="rId2"/>
            <a:stretch/>
          </p:blipFill>
          <p:spPr>
            <a:xfrm>
              <a:off x="250920" y="5157720"/>
              <a:ext cx="3335400" cy="14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6" descr="NA00763_"/>
            <p:cNvPicPr/>
            <p:nvPr/>
          </p:nvPicPr>
          <p:blipFill>
            <a:blip r:embed="rId3"/>
            <a:stretch/>
          </p:blipFill>
          <p:spPr>
            <a:xfrm>
              <a:off x="1344600" y="5157720"/>
              <a:ext cx="3335400" cy="14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7" descr="NA00763_"/>
            <p:cNvPicPr/>
            <p:nvPr/>
          </p:nvPicPr>
          <p:blipFill>
            <a:blip r:embed="rId4"/>
            <a:stretch/>
          </p:blipFill>
          <p:spPr>
            <a:xfrm>
              <a:off x="2492640" y="5157720"/>
              <a:ext cx="3335040" cy="14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8" descr="NA00763_"/>
            <p:cNvPicPr/>
            <p:nvPr/>
          </p:nvPicPr>
          <p:blipFill>
            <a:blip r:embed="rId5"/>
            <a:stretch/>
          </p:blipFill>
          <p:spPr>
            <a:xfrm>
              <a:off x="3640320" y="5157720"/>
              <a:ext cx="3335400" cy="14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9" descr="NA00763_"/>
            <p:cNvPicPr/>
            <p:nvPr/>
          </p:nvPicPr>
          <p:blipFill>
            <a:blip r:embed="rId6"/>
            <a:stretch/>
          </p:blipFill>
          <p:spPr>
            <a:xfrm>
              <a:off x="4746600" y="5157720"/>
              <a:ext cx="3335400" cy="14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50" descr="NA00763_"/>
            <p:cNvPicPr/>
            <p:nvPr/>
          </p:nvPicPr>
          <p:blipFill>
            <a:blip r:embed="rId7"/>
            <a:stretch/>
          </p:blipFill>
          <p:spPr>
            <a:xfrm>
              <a:off x="5432400" y="5157720"/>
              <a:ext cx="3335400" cy="143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2" name="WordArt 51" descr=""/>
          <p:cNvPicPr/>
          <p:nvPr/>
        </p:nvPicPr>
        <p:blipFill>
          <a:blip r:embed="rId8"/>
          <a:stretch/>
        </p:blipFill>
        <p:spPr>
          <a:xfrm>
            <a:off x="6802560" y="5157720"/>
            <a:ext cx="1555560" cy="79236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52"/>
          <p:cNvSpPr/>
          <p:nvPr/>
        </p:nvSpPr>
        <p:spPr>
          <a:xfrm>
            <a:off x="1042920" y="558972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  <a:ea typeface="幼圆"/>
              </a:rPr>
              <a:t>读一读，记一记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603360" y="404280"/>
            <a:ext cx="854064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读词语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静谧  资料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召开  起源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907920"/>
            <a:ext cx="86407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自由读课文，读准字音，思考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这篇课文主要讲了魏格纳的什么事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79280" y="2781360"/>
            <a:ext cx="871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本文叙述的是德国地球物理学家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魏格纳发现大陆漂移学说的故事。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395280" y="0"/>
            <a:ext cx="8748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洁白宁静       性格豪放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静谧舒适       坐卧不安  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不可思议       精神大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4067280" y="836640"/>
            <a:ext cx="64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6443640" y="3429000"/>
            <a:ext cx="305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zhèn</a:t>
            </a:r>
            <a:endParaRPr b="0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枉费心机  浩如烟海   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飞渡重洋  资料  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召开   起源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呈直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4067280" y="836640"/>
            <a:ext cx="64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0" y="4508640"/>
            <a:ext cx="201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zhào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3995640" y="4437000"/>
            <a:ext cx="35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chéng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609480" y="173664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静谧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（    ）   偶然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（    ）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豪放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（    ）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84" name="Group 3"/>
          <p:cNvGrpSpPr/>
          <p:nvPr/>
        </p:nvGrpSpPr>
        <p:grpSpPr>
          <a:xfrm>
            <a:off x="457200" y="228600"/>
            <a:ext cx="3124080" cy="1066680"/>
            <a:chOff x="457200" y="228600"/>
            <a:chExt cx="3124080" cy="1066680"/>
          </a:xfrm>
        </p:grpSpPr>
        <p:sp>
          <p:nvSpPr>
            <p:cNvPr id="285" name="Oval 4"/>
            <p:cNvSpPr/>
            <p:nvPr/>
          </p:nvSpPr>
          <p:spPr>
            <a:xfrm>
              <a:off x="457200" y="228600"/>
              <a:ext cx="2590920" cy="1066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86" name="Text Box 5"/>
            <p:cNvSpPr/>
            <p:nvPr/>
          </p:nvSpPr>
          <p:spPr>
            <a:xfrm>
              <a:off x="762120" y="380880"/>
              <a:ext cx="2819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cc6600"/>
                  </a:solidFill>
                  <a:latin typeface="Times New Roman"/>
                  <a:ea typeface="华文行楷"/>
                </a:rPr>
                <a:t>近义词</a:t>
              </a:r>
              <a:endParaRPr b="0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287" name="Text Box 6"/>
          <p:cNvSpPr/>
          <p:nvPr/>
        </p:nvSpPr>
        <p:spPr>
          <a:xfrm>
            <a:off x="2438280" y="17064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宁静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8" name="Text Box 7"/>
          <p:cNvSpPr/>
          <p:nvPr/>
        </p:nvSpPr>
        <p:spPr>
          <a:xfrm>
            <a:off x="2195640" y="2492280"/>
            <a:ext cx="242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豪爽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9" name="Text Box 8"/>
          <p:cNvSpPr/>
          <p:nvPr/>
        </p:nvSpPr>
        <p:spPr>
          <a:xfrm>
            <a:off x="6084720" y="1700280"/>
            <a:ext cx="21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偶尔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0" name="Text Box 9"/>
          <p:cNvSpPr/>
          <p:nvPr/>
        </p:nvSpPr>
        <p:spPr>
          <a:xfrm>
            <a:off x="611280" y="3429000"/>
            <a:ext cx="8138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坐卧不安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（       ）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3203640" y="328464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如坐针毡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609480" y="173664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偶然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（    ）   崭新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（    ）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不可思议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（        ）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93" name="Group 3"/>
          <p:cNvGrpSpPr/>
          <p:nvPr/>
        </p:nvGrpSpPr>
        <p:grpSpPr>
          <a:xfrm>
            <a:off x="457200" y="228600"/>
            <a:ext cx="3124080" cy="1066680"/>
            <a:chOff x="457200" y="228600"/>
            <a:chExt cx="3124080" cy="1066680"/>
          </a:xfrm>
        </p:grpSpPr>
        <p:sp>
          <p:nvSpPr>
            <p:cNvPr id="294" name="Oval 4"/>
            <p:cNvSpPr/>
            <p:nvPr/>
          </p:nvSpPr>
          <p:spPr>
            <a:xfrm>
              <a:off x="457200" y="228600"/>
              <a:ext cx="2590920" cy="1066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95" name="Text Box 5"/>
            <p:cNvSpPr/>
            <p:nvPr/>
          </p:nvSpPr>
          <p:spPr>
            <a:xfrm>
              <a:off x="762120" y="380880"/>
              <a:ext cx="2819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cc6600"/>
                  </a:solidFill>
                  <a:latin typeface="Times New Roman"/>
                  <a:ea typeface="华文行楷"/>
                </a:rPr>
                <a:t>反义词</a:t>
              </a:r>
              <a:endParaRPr b="0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296" name="Text Box 6"/>
          <p:cNvSpPr/>
          <p:nvPr/>
        </p:nvSpPr>
        <p:spPr>
          <a:xfrm>
            <a:off x="2438280" y="17064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必然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3059280" y="2492280"/>
            <a:ext cx="242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可想而知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6084720" y="1700280"/>
            <a:ext cx="21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陈旧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539640" y="3500280"/>
            <a:ext cx="8139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2987640" y="5805360"/>
            <a:ext cx="2497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468360" y="112536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魏格纳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8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3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德国著名的天文学家、气象学家和地球物理学家。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1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他出版了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陆的起源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书，全面论证了大陆漂移学说。在书中，他综合地貌学、地质学、地球物理学、古生物学、古气候学等方面的知识和事实，从不同学科的角度，系统地论述了关于大陆漂移的观点和论据，形成了比较完整的理论体系。为了获得第一手资料，进一步论证大陆漂移的假说，他先后四次赴北极的格陵兰岛进行考察，却于第四次考察时不幸遇难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684360" y="54936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魏格纳介绍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pic_114928"/>
          <p:cNvPicPr/>
          <p:nvPr/>
        </p:nvPicPr>
        <p:blipFill>
          <a:blip r:embed="rId2"/>
          <a:srcRect l="12200" t="5395" r="7665" b="5434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3708360" y="1125360"/>
            <a:ext cx="52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什么是大陆漂移说？从哪一段中可以找到答案？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4510080" y="2276640"/>
            <a:ext cx="32288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华文行楷"/>
              </a:rPr>
              <a:t>请大家齐读第五自然段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3208320" y="3573360"/>
            <a:ext cx="4295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用自己的话来说说什么是大陆漂移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0" y="0"/>
            <a:ext cx="91440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陆漂移说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解释地壳运动的一种学说，由德国地球物理学家魏格纳首创。他根据非洲西海岸和南美洲东海岸在形状上的吻合性和地层、构造、山脉的连续性，以及非洲、印度、澳大利亚大陆古生物的相关性等事实，认为地壳的硅铝层漂浮在硅镁层之上，大陆曾经大规模地水平移动过。在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年前，地球上的陆地是一块统一的连续体，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泛古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由于地球自西向东转，加上日、月引潮力的作用，自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年前的中生代开始，漂浮在硅镁层上的硅铝层逐渐自动向西移动。到第四纪初期，形成现代地球表面的海陆分布轮廓。大陆漂移说问世后，并没有引起人们的广泛注意。自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纪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代海底扩张说和板块构造理论提出后，大陆漂移说重新被人们所重视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魏格纳对大陆漂移说的奇想是怎么出现的呢，请大家自由朗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然段，稍后完成下面的练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魏格纳在病房的世界地图上先发现（                                      ），接着发现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，然后又发现（                 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1803960" y="407664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仿宋"/>
              </a:rPr>
              <a:t>巴西突出部与几内亚湾吻合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1527120" y="5043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0" y="4581360"/>
            <a:ext cx="843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仿宋"/>
              </a:rPr>
              <a:t>巴西东海岸突出部与非洲东海岸凹进部分吻合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4449960" y="501336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仿宋"/>
              </a:rPr>
              <a:t>所有陆块都能较好吻合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从练习中你知道了魏格纳观察得怎么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4081680" y="24922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第二自然段中哪一个词写他观察得很详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细？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145880" y="4005360"/>
            <a:ext cx="6987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华文中宋"/>
              </a:rPr>
              <a:t>端详</a:t>
            </a:r>
            <a:endParaRPr b="0" lang="en-US" sz="3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魏格纳性格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豪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天性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好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静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舒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病房里坐卧不安，就像软禁在牢笼中的困兽一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547640" y="378936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病房：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476360" y="4724280"/>
            <a:ext cx="61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魏格纳性格：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6227640" y="3933720"/>
            <a:ext cx="10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6227640" y="4076640"/>
            <a:ext cx="225720" cy="1081080"/>
          </a:xfrm>
          <a:custGeom>
            <a:avLst/>
            <a:gdLst>
              <a:gd name="textAreaLeft" fmla="*/ 0 w 225720"/>
              <a:gd name="textAreaRight" fmla="*/ 81360 w 22572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1187280" y="4076640"/>
            <a:ext cx="144720" cy="1057320"/>
          </a:xfrm>
          <a:custGeom>
            <a:avLst/>
            <a:gdLst>
              <a:gd name="textAreaLeft" fmla="*/ 92520 w 144720"/>
              <a:gd name="textAreaRight" fmla="*/ 145080 w 144720"/>
              <a:gd name="textAreaTop" fmla="*/ 27360 h 1057320"/>
              <a:gd name="textAreaBottom" fmla="*/ 1029960 h 1057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6732720" y="43657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对比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7812000" y="4581360"/>
            <a:ext cx="432000" cy="1295640"/>
          </a:xfrm>
          <a:custGeom>
            <a:avLst/>
            <a:gdLst>
              <a:gd name="textAreaLeft" fmla="*/ 57600 w 432000"/>
              <a:gd name="textAreaRight" fmla="*/ 374400 w 432000"/>
              <a:gd name="textAreaTop" fmla="*/ 226800 h 1295640"/>
              <a:gd name="textAreaBottom" fmla="*/ 9396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5724360" y="551664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坐卧不安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2301480" y="333360"/>
            <a:ext cx="481356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华文行楷"/>
              </a:rPr>
              <a:t>在发现这些秘密之前魏格纳的是怎样</a:t>
            </a:r>
            <a:endParaRPr b="0" lang="en-US" sz="3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华文行楷"/>
              </a:rPr>
              <a:t>的？请大家再读第二自然段，找出相</a:t>
            </a:r>
            <a:endParaRPr b="0" lang="en-US" sz="3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华文行楷"/>
              </a:rPr>
              <a:t>关的句子。</a:t>
            </a:r>
            <a:endParaRPr b="0" lang="en-US" sz="3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3027240" y="3789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仿宋"/>
              </a:rPr>
              <a:t>静谧舒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7" name="Rectangle 15"/>
          <p:cNvSpPr/>
          <p:nvPr/>
        </p:nvSpPr>
        <p:spPr>
          <a:xfrm>
            <a:off x="4780080" y="46530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豪放、好动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2:20:5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23T05:16:23Z</dcterms:modified>
  <cp:revision>43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