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E3F-231E-4BF5-8C83-F13263BD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70D-8C7D-4123-81DF-B78C9942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0AB-9722-450B-B636-A720E6F8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C39-78C9-4B38-87DB-6487FC8D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10D-1FD4-4FFE-B974-2CDC3B2A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C31-CAE4-4145-8072-FC823F5B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000-49E7-456E-84FA-B600F749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84D-CA5E-4097-8AE6-65F2E41D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A44-1E82-4E2B-B034-5B6B2A8F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1F5-706A-4091-8498-085440F2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4973-195F-4AC2-9395-9DF9DD4C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6C6-ADD4-4D4D-AD10-722B95BD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C4FD-0EC6-49D3-945A-699FBFCB9A0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16D8-06DE-4FC5-86EE-E01B4F622D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65894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图片占位符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rmAutofit/>
            </a:bodyPr>
            <a:p>
              <a:pPr marL="343080" indent="-343080" algn="ctr">
                <a:spcBef>
                  <a:spcPts val="1125"/>
                </a:spcBef>
                <a:buClr>
                  <a:srgbClr val="000000"/>
                </a:buClr>
                <a:buSzPct val="25000"/>
                <a:buFont typeface="Arial"/>
                <a:buChar char="•"/>
              </a:pPr>
              <a:r>
                <a:rPr b="0" lang="zh-CN" sz="4500" spc="-1" strike="noStrike">
                  <a:solidFill>
                    <a:srgbClr val="000000"/>
                  </a:solidFill>
                  <a:latin typeface="Calibri"/>
                </a:rPr>
                <a:t>生日动态</a:t>
              </a:r>
              <a:r>
                <a:rPr b="0" lang="zh-CN" sz="4500" spc="-1" strike="noStrike">
                  <a:solidFill>
                    <a:srgbClr val="000000"/>
                  </a:solidFill>
                  <a:latin typeface="Calibri"/>
                </a:rPr>
                <a:t>PPT</a:t>
              </a:r>
              <a:r>
                <a:rPr b="0" lang="zh-CN" sz="4500" spc="-1" strike="noStrike">
                  <a:solidFill>
                    <a:srgbClr val="000000"/>
                  </a:solidFill>
                  <a:latin typeface="Calibri"/>
                </a:rPr>
                <a:t>模板</a:t>
              </a: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5" name="图片 7" descr=""/>
          <p:cNvPicPr/>
          <p:nvPr/>
        </p:nvPicPr>
        <p:blipFill>
          <a:blip r:embed="rId2"/>
          <a:stretch/>
        </p:blipFill>
        <p:spPr>
          <a:xfrm>
            <a:off x="1214280" y="4429080"/>
            <a:ext cx="6789960" cy="137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0800" y="6350040"/>
            <a:ext cx="46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占位符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14"/>
          <p:cNvSpPr/>
          <p:nvPr/>
        </p:nvSpPr>
        <p:spPr>
          <a:xfrm>
            <a:off x="0" y="357120"/>
            <a:ext cx="9144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5"/>
          <p:cNvSpPr/>
          <p:nvPr/>
        </p:nvSpPr>
        <p:spPr>
          <a:xfrm>
            <a:off x="-779040" y="45594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6"/>
          <p:cNvSpPr/>
          <p:nvPr/>
        </p:nvSpPr>
        <p:spPr>
          <a:xfrm>
            <a:off x="3721680" y="45594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7"/>
          <p:cNvSpPr/>
          <p:nvPr/>
        </p:nvSpPr>
        <p:spPr>
          <a:xfrm>
            <a:off x="2286000" y="2066760"/>
            <a:ext cx="4929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Way to S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763A-EB89-47BD-BD3B-86ED424901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占位符 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1"/>
          <p:cNvSpPr/>
          <p:nvPr/>
        </p:nvSpPr>
        <p:spPr>
          <a:xfrm>
            <a:off x="3214800" y="0"/>
            <a:ext cx="5929200" cy="55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6"/>
          <p:cNvSpPr/>
          <p:nvPr/>
        </p:nvSpPr>
        <p:spPr>
          <a:xfrm>
            <a:off x="142920" y="0"/>
            <a:ext cx="3000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Way to Show the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Power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V through DVD .PlayerShare PowerPoint in Popular Video Form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 PowerPoint online in Flash Format.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28640" y="214200"/>
            <a:ext cx="271476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14680" y="214200"/>
            <a:ext cx="2714760" cy="25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14680" y="2785680"/>
            <a:ext cx="27147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428640" y="2785680"/>
            <a:ext cx="271476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图片占位符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矩形 7"/>
          <p:cNvSpPr/>
          <p:nvPr/>
        </p:nvSpPr>
        <p:spPr>
          <a:xfrm>
            <a:off x="142920" y="142920"/>
            <a:ext cx="7215120" cy="614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4"/>
          <p:cNvSpPr/>
          <p:nvPr/>
        </p:nvSpPr>
        <p:spPr>
          <a:xfrm>
            <a:off x="-656280" y="24300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9"/>
          <p:cNvSpPr/>
          <p:nvPr/>
        </p:nvSpPr>
        <p:spPr>
          <a:xfrm>
            <a:off x="2844000" y="24300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 you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0"/>
          <p:cNvSpPr/>
          <p:nvPr/>
        </p:nvSpPr>
        <p:spPr>
          <a:xfrm rot="5400000">
            <a:off x="5654160" y="1940040"/>
            <a:ext cx="4572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Wa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the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5C0-F38C-4989-A1D4-C1279B6F15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6589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006-4402-4203-A390-58185F130F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图片占位符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矩形 7"/>
          <p:cNvSpPr/>
          <p:nvPr/>
        </p:nvSpPr>
        <p:spPr>
          <a:xfrm>
            <a:off x="500040" y="214200"/>
            <a:ext cx="821520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0"/>
          <p:cNvSpPr/>
          <p:nvPr/>
        </p:nvSpPr>
        <p:spPr>
          <a:xfrm>
            <a:off x="500040" y="4214880"/>
            <a:ext cx="564372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p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Way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lay PowerPo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on TV through DVD .Player Share PowerPoint in Popular Video Forma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Upload PowerPoint online in Flash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42960" y="35676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2920" y="356760"/>
            <a:ext cx="3929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42960" y="2214360"/>
            <a:ext cx="39290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2920" y="2214360"/>
            <a:ext cx="39294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图片占位符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矩形 3"/>
          <p:cNvSpPr/>
          <p:nvPr/>
        </p:nvSpPr>
        <p:spPr>
          <a:xfrm>
            <a:off x="1010880" y="4071960"/>
            <a:ext cx="70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00000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65894"/>
                </a:solidFill>
                <a:uFillTx/>
                <a:latin typeface="Arial"/>
                <a:hlinkClick r:id="rId3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5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36:57Z</dcterms:modified>
  <cp:revision>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