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5DF1-D1CF-4C52-829A-2FFEC583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D39-E673-4ECE-8969-49F0AB9F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E26D-8B0D-4C7A-B01D-01E83F944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876F-143F-4517-A5F7-15F581629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4AA-2621-49DE-9282-88F1D2C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7A9-8BED-4BD0-B61E-689ADFF5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F68-8367-4DF5-9603-DCCEEA2F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D26-862C-4CF0-98BF-7408FFC1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9A1-7996-4254-AF3F-B5609F6A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3FFC-424E-4AB8-B8DC-8B1E76ED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276-B88A-4D4A-A63F-F45CF9DC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BAF3-F9C2-4197-8F12-39BC19F4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A54C-B92F-4D79-B8F1-F290319ED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 flipH="1" flipV="1">
            <a:off x="3886200" y="1352520"/>
            <a:ext cx="1295280" cy="412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4" descr="山寺背景"/>
          <p:cNvPicPr/>
          <p:nvPr/>
        </p:nvPicPr>
        <p:blipFill>
          <a:blip r:embed="rId1"/>
          <a:srcRect l="39638" t="-1938" r="40677" b="0"/>
          <a:stretch/>
        </p:blipFill>
        <p:spPr>
          <a:xfrm>
            <a:off x="3824280" y="1390680"/>
            <a:ext cx="1447920" cy="3990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3" descr="山寺背景"/>
          <p:cNvPicPr/>
          <p:nvPr/>
        </p:nvPicPr>
        <p:blipFill>
          <a:blip r:embed="rId2"/>
          <a:stretch/>
        </p:blipFill>
        <p:spPr>
          <a:xfrm>
            <a:off x="900000" y="1461960"/>
            <a:ext cx="7353360" cy="391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6" descr="9"/>
          <p:cNvPicPr/>
          <p:nvPr/>
        </p:nvPicPr>
        <p:blipFill>
          <a:blip r:embed="rId3"/>
          <a:stretch/>
        </p:blipFill>
        <p:spPr>
          <a:xfrm>
            <a:off x="371520" y="1447920"/>
            <a:ext cx="1152360" cy="9363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666960" y="1343160"/>
            <a:ext cx="914400" cy="4137840"/>
            <a:chOff x="3666960" y="1343160"/>
            <a:chExt cx="914400" cy="4137840"/>
          </a:xfrm>
        </p:grpSpPr>
        <p:grpSp>
          <p:nvGrpSpPr>
            <p:cNvPr id="46" name=""/>
            <p:cNvGrpSpPr/>
            <p:nvPr/>
          </p:nvGrpSpPr>
          <p:grpSpPr>
            <a:xfrm>
              <a:off x="3666960" y="1347120"/>
              <a:ext cx="533520" cy="4133880"/>
              <a:chOff x="3666960" y="1347120"/>
              <a:chExt cx="533520" cy="4133880"/>
            </a:xfrm>
          </p:grpSpPr>
          <p:sp>
            <p:nvSpPr>
              <p:cNvPr id="47" name="Rectangle 5"/>
              <p:cNvSpPr/>
              <p:nvPr/>
            </p:nvSpPr>
            <p:spPr>
              <a:xfrm flipV="1">
                <a:off x="3666960" y="1347120"/>
                <a:ext cx="533520" cy="4129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Rectangle 4"/>
              <p:cNvSpPr/>
              <p:nvPr/>
            </p:nvSpPr>
            <p:spPr>
              <a:xfrm flipH="1" flipV="1">
                <a:off x="3894840" y="1351080"/>
                <a:ext cx="304920" cy="4129920"/>
              </a:xfrm>
              <a:prstGeom prst="rect">
                <a:avLst/>
              </a:prstGeom>
              <a:gradFill rotWithShape="0">
                <a:gsLst>
                  <a:gs pos="0">
                    <a:srgbClr val="767676">
                      <a:alpha val="0"/>
                    </a:srgbClr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Rectangle 25"/>
            <p:cNvSpPr/>
            <p:nvPr/>
          </p:nvSpPr>
          <p:spPr>
            <a:xfrm flipH="1" flipV="1">
              <a:off x="4200480" y="1343160"/>
              <a:ext cx="380880" cy="4130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581360" y="1337760"/>
            <a:ext cx="890640" cy="4138560"/>
            <a:chOff x="4581360" y="1337760"/>
            <a:chExt cx="890640" cy="4138560"/>
          </a:xfrm>
        </p:grpSpPr>
        <p:sp>
          <p:nvSpPr>
            <p:cNvPr id="51" name="Rectangle 18"/>
            <p:cNvSpPr/>
            <p:nvPr/>
          </p:nvSpPr>
          <p:spPr>
            <a:xfrm flipH="1" flipV="1">
              <a:off x="4938480" y="1337400"/>
              <a:ext cx="533520" cy="41346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9"/>
            <p:cNvSpPr/>
            <p:nvPr/>
          </p:nvSpPr>
          <p:spPr>
            <a:xfrm flipV="1">
              <a:off x="4938480" y="1341360"/>
              <a:ext cx="304920" cy="413460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6"/>
            <p:cNvSpPr/>
            <p:nvPr/>
          </p:nvSpPr>
          <p:spPr>
            <a:xfrm flipV="1">
              <a:off x="4581360" y="1339200"/>
              <a:ext cx="380880" cy="41346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45" descr="山寺树梢顶"/>
          <p:cNvPicPr/>
          <p:nvPr/>
        </p:nvPicPr>
        <p:blipFill>
          <a:blip r:embed="rId4"/>
          <a:stretch/>
        </p:blipFill>
        <p:spPr>
          <a:xfrm>
            <a:off x="914400" y="1371600"/>
            <a:ext cx="7351560" cy="3914640"/>
          </a:xfrm>
          <a:prstGeom prst="rect">
            <a:avLst/>
          </a:prstGeom>
          <a:ln w="0">
            <a:noFill/>
          </a:ln>
        </p:spPr>
      </p:pic>
      <p:sp>
        <p:nvSpPr>
          <p:cNvPr id="55" name="Oval 47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8"/>
          <p:cNvSpPr/>
          <p:nvPr/>
        </p:nvSpPr>
        <p:spPr>
          <a:xfrm>
            <a:off x="6075360" y="203688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9"/>
          <p:cNvSpPr/>
          <p:nvPr/>
        </p:nvSpPr>
        <p:spPr>
          <a:xfrm>
            <a:off x="5562720" y="16225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0"/>
          <p:cNvSpPr/>
          <p:nvPr/>
        </p:nvSpPr>
        <p:spPr>
          <a:xfrm>
            <a:off x="1752480" y="1752480"/>
            <a:ext cx="7164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1"/>
          <p:cNvSpPr/>
          <p:nvPr/>
        </p:nvSpPr>
        <p:spPr>
          <a:xfrm>
            <a:off x="7337520" y="2232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2"/>
          <p:cNvSpPr/>
          <p:nvPr/>
        </p:nvSpPr>
        <p:spPr>
          <a:xfrm>
            <a:off x="7794720" y="19270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3"/>
          <p:cNvSpPr/>
          <p:nvPr/>
        </p:nvSpPr>
        <p:spPr>
          <a:xfrm>
            <a:off x="685800" y="48006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4"/>
          <p:cNvSpPr/>
          <p:nvPr/>
        </p:nvSpPr>
        <p:spPr>
          <a:xfrm>
            <a:off x="5943600" y="1752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5"/>
          <p:cNvSpPr/>
          <p:nvPr/>
        </p:nvSpPr>
        <p:spPr>
          <a:xfrm>
            <a:off x="4724280" y="1523880"/>
            <a:ext cx="144720" cy="1447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6"/>
          <p:cNvSpPr/>
          <p:nvPr/>
        </p:nvSpPr>
        <p:spPr>
          <a:xfrm>
            <a:off x="7551720" y="1676520"/>
            <a:ext cx="57240" cy="5688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7"/>
          <p:cNvSpPr/>
          <p:nvPr/>
        </p:nvSpPr>
        <p:spPr>
          <a:xfrm>
            <a:off x="8381880" y="518148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8"/>
          <p:cNvSpPr/>
          <p:nvPr/>
        </p:nvSpPr>
        <p:spPr>
          <a:xfrm>
            <a:off x="8305920" y="4836960"/>
            <a:ext cx="115920" cy="11592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9320" y="2286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山水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45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3000" fill="hold"/>
                                        <p:tgtEl>
                                          <p:spTgt spid="50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11111E-006 0.00208 L 0.375 0.00208 E">
                                      <p:cBhvr>
                                        <p:cTn id="10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2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3100" fill="hold"/>
                                        <p:tgtEl>
                                          <p:spTgt spid="41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29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4.16667E-006 -8.49711E-006 L 0.69167 -8.49711E-006 E">
                                      <p:cBhvr>
                                        <p:cTn id="25" dur="150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26" repeatCount="indefinite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26" repeatCount="indefinite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10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26" repeatCount="indefinite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26" repeatCount="indefinite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26" repeatCount="indefinite">
                                  <p:stCondLst>
                                    <p:cond delay="10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150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26" repeatCount="indefinite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1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1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 repeatCount="indefinite">
                                  <p:stCondLst>
                                    <p:cond delay="1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1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1.94444E-006 -6.7052E-006 C 0.04843 0.00577 0.09687 0.01155 0.14531 0.00231 C 0.19375 -0.00694 0.24566 -0.0474 0.29062 -0.05527 C 0.33559 -0.06313 0.37291 -0.0407 0.4151 -0.04532 C 0.45729 -0.04995 0.50191 -0.08347 0.5434 -0.08301 C 0.58489 -0.08255 0.64982 -0.05943 0.66423 -0.04278 C 0.67864 -0.02613 0.69652 0.01248 0.6302 0.01757 C 0.56389 0.02265 0.33159 0.00277 0.26614 -0.01272 C 0.20069 -0.02821 0.26718 -0.07122 0.23784 -0.07538 C 0.2085 -0.07954 0.09444 -0.05642 0.09062 -0.03769 C 0.0868 -0.01897 0.15885 0.04231 0.2151 0.03768 C 0.27135 0.03306 0.37135 -0.06706 0.4283 -0.06544 C 0.48524 -0.06382 0.51857 0.04138 0.55659 0.04762 C 0.59461 0.05387 0.61632 -0.01596 0.65659 -0.02775 C 0.69687 -0.03954 0.74739 -0.03122 0.79809 -0.02267 E">
                                      <p:cBhvr>
                                        <p:cTn id="80" dur="25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2.5E-006 -1.56069E-006 C -0.07274 -0.02659 -0.14531 -0.05318 -0.21129 -0.06289 C -0.27743 -0.0726 -0.33889 -0.06312 -0.39618 -0.05781 C -0.45347 -0.05249 -0.49809 -0.02035 -0.55469 -0.03029 C -0.61146 -0.04023 -0.68889 -0.10058 -0.73576 -0.11815 C -0.78264 -0.13573 -0.8092 -0.13573 -0.83576 -0.13573 E">
                                      <p:cBhvr>
                                        <p:cTn id="84" dur="8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0.00052 0.0007 C -0.046 0.01249 -0.09236 0.02428 -0.15798 0.03099 C -0.22361 0.03769 -0.34375 0.04347 -0.39375 0.04093 C -0.44375 0.03838 -0.43784 0.03607 -0.45798 0.01596 C -0.47812 -0.00416 -0.47968 -0.07838 -0.51458 -0.07954 C -0.54948 -0.08069 -0.62361 0.01087 -0.66736 0.00833 C -0.71111 0.00578 -0.75017 -0.07098 -0.77691 -0.09456 C -0.80364 -0.11815 -0.8158 -0.12532 -0.82777 -0.13248 E">
                                      <p:cBhvr>
                                        <p:cTn id="88" dur="14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山寺背景"/>
          <p:cNvPicPr/>
          <p:nvPr/>
        </p:nvPicPr>
        <p:blipFill>
          <a:blip r:embed="rId1"/>
          <a:stretch/>
        </p:blipFill>
        <p:spPr>
          <a:xfrm>
            <a:off x="-336600" y="795240"/>
            <a:ext cx="9798120" cy="521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9"/>
          <p:cNvPicPr/>
          <p:nvPr/>
        </p:nvPicPr>
        <p:blipFill>
          <a:blip r:embed="rId2"/>
          <a:stretch/>
        </p:blipFill>
        <p:spPr>
          <a:xfrm>
            <a:off x="-1293840" y="914400"/>
            <a:ext cx="1608120" cy="1308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山寺树梢顶"/>
          <p:cNvPicPr/>
          <p:nvPr/>
        </p:nvPicPr>
        <p:blipFill>
          <a:blip r:embed="rId3"/>
          <a:stretch/>
        </p:blipFill>
        <p:spPr>
          <a:xfrm>
            <a:off x="-349200" y="792000"/>
            <a:ext cx="9798120" cy="5218200"/>
          </a:xfrm>
          <a:prstGeom prst="rect">
            <a:avLst/>
          </a:prstGeom>
          <a:ln w="0">
            <a:noFill/>
          </a:ln>
        </p:spPr>
      </p:pic>
      <p:sp>
        <p:nvSpPr>
          <p:cNvPr id="72" name="Oval 5"/>
          <p:cNvSpPr/>
          <p:nvPr/>
        </p:nvSpPr>
        <p:spPr>
          <a:xfrm>
            <a:off x="3583080" y="92880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7066080" y="53895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-455760" y="53341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6075360" y="99072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>
                  <a:alpha val="69019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6950160" y="1616040"/>
            <a:ext cx="136440" cy="136440"/>
          </a:xfrm>
          <a:prstGeom prst="ellipse">
            <a:avLst/>
          </a:prstGeom>
          <a:gradFill rotWithShape="0">
            <a:gsLst>
              <a:gs pos="0">
                <a:srgbClr val="ffffff">
                  <a:alpha val="3529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1752480" y="990720"/>
            <a:ext cx="71640" cy="7128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4653000" y="1604880"/>
            <a:ext cx="71280" cy="7164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5127480" y="14479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8099280" y="15238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863280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6858000" y="9144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55627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5889600" y="1241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4648320" y="12952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3962520" y="106668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7184880" y="12193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7794720" y="11430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9013680" y="131760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9166320" y="990720"/>
            <a:ext cx="54000" cy="54000"/>
          </a:xfrm>
          <a:prstGeom prst="ellipse">
            <a:avLst/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-303120" y="5846760"/>
            <a:ext cx="96840" cy="96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4633920" y="23684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月夜深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群星-禅院钟声.wma" descr=""/>
          <p:cNvPicPr/>
          <p:nvPr/>
        </p:nvPicPr>
        <p:blipFill>
          <a:blip r:embed="rId4"/>
          <a:stretch/>
        </p:blipFill>
        <p:spPr>
          <a:xfrm>
            <a:off x="-35892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62485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2.28207E-006 L 1.21268 -0.01249 E">
                                      <p:cBhvr>
                                        <p:cTn id="94" dur="250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100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50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6" repeatCount="indefinite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" dur="1000" autoRev="1" fill="hold"/>
                                        <p:tgtEl>
                                          <p:spTgt spid="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50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10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26" repeatCount="indefinite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150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26" repeatCount="indefinite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1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10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26" repeatCount="indefinite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0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26" repeatCount="indefinite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1000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150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100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10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6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0" autoRev="1" fill="hold"/>
                                        <p:tgtEl>
                                          <p:spTgt spid="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06806 0.00693 C 0.12882 -0.00278 0.18959 -0.01226 0.20243 -0.01688 C 0.21528 -0.02151 0.13438 -0.02567 0.14497 -0.02128 C 0.15538 -0.01688 0.22917 0.00346 0.26632 0.00924 C 0.30347 0.01502 0.36146 0.00855 0.36806 0.01364 C 0.37465 0.01872 0.31771 0.04346 0.30573 0.03976 C 0.29375 0.03606 0.26823 -0.00324 0.29584 -0.00833 C 0.32344 -0.01342 0.42066 0.00601 0.47118 0.00924 C 0.5217 0.01248 0.59236 0.00763 0.59896 0.01132 C 0.60573 0.01502 0.53281 0.03306 0.51059 0.03098 C 0.4882 0.0289 0.44045 0.00208 0.46476 -0.00162 C 0.48906 -0.00532 0.6132 0.00601 0.6566 0.00924 C 0.7 0.01248 0.71528 0.01942 0.72535 0.01803 C 0.73542 0.01664 0.73177 -0.00417 0.71719 0.00046 C 0.70243 0.00508 0.63021 0.03722 0.63681 0.04624 C 0.6434 0.05526 0.72761 0.05687 0.7566 0.05502 C 0.78559 0.05317 0.7816 0.04115 0.81059 0.03537 C 0.83959 0.02959 0.90486 0.02011 0.93021 0.02011 C 0.95556 0.02011 0.95243 0.02913 0.96302 0.03537 C 0.97361 0.04161 1.00295 0.05271 0.99427 0.05734 C 0.98559 0.06196 0.94636 0.07144 0.91059 0.06381 C 0.87483 0.05618 0.83177 0.02543 0.77952 0.01132 C 0.72726 -0.00278 0.65382 -0.00972 0.59757 -0.02128 C 0.54132 -0.03284 0.47136 -0.06683 0.44184 -0.0585 C 0.41233 -0.05018 0.44375 0.02265 0.42049 0.0289 C 0.39722 0.03514 0.32813 -0.0111 0.30243 -0.02128 C 0.27639 -0.03145 0.27639 -0.037 0.26476 -0.03237 C 0.25295 -0.02775 0.23768 0.02404 0.23195 0.00693 C 0.22622 -0.01018 0.23837 -0.1022 0.23021 -0.1348 C 0.22205 -0.1674 0.19896 -0.18035 0.18281 -0.18937 C 0.16667 -0.19839 0.14688 -0.21781 0.13351 -0.18937 C 0.12014 -0.16093 0.11927 -0.05157 0.10209 -0.0192 C 0.08559 0.01317 0.05868 0.00901 0.03195 0.00485 E">
                                      <p:cBhvr>
                                        <p:cTn id="141" dur="20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1.94444E-006 -4.56647E-006 C -0.02777 0.00578 -0.08455 0.01503 -0.11823 0.00879 C -0.15173 0.00255 -0.16041 -0.03006 -0.20191 -0.03699 C -0.24323 -0.04393 -0.31059 -0.04046 -0.36718 -0.03283 C -0.42378 -0.0252 -0.56284 -0.000229999999999999 -0.54097 0.00879 C -0.51909 0.01781 -0.27222 0.02567 -0.23628 0.02197 C -0.2 0.01827 -0.26927 -0.00347 -0.32465 -0.01318 C -0.38003 -0.02289 -0.50364 -0.03584 -0.56892 -0.03699 C -0.6342 -0.03815 -0.71163 -0.02589 -0.71649 -0.01965 C -0.72135 -0.01341 -0.62986 0.00578 -0.59843 -4.56647E-006 C -0.56701 -0.00578 -0.55972 -0.03306 -0.52795 -0.05456 C -0.49618 -0.07607 -0.44566 -0.12046 -0.40816 -0.12878 C -0.37066 -0.13711 -0.33906 -0.1237 -0.3033 -0.10474 C -0.2677 -0.08578 -0.25642 -0.0393 -0.1934 -0.01526 C -0.13073 0.00879 0.02466 0.03931 0.07361 0.03931 C 0.12275 0.03931 0.10573 -0.00439 0.10157 -0.01526 C 0.0974 -0.02613 0.0658 -0.02797 0.04914 -0.02613 C 0.0323 -0.02428 0.02778 -0.00578 -1.94444E-006 -4.56647E-006 Z">
                                      <p:cBhvr>
                                        <p:cTn id="143" dur="2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889E-006 1.50289E-006 C 0.07361 -0.00347 0.14739 -0.00694 0.16406 -0.01966 C 0.18073 -0.03237 0.07864 -0.06058 0.1 -0.0763 C 0.12135 -0.09203 0.24114 -0.11862 0.29184 -0.11353 C 0.34236 -0.10844 0.41284 -0.05665 0.4033 -0.04578 C 0.39375 -0.03492 0.25052 -0.04139 0.23437 -0.04787 C 0.2184 -0.05434 0.25885 -0.07862 0.30659 -0.08509 C 0.35434 -0.09157 0.45903 -0.08717 0.52135 -0.08717 C 0.58368 -0.08717 0.6217 -0.09781 0.68038 -0.08509 C 0.73889 -0.07237 0.83368 -0.00948 0.87222 -0.01087 C 0.91076 -0.01226 0.95816 -0.0881 0.91146 -0.09388 C 0.86475 -0.09966 0.67812 -0.06035 0.59184 -0.04578 C 0.50555 -0.03122 0.46163 -0.00278 0.39357 -0.00648 C 0.32552 -0.01018 0.25555 -0.04856 0.18368 -0.06752 C 0.11163 -0.08648 0.03611 -0.10336 -0.03924 -0.12 E">
                                      <p:cBhvr>
                                        <p:cTn id="145" dur="18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40232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53B-9FDD-4BB9-A49F-8D27A9B81C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12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16Z</dcterms:modified>
  <cp:revision>1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