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wmf" ContentType="image/x-wmf"/>
  <Override PartName="/ppt/media/image7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29.gif" ContentType="image/gif"/>
  <Override PartName="/ppt/media/image20.png" ContentType="image/png"/>
  <Override PartName="/ppt/media/image28.jpeg" ContentType="image/jpeg"/>
  <Override PartName="/ppt/media/image41.jpeg" ContentType="image/jpeg"/>
  <Override PartName="/ppt/media/image42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783-5D5C-4C70-B21A-5F9C2DF8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3B1-4BE8-44E8-A1B7-60934999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BE4-E9E6-4E88-8E7D-F2567077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E1F-163E-440B-9C7C-C10F717B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F0A-F33F-4FEE-B711-54301816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88A-7281-4A2B-8F48-E6B0B07C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610-0278-485F-B9E9-8D5E409C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8A4-2216-4945-826B-9E2A9091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6BD-F30E-40C4-8E32-F39192BE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8F1-0B83-45A8-9710-FC456FCD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DB1-8F07-4B11-9062-C5C9DDDC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99A-CFAE-4042-8F2B-BDE3008D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A197-82F2-4076-8BD7-62C40B4A0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log.sina.com.cn/u/46e7b3fd010000qe" TargetMode="External"/><Relationship Id="rId3" Type="http://schemas.openxmlformats.org/officeDocument/2006/relationships/hyperlink" Target="http://blog.sina.com.cn/u/46e7b3fd010000qe" TargetMode="External"/><Relationship Id="rId4" Type="http://schemas.openxmlformats.org/officeDocument/2006/relationships/hyperlink" Target="http://blog.sina.com.cn/u/46e7b3fd010000qe" TargetMode="External"/><Relationship Id="rId5" Type="http://schemas.openxmlformats.org/officeDocument/2006/relationships/hyperlink" Target="http://blog.sina.com.cn/u/46e7b3fd010000qe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42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BJ3055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3657600" y="4343400"/>
            <a:ext cx="16765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华文新魏"/>
              </a:rPr>
              <a:t>冯骥才</a:t>
            </a:r>
            <a:endParaRPr b="0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华文新魏"/>
              <a:ea typeface="华文新魏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1692360" y="2637000"/>
            <a:ext cx="6095880" cy="23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656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俗世奇人</a:t>
            </a:r>
            <a:endParaRPr b="0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87" name="Object 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83960" y="-34416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泥人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xin_b64c868bc1a1490e8a3b70b0ab717050_8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286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泥人张，清代，彩塑，色彩，道具，形神兼备，创始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张长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2C4-3DF9-4CBB-A2B8-CFAFE5F89389}" type="slidenum">
              <a:t>13</a:t>
            </a:fld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96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80880" y="0"/>
            <a:ext cx="1797120" cy="262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3886200" y="4648320"/>
            <a:ext cx="4191120" cy="194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6248520" y="457200"/>
            <a:ext cx="2619360" cy="176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457200" y="4800600"/>
            <a:ext cx="26193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8"/>
          <a:stretch/>
        </p:blipFill>
        <p:spPr>
          <a:xfrm>
            <a:off x="6248520" y="2590920"/>
            <a:ext cx="2619360" cy="1761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9"/>
          <a:stretch/>
        </p:blipFill>
        <p:spPr>
          <a:xfrm>
            <a:off x="380880" y="2971800"/>
            <a:ext cx="2619360" cy="1762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10"/>
          <a:stretch/>
        </p:blipFill>
        <p:spPr>
          <a:xfrm>
            <a:off x="3657600" y="1828800"/>
            <a:ext cx="2146320" cy="27766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2"/>
          <p:cNvSpPr txBox="1"/>
          <p:nvPr/>
        </p:nvSpPr>
        <p:spPr>
          <a:xfrm>
            <a:off x="2743200" y="380880"/>
            <a:ext cx="33116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彩塑泥人欣赏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003123123271658695"/>
          <p:cNvPicPr/>
          <p:nvPr/>
        </p:nvPicPr>
        <p:blipFill>
          <a:blip r:embed="rId1"/>
          <a:stretch/>
        </p:blipFill>
        <p:spPr>
          <a:xfrm>
            <a:off x="-533520" y="-304920"/>
            <a:ext cx="10211040" cy="7467840"/>
          </a:xfrm>
          <a:prstGeom prst="rect">
            <a:avLst/>
          </a:prstGeom>
          <a:ln w="0">
            <a:noFill/>
          </a:ln>
        </p:spPr>
      </p:pic>
      <p:pic>
        <p:nvPicPr>
          <p:cNvPr id="107" name="yangchunbaixue.mp3" descr=""/>
          <p:cNvPicPr/>
          <p:nvPr/>
        </p:nvPicPr>
        <p:blipFill>
          <a:blip r:embed="rId2"/>
          <a:stretch/>
        </p:blipFill>
        <p:spPr>
          <a:xfrm>
            <a:off x="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n20021004_01p_nirenzhang2"/>
          <p:cNvPicPr/>
          <p:nvPr/>
        </p:nvPicPr>
        <p:blipFill>
          <a:blip r:embed="rId1"/>
          <a:stretch/>
        </p:blipFill>
        <p:spPr>
          <a:xfrm>
            <a:off x="76320" y="79200"/>
            <a:ext cx="89154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826920" y="206064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请认真阅读两篇文章</a:t>
            </a:r>
            <a:r>
              <a:rPr b="0" lang="en-US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,</a:t>
            </a:r>
            <a:r>
              <a:rPr b="0" lang="zh-CN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复述两位奇人的奇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pic0567"/>
          <p:cNvPicPr/>
          <p:nvPr/>
        </p:nvPicPr>
        <p:blipFill>
          <a:blip r:embed="rId1"/>
          <a:stretch/>
        </p:blipFill>
        <p:spPr>
          <a:xfrm>
            <a:off x="6051600" y="3645000"/>
            <a:ext cx="3092400" cy="3213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826920" y="476280"/>
            <a:ext cx="46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泥人张</a:t>
            </a:r>
            <a:endParaRPr b="1" lang="en-US" sz="4000" spc="-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grpSp>
        <p:nvGrpSpPr>
          <p:cNvPr id="115" name="Group 23"/>
          <p:cNvGrpSpPr/>
          <p:nvPr/>
        </p:nvGrpSpPr>
        <p:grpSpPr>
          <a:xfrm>
            <a:off x="177840" y="2276640"/>
            <a:ext cx="8209080" cy="3317760"/>
            <a:chOff x="177840" y="2276640"/>
            <a:chExt cx="8209080" cy="3317760"/>
          </a:xfrm>
        </p:grpSpPr>
        <p:sp>
          <p:nvSpPr>
            <p:cNvPr id="116" name="Text Box 8"/>
            <p:cNvSpPr/>
            <p:nvPr/>
          </p:nvSpPr>
          <p:spPr>
            <a:xfrm>
              <a:off x="177840" y="22766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泥人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1906560" y="2636640"/>
              <a:ext cx="13683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3635280" y="2276640"/>
              <a:ext cx="2016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泥人高手“泥人张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6515280" y="306828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遇海张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922920" y="5013000"/>
              <a:ext cx="194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贱卖“海张五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AutoShape 18"/>
            <p:cNvCxnSpPr>
              <a:stCxn id="119" idx="2"/>
            </p:cNvCxnSpPr>
            <p:nvPr/>
          </p:nvCxnSpPr>
          <p:spPr>
            <a:xfrm rot="5400000">
              <a:off x="5866200" y="3641760"/>
              <a:ext cx="1580040" cy="158508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19"/>
            <p:cNvCxnSpPr>
              <a:stCxn id="118" idx="3"/>
              <a:endCxn id="119" idx="0"/>
            </p:cNvCxnSpPr>
            <p:nvPr/>
          </p:nvCxnSpPr>
          <p:spPr>
            <a:xfrm>
              <a:off x="5651640" y="2809440"/>
              <a:ext cx="1800720" cy="25848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Text Box 20"/>
            <p:cNvSpPr/>
            <p:nvPr/>
          </p:nvSpPr>
          <p:spPr>
            <a:xfrm>
              <a:off x="395280" y="486864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智斗传千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2"/>
            <p:cNvSpPr/>
            <p:nvPr/>
          </p:nvSpPr>
          <p:spPr>
            <a:xfrm flipH="1">
              <a:off x="2122200" y="5445000"/>
              <a:ext cx="15843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25" descr="243e73fbe16c00334e4aea36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2565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kill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 rot="5400000">
            <a:off x="5917320" y="2012040"/>
            <a:ext cx="4174920" cy="124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cc0000"/>
                  </a:solidFill>
                  <a:miter/>
                </a:ln>
                <a:solidFill>
                  <a:srgbClr val="339966"/>
                </a:solidFill>
                <a:latin typeface="隶书"/>
              </a:rPr>
              <a:t>好嘴杨巴</a:t>
            </a:r>
            <a:endParaRPr b="1" lang="en-US" sz="4000" spc="1" strike="noStrike">
              <a:ln w="3240">
                <a:solidFill>
                  <a:srgbClr val="cc0000"/>
                </a:solidFill>
                <a:miter/>
              </a:ln>
              <a:solidFill>
                <a:srgbClr val="339966"/>
              </a:solidFill>
              <a:latin typeface="隶书"/>
              <a:ea typeface="隶书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79280" y="4437000"/>
            <a:ext cx="305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4"/>
          <p:cNvGrpSpPr/>
          <p:nvPr/>
        </p:nvGrpSpPr>
        <p:grpSpPr>
          <a:xfrm>
            <a:off x="395280" y="1052640"/>
            <a:ext cx="6769080" cy="4037040"/>
            <a:chOff x="395280" y="1052640"/>
            <a:chExt cx="6769080" cy="4037040"/>
          </a:xfrm>
        </p:grpSpPr>
        <p:sp>
          <p:nvSpPr>
            <p:cNvPr id="130" name="Text Box 6"/>
            <p:cNvSpPr/>
            <p:nvPr/>
          </p:nvSpPr>
          <p:spPr>
            <a:xfrm>
              <a:off x="395280" y="1052640"/>
              <a:ext cx="23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兄弟生意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4932360" y="1773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中堂审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4067280" y="3500280"/>
              <a:ext cx="25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巧答中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395280" y="4508280"/>
              <a:ext cx="23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名声远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AutoShape 11"/>
            <p:cNvCxnSpPr>
              <a:stCxn id="130" idx="3"/>
              <a:endCxn id="131" idx="0"/>
            </p:cNvCxnSpPr>
            <p:nvPr/>
          </p:nvCxnSpPr>
          <p:spPr>
            <a:xfrm>
              <a:off x="2771640" y="1342800"/>
              <a:ext cx="3277440" cy="43056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12"/>
            <p:cNvCxnSpPr>
              <a:stCxn id="131" idx="2"/>
              <a:endCxn id="132" idx="0"/>
            </p:cNvCxnSpPr>
            <p:nvPr/>
          </p:nvCxnSpPr>
          <p:spPr>
            <a:xfrm rot="5400000">
              <a:off x="5110560" y="2562120"/>
              <a:ext cx="1147680" cy="721440"/>
            </a:xfrm>
            <a:prstGeom prst="curvedConnector5">
              <a:avLst>
                <a:gd name="adj1" fmla="val 49984"/>
                <a:gd name="adj2" fmla="val 49975"/>
                <a:gd name="adj3" fmla="val 49984"/>
              </a:avLst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13"/>
            <p:cNvCxnSpPr>
              <a:stCxn id="132" idx="2"/>
              <a:endCxn id="133" idx="3"/>
            </p:cNvCxnSpPr>
            <p:nvPr/>
          </p:nvCxnSpPr>
          <p:spPr>
            <a:xfrm rot="5400000">
              <a:off x="3690360" y="3159720"/>
              <a:ext cx="717840" cy="255672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169236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xin__xin__EnpWatermark_e3f69ac1557f46fc85262fb41e2a7ec6_w1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457200" y="674640"/>
            <a:ext cx="8221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琥珀"/>
                <a:ea typeface="华文琥珀"/>
              </a:rPr>
              <a:t>刷子李和泥人张有什么共同点</a:t>
            </a:r>
            <a:r>
              <a:rPr b="0" lang="en-US" sz="4400" spc="-1" strike="noStrike">
                <a:solidFill>
                  <a:srgbClr val="ff3300"/>
                </a:solidFill>
                <a:latin typeface="华文琥珀"/>
                <a:ea typeface="华文琥珀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01680" y="1905120"/>
            <a:ext cx="854064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刷子李和泥人张都是俗世奇人，他们都拿手擅长的行当，可以说是有大本领大智慧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600" y="1268280"/>
            <a:ext cx="127764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俗世奇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81840" y="981000"/>
            <a:ext cx="13993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刷子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04840" y="1143000"/>
            <a:ext cx="685800" cy="1676520"/>
          </a:xfrm>
          <a:custGeom>
            <a:avLst/>
            <a:gdLst>
              <a:gd name="textAreaLeft" fmla="*/ 438120 w 685800"/>
              <a:gd name="textAreaRight" fmla="*/ 686160 w 6858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7"/>
                </a:lnTo>
                <a:cubicBezTo>
                  <a:pt x="10800" y="10617"/>
                  <a:pt x="5400" y="11517"/>
                  <a:pt x="0" y="11517"/>
                </a:cubicBezTo>
                <a:cubicBezTo>
                  <a:pt x="5400" y="11517"/>
                  <a:pt x="10800" y="12417"/>
                  <a:pt x="10800" y="133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664000" y="765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绝活：刷浆时必穿一身黑，干完活全身不粘一个白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843280" y="23922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人品：艺高胆大、自信自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81840" y="3581280"/>
            <a:ext cx="139932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泥人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004840" y="3352680"/>
            <a:ext cx="685800" cy="1752840"/>
          </a:xfrm>
          <a:custGeom>
            <a:avLst/>
            <a:gdLst>
              <a:gd name="textAreaLeft" fmla="*/ 438120 w 685800"/>
              <a:gd name="textAreaRight" fmla="*/ 686160 w 6858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7"/>
                </a:lnTo>
                <a:cubicBezTo>
                  <a:pt x="10800" y="10617"/>
                  <a:pt x="5400" y="11517"/>
                  <a:pt x="0" y="11517"/>
                </a:cubicBezTo>
                <a:cubicBezTo>
                  <a:pt x="5400" y="11517"/>
                  <a:pt x="10800" y="12417"/>
                  <a:pt x="10800" y="133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808360" y="306864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绝活：从鞋底取下一块泥巴便可以捏出一泥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2808360" y="44370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人品：个性内敛，沉稳干练，自尊自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835280" y="573408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奇在铮铮傲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5"/>
          <p:cNvGrpSpPr/>
          <p:nvPr/>
        </p:nvGrpSpPr>
        <p:grpSpPr>
          <a:xfrm>
            <a:off x="7415280" y="5589720"/>
            <a:ext cx="1728720" cy="912600"/>
            <a:chOff x="7415280" y="5589720"/>
            <a:chExt cx="1728720" cy="912600"/>
          </a:xfrm>
        </p:grpSpPr>
        <p:sp>
          <p:nvSpPr>
            <p:cNvPr id="156" name="AutoShape 16"/>
            <p:cNvSpPr/>
            <p:nvPr/>
          </p:nvSpPr>
          <p:spPr>
            <a:xfrm>
              <a:off x="7415280" y="5589720"/>
              <a:ext cx="1728720" cy="91260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WordArt 17"/>
            <p:cNvSpPr txBox="1"/>
            <p:nvPr/>
          </p:nvSpPr>
          <p:spPr>
            <a:xfrm>
              <a:off x="7846920" y="5878440"/>
              <a:ext cx="72072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宋体"/>
                </a:rPr>
                <a:t>返回</a:t>
              </a:r>
              <a:endParaRPr b="0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图片9"/>
          <p:cNvPicPr/>
          <p:nvPr/>
        </p:nvPicPr>
        <p:blipFill>
          <a:blip r:embed="rId1"/>
          <a:stretch/>
        </p:blipFill>
        <p:spPr>
          <a:xfrm>
            <a:off x="468360" y="620640"/>
            <a:ext cx="1560600" cy="1871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645000" y="1992240"/>
            <a:ext cx="3228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  <a:ea typeface="华文琥珀"/>
              </a:rPr>
              <a:t>品味语言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绿"/>
          <p:cNvPicPr/>
          <p:nvPr/>
        </p:nvPicPr>
        <p:blipFill>
          <a:blip r:embed="rId1"/>
          <a:stretch/>
        </p:blipFill>
        <p:spPr>
          <a:xfrm>
            <a:off x="-609480" y="-316080"/>
            <a:ext cx="10294920" cy="7631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676520" y="106668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ahoma"/>
              </a:rPr>
              <a:t>语言</a:t>
            </a:r>
            <a:r>
              <a:rPr b="0" lang="zh-CN" sz="6600" spc="-1" strike="noStrike">
                <a:solidFill>
                  <a:srgbClr val="3333ff"/>
                </a:solidFill>
                <a:latin typeface="Tahoma"/>
                <a:ea typeface="华文行楷"/>
              </a:rPr>
              <a:t>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547640" y="227664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浓郁的“天津风格”，单口相声的风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619280" y="386064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用词凝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619280" y="49417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修辞手法的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395280" y="981000"/>
            <a:ext cx="84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屋里任嘛甭放，单坐着，就赛升天一般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有绝活的，吃荤，亮堂，站在大街中央；没能耐的，吃素，发蔫，靠边呆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这一套可不是谁家定的，它地地道道是码头上的一种活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穿上这身黑，就赛跟地上一桶白浆较上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11280" y="0"/>
            <a:ext cx="78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有浓郁的“天津风味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012400" y="1557360"/>
            <a:ext cx="520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、他把这泥往桌上叭地一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戳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、这一套可不是谁家定的，它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地地道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是码头上的一种活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、海张五那边还不停地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找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乐子，泥人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这边肯定把这些话在他手里这团泥上全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回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232720" y="2016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用词凝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9"/>
          <p:cNvGrpSpPr/>
          <p:nvPr/>
        </p:nvGrpSpPr>
        <p:grpSpPr>
          <a:xfrm>
            <a:off x="7415280" y="5945040"/>
            <a:ext cx="1728720" cy="912960"/>
            <a:chOff x="7415280" y="5945040"/>
            <a:chExt cx="1728720" cy="912960"/>
          </a:xfrm>
        </p:grpSpPr>
        <p:sp>
          <p:nvSpPr>
            <p:cNvPr id="177" name="AutoShape 10"/>
            <p:cNvSpPr/>
            <p:nvPr/>
          </p:nvSpPr>
          <p:spPr>
            <a:xfrm>
              <a:off x="7415280" y="5945040"/>
              <a:ext cx="1728720" cy="91296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WordArt 11"/>
            <p:cNvSpPr txBox="1"/>
            <p:nvPr/>
          </p:nvSpPr>
          <p:spPr>
            <a:xfrm>
              <a:off x="7846920" y="6234120"/>
              <a:ext cx="72072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宋体"/>
                </a:rPr>
                <a:t>返回</a:t>
              </a:r>
              <a:endParaRPr b="0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179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395280" y="1052640"/>
            <a:ext cx="845964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只见师傅的手臂悠然摆来，悠然摆去，好赛伴着鼓点，和着琴音，每一摆刷，那长长的带浆的毛刷便在墙面“叭”的清脆一响，极是好听。啪啪声里， 一道道浆，衔接得天衣无缝，刷过去的墙面，真赛平平整整打开一面雪白的屏障。（白描 比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有绝活的，吃荤，亮堂，站在大街中央；没能耐的，吃素，发蔫，靠边站着。（对称工整，对比，比喻，夸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手艺道上的人，捏泥人的“泥人张”排第一，而且，有第一，没第二，第三差着十万八千里。（夸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39640" y="2602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修辞手法的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图片9"/>
          <p:cNvPicPr/>
          <p:nvPr/>
        </p:nvPicPr>
        <p:blipFill>
          <a:blip r:embed="rId1"/>
          <a:stretch/>
        </p:blipFill>
        <p:spPr>
          <a:xfrm>
            <a:off x="468360" y="620640"/>
            <a:ext cx="1560600" cy="1871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1928880" y="2565360"/>
            <a:ext cx="520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  <a:ea typeface="黑体"/>
              </a:rPr>
              <a:t>你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  <a:ea typeface="黑体"/>
              </a:rPr>
              <a:t>还知道哪些奇闻异事和民间绝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1646280" y="5429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蹬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930000" y="557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吹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5" descr="图片1.png"/>
          <p:cNvPicPr/>
          <p:nvPr/>
        </p:nvPicPr>
        <p:blipFill>
          <a:blip r:embed="rId1"/>
          <a:stretch/>
        </p:blipFill>
        <p:spPr>
          <a:xfrm>
            <a:off x="714240" y="1643040"/>
            <a:ext cx="4005360" cy="27860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6" descr="图片2.png"/>
          <p:cNvPicPr/>
          <p:nvPr/>
        </p:nvPicPr>
        <p:blipFill>
          <a:blip r:embed="rId2"/>
          <a:stretch/>
        </p:blipFill>
        <p:spPr>
          <a:xfrm>
            <a:off x="5500800" y="1285920"/>
            <a:ext cx="2685960" cy="377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顶碗"/>
          <p:cNvPicPr/>
          <p:nvPr/>
        </p:nvPicPr>
        <p:blipFill>
          <a:blip r:embed="rId1"/>
          <a:stretch/>
        </p:blipFill>
        <p:spPr>
          <a:xfrm>
            <a:off x="782640" y="1214280"/>
            <a:ext cx="2432160" cy="378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971640" y="5877000"/>
            <a:ext cx="22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顶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翻跟头"/>
          <p:cNvPicPr/>
          <p:nvPr/>
        </p:nvPicPr>
        <p:blipFill>
          <a:blip r:embed="rId2"/>
          <a:stretch/>
        </p:blipFill>
        <p:spPr>
          <a:xfrm>
            <a:off x="5929200" y="1035000"/>
            <a:ext cx="2428920" cy="36324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7021440" y="58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翻跟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3_28-3-329-134145_20030225105417"/>
          <p:cNvPicPr/>
          <p:nvPr/>
        </p:nvPicPr>
        <p:blipFill>
          <a:blip r:embed="rId1"/>
          <a:stretch/>
        </p:blipFill>
        <p:spPr>
          <a:xfrm>
            <a:off x="0" y="914400"/>
            <a:ext cx="64008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6477120" y="228600"/>
          <a:ext cx="2666880" cy="545616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54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原籍浙江慈溪，生于天津。致力于城市保护和抢救民间文化遗产，为拯救民族文化做出卓越贡献。多部作品获全国优秀短篇、中篇小说奖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9"/>
          <p:cNvSpPr/>
          <p:nvPr/>
        </p:nvSpPr>
        <p:spPr>
          <a:xfrm>
            <a:off x="517680" y="9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295280" y="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冯骥才：当代著名作家、画家、民俗学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杨柳请年华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752480" y="5759280"/>
            <a:ext cx="632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杨柳青木版年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cjhyy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2005050600052240"/>
          <p:cNvPicPr/>
          <p:nvPr/>
        </p:nvPicPr>
        <p:blipFill>
          <a:blip r:embed="rId2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魏永珍"/>
          <p:cNvPicPr/>
          <p:nvPr/>
        </p:nvPicPr>
        <p:blipFill>
          <a:blip r:embed="rId4"/>
          <a:stretch/>
        </p:blipFill>
        <p:spPr>
          <a:xfrm>
            <a:off x="183528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542880" y="-797760"/>
            <a:ext cx="1003320" cy="75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风筝魏第三代传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"/>
          <p:cNvGrpSpPr/>
          <p:nvPr/>
        </p:nvGrpSpPr>
        <p:grpSpPr>
          <a:xfrm>
            <a:off x="468360" y="5661000"/>
            <a:ext cx="1728720" cy="912960"/>
            <a:chOff x="468360" y="5661000"/>
            <a:chExt cx="1728720" cy="912960"/>
          </a:xfrm>
        </p:grpSpPr>
        <p:sp>
          <p:nvSpPr>
            <p:cNvPr id="204" name="AutoShape 8"/>
            <p:cNvSpPr/>
            <p:nvPr/>
          </p:nvSpPr>
          <p:spPr>
            <a:xfrm>
              <a:off x="468360" y="5661000"/>
              <a:ext cx="1728720" cy="91296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WordArt 9"/>
            <p:cNvSpPr txBox="1"/>
            <p:nvPr/>
          </p:nvSpPr>
          <p:spPr>
            <a:xfrm>
              <a:off x="900000" y="5950080"/>
              <a:ext cx="72072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宋体"/>
                </a:rPr>
                <a:t>返回</a:t>
              </a:r>
              <a:endParaRPr b="0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492360" y="46656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851280" y="429264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735_4505_e696630be335e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457408_383834"/>
          <p:cNvPicPr/>
          <p:nvPr/>
        </p:nvPicPr>
        <p:blipFill>
          <a:blip r:embed="rId1"/>
          <a:stretch/>
        </p:blipFill>
        <p:spPr>
          <a:xfrm>
            <a:off x="0" y="-990720"/>
            <a:ext cx="8763120" cy="7848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5680" y="62802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2" name="Oval 3"/>
          <p:cNvSpPr/>
          <p:nvPr/>
        </p:nvSpPr>
        <p:spPr>
          <a:xfrm>
            <a:off x="3962520" y="0"/>
            <a:ext cx="40384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267080" y="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  <a:ea typeface="华文行楷"/>
              </a:rPr>
              <a:t>我知道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657600" y="15238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幼圆"/>
              </a:rPr>
              <a:t>我身边的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幼圆"/>
              </a:rPr>
              <a:t>“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幼圆"/>
              </a:rPr>
              <a:t>俗世奇人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幼圆"/>
              </a:rPr>
              <a:t>”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幼圆"/>
              </a:rPr>
              <a:t>或班内奇特的人和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250920" y="1197000"/>
            <a:ext cx="889308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3333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在我们的生活中，也不乏有个性人物，我们要注意观察，从他们的生活中找到能表现其个性的小事，还应该去尝试着抓住这些人物的动作、语言、神态等特征对他们进行描写。如果我们学会了去发现人物的个性美，我们眼中的世界就会变得丰富多彩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476360" y="494172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来，试试写写我们身边的人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出他们的独特个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826920" y="0"/>
            <a:ext cx="33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作     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ujpg"/>
          <p:cNvPicPr/>
          <p:nvPr/>
        </p:nvPicPr>
        <p:blipFill>
          <a:blip r:embed="rId1"/>
          <a:stretch/>
        </p:blipFill>
        <p:spPr>
          <a:xfrm>
            <a:off x="0" y="0"/>
            <a:ext cx="3016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2700360" y="404640"/>
          <a:ext cx="7559640" cy="519120"/>
        </p:xfrm>
        <a:graphic>
          <a:graphicData uri="http://schemas.openxmlformats.org/drawingml/2006/table">
            <a:tbl>
              <a:tblPr/>
              <a:tblGrid>
                <a:gridCol w="393840"/>
                <a:gridCol w="7165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  <a:hlinkClick r:id="rId2"/>
                        </a:rPr>
                        <a:t>冯骥才的博客 </a:t>
                      </a:r>
                      <a:r>
                        <a:rPr b="0" lang="en-US" sz="2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  <a:hlinkClick r:id="rId3"/>
                        </a:rPr>
                        <a:t>- feng_jicai - </a:t>
                      </a:r>
                      <a:r>
                        <a:rPr b="0" lang="zh-CN" sz="2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  <a:hlinkClick r:id="rId4"/>
                        </a:rPr>
                        <a:t>新浪</a:t>
                      </a:r>
                      <a:r>
                        <a:rPr b="0" lang="en-US" sz="2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  <a:hlinkClick r:id="rId5"/>
                        </a:rPr>
                        <a:t>B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10"/>
          <p:cNvSpPr/>
          <p:nvPr/>
        </p:nvSpPr>
        <p:spPr>
          <a:xfrm>
            <a:off x="2719800" y="3141720"/>
            <a:ext cx="11552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俗世奇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783600" y="2205000"/>
            <a:ext cx="667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神鞭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016880" y="3068640"/>
            <a:ext cx="11552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寸金莲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feng1"/>
          <p:cNvPicPr/>
          <p:nvPr/>
        </p:nvPicPr>
        <p:blipFill>
          <a:blip r:embed="rId6"/>
          <a:stretch/>
        </p:blipFill>
        <p:spPr>
          <a:xfrm>
            <a:off x="6156360" y="2997360"/>
            <a:ext cx="2987640" cy="3860640"/>
          </a:xfrm>
          <a:prstGeom prst="rect">
            <a:avLst/>
          </a:prstGeom>
          <a:ln w="0">
            <a:noFill/>
          </a:ln>
        </p:spPr>
      </p:pic>
      <p:sp>
        <p:nvSpPr>
          <p:cNvPr id="60" name="WordArt 14"/>
          <p:cNvSpPr txBox="1"/>
          <p:nvPr/>
        </p:nvSpPr>
        <p:spPr>
          <a:xfrm>
            <a:off x="4211640" y="1700280"/>
            <a:ext cx="3801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民族文化的守望者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1" name="spring12.mp3" descr=""/>
          <p:cNvPicPr/>
          <p:nvPr/>
        </p:nvPicPr>
        <p:blipFill>
          <a:blip r:embed="rId7"/>
          <a:stretch/>
        </p:blipFill>
        <p:spPr>
          <a:xfrm>
            <a:off x="3132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183204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学习以小见大的写法，体会小人物大智慧。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品味富有表现力及地方特色的语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激发对我国民间文化的热爱和责任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up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228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04920" y="609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609480" y="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们的目标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读准下列字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怵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ōu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u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想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吓懵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ēng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牙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高的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 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 chǒu)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左右逢源 人情练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590920" y="68580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俗世奇人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36576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答：“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俗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是民间社会，多指下层百姓生活的民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“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奇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是指那些身怀绝技的民间艺人或工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8147160" y="5334120"/>
            <a:ext cx="99684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BD14594_"/>
          <p:cNvPicPr/>
          <p:nvPr/>
        </p:nvPicPr>
        <p:blipFill>
          <a:blip r:embed="rId2"/>
          <a:stretch/>
        </p:blipFill>
        <p:spPr>
          <a:xfrm>
            <a:off x="304920" y="3048120"/>
            <a:ext cx="8686800" cy="620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685800" y="1430280"/>
            <a:ext cx="6705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问：“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俗世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奇人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图片2"/>
          <p:cNvPicPr/>
          <p:nvPr/>
        </p:nvPicPr>
        <p:blipFill>
          <a:blip r:embed="rId3"/>
          <a:stretch/>
        </p:blipFill>
        <p:spPr>
          <a:xfrm>
            <a:off x="7191360" y="0"/>
            <a:ext cx="1952640" cy="3173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f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116510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09520"/>
          </a:xfrm>
          <a:prstGeom prst="rect">
            <a:avLst/>
          </a:prstGeom>
          <a:ln w="0">
            <a:noFill/>
          </a:ln>
        </p:spPr>
      </p:pic>
      <p:pic>
        <p:nvPicPr>
          <p:cNvPr id="75" name="Object 3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5402160"/>
            <a:ext cx="133524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j0116510"/>
          <p:cNvPicPr/>
          <p:nvPr/>
        </p:nvPicPr>
        <p:blipFill>
          <a:blip r:embed="rId3"/>
          <a:stretch/>
        </p:blipFill>
        <p:spPr>
          <a:xfrm>
            <a:off x="7315200" y="216000"/>
            <a:ext cx="1828800" cy="1109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332000" y="170028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天津卫码头有什么奇特的民俗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7020000" y="5589720"/>
            <a:ext cx="1728720" cy="912600"/>
            <a:chOff x="7020000" y="5589720"/>
            <a:chExt cx="1728720" cy="912600"/>
          </a:xfrm>
        </p:grpSpPr>
        <p:sp>
          <p:nvSpPr>
            <p:cNvPr id="79" name="AutoShape 10"/>
            <p:cNvSpPr/>
            <p:nvPr/>
          </p:nvSpPr>
          <p:spPr>
            <a:xfrm>
              <a:off x="7020000" y="5589720"/>
              <a:ext cx="1728720" cy="91260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WordArt 9"/>
            <p:cNvSpPr txBox="1"/>
            <p:nvPr/>
          </p:nvSpPr>
          <p:spPr>
            <a:xfrm>
              <a:off x="7451640" y="5878440"/>
              <a:ext cx="72072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宋体"/>
                </a:rPr>
                <a:t>返回</a:t>
              </a:r>
              <a:endParaRPr b="0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1101600" cy="136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6037560" y="0"/>
            <a:ext cx="3106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刷子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00:40:2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0:05Z</dcterms:modified>
  <cp:revision>1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