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5.jpeg" ContentType="image/jpeg"/>
  <Override PartName="/ppt/media/image4.jpeg" ContentType="image/jpeg"/>
  <Override PartName="/ppt/media/image9.png" ContentType="image/png"/>
  <Override PartName="/ppt/media/%E5%A4%9C%E7%9A%84%E9%92%A2%E7%90%B4%E6%9B%B2%20-%20%E4%BA%94.wav" ContentType="audio/x-wav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6.png" ContentType="image/png"/>
  <Override PartName="/ppt/media/image11.png" ContentType="image/png"/>
  <Override PartName="/ppt/media/image12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14.png" ContentType="image/png"/>
  <Override PartName="/ppt/media/image15.jpeg" ContentType="image/jpeg"/>
  <Override PartName="/ppt/media/image26.wmf" ContentType="image/x-wmf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545B-1DFF-4D2B-BF36-15382225BF7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8CF2-5D27-4EA3-AF82-3983886C49D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大胆开价。己方一开始就要求对方投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万。不要害怕喊价，大胆开价可以给自己一些谈判空间，还能抬高产品在对方心目中的价值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界定目标。简单点说就是，对方如果喊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万，而我们目标价格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万，那我们就界定喊价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万，这样就算是折中还是可以达到我们的目标价格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绝不接受第一次报价。如果你接受第一次报价，你会让对方产生两种反应：我本来可以做的更好、一定是哪里出了问题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装作大吃一惊。就是听到对方的报价之后大吃一惊，这样对方就会做出让步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扮演不情愿的卖家。这种策略就是说要表现出不是很着急要和对方合资，提高自己身价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钳子策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简单点说，就是当对方提出报价或进行还价后，你可以告诉对方：“你一定可以给我一个更好的价格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诉诸最高权威。当对方提出的要求很难接受的时候，就和对方说，我必须要请示一下董事长才能做决定。这样会迫使对方妥协，因为不妥协就意味着谈判终止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避免对抗性谈判。在谈判的时候千万要避免和对方争辩，要求同存异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永远不要折中。因为折中就意味着妥协，要鼓励对方提出来，而且有时候你得到的价格可能是折中再折中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一定要索取回报。当对方提出要求的时候，一定要索取相应的回报，尽可能的增加自己的利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白脸黑脸（一个扮好人，一个扮坏人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蚕食策略。在谈判快结束的时候，一步步蚕食那些小的利润，因为那时候对方最脆弱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让步模式。逐步减少让步空间，让对方感觉你已经接近极限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收回报价。可以通过让对方负责宣传、销售等等，来收回自己刚刚在投资额上做出的让步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欣然接受。要欣然接受那些小让步，让对方为自己的谈判技巧感到自豪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起草协议。这点很重要，因为在起草的时候，可以把双方口头没有谈到的细节写成有利于自己的内容，而且这样可以避免对方偷偷修改协议内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AFB-2FCB-452F-9361-52AF6372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A61-8AFA-4309-AD05-EDF1AD28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6C2-69A2-4930-9E6D-5C1E8847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37A-1C49-4F02-8820-4FF2EB32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921-F960-4419-A9AF-7AE5D82C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A05-6023-4FED-9F81-E1B6CF87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CBC-CF49-40FC-948E-9BD2EC91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9EF-5590-49C8-B7EE-91517BF4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215-C8F3-4AD6-BEEA-18CD0814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F74-1DF9-4FE0-AE84-76B1C2E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E22-8C94-4F80-9DC7-6C489F0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377-7F16-4ACC-BCE1-2B01AF42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1DBE-1819-4411-852A-534513C1C7C2}" type="datetime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6A5E-3975-49A8-ABBD-1A997B1366D5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&#22812;&#30340;&#38050;&#29748;&#26354;%20-%20&#20116;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hyperlink" Target="http://www.eeppt.com/sucai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file:///&#26377;&#27809;&#26377;&#21160;&#30011;&#27604;&#36739;1.ppt" TargetMode="External"/><Relationship Id="rId4" Type="http://schemas.openxmlformats.org/officeDocument/2006/relationships/hyperlink" Target="file:///&#26377;&#26080;&#21160;&#30011;&#27604;&#36739;2.ppt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360" y="872640"/>
            <a:ext cx="673272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商务谈判</a:t>
            </a: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3888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健品项目合资合作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" name="Picture 4" descr="未命名_副本"/>
          <p:cNvPicPr/>
          <p:nvPr/>
        </p:nvPicPr>
        <p:blipFill>
          <a:blip r:embed="rId2"/>
          <a:stretch/>
        </p:blipFill>
        <p:spPr>
          <a:xfrm>
            <a:off x="90360" y="47520"/>
            <a:ext cx="679680" cy="792360"/>
          </a:xfrm>
          <a:prstGeom prst="rect">
            <a:avLst/>
          </a:prstGeom>
          <a:ln w="0">
            <a:noFill/>
          </a:ln>
        </p:spPr>
      </p:pic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899F-3CCE-4043-BF85-9564461B7FE4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248" name="组合 22"/>
          <p:cNvGrpSpPr/>
          <p:nvPr/>
        </p:nvGrpSpPr>
        <p:grpSpPr>
          <a:xfrm>
            <a:off x="204840" y="844560"/>
            <a:ext cx="7278480" cy="655560"/>
            <a:chOff x="204840" y="844560"/>
            <a:chExt cx="7278480" cy="655560"/>
          </a:xfrm>
        </p:grpSpPr>
        <p:grpSp>
          <p:nvGrpSpPr>
            <p:cNvPr id="249" name="组合 5"/>
            <p:cNvGrpSpPr/>
            <p:nvPr/>
          </p:nvGrpSpPr>
          <p:grpSpPr>
            <a:xfrm>
              <a:off x="204840" y="844560"/>
              <a:ext cx="7278480" cy="655560"/>
              <a:chOff x="204840" y="844560"/>
              <a:chExt cx="7278480" cy="655560"/>
            </a:xfrm>
          </p:grpSpPr>
          <p:grpSp>
            <p:nvGrpSpPr>
              <p:cNvPr id="250" name="组合 11"/>
              <p:cNvGrpSpPr/>
              <p:nvPr/>
            </p:nvGrpSpPr>
            <p:grpSpPr>
              <a:xfrm>
                <a:off x="471240" y="844560"/>
                <a:ext cx="6957720" cy="655560"/>
                <a:chOff x="471240" y="844560"/>
                <a:chExt cx="6957720" cy="655560"/>
              </a:xfrm>
            </p:grpSpPr>
            <p:sp>
              <p:nvSpPr>
                <p:cNvPr id="251" name="矩形 10"/>
                <p:cNvSpPr/>
                <p:nvPr/>
              </p:nvSpPr>
              <p:spPr>
                <a:xfrm>
                  <a:off x="471240" y="844560"/>
                  <a:ext cx="6957720" cy="642960"/>
                </a:xfrm>
                <a:prstGeom prst="rect">
                  <a:avLst/>
                </a:prstGeom>
                <a:solidFill>
                  <a:srgbClr val="bfbfbf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直接连接符 11"/>
                <p:cNvSpPr/>
                <p:nvPr/>
              </p:nvSpPr>
              <p:spPr>
                <a:xfrm flipH="1">
                  <a:off x="1642680" y="907920"/>
                  <a:ext cx="1440" cy="592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直接连接符 12"/>
                <p:cNvSpPr/>
                <p:nvPr/>
              </p:nvSpPr>
              <p:spPr>
                <a:xfrm flipH="1">
                  <a:off x="2916000" y="895320"/>
                  <a:ext cx="1440" cy="5907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TextBox 7"/>
              <p:cNvSpPr/>
              <p:nvPr/>
            </p:nvSpPr>
            <p:spPr>
              <a:xfrm>
                <a:off x="204840" y="895320"/>
                <a:ext cx="1723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己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Box 8"/>
              <p:cNvSpPr/>
              <p:nvPr/>
            </p:nvSpPr>
            <p:spPr>
              <a:xfrm>
                <a:off x="1500120" y="915840"/>
                <a:ext cx="15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对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9"/>
              <p:cNvSpPr/>
              <p:nvPr/>
            </p:nvSpPr>
            <p:spPr>
              <a:xfrm>
                <a:off x="4694400" y="959040"/>
                <a:ext cx="278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19"/>
            <p:cNvSpPr/>
            <p:nvPr/>
          </p:nvSpPr>
          <p:spPr>
            <a:xfrm>
              <a:off x="2915640" y="942840"/>
              <a:ext cx="17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3"/>
          <p:cNvSpPr/>
          <p:nvPr/>
        </p:nvSpPr>
        <p:spPr>
          <a:xfrm>
            <a:off x="1714680" y="857160"/>
            <a:ext cx="57150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4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262" name="矩形 15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6"/>
            <p:cNvSpPr/>
            <p:nvPr/>
          </p:nvSpPr>
          <p:spPr>
            <a:xfrm>
              <a:off x="7504200" y="239400"/>
              <a:ext cx="14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已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直接连接符 18"/>
          <p:cNvSpPr/>
          <p:nvPr/>
        </p:nvSpPr>
        <p:spPr>
          <a:xfrm flipH="1">
            <a:off x="4700160" y="878040"/>
            <a:ext cx="1800" cy="5918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灯片编号占位符 36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8221-ED33-4B84-A36F-7F92A92B5D80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290520" y="1249200"/>
            <a:ext cx="67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某品牌绿茶公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714240" y="2205000"/>
            <a:ext cx="7959960" cy="2288520"/>
          </a:xfrm>
          <a:prstGeom prst="rect">
            <a:avLst/>
          </a:prstGeom>
          <a:solidFill>
            <a:srgbClr val="00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具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绿茶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其茶多酚含量超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高于同类产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注册生产某一品牌绿茶，品牌和创意都十分不错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效应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省内正初步形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拥有一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备的策划、宣传战略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初步形成了一系列较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畅的销售渠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在全省某一知名连锁药房及其它大型超市、茶叶连锁店都有设点，销售状况良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2484360" y="616572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02A4-00A5-449A-B95E-172E3C42646D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D:\Picture\ppt素材\手势\p_large_3eLF_43940000accb5c71.jpg"/>
          <p:cNvPicPr/>
          <p:nvPr/>
        </p:nvPicPr>
        <p:blipFill>
          <a:blip r:embed="rId3"/>
          <a:stretch/>
        </p:blipFill>
        <p:spPr>
          <a:xfrm>
            <a:off x="0" y="857160"/>
            <a:ext cx="9177480" cy="5667480"/>
          </a:xfrm>
          <a:prstGeom prst="rect">
            <a:avLst/>
          </a:prstGeom>
          <a:ln w="0">
            <a:noFill/>
          </a:ln>
        </p:spPr>
      </p:pic>
      <p:sp>
        <p:nvSpPr>
          <p:cNvPr id="274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24"/>
          <p:cNvGrpSpPr/>
          <p:nvPr/>
        </p:nvGrpSpPr>
        <p:grpSpPr>
          <a:xfrm>
            <a:off x="204840" y="824040"/>
            <a:ext cx="7224840" cy="676080"/>
            <a:chOff x="204840" y="824040"/>
            <a:chExt cx="7224840" cy="676080"/>
          </a:xfrm>
        </p:grpSpPr>
        <p:grpSp>
          <p:nvGrpSpPr>
            <p:cNvPr id="276" name="组合 21"/>
            <p:cNvGrpSpPr/>
            <p:nvPr/>
          </p:nvGrpSpPr>
          <p:grpSpPr>
            <a:xfrm>
              <a:off x="204840" y="843480"/>
              <a:ext cx="7224840" cy="656640"/>
              <a:chOff x="204840" y="843480"/>
              <a:chExt cx="7224840" cy="656640"/>
            </a:xfrm>
          </p:grpSpPr>
          <p:grpSp>
            <p:nvGrpSpPr>
              <p:cNvPr id="277" name="组合 5"/>
              <p:cNvGrpSpPr/>
              <p:nvPr/>
            </p:nvGrpSpPr>
            <p:grpSpPr>
              <a:xfrm>
                <a:off x="204840" y="843480"/>
                <a:ext cx="7224840" cy="656640"/>
                <a:chOff x="204840" y="843480"/>
                <a:chExt cx="7224840" cy="656640"/>
              </a:xfrm>
            </p:grpSpPr>
            <p:grpSp>
              <p:nvGrpSpPr>
                <p:cNvPr id="278" name="组合 11"/>
                <p:cNvGrpSpPr/>
                <p:nvPr/>
              </p:nvGrpSpPr>
              <p:grpSpPr>
                <a:xfrm>
                  <a:off x="471240" y="843480"/>
                  <a:ext cx="6958440" cy="656640"/>
                  <a:chOff x="471240" y="843480"/>
                  <a:chExt cx="6958440" cy="656640"/>
                </a:xfrm>
              </p:grpSpPr>
              <p:sp>
                <p:nvSpPr>
                  <p:cNvPr id="279" name="矩形 10"/>
                  <p:cNvSpPr/>
                  <p:nvPr/>
                </p:nvSpPr>
                <p:spPr>
                  <a:xfrm>
                    <a:off x="471240" y="843480"/>
                    <a:ext cx="6958440" cy="644040"/>
                  </a:xfrm>
                  <a:prstGeom prst="rect">
                    <a:avLst/>
                  </a:prstGeom>
                  <a:solidFill>
                    <a:srgbClr val="bfbfbf">
                      <a:alpha val="8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直接连接符 11"/>
                  <p:cNvSpPr/>
                  <p:nvPr/>
                </p:nvSpPr>
                <p:spPr>
                  <a:xfrm flipH="1">
                    <a:off x="1642680" y="906840"/>
                    <a:ext cx="1440" cy="5932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直接连接符 12"/>
                  <p:cNvSpPr/>
                  <p:nvPr/>
                </p:nvSpPr>
                <p:spPr>
                  <a:xfrm flipH="1">
                    <a:off x="2842920" y="860760"/>
                    <a:ext cx="1440" cy="5932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" name="TextBox 7"/>
                <p:cNvSpPr/>
                <p:nvPr/>
              </p:nvSpPr>
              <p:spPr>
                <a:xfrm>
                  <a:off x="204840" y="894240"/>
                  <a:ext cx="172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已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TextBox 8"/>
                <p:cNvSpPr/>
                <p:nvPr/>
              </p:nvSpPr>
              <p:spPr>
                <a:xfrm>
                  <a:off x="1500120" y="914760"/>
                  <a:ext cx="15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对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TextBox 9"/>
                <p:cNvSpPr/>
                <p:nvPr/>
              </p:nvSpPr>
              <p:spPr>
                <a:xfrm>
                  <a:off x="4629240" y="902520"/>
                  <a:ext cx="2800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双方优劣势分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TextBox 19"/>
              <p:cNvSpPr/>
              <p:nvPr/>
            </p:nvSpPr>
            <p:spPr>
              <a:xfrm>
                <a:off x="2804400" y="902520"/>
                <a:ext cx="203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行业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直接连接符 18"/>
            <p:cNvSpPr/>
            <p:nvPr/>
          </p:nvSpPr>
          <p:spPr>
            <a:xfrm flipH="1">
              <a:off x="4626000" y="824040"/>
              <a:ext cx="1440" cy="59220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矩形 22"/>
          <p:cNvSpPr/>
          <p:nvPr/>
        </p:nvSpPr>
        <p:spPr>
          <a:xfrm>
            <a:off x="460440" y="857160"/>
            <a:ext cx="11826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3"/>
          <p:cNvSpPr/>
          <p:nvPr/>
        </p:nvSpPr>
        <p:spPr>
          <a:xfrm>
            <a:off x="2844720" y="857160"/>
            <a:ext cx="460692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4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291" name="矩形 15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6"/>
            <p:cNvSpPr/>
            <p:nvPr/>
          </p:nvSpPr>
          <p:spPr>
            <a:xfrm>
              <a:off x="7504200" y="239400"/>
              <a:ext cx="14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对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23" descr="跨越式2.png"/>
          <p:cNvPicPr/>
          <p:nvPr/>
        </p:nvPicPr>
        <p:blipFill>
          <a:blip r:embed="rId4"/>
          <a:stretch/>
        </p:blipFill>
        <p:spPr>
          <a:xfrm>
            <a:off x="6500880" y="6477120"/>
            <a:ext cx="696960" cy="380880"/>
          </a:xfrm>
          <a:prstGeom prst="rect">
            <a:avLst/>
          </a:prstGeom>
          <a:ln w="0">
            <a:noFill/>
          </a:ln>
        </p:spPr>
      </p:pic>
      <p:sp>
        <p:nvSpPr>
          <p:cNvPr id="294" name="矩形 25"/>
          <p:cNvSpPr/>
          <p:nvPr/>
        </p:nvSpPr>
        <p:spPr>
          <a:xfrm>
            <a:off x="3037320" y="2209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建材生意多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累了一定的资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6"/>
          <p:cNvSpPr/>
          <p:nvPr/>
        </p:nvSpPr>
        <p:spPr>
          <a:xfrm>
            <a:off x="4385520" y="220968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备用闲置资金进行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步意向为保健品市场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8"/>
          <p:cNvSpPr/>
          <p:nvPr/>
        </p:nvSpPr>
        <p:spPr>
          <a:xfrm flipH="1">
            <a:off x="4642920" y="1285920"/>
            <a:ext cx="1800" cy="473688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1"/>
          <p:cNvSpPr/>
          <p:nvPr/>
        </p:nvSpPr>
        <p:spPr>
          <a:xfrm>
            <a:off x="3643200" y="1500120"/>
            <a:ext cx="35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2"/>
          <p:cNvSpPr/>
          <p:nvPr/>
        </p:nvSpPr>
        <p:spPr>
          <a:xfrm>
            <a:off x="5143680" y="150012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灯片编号占位符 29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6C97-1918-4B6F-B766-1A53598DBE92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7A7-3BCB-4958-9236-85C1DA409483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pic>
        <p:nvPicPr>
          <p:cNvPr id="304" name="Freeform 7" descr=""/>
          <p:cNvPicPr/>
          <p:nvPr/>
        </p:nvPicPr>
        <p:blipFill>
          <a:blip r:embed="rId3"/>
          <a:stretch/>
        </p:blipFill>
        <p:spPr>
          <a:xfrm>
            <a:off x="754200" y="1073160"/>
            <a:ext cx="7635600" cy="544356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21"/>
          <p:cNvGrpSpPr/>
          <p:nvPr/>
        </p:nvGrpSpPr>
        <p:grpSpPr>
          <a:xfrm>
            <a:off x="204840" y="844560"/>
            <a:ext cx="7224840" cy="676440"/>
            <a:chOff x="204840" y="844560"/>
            <a:chExt cx="7224840" cy="676440"/>
          </a:xfrm>
        </p:grpSpPr>
        <p:grpSp>
          <p:nvGrpSpPr>
            <p:cNvPr id="306" name="组合 5"/>
            <p:cNvGrpSpPr/>
            <p:nvPr/>
          </p:nvGrpSpPr>
          <p:grpSpPr>
            <a:xfrm>
              <a:off x="204840" y="844560"/>
              <a:ext cx="7224840" cy="676440"/>
              <a:chOff x="204840" y="844560"/>
              <a:chExt cx="7224840" cy="676440"/>
            </a:xfrm>
          </p:grpSpPr>
          <p:grpSp>
            <p:nvGrpSpPr>
              <p:cNvPr id="307" name="组合 11"/>
              <p:cNvGrpSpPr/>
              <p:nvPr/>
            </p:nvGrpSpPr>
            <p:grpSpPr>
              <a:xfrm>
                <a:off x="471240" y="844560"/>
                <a:ext cx="6958440" cy="676440"/>
                <a:chOff x="471240" y="844560"/>
                <a:chExt cx="6958440" cy="676440"/>
              </a:xfrm>
            </p:grpSpPr>
            <p:sp>
              <p:nvSpPr>
                <p:cNvPr id="308" name="矩形 10"/>
                <p:cNvSpPr/>
                <p:nvPr/>
              </p:nvSpPr>
              <p:spPr>
                <a:xfrm>
                  <a:off x="471240" y="844560"/>
                  <a:ext cx="6958440" cy="643320"/>
                </a:xfrm>
                <a:prstGeom prst="rect">
                  <a:avLst/>
                </a:prstGeom>
                <a:solidFill>
                  <a:srgbClr val="bfbfbf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直接连接符 11"/>
                <p:cNvSpPr/>
                <p:nvPr/>
              </p:nvSpPr>
              <p:spPr>
                <a:xfrm flipH="1">
                  <a:off x="1642680" y="90792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直接连接符 12"/>
                <p:cNvSpPr/>
                <p:nvPr/>
              </p:nvSpPr>
              <p:spPr>
                <a:xfrm flipH="1">
                  <a:off x="2842920" y="92844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Box 7"/>
              <p:cNvSpPr/>
              <p:nvPr/>
            </p:nvSpPr>
            <p:spPr>
              <a:xfrm>
                <a:off x="204840" y="895320"/>
                <a:ext cx="172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已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8"/>
              <p:cNvSpPr/>
              <p:nvPr/>
            </p:nvSpPr>
            <p:spPr>
              <a:xfrm>
                <a:off x="1500120" y="915840"/>
                <a:ext cx="15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对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Box 9"/>
              <p:cNvSpPr/>
              <p:nvPr/>
            </p:nvSpPr>
            <p:spPr>
              <a:xfrm>
                <a:off x="4566240" y="942840"/>
                <a:ext cx="280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19"/>
            <p:cNvSpPr/>
            <p:nvPr/>
          </p:nvSpPr>
          <p:spPr>
            <a:xfrm>
              <a:off x="2676960" y="929160"/>
              <a:ext cx="20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3"/>
          <p:cNvSpPr/>
          <p:nvPr/>
        </p:nvSpPr>
        <p:spPr>
          <a:xfrm>
            <a:off x="500040" y="857160"/>
            <a:ext cx="234468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14"/>
          <p:cNvGrpSpPr/>
          <p:nvPr/>
        </p:nvGrpSpPr>
        <p:grpSpPr>
          <a:xfrm>
            <a:off x="7348680" y="214200"/>
            <a:ext cx="1892160" cy="647640"/>
            <a:chOff x="7348680" y="214200"/>
            <a:chExt cx="1892160" cy="647640"/>
          </a:xfrm>
        </p:grpSpPr>
        <p:sp>
          <p:nvSpPr>
            <p:cNvPr id="319" name="矩形 15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16"/>
            <p:cNvSpPr/>
            <p:nvPr/>
          </p:nvSpPr>
          <p:spPr>
            <a:xfrm>
              <a:off x="7348680" y="28620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直接连接符 18"/>
          <p:cNvSpPr/>
          <p:nvPr/>
        </p:nvSpPr>
        <p:spPr>
          <a:xfrm flipH="1">
            <a:off x="4572000" y="893880"/>
            <a:ext cx="1440" cy="592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2"/>
          <p:cNvSpPr/>
          <p:nvPr/>
        </p:nvSpPr>
        <p:spPr>
          <a:xfrm>
            <a:off x="4572000" y="857160"/>
            <a:ext cx="2879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5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AD4F-7014-4244-A811-63326F6B3238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上箭头 83"/>
          <p:cNvSpPr/>
          <p:nvPr/>
        </p:nvSpPr>
        <p:spPr>
          <a:xfrm>
            <a:off x="914400" y="3236760"/>
            <a:ext cx="198108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上箭头 84"/>
          <p:cNvSpPr/>
          <p:nvPr/>
        </p:nvSpPr>
        <p:spPr>
          <a:xfrm>
            <a:off x="3525840" y="323676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上箭头 85"/>
          <p:cNvSpPr/>
          <p:nvPr/>
        </p:nvSpPr>
        <p:spPr>
          <a:xfrm>
            <a:off x="6137280" y="323676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新月形 86"/>
          <p:cNvSpPr/>
          <p:nvPr/>
        </p:nvSpPr>
        <p:spPr>
          <a:xfrm rot="16200000">
            <a:off x="4389480" y="3933720"/>
            <a:ext cx="252360" cy="61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新月形 87"/>
          <p:cNvSpPr/>
          <p:nvPr/>
        </p:nvSpPr>
        <p:spPr>
          <a:xfrm rot="16200000">
            <a:off x="4407480" y="4201200"/>
            <a:ext cx="21600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新月形 88"/>
          <p:cNvSpPr/>
          <p:nvPr/>
        </p:nvSpPr>
        <p:spPr>
          <a:xfrm rot="16200000">
            <a:off x="6999840" y="3932640"/>
            <a:ext cx="252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新月形 89"/>
          <p:cNvSpPr/>
          <p:nvPr/>
        </p:nvSpPr>
        <p:spPr>
          <a:xfrm rot="16200000">
            <a:off x="7018200" y="4202280"/>
            <a:ext cx="21600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新月形 90"/>
          <p:cNvSpPr/>
          <p:nvPr/>
        </p:nvSpPr>
        <p:spPr>
          <a:xfrm rot="16200000">
            <a:off x="1776960" y="3932640"/>
            <a:ext cx="252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新月形 91"/>
          <p:cNvSpPr/>
          <p:nvPr/>
        </p:nvSpPr>
        <p:spPr>
          <a:xfrm rot="16200000">
            <a:off x="1796760" y="4201920"/>
            <a:ext cx="21600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新月形 92"/>
          <p:cNvSpPr/>
          <p:nvPr/>
        </p:nvSpPr>
        <p:spPr>
          <a:xfrm rot="16200000">
            <a:off x="4444200" y="4443840"/>
            <a:ext cx="1429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新月形 93"/>
          <p:cNvSpPr/>
          <p:nvPr/>
        </p:nvSpPr>
        <p:spPr>
          <a:xfrm rot="16200000">
            <a:off x="7054920" y="4446000"/>
            <a:ext cx="14292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新月形 94"/>
          <p:cNvSpPr/>
          <p:nvPr/>
        </p:nvSpPr>
        <p:spPr>
          <a:xfrm rot="16200000">
            <a:off x="1833480" y="4446000"/>
            <a:ext cx="14292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30"/>
          <p:cNvGrpSpPr/>
          <p:nvPr/>
        </p:nvGrpSpPr>
        <p:grpSpPr>
          <a:xfrm>
            <a:off x="1056240" y="2488320"/>
            <a:ext cx="1590120" cy="1629720"/>
            <a:chOff x="1056240" y="2488320"/>
            <a:chExt cx="1590120" cy="1629720"/>
          </a:xfrm>
        </p:grpSpPr>
        <p:grpSp>
          <p:nvGrpSpPr>
            <p:cNvPr id="337" name="组合 34"/>
            <p:cNvGrpSpPr/>
            <p:nvPr/>
          </p:nvGrpSpPr>
          <p:grpSpPr>
            <a:xfrm>
              <a:off x="1056240" y="2488320"/>
              <a:ext cx="1590120" cy="1629720"/>
              <a:chOff x="1056240" y="2488320"/>
              <a:chExt cx="1590120" cy="1629720"/>
            </a:xfrm>
          </p:grpSpPr>
          <p:sp>
            <p:nvSpPr>
              <p:cNvPr id="338" name="Oval 2"/>
              <p:cNvSpPr/>
              <p:nvPr/>
            </p:nvSpPr>
            <p:spPr>
              <a:xfrm>
                <a:off x="116748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6eff01"/>
                  </a:gs>
                  <a:gs pos="100000">
                    <a:srgbClr val="0f5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椭圆 99"/>
              <p:cNvSpPr/>
              <p:nvPr/>
            </p:nvSpPr>
            <p:spPr>
              <a:xfrm rot="19388400">
                <a:off x="116208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椭圆 100"/>
              <p:cNvSpPr/>
              <p:nvPr/>
            </p:nvSpPr>
            <p:spPr>
              <a:xfrm>
                <a:off x="1325880" y="2792520"/>
                <a:ext cx="1161720" cy="1166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147"/>
            <p:cNvSpPr/>
            <p:nvPr/>
          </p:nvSpPr>
          <p:spPr>
            <a:xfrm>
              <a:off x="1191240" y="300600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茶饮市场成长阶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31"/>
          <p:cNvGrpSpPr/>
          <p:nvPr/>
        </p:nvGrpSpPr>
        <p:grpSpPr>
          <a:xfrm>
            <a:off x="3667680" y="2488320"/>
            <a:ext cx="1590120" cy="1629720"/>
            <a:chOff x="3667680" y="2488320"/>
            <a:chExt cx="1590120" cy="1629720"/>
          </a:xfrm>
        </p:grpSpPr>
        <p:grpSp>
          <p:nvGrpSpPr>
            <p:cNvPr id="343" name="组合 34"/>
            <p:cNvGrpSpPr/>
            <p:nvPr/>
          </p:nvGrpSpPr>
          <p:grpSpPr>
            <a:xfrm>
              <a:off x="3667680" y="2488320"/>
              <a:ext cx="1590120" cy="1629720"/>
              <a:chOff x="3667680" y="2488320"/>
              <a:chExt cx="1590120" cy="1629720"/>
            </a:xfrm>
          </p:grpSpPr>
          <p:sp>
            <p:nvSpPr>
              <p:cNvPr id="344" name="Oval 2"/>
              <p:cNvSpPr/>
              <p:nvPr/>
            </p:nvSpPr>
            <p:spPr>
              <a:xfrm>
                <a:off x="377892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00dff6"/>
                  </a:gs>
                  <a:gs pos="100000">
                    <a:srgbClr val="00277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 105"/>
              <p:cNvSpPr/>
              <p:nvPr/>
            </p:nvSpPr>
            <p:spPr>
              <a:xfrm rot="19388400">
                <a:off x="377352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椭圆 106"/>
              <p:cNvSpPr/>
              <p:nvPr/>
            </p:nvSpPr>
            <p:spPr>
              <a:xfrm>
                <a:off x="3937320" y="2792520"/>
                <a:ext cx="1161720" cy="11664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Box 147"/>
            <p:cNvSpPr/>
            <p:nvPr/>
          </p:nvSpPr>
          <p:spPr>
            <a:xfrm>
              <a:off x="3795480" y="300600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核心需求购买因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32"/>
          <p:cNvGrpSpPr/>
          <p:nvPr/>
        </p:nvGrpSpPr>
        <p:grpSpPr>
          <a:xfrm>
            <a:off x="6279120" y="2488320"/>
            <a:ext cx="1590120" cy="1629720"/>
            <a:chOff x="6279120" y="2488320"/>
            <a:chExt cx="1590120" cy="1629720"/>
          </a:xfrm>
        </p:grpSpPr>
        <p:grpSp>
          <p:nvGrpSpPr>
            <p:cNvPr id="349" name="组合 34"/>
            <p:cNvGrpSpPr/>
            <p:nvPr/>
          </p:nvGrpSpPr>
          <p:grpSpPr>
            <a:xfrm>
              <a:off x="6279120" y="2488320"/>
              <a:ext cx="1590120" cy="1629720"/>
              <a:chOff x="6279120" y="2488320"/>
              <a:chExt cx="1590120" cy="1629720"/>
            </a:xfrm>
          </p:grpSpPr>
          <p:sp>
            <p:nvSpPr>
              <p:cNvPr id="350" name="Oval 2"/>
              <p:cNvSpPr/>
              <p:nvPr/>
            </p:nvSpPr>
            <p:spPr>
              <a:xfrm>
                <a:off x="639036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e22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111"/>
              <p:cNvSpPr/>
              <p:nvPr/>
            </p:nvSpPr>
            <p:spPr>
              <a:xfrm rot="19388400">
                <a:off x="638496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112"/>
              <p:cNvSpPr/>
              <p:nvPr/>
            </p:nvSpPr>
            <p:spPr>
              <a:xfrm>
                <a:off x="6548760" y="2792520"/>
                <a:ext cx="1161720" cy="11664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Box 147"/>
            <p:cNvSpPr/>
            <p:nvPr/>
          </p:nvSpPr>
          <p:spPr>
            <a:xfrm>
              <a:off x="6450480" y="300600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国内茶饮市场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矩形 113"/>
          <p:cNvSpPr/>
          <p:nvPr/>
        </p:nvSpPr>
        <p:spPr>
          <a:xfrm>
            <a:off x="1279440" y="1003320"/>
            <a:ext cx="598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茶饮市场成长阶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1312920" y="5103720"/>
            <a:ext cx="1170000" cy="544680"/>
            <a:chOff x="1312920" y="5103720"/>
            <a:chExt cx="1170000" cy="544680"/>
          </a:xfrm>
        </p:grpSpPr>
        <p:sp>
          <p:nvSpPr>
            <p:cNvPr id="356" name="矩形 8"/>
            <p:cNvSpPr/>
            <p:nvPr/>
          </p:nvSpPr>
          <p:spPr>
            <a:xfrm>
              <a:off x="1378440" y="510372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9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直接连接符 6" descr=""/>
            <p:cNvPicPr/>
            <p:nvPr/>
          </p:nvPicPr>
          <p:blipFill>
            <a:blip r:embed="rId7"/>
            <a:stretch/>
          </p:blipFill>
          <p:spPr>
            <a:xfrm>
              <a:off x="1312920" y="5459400"/>
              <a:ext cx="1170000" cy="18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7"/>
          <p:cNvGrpSpPr/>
          <p:nvPr/>
        </p:nvGrpSpPr>
        <p:grpSpPr>
          <a:xfrm>
            <a:off x="2587680" y="4003560"/>
            <a:ext cx="1170000" cy="534960"/>
            <a:chOff x="2587680" y="4003560"/>
            <a:chExt cx="1170000" cy="534960"/>
          </a:xfrm>
        </p:grpSpPr>
        <p:sp>
          <p:nvSpPr>
            <p:cNvPr id="359" name="矩形 9"/>
            <p:cNvSpPr/>
            <p:nvPr/>
          </p:nvSpPr>
          <p:spPr>
            <a:xfrm>
              <a:off x="2668680" y="400356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99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直接连接符 9" descr=""/>
            <p:cNvPicPr/>
            <p:nvPr/>
          </p:nvPicPr>
          <p:blipFill>
            <a:blip r:embed="rId8"/>
            <a:stretch/>
          </p:blipFill>
          <p:spPr>
            <a:xfrm>
              <a:off x="2587680" y="4349880"/>
              <a:ext cx="1170000" cy="18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10"/>
          <p:cNvGrpSpPr/>
          <p:nvPr/>
        </p:nvGrpSpPr>
        <p:grpSpPr>
          <a:xfrm>
            <a:off x="3824280" y="2889360"/>
            <a:ext cx="1171440" cy="533160"/>
            <a:chOff x="3824280" y="2889360"/>
            <a:chExt cx="1171440" cy="533160"/>
          </a:xfrm>
        </p:grpSpPr>
        <p:sp>
          <p:nvSpPr>
            <p:cNvPr id="362" name="矩形 10"/>
            <p:cNvSpPr/>
            <p:nvPr/>
          </p:nvSpPr>
          <p:spPr>
            <a:xfrm>
              <a:off x="3921480" y="288936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0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直接连接符 12" descr=""/>
            <p:cNvPicPr/>
            <p:nvPr/>
          </p:nvPicPr>
          <p:blipFill>
            <a:blip r:embed="rId9"/>
            <a:stretch/>
          </p:blipFill>
          <p:spPr>
            <a:xfrm>
              <a:off x="3824280" y="3233880"/>
              <a:ext cx="1171440" cy="18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13"/>
          <p:cNvGrpSpPr/>
          <p:nvPr/>
        </p:nvGrpSpPr>
        <p:grpSpPr>
          <a:xfrm>
            <a:off x="5092560" y="1789200"/>
            <a:ext cx="1170000" cy="536400"/>
            <a:chOff x="5092560" y="1789200"/>
            <a:chExt cx="1170000" cy="536400"/>
          </a:xfrm>
        </p:grpSpPr>
        <p:sp>
          <p:nvSpPr>
            <p:cNvPr id="365" name="矩形 11"/>
            <p:cNvSpPr/>
            <p:nvPr/>
          </p:nvSpPr>
          <p:spPr>
            <a:xfrm>
              <a:off x="5205600" y="178920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直接连接符 15" descr=""/>
            <p:cNvPicPr/>
            <p:nvPr/>
          </p:nvPicPr>
          <p:blipFill>
            <a:blip r:embed="rId10"/>
            <a:stretch/>
          </p:blipFill>
          <p:spPr>
            <a:xfrm>
              <a:off x="5092560" y="2136960"/>
              <a:ext cx="1170000" cy="18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Box 2"/>
          <p:cNvSpPr/>
          <p:nvPr/>
        </p:nvSpPr>
        <p:spPr>
          <a:xfrm>
            <a:off x="1298520" y="6211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旭日占据主导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0"/>
          <p:cNvSpPr/>
          <p:nvPr/>
        </p:nvSpPr>
        <p:spPr>
          <a:xfrm>
            <a:off x="3116160" y="510372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康师傅、统一迎头赶上，与旭日升形成三足鼎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71"/>
          <p:cNvSpPr/>
          <p:nvPr/>
        </p:nvSpPr>
        <p:spPr>
          <a:xfrm>
            <a:off x="4359240" y="402588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旭日升品牌老化，市场下落，造成康师傅、统一双雄对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2"/>
          <p:cNvSpPr/>
          <p:nvPr/>
        </p:nvSpPr>
        <p:spPr>
          <a:xfrm>
            <a:off x="5681520" y="28893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康师傅占主导地位，众多品牌进入市场，诸侯纷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17" descr=""/>
          <p:cNvPicPr/>
          <p:nvPr/>
        </p:nvPicPr>
        <p:blipFill>
          <a:blip r:embed="rId11"/>
          <a:stretch/>
        </p:blipFill>
        <p:spPr>
          <a:xfrm>
            <a:off x="509760" y="1728720"/>
            <a:ext cx="8618400" cy="473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3.7037E-007 L 0.24462 -0.28611 E">
                                      <p:cBhvr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6910-53D4-407C-86F4-912DFDD31AD4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376" name="组合 21"/>
          <p:cNvGrpSpPr/>
          <p:nvPr/>
        </p:nvGrpSpPr>
        <p:grpSpPr>
          <a:xfrm>
            <a:off x="204840" y="844560"/>
            <a:ext cx="7224840" cy="676440"/>
            <a:chOff x="204840" y="844560"/>
            <a:chExt cx="7224840" cy="676440"/>
          </a:xfrm>
        </p:grpSpPr>
        <p:grpSp>
          <p:nvGrpSpPr>
            <p:cNvPr id="377" name="组合 5"/>
            <p:cNvGrpSpPr/>
            <p:nvPr/>
          </p:nvGrpSpPr>
          <p:grpSpPr>
            <a:xfrm>
              <a:off x="204840" y="844560"/>
              <a:ext cx="7224840" cy="676440"/>
              <a:chOff x="204840" y="844560"/>
              <a:chExt cx="7224840" cy="676440"/>
            </a:xfrm>
          </p:grpSpPr>
          <p:grpSp>
            <p:nvGrpSpPr>
              <p:cNvPr id="378" name="组合 11"/>
              <p:cNvGrpSpPr/>
              <p:nvPr/>
            </p:nvGrpSpPr>
            <p:grpSpPr>
              <a:xfrm>
                <a:off x="471240" y="844560"/>
                <a:ext cx="6958440" cy="676440"/>
                <a:chOff x="471240" y="844560"/>
                <a:chExt cx="6958440" cy="676440"/>
              </a:xfrm>
            </p:grpSpPr>
            <p:sp>
              <p:nvSpPr>
                <p:cNvPr id="379" name="矩形 10"/>
                <p:cNvSpPr/>
                <p:nvPr/>
              </p:nvSpPr>
              <p:spPr>
                <a:xfrm>
                  <a:off x="471240" y="844560"/>
                  <a:ext cx="6958440" cy="643320"/>
                </a:xfrm>
                <a:prstGeom prst="rect">
                  <a:avLst/>
                </a:prstGeom>
                <a:solidFill>
                  <a:srgbClr val="bfbfbf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直接连接符 11"/>
                <p:cNvSpPr/>
                <p:nvPr/>
              </p:nvSpPr>
              <p:spPr>
                <a:xfrm flipH="1">
                  <a:off x="1642680" y="90792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直接连接符 12"/>
                <p:cNvSpPr/>
                <p:nvPr/>
              </p:nvSpPr>
              <p:spPr>
                <a:xfrm flipH="1">
                  <a:off x="2842920" y="92844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TextBox 7"/>
              <p:cNvSpPr/>
              <p:nvPr/>
            </p:nvSpPr>
            <p:spPr>
              <a:xfrm>
                <a:off x="204840" y="895320"/>
                <a:ext cx="172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已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8"/>
              <p:cNvSpPr/>
              <p:nvPr/>
            </p:nvSpPr>
            <p:spPr>
              <a:xfrm>
                <a:off x="1500120" y="915840"/>
                <a:ext cx="15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对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9"/>
              <p:cNvSpPr/>
              <p:nvPr/>
            </p:nvSpPr>
            <p:spPr>
              <a:xfrm>
                <a:off x="4566240" y="942840"/>
                <a:ext cx="280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TextBox 19"/>
            <p:cNvSpPr/>
            <p:nvPr/>
          </p:nvSpPr>
          <p:spPr>
            <a:xfrm>
              <a:off x="2676960" y="929160"/>
              <a:ext cx="20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3"/>
          <p:cNvSpPr/>
          <p:nvPr/>
        </p:nvSpPr>
        <p:spPr>
          <a:xfrm>
            <a:off x="500040" y="857160"/>
            <a:ext cx="234468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4"/>
          <p:cNvGrpSpPr/>
          <p:nvPr/>
        </p:nvGrpSpPr>
        <p:grpSpPr>
          <a:xfrm>
            <a:off x="7348680" y="214200"/>
            <a:ext cx="1892160" cy="647640"/>
            <a:chOff x="7348680" y="214200"/>
            <a:chExt cx="1892160" cy="647640"/>
          </a:xfrm>
        </p:grpSpPr>
        <p:sp>
          <p:nvSpPr>
            <p:cNvPr id="390" name="矩形 15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6"/>
            <p:cNvSpPr/>
            <p:nvPr/>
          </p:nvSpPr>
          <p:spPr>
            <a:xfrm>
              <a:off x="7348680" y="28620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接连接符 18"/>
          <p:cNvSpPr/>
          <p:nvPr/>
        </p:nvSpPr>
        <p:spPr>
          <a:xfrm flipH="1">
            <a:off x="4572000" y="893880"/>
            <a:ext cx="1440" cy="592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2"/>
          <p:cNvSpPr/>
          <p:nvPr/>
        </p:nvSpPr>
        <p:spPr>
          <a:xfrm>
            <a:off x="4572000" y="857160"/>
            <a:ext cx="2879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灯片编号占位符 5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552-31FD-49CB-B940-347339605989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上箭头 20"/>
          <p:cNvSpPr/>
          <p:nvPr/>
        </p:nvSpPr>
        <p:spPr>
          <a:xfrm>
            <a:off x="914400" y="3235320"/>
            <a:ext cx="198108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上箭头 23"/>
          <p:cNvSpPr/>
          <p:nvPr/>
        </p:nvSpPr>
        <p:spPr>
          <a:xfrm>
            <a:off x="3525840" y="323532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上箭头 24"/>
          <p:cNvSpPr/>
          <p:nvPr/>
        </p:nvSpPr>
        <p:spPr>
          <a:xfrm>
            <a:off x="6137280" y="323532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新月形 25"/>
          <p:cNvSpPr/>
          <p:nvPr/>
        </p:nvSpPr>
        <p:spPr>
          <a:xfrm rot="16200000">
            <a:off x="4390200" y="3931200"/>
            <a:ext cx="250920" cy="61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新月形 26"/>
          <p:cNvSpPr/>
          <p:nvPr/>
        </p:nvSpPr>
        <p:spPr>
          <a:xfrm rot="16200000">
            <a:off x="4407480" y="4199400"/>
            <a:ext cx="21600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新月形 27"/>
          <p:cNvSpPr/>
          <p:nvPr/>
        </p:nvSpPr>
        <p:spPr>
          <a:xfrm rot="16200000">
            <a:off x="7000560" y="3930120"/>
            <a:ext cx="2509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新月形 28"/>
          <p:cNvSpPr/>
          <p:nvPr/>
        </p:nvSpPr>
        <p:spPr>
          <a:xfrm rot="16200000">
            <a:off x="7018200" y="4200480"/>
            <a:ext cx="21600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新月形 29"/>
          <p:cNvSpPr/>
          <p:nvPr/>
        </p:nvSpPr>
        <p:spPr>
          <a:xfrm rot="16200000">
            <a:off x="1779480" y="3930120"/>
            <a:ext cx="2509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新月形 30"/>
          <p:cNvSpPr/>
          <p:nvPr/>
        </p:nvSpPr>
        <p:spPr>
          <a:xfrm rot="16200000">
            <a:off x="1796760" y="4200120"/>
            <a:ext cx="21600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新月形 31"/>
          <p:cNvSpPr/>
          <p:nvPr/>
        </p:nvSpPr>
        <p:spPr>
          <a:xfrm rot="16200000">
            <a:off x="4443480" y="444312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新月形 32"/>
          <p:cNvSpPr/>
          <p:nvPr/>
        </p:nvSpPr>
        <p:spPr>
          <a:xfrm rot="16200000">
            <a:off x="7054200" y="4443840"/>
            <a:ext cx="1443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新月形 33"/>
          <p:cNvSpPr/>
          <p:nvPr/>
        </p:nvSpPr>
        <p:spPr>
          <a:xfrm rot="16200000">
            <a:off x="1831320" y="4443840"/>
            <a:ext cx="1443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1056240" y="2486520"/>
            <a:ext cx="1590120" cy="1629720"/>
            <a:chOff x="1056240" y="2486520"/>
            <a:chExt cx="1590120" cy="1629720"/>
          </a:xfrm>
        </p:grpSpPr>
        <p:grpSp>
          <p:nvGrpSpPr>
            <p:cNvPr id="408" name="组合 34"/>
            <p:cNvGrpSpPr/>
            <p:nvPr/>
          </p:nvGrpSpPr>
          <p:grpSpPr>
            <a:xfrm>
              <a:off x="1056240" y="2486520"/>
              <a:ext cx="1590120" cy="1629720"/>
              <a:chOff x="1056240" y="2486520"/>
              <a:chExt cx="1590120" cy="1629720"/>
            </a:xfrm>
          </p:grpSpPr>
          <p:sp>
            <p:nvSpPr>
              <p:cNvPr id="409" name="Oval 2"/>
              <p:cNvSpPr/>
              <p:nvPr/>
            </p:nvSpPr>
            <p:spPr>
              <a:xfrm>
                <a:off x="1167480" y="26319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6eff01"/>
                  </a:gs>
                  <a:gs pos="100000">
                    <a:srgbClr val="0f5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椭圆 38"/>
              <p:cNvSpPr/>
              <p:nvPr/>
            </p:nvSpPr>
            <p:spPr>
              <a:xfrm rot="19388400">
                <a:off x="1162080" y="27187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39"/>
              <p:cNvSpPr/>
              <p:nvPr/>
            </p:nvSpPr>
            <p:spPr>
              <a:xfrm>
                <a:off x="1325880" y="2790720"/>
                <a:ext cx="1161720" cy="11664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TextBox 147"/>
            <p:cNvSpPr/>
            <p:nvPr/>
          </p:nvSpPr>
          <p:spPr>
            <a:xfrm>
              <a:off x="1191240" y="300744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茶饮市场成长阶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31"/>
          <p:cNvGrpSpPr/>
          <p:nvPr/>
        </p:nvGrpSpPr>
        <p:grpSpPr>
          <a:xfrm>
            <a:off x="3667680" y="2486520"/>
            <a:ext cx="1590120" cy="1629720"/>
            <a:chOff x="3667680" y="2486520"/>
            <a:chExt cx="1590120" cy="1629720"/>
          </a:xfrm>
        </p:grpSpPr>
        <p:grpSp>
          <p:nvGrpSpPr>
            <p:cNvPr id="414" name="组合 34"/>
            <p:cNvGrpSpPr/>
            <p:nvPr/>
          </p:nvGrpSpPr>
          <p:grpSpPr>
            <a:xfrm>
              <a:off x="3667680" y="2486520"/>
              <a:ext cx="1590120" cy="1629720"/>
              <a:chOff x="3667680" y="2486520"/>
              <a:chExt cx="1590120" cy="1629720"/>
            </a:xfrm>
          </p:grpSpPr>
          <p:sp>
            <p:nvSpPr>
              <p:cNvPr id="415" name="Oval 2"/>
              <p:cNvSpPr/>
              <p:nvPr/>
            </p:nvSpPr>
            <p:spPr>
              <a:xfrm>
                <a:off x="3778920" y="26319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00dff6"/>
                  </a:gs>
                  <a:gs pos="100000">
                    <a:srgbClr val="00277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椭圆 44"/>
              <p:cNvSpPr/>
              <p:nvPr/>
            </p:nvSpPr>
            <p:spPr>
              <a:xfrm rot="19388400">
                <a:off x="3773520" y="27187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45"/>
              <p:cNvSpPr/>
              <p:nvPr/>
            </p:nvSpPr>
            <p:spPr>
              <a:xfrm>
                <a:off x="3937320" y="2790720"/>
                <a:ext cx="1161720" cy="1166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Box 147"/>
            <p:cNvSpPr/>
            <p:nvPr/>
          </p:nvSpPr>
          <p:spPr>
            <a:xfrm>
              <a:off x="3795480" y="300744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核心需求购买因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32"/>
          <p:cNvGrpSpPr/>
          <p:nvPr/>
        </p:nvGrpSpPr>
        <p:grpSpPr>
          <a:xfrm>
            <a:off x="6279120" y="2486520"/>
            <a:ext cx="1590120" cy="1629720"/>
            <a:chOff x="6279120" y="2486520"/>
            <a:chExt cx="1590120" cy="1629720"/>
          </a:xfrm>
        </p:grpSpPr>
        <p:grpSp>
          <p:nvGrpSpPr>
            <p:cNvPr id="420" name="组合 47"/>
            <p:cNvGrpSpPr/>
            <p:nvPr/>
          </p:nvGrpSpPr>
          <p:grpSpPr>
            <a:xfrm>
              <a:off x="6279120" y="2486520"/>
              <a:ext cx="1590120" cy="1629720"/>
              <a:chOff x="6279120" y="2486520"/>
              <a:chExt cx="1590120" cy="1629720"/>
            </a:xfrm>
          </p:grpSpPr>
          <p:sp>
            <p:nvSpPr>
              <p:cNvPr id="421" name="Oval 2"/>
              <p:cNvSpPr/>
              <p:nvPr/>
            </p:nvSpPr>
            <p:spPr>
              <a:xfrm>
                <a:off x="6390360" y="26319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e22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椭圆 51"/>
              <p:cNvSpPr/>
              <p:nvPr/>
            </p:nvSpPr>
            <p:spPr>
              <a:xfrm rot="19388400">
                <a:off x="6384960" y="27187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椭圆 52"/>
              <p:cNvSpPr/>
              <p:nvPr/>
            </p:nvSpPr>
            <p:spPr>
              <a:xfrm>
                <a:off x="6548760" y="2790720"/>
                <a:ext cx="1161720" cy="11664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TextBox 147"/>
            <p:cNvSpPr/>
            <p:nvPr/>
          </p:nvSpPr>
          <p:spPr>
            <a:xfrm>
              <a:off x="6450480" y="300672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国内茶饮市场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53"/>
          <p:cNvSpPr/>
          <p:nvPr/>
        </p:nvSpPr>
        <p:spPr>
          <a:xfrm>
            <a:off x="1576440" y="1139760"/>
            <a:ext cx="598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心需求购买因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"/>
          <p:cNvSpPr/>
          <p:nvPr/>
        </p:nvSpPr>
        <p:spPr>
          <a:xfrm>
            <a:off x="900000" y="2048040"/>
            <a:ext cx="580248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“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好喝、解渴</a:t>
            </a: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”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为茶饮料的基本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“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健康</a:t>
            </a: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时尚</a:t>
            </a: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逐渐成为 消费者的核心需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042920" y="4508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广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试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经在消费者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购买因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面占了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绝大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93064E-006 L 0 -0.27422 E">
                                      <p:cBhvr>
                                        <p:cTn id="714" dur="5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8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0FFA-5429-455A-9F32-150EA820F7CC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432" name="组合 21"/>
          <p:cNvGrpSpPr/>
          <p:nvPr/>
        </p:nvGrpSpPr>
        <p:grpSpPr>
          <a:xfrm>
            <a:off x="204840" y="844560"/>
            <a:ext cx="7224840" cy="676440"/>
            <a:chOff x="204840" y="844560"/>
            <a:chExt cx="7224840" cy="676440"/>
          </a:xfrm>
        </p:grpSpPr>
        <p:grpSp>
          <p:nvGrpSpPr>
            <p:cNvPr id="433" name="组合 5"/>
            <p:cNvGrpSpPr/>
            <p:nvPr/>
          </p:nvGrpSpPr>
          <p:grpSpPr>
            <a:xfrm>
              <a:off x="204840" y="844560"/>
              <a:ext cx="7224840" cy="676440"/>
              <a:chOff x="204840" y="844560"/>
              <a:chExt cx="7224840" cy="676440"/>
            </a:xfrm>
          </p:grpSpPr>
          <p:grpSp>
            <p:nvGrpSpPr>
              <p:cNvPr id="434" name="组合 11"/>
              <p:cNvGrpSpPr/>
              <p:nvPr/>
            </p:nvGrpSpPr>
            <p:grpSpPr>
              <a:xfrm>
                <a:off x="471240" y="844560"/>
                <a:ext cx="6958440" cy="676440"/>
                <a:chOff x="471240" y="844560"/>
                <a:chExt cx="6958440" cy="676440"/>
              </a:xfrm>
            </p:grpSpPr>
            <p:sp>
              <p:nvSpPr>
                <p:cNvPr id="435" name="矩形 10"/>
                <p:cNvSpPr/>
                <p:nvPr/>
              </p:nvSpPr>
              <p:spPr>
                <a:xfrm>
                  <a:off x="471240" y="844560"/>
                  <a:ext cx="6958440" cy="643320"/>
                </a:xfrm>
                <a:prstGeom prst="rect">
                  <a:avLst/>
                </a:prstGeom>
                <a:solidFill>
                  <a:srgbClr val="bfbfbf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直接连接符 11"/>
                <p:cNvSpPr/>
                <p:nvPr/>
              </p:nvSpPr>
              <p:spPr>
                <a:xfrm flipH="1">
                  <a:off x="1642680" y="90792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直接连接符 12"/>
                <p:cNvSpPr/>
                <p:nvPr/>
              </p:nvSpPr>
              <p:spPr>
                <a:xfrm flipH="1">
                  <a:off x="2842920" y="92844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TextBox 7"/>
              <p:cNvSpPr/>
              <p:nvPr/>
            </p:nvSpPr>
            <p:spPr>
              <a:xfrm>
                <a:off x="204840" y="895320"/>
                <a:ext cx="172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已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8"/>
              <p:cNvSpPr/>
              <p:nvPr/>
            </p:nvSpPr>
            <p:spPr>
              <a:xfrm>
                <a:off x="1500120" y="915840"/>
                <a:ext cx="15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对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Box 9"/>
              <p:cNvSpPr/>
              <p:nvPr/>
            </p:nvSpPr>
            <p:spPr>
              <a:xfrm>
                <a:off x="4566240" y="942840"/>
                <a:ext cx="280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Box 19"/>
            <p:cNvSpPr/>
            <p:nvPr/>
          </p:nvSpPr>
          <p:spPr>
            <a:xfrm>
              <a:off x="2676960" y="929160"/>
              <a:ext cx="20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3"/>
          <p:cNvSpPr/>
          <p:nvPr/>
        </p:nvSpPr>
        <p:spPr>
          <a:xfrm>
            <a:off x="500040" y="857160"/>
            <a:ext cx="234468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14"/>
          <p:cNvGrpSpPr/>
          <p:nvPr/>
        </p:nvGrpSpPr>
        <p:grpSpPr>
          <a:xfrm>
            <a:off x="7348680" y="214200"/>
            <a:ext cx="1892160" cy="647640"/>
            <a:chOff x="7348680" y="214200"/>
            <a:chExt cx="1892160" cy="647640"/>
          </a:xfrm>
        </p:grpSpPr>
        <p:sp>
          <p:nvSpPr>
            <p:cNvPr id="446" name="矩形 15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16"/>
            <p:cNvSpPr/>
            <p:nvPr/>
          </p:nvSpPr>
          <p:spPr>
            <a:xfrm>
              <a:off x="7348680" y="28620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直接连接符 18"/>
          <p:cNvSpPr/>
          <p:nvPr/>
        </p:nvSpPr>
        <p:spPr>
          <a:xfrm flipH="1">
            <a:off x="4572000" y="893880"/>
            <a:ext cx="1440" cy="592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2"/>
          <p:cNvSpPr/>
          <p:nvPr/>
        </p:nvSpPr>
        <p:spPr>
          <a:xfrm>
            <a:off x="4572000" y="857160"/>
            <a:ext cx="2879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灯片编号占位符 5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6B47-7176-4DE4-BDB3-F1ACADE848E1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上箭头 20"/>
          <p:cNvSpPr/>
          <p:nvPr/>
        </p:nvSpPr>
        <p:spPr>
          <a:xfrm>
            <a:off x="914400" y="3236760"/>
            <a:ext cx="198108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上箭头 23"/>
          <p:cNvSpPr/>
          <p:nvPr/>
        </p:nvSpPr>
        <p:spPr>
          <a:xfrm>
            <a:off x="3525840" y="323676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上箭头 24"/>
          <p:cNvSpPr/>
          <p:nvPr/>
        </p:nvSpPr>
        <p:spPr>
          <a:xfrm>
            <a:off x="6137280" y="323676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新月形 25"/>
          <p:cNvSpPr/>
          <p:nvPr/>
        </p:nvSpPr>
        <p:spPr>
          <a:xfrm rot="16200000">
            <a:off x="4389480" y="3933720"/>
            <a:ext cx="252360" cy="61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新月形 26"/>
          <p:cNvSpPr/>
          <p:nvPr/>
        </p:nvSpPr>
        <p:spPr>
          <a:xfrm rot="16200000">
            <a:off x="4407480" y="4201200"/>
            <a:ext cx="21600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新月形 27"/>
          <p:cNvSpPr/>
          <p:nvPr/>
        </p:nvSpPr>
        <p:spPr>
          <a:xfrm rot="16200000">
            <a:off x="6999840" y="3932640"/>
            <a:ext cx="252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新月形 28"/>
          <p:cNvSpPr/>
          <p:nvPr/>
        </p:nvSpPr>
        <p:spPr>
          <a:xfrm rot="16200000">
            <a:off x="7018200" y="4202280"/>
            <a:ext cx="21600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新月形 29"/>
          <p:cNvSpPr/>
          <p:nvPr/>
        </p:nvSpPr>
        <p:spPr>
          <a:xfrm rot="16200000">
            <a:off x="1776960" y="3932640"/>
            <a:ext cx="252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新月形 30"/>
          <p:cNvSpPr/>
          <p:nvPr/>
        </p:nvSpPr>
        <p:spPr>
          <a:xfrm rot="16200000">
            <a:off x="1796760" y="4201920"/>
            <a:ext cx="21600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新月形 31"/>
          <p:cNvSpPr/>
          <p:nvPr/>
        </p:nvSpPr>
        <p:spPr>
          <a:xfrm rot="16200000">
            <a:off x="4444200" y="4443840"/>
            <a:ext cx="1429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新月形 32"/>
          <p:cNvSpPr/>
          <p:nvPr/>
        </p:nvSpPr>
        <p:spPr>
          <a:xfrm rot="16200000">
            <a:off x="7054920" y="4446000"/>
            <a:ext cx="14292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新月形 33"/>
          <p:cNvSpPr/>
          <p:nvPr/>
        </p:nvSpPr>
        <p:spPr>
          <a:xfrm rot="16200000">
            <a:off x="1833480" y="4446000"/>
            <a:ext cx="14292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30"/>
          <p:cNvGrpSpPr/>
          <p:nvPr/>
        </p:nvGrpSpPr>
        <p:grpSpPr>
          <a:xfrm>
            <a:off x="1056240" y="2488320"/>
            <a:ext cx="1590120" cy="1629720"/>
            <a:chOff x="1056240" y="2488320"/>
            <a:chExt cx="1590120" cy="1629720"/>
          </a:xfrm>
        </p:grpSpPr>
        <p:grpSp>
          <p:nvGrpSpPr>
            <p:cNvPr id="464" name="组合 34"/>
            <p:cNvGrpSpPr/>
            <p:nvPr/>
          </p:nvGrpSpPr>
          <p:grpSpPr>
            <a:xfrm>
              <a:off x="1056240" y="2488320"/>
              <a:ext cx="1590120" cy="1629720"/>
              <a:chOff x="1056240" y="2488320"/>
              <a:chExt cx="1590120" cy="1629720"/>
            </a:xfrm>
          </p:grpSpPr>
          <p:sp>
            <p:nvSpPr>
              <p:cNvPr id="465" name="Oval 2"/>
              <p:cNvSpPr/>
              <p:nvPr/>
            </p:nvSpPr>
            <p:spPr>
              <a:xfrm>
                <a:off x="116748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6eff01"/>
                  </a:gs>
                  <a:gs pos="100000">
                    <a:srgbClr val="0f5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椭圆 38"/>
              <p:cNvSpPr/>
              <p:nvPr/>
            </p:nvSpPr>
            <p:spPr>
              <a:xfrm rot="19388400">
                <a:off x="116208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椭圆 39"/>
              <p:cNvSpPr/>
              <p:nvPr/>
            </p:nvSpPr>
            <p:spPr>
              <a:xfrm>
                <a:off x="1325880" y="2792520"/>
                <a:ext cx="1161720" cy="11664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TextBox 147"/>
            <p:cNvSpPr/>
            <p:nvPr/>
          </p:nvSpPr>
          <p:spPr>
            <a:xfrm>
              <a:off x="1191240" y="300924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茶饮市场成长阶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31"/>
          <p:cNvGrpSpPr/>
          <p:nvPr/>
        </p:nvGrpSpPr>
        <p:grpSpPr>
          <a:xfrm>
            <a:off x="3667680" y="2488320"/>
            <a:ext cx="1590120" cy="1629720"/>
            <a:chOff x="3667680" y="2488320"/>
            <a:chExt cx="1590120" cy="1629720"/>
          </a:xfrm>
        </p:grpSpPr>
        <p:grpSp>
          <p:nvGrpSpPr>
            <p:cNvPr id="470" name="组合 34"/>
            <p:cNvGrpSpPr/>
            <p:nvPr/>
          </p:nvGrpSpPr>
          <p:grpSpPr>
            <a:xfrm>
              <a:off x="3667680" y="2488320"/>
              <a:ext cx="1590120" cy="1629720"/>
              <a:chOff x="3667680" y="2488320"/>
              <a:chExt cx="1590120" cy="1629720"/>
            </a:xfrm>
          </p:grpSpPr>
          <p:sp>
            <p:nvSpPr>
              <p:cNvPr id="471" name="Oval 2"/>
              <p:cNvSpPr/>
              <p:nvPr/>
            </p:nvSpPr>
            <p:spPr>
              <a:xfrm>
                <a:off x="377892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00dff6"/>
                  </a:gs>
                  <a:gs pos="100000">
                    <a:srgbClr val="00277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44"/>
              <p:cNvSpPr/>
              <p:nvPr/>
            </p:nvSpPr>
            <p:spPr>
              <a:xfrm rot="19388400">
                <a:off x="377352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45"/>
              <p:cNvSpPr/>
              <p:nvPr/>
            </p:nvSpPr>
            <p:spPr>
              <a:xfrm>
                <a:off x="3937320" y="2792520"/>
                <a:ext cx="1161720" cy="1166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TextBox 147"/>
            <p:cNvSpPr/>
            <p:nvPr/>
          </p:nvSpPr>
          <p:spPr>
            <a:xfrm>
              <a:off x="3795480" y="300924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核心需求购买因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46"/>
          <p:cNvGrpSpPr/>
          <p:nvPr/>
        </p:nvGrpSpPr>
        <p:grpSpPr>
          <a:xfrm>
            <a:off x="6279120" y="2488320"/>
            <a:ext cx="1590120" cy="1629720"/>
            <a:chOff x="6279120" y="2488320"/>
            <a:chExt cx="1590120" cy="1629720"/>
          </a:xfrm>
        </p:grpSpPr>
        <p:grpSp>
          <p:nvGrpSpPr>
            <p:cNvPr id="476" name="组合 34"/>
            <p:cNvGrpSpPr/>
            <p:nvPr/>
          </p:nvGrpSpPr>
          <p:grpSpPr>
            <a:xfrm>
              <a:off x="6279120" y="2488320"/>
              <a:ext cx="1590120" cy="1629720"/>
              <a:chOff x="6279120" y="2488320"/>
              <a:chExt cx="1590120" cy="1629720"/>
            </a:xfrm>
          </p:grpSpPr>
          <p:sp>
            <p:nvSpPr>
              <p:cNvPr id="477" name="Oval 2"/>
              <p:cNvSpPr/>
              <p:nvPr/>
            </p:nvSpPr>
            <p:spPr>
              <a:xfrm>
                <a:off x="639036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e22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椭圆 51"/>
              <p:cNvSpPr/>
              <p:nvPr/>
            </p:nvSpPr>
            <p:spPr>
              <a:xfrm rot="19388400">
                <a:off x="638496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椭圆 52"/>
              <p:cNvSpPr/>
              <p:nvPr/>
            </p:nvSpPr>
            <p:spPr>
              <a:xfrm>
                <a:off x="6548760" y="2792520"/>
                <a:ext cx="1161720" cy="11664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TextBox 147"/>
            <p:cNvSpPr/>
            <p:nvPr/>
          </p:nvSpPr>
          <p:spPr>
            <a:xfrm>
              <a:off x="6450480" y="300600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国内茶饮市场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矩形 53"/>
          <p:cNvSpPr/>
          <p:nvPr/>
        </p:nvSpPr>
        <p:spPr>
          <a:xfrm>
            <a:off x="1292400" y="1143000"/>
            <a:ext cx="65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茶饮市场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​​ 4"/>
          <p:cNvSpPr/>
          <p:nvPr/>
        </p:nvSpPr>
        <p:spPr>
          <a:xfrm>
            <a:off x="2411280" y="2219400"/>
            <a:ext cx="396900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​​ 5"/>
          <p:cNvSpPr/>
          <p:nvPr/>
        </p:nvSpPr>
        <p:spPr>
          <a:xfrm>
            <a:off x="2411280" y="3352680"/>
            <a:ext cx="39690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​​ 6"/>
          <p:cNvSpPr/>
          <p:nvPr/>
        </p:nvSpPr>
        <p:spPr>
          <a:xfrm>
            <a:off x="2411280" y="4487760"/>
            <a:ext cx="396900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​​ 7"/>
          <p:cNvSpPr/>
          <p:nvPr/>
        </p:nvSpPr>
        <p:spPr>
          <a:xfrm>
            <a:off x="2411280" y="5621400"/>
            <a:ext cx="39690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​​ 20"/>
          <p:cNvSpPr/>
          <p:nvPr/>
        </p:nvSpPr>
        <p:spPr>
          <a:xfrm>
            <a:off x="3368880" y="240192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整体需求  趋于饱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​​ 21"/>
          <p:cNvSpPr/>
          <p:nvPr/>
        </p:nvSpPr>
        <p:spPr>
          <a:xfrm>
            <a:off x="3364920" y="35290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费供大于 求的买方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​​ 23"/>
          <p:cNvSpPr/>
          <p:nvPr/>
        </p:nvSpPr>
        <p:spPr>
          <a:xfrm>
            <a:off x="3360600" y="4622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茶饮种类多，行业企业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​​ 24"/>
          <p:cNvSpPr/>
          <p:nvPr/>
        </p:nvSpPr>
        <p:spPr>
          <a:xfrm>
            <a:off x="3360600" y="57974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实力弱，品牌意识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3064E-006 L -0.29323 -0.26081 E">
                                      <p:cBhvr>
                                        <p:cTn id="781" dur="5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3931-4BA4-40DE-85FC-C2CF5B978CE8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492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494" name="组合 12"/>
          <p:cNvGrpSpPr/>
          <p:nvPr/>
        </p:nvGrpSpPr>
        <p:grpSpPr>
          <a:xfrm>
            <a:off x="509760" y="1959120"/>
            <a:ext cx="8424720" cy="4432320"/>
            <a:chOff x="509760" y="1959120"/>
            <a:chExt cx="8424720" cy="4432320"/>
          </a:xfrm>
        </p:grpSpPr>
        <p:sp>
          <p:nvSpPr>
            <p:cNvPr id="495" name="圆角矩形 14"/>
            <p:cNvSpPr/>
            <p:nvPr/>
          </p:nvSpPr>
          <p:spPr>
            <a:xfrm>
              <a:off x="509760" y="2070000"/>
              <a:ext cx="8239320" cy="4321440"/>
            </a:xfrm>
            <a:prstGeom prst="roundRect">
              <a:avLst>
                <a:gd name="adj" fmla="val 3278"/>
              </a:avLst>
            </a:prstGeom>
            <a:solidFill>
              <a:srgbClr val="ffffff">
                <a:alpha val="94000"/>
              </a:srgbClr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8"/>
            <p:cNvSpPr/>
            <p:nvPr/>
          </p:nvSpPr>
          <p:spPr>
            <a:xfrm>
              <a:off x="682920" y="2730600"/>
              <a:ext cx="381708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.</a:t>
              </a: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产品效用突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.</a:t>
              </a: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具有独立品牌价值，且前景广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3.</a:t>
              </a: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渠道完善、战略完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8"/>
            <p:cNvSpPr/>
            <p:nvPr/>
          </p:nvSpPr>
          <p:spPr>
            <a:xfrm>
              <a:off x="4674960" y="2730600"/>
              <a:ext cx="392940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品牌的知名度还不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资金不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3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宣传力度 生产规模较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8"/>
            <p:cNvSpPr/>
            <p:nvPr/>
          </p:nvSpPr>
          <p:spPr>
            <a:xfrm>
              <a:off x="902520" y="4610160"/>
              <a:ext cx="32806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资金充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了解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A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公司的基本情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8"/>
            <p:cNvSpPr/>
            <p:nvPr/>
          </p:nvSpPr>
          <p:spPr>
            <a:xfrm>
              <a:off x="5293080" y="4664520"/>
              <a:ext cx="26924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急于得到回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对保健品市场不了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组合 5"/>
            <p:cNvGrpSpPr/>
            <p:nvPr/>
          </p:nvGrpSpPr>
          <p:grpSpPr>
            <a:xfrm>
              <a:off x="2575080" y="1959120"/>
              <a:ext cx="4064400" cy="749160"/>
              <a:chOff x="2575080" y="1959120"/>
              <a:chExt cx="4064400" cy="749160"/>
            </a:xfrm>
          </p:grpSpPr>
          <p:sp>
            <p:nvSpPr>
              <p:cNvPr id="501" name="AutoShape 3"/>
              <p:cNvSpPr/>
              <p:nvPr/>
            </p:nvSpPr>
            <p:spPr>
              <a:xfrm>
                <a:off x="2575080" y="1959120"/>
                <a:ext cx="4064400" cy="74916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9360">
                <a:solidFill>
                  <a:srgbClr val="9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3"/>
              <p:cNvSpPr/>
              <p:nvPr/>
            </p:nvSpPr>
            <p:spPr>
              <a:xfrm>
                <a:off x="2575080" y="2070720"/>
                <a:ext cx="4064400" cy="525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9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SWOT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TextBox 8"/>
            <p:cNvSpPr/>
            <p:nvPr/>
          </p:nvSpPr>
          <p:spPr>
            <a:xfrm>
              <a:off x="511560" y="2246760"/>
              <a:ext cx="16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方优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9"/>
            <p:cNvSpPr/>
            <p:nvPr/>
          </p:nvSpPr>
          <p:spPr>
            <a:xfrm>
              <a:off x="7220160" y="2163240"/>
              <a:ext cx="171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方劣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10"/>
            <p:cNvSpPr/>
            <p:nvPr/>
          </p:nvSpPr>
          <p:spPr>
            <a:xfrm>
              <a:off x="545400" y="5929920"/>
              <a:ext cx="181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方优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11"/>
            <p:cNvSpPr/>
            <p:nvPr/>
          </p:nvSpPr>
          <p:spPr>
            <a:xfrm>
              <a:off x="7370280" y="5913360"/>
              <a:ext cx="141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方劣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33"/>
          <p:cNvGrpSpPr/>
          <p:nvPr/>
        </p:nvGrpSpPr>
        <p:grpSpPr>
          <a:xfrm>
            <a:off x="204840" y="844560"/>
            <a:ext cx="7224840" cy="684360"/>
            <a:chOff x="204840" y="844560"/>
            <a:chExt cx="7224840" cy="684360"/>
          </a:xfrm>
        </p:grpSpPr>
        <p:grpSp>
          <p:nvGrpSpPr>
            <p:cNvPr id="508" name="组合 29"/>
            <p:cNvGrpSpPr/>
            <p:nvPr/>
          </p:nvGrpSpPr>
          <p:grpSpPr>
            <a:xfrm>
              <a:off x="204840" y="844560"/>
              <a:ext cx="7224840" cy="684360"/>
              <a:chOff x="204840" y="844560"/>
              <a:chExt cx="7224840" cy="684360"/>
            </a:xfrm>
          </p:grpSpPr>
          <p:grpSp>
            <p:nvGrpSpPr>
              <p:cNvPr id="509" name="组合 13"/>
              <p:cNvGrpSpPr/>
              <p:nvPr/>
            </p:nvGrpSpPr>
            <p:grpSpPr>
              <a:xfrm>
                <a:off x="204840" y="844560"/>
                <a:ext cx="7224840" cy="684360"/>
                <a:chOff x="204840" y="844560"/>
                <a:chExt cx="7224840" cy="684360"/>
              </a:xfrm>
            </p:grpSpPr>
            <p:grpSp>
              <p:nvGrpSpPr>
                <p:cNvPr id="510" name="组合 11"/>
                <p:cNvGrpSpPr/>
                <p:nvPr/>
              </p:nvGrpSpPr>
              <p:grpSpPr>
                <a:xfrm>
                  <a:off x="471240" y="844560"/>
                  <a:ext cx="6958440" cy="684360"/>
                  <a:chOff x="471240" y="844560"/>
                  <a:chExt cx="6958440" cy="684360"/>
                </a:xfrm>
              </p:grpSpPr>
              <p:sp>
                <p:nvSpPr>
                  <p:cNvPr id="511" name="矩形 18"/>
                  <p:cNvSpPr/>
                  <p:nvPr/>
                </p:nvSpPr>
                <p:spPr>
                  <a:xfrm>
                    <a:off x="471240" y="844560"/>
                    <a:ext cx="6958440" cy="643320"/>
                  </a:xfrm>
                  <a:prstGeom prst="rect">
                    <a:avLst/>
                  </a:prstGeom>
                  <a:solidFill>
                    <a:srgbClr val="bfbfbf">
                      <a:alpha val="8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直接连接符 19"/>
                  <p:cNvSpPr/>
                  <p:nvPr/>
                </p:nvSpPr>
                <p:spPr>
                  <a:xfrm flipH="1">
                    <a:off x="1642680" y="907920"/>
                    <a:ext cx="1440" cy="5925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直接连接符 20"/>
                  <p:cNvSpPr/>
                  <p:nvPr/>
                </p:nvSpPr>
                <p:spPr>
                  <a:xfrm flipH="1">
                    <a:off x="2765160" y="936360"/>
                    <a:ext cx="1440" cy="5925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TextBox 15"/>
                <p:cNvSpPr/>
                <p:nvPr/>
              </p:nvSpPr>
              <p:spPr>
                <a:xfrm>
                  <a:off x="204840" y="895320"/>
                  <a:ext cx="172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己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TextBox 16"/>
                <p:cNvSpPr/>
                <p:nvPr/>
              </p:nvSpPr>
              <p:spPr>
                <a:xfrm>
                  <a:off x="1500120" y="915840"/>
                  <a:ext cx="15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对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TextBox 27"/>
              <p:cNvSpPr/>
              <p:nvPr/>
            </p:nvSpPr>
            <p:spPr>
              <a:xfrm>
                <a:off x="2750400" y="936720"/>
                <a:ext cx="167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行业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Box 28"/>
              <p:cNvSpPr/>
              <p:nvPr/>
            </p:nvSpPr>
            <p:spPr>
              <a:xfrm>
                <a:off x="4500720" y="929160"/>
                <a:ext cx="292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直接连接符 30"/>
            <p:cNvSpPr/>
            <p:nvPr/>
          </p:nvSpPr>
          <p:spPr>
            <a:xfrm flipH="1">
              <a:off x="4399200" y="907920"/>
              <a:ext cx="1440" cy="5925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1"/>
          <p:cNvSpPr/>
          <p:nvPr/>
        </p:nvSpPr>
        <p:spPr>
          <a:xfrm>
            <a:off x="450720" y="857160"/>
            <a:ext cx="394812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22"/>
          <p:cNvGrpSpPr/>
          <p:nvPr/>
        </p:nvGrpSpPr>
        <p:grpSpPr>
          <a:xfrm>
            <a:off x="7429680" y="214200"/>
            <a:ext cx="1865160" cy="647640"/>
            <a:chOff x="7429680" y="214200"/>
            <a:chExt cx="1865160" cy="647640"/>
          </a:xfrm>
        </p:grpSpPr>
        <p:sp>
          <p:nvSpPr>
            <p:cNvPr id="523" name="矩形 23"/>
            <p:cNvSpPr/>
            <p:nvPr/>
          </p:nvSpPr>
          <p:spPr>
            <a:xfrm>
              <a:off x="742968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4"/>
            <p:cNvSpPr/>
            <p:nvPr/>
          </p:nvSpPr>
          <p:spPr>
            <a:xfrm>
              <a:off x="7474680" y="313200"/>
              <a:ext cx="18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SWOT</a:t>
              </a:r>
              <a:r>
                <a:rPr b="0" lang="zh-CN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直接连接符 39"/>
          <p:cNvSpPr/>
          <p:nvPr/>
        </p:nvSpPr>
        <p:spPr>
          <a:xfrm>
            <a:off x="509760" y="4230720"/>
            <a:ext cx="8238960" cy="1440"/>
          </a:xfrm>
          <a:prstGeom prst="line">
            <a:avLst/>
          </a:prstGeom>
          <a:ln w="25560">
            <a:solidFill>
              <a:srgbClr val="7f7f7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灯片编号占位符 46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5F0C-2C7B-44C1-9B82-CFABF5EE4C43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40"/>
          <p:cNvSpPr/>
          <p:nvPr/>
        </p:nvSpPr>
        <p:spPr>
          <a:xfrm>
            <a:off x="4425840" y="2730600"/>
            <a:ext cx="15840" cy="3651120"/>
          </a:xfrm>
          <a:prstGeom prst="line">
            <a:avLst/>
          </a:prstGeom>
          <a:ln w="25560">
            <a:solidFill>
              <a:srgbClr val="7f7f7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531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AAFF-C02D-401B-9406-0FFFC91F5158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1.94444E-006 0.37593 E">
                                      <p:cBhvr>
                                        <p:cTn id="870" dur="2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046 L -0.00382 0.2581 E">
                                      <p:cBhvr>
                                        <p:cTn id="877" dur="2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884" dur="2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1.94444E-006 -0.1574 E">
                                      <p:cBhvr>
                                        <p:cTn id="891" dur="2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046 L 4.16667E-006 -0.27153 E">
                                      <p:cBhvr>
                                        <p:cTn id="898" dur="2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07407E-006 L -0.04757 -0.49815 E">
                                      <p:cBhvr>
                                        <p:cTn id="906" dur="5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-0.08195 -0.49306 E">
                                      <p:cBhvr>
                                        <p:cTn id="908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D608-C451-462E-A78E-0F4277559E07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548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549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550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场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磋商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19"/>
          <p:cNvGrpSpPr/>
          <p:nvPr/>
        </p:nvGrpSpPr>
        <p:grpSpPr>
          <a:xfrm>
            <a:off x="7429680" y="214200"/>
            <a:ext cx="1820520" cy="647640"/>
            <a:chOff x="7429680" y="214200"/>
            <a:chExt cx="1820520" cy="647640"/>
          </a:xfrm>
        </p:grpSpPr>
        <p:sp>
          <p:nvSpPr>
            <p:cNvPr id="560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17"/>
            <p:cNvSpPr/>
            <p:nvPr/>
          </p:nvSpPr>
          <p:spPr>
            <a:xfrm>
              <a:off x="7429680" y="276120"/>
              <a:ext cx="18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开场策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1964-6000-4337-8CA8-3738E9021351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8"/>
          <p:cNvSpPr/>
          <p:nvPr/>
        </p:nvSpPr>
        <p:spPr>
          <a:xfrm>
            <a:off x="5349960" y="91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场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3"/>
          <p:cNvSpPr/>
          <p:nvPr/>
        </p:nvSpPr>
        <p:spPr>
          <a:xfrm>
            <a:off x="6416640" y="4951440"/>
            <a:ext cx="2376360" cy="647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大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23"/>
          <p:cNvSpPr/>
          <p:nvPr/>
        </p:nvSpPr>
        <p:spPr>
          <a:xfrm>
            <a:off x="657360" y="2176200"/>
            <a:ext cx="1268280" cy="551160"/>
          </a:xfrm>
          <a:prstGeom prst="rect">
            <a:avLst/>
          </a:prstGeom>
          <a:solidFill>
            <a:srgbClr val="00b0f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胆开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24"/>
          <p:cNvSpPr/>
          <p:nvPr/>
        </p:nvSpPr>
        <p:spPr>
          <a:xfrm>
            <a:off x="3000240" y="2176200"/>
            <a:ext cx="1290600" cy="551160"/>
          </a:xfrm>
          <a:prstGeom prst="rect">
            <a:avLst/>
          </a:prstGeom>
          <a:solidFill>
            <a:srgbClr val="00b0f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27"/>
          <p:cNvSpPr/>
          <p:nvPr/>
        </p:nvSpPr>
        <p:spPr>
          <a:xfrm>
            <a:off x="3000240" y="3832200"/>
            <a:ext cx="2257560" cy="551160"/>
          </a:xfrm>
          <a:prstGeom prst="rect">
            <a:avLst/>
          </a:prstGeom>
          <a:solidFill>
            <a:srgbClr val="ffc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扮演不情愿的卖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8"/>
          <p:cNvSpPr/>
          <p:nvPr/>
        </p:nvSpPr>
        <p:spPr>
          <a:xfrm>
            <a:off x="665280" y="3849840"/>
            <a:ext cx="1260360" cy="515880"/>
          </a:xfrm>
          <a:prstGeom prst="rect">
            <a:avLst/>
          </a:prstGeom>
          <a:solidFill>
            <a:srgbClr val="ffc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钳子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29"/>
          <p:cNvSpPr/>
          <p:nvPr/>
        </p:nvSpPr>
        <p:spPr>
          <a:xfrm>
            <a:off x="3002040" y="5362560"/>
            <a:ext cx="2577960" cy="551160"/>
          </a:xfrm>
          <a:prstGeom prst="rect">
            <a:avLst/>
          </a:prstGeom>
          <a:solidFill>
            <a:srgbClr val="d8d8d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绝不接受第一次报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30"/>
          <p:cNvSpPr/>
          <p:nvPr/>
        </p:nvSpPr>
        <p:spPr>
          <a:xfrm>
            <a:off x="665280" y="5362560"/>
            <a:ext cx="2008080" cy="551160"/>
          </a:xfrm>
          <a:prstGeom prst="rect">
            <a:avLst/>
          </a:prstGeom>
          <a:solidFill>
            <a:srgbClr val="d8d8d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装作大吃一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MCj01558990000[1]"/>
          <p:cNvPicPr/>
          <p:nvPr/>
        </p:nvPicPr>
        <p:blipFill>
          <a:blip r:embed="rId3"/>
          <a:stretch/>
        </p:blipFill>
        <p:spPr>
          <a:xfrm>
            <a:off x="5937120" y="2874960"/>
            <a:ext cx="3313080" cy="1949400"/>
          </a:xfrm>
          <a:prstGeom prst="rect">
            <a:avLst/>
          </a:prstGeom>
          <a:ln w="0">
            <a:noFill/>
          </a:ln>
        </p:spPr>
      </p:pic>
      <p:sp>
        <p:nvSpPr>
          <p:cNvPr id="572" name="直接连接符 32"/>
          <p:cNvSpPr/>
          <p:nvPr/>
        </p:nvSpPr>
        <p:spPr>
          <a:xfrm>
            <a:off x="657360" y="3284640"/>
            <a:ext cx="4600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33"/>
          <p:cNvSpPr/>
          <p:nvPr/>
        </p:nvSpPr>
        <p:spPr>
          <a:xfrm>
            <a:off x="657360" y="4894200"/>
            <a:ext cx="4600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AF5A-DE3F-429F-995E-C0022B6F51BD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7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579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580" name="矩形 12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直接连接符 13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直接连接符 14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Box 9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场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Box 10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磋商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11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5"/>
          <p:cNvSpPr/>
          <p:nvPr/>
        </p:nvSpPr>
        <p:spPr>
          <a:xfrm>
            <a:off x="500040" y="857160"/>
            <a:ext cx="2033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6"/>
          <p:cNvSpPr/>
          <p:nvPr/>
        </p:nvSpPr>
        <p:spPr>
          <a:xfrm>
            <a:off x="5264280" y="857160"/>
            <a:ext cx="21654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15"/>
          <p:cNvGrpSpPr/>
          <p:nvPr/>
        </p:nvGrpSpPr>
        <p:grpSpPr>
          <a:xfrm>
            <a:off x="7284960" y="214200"/>
            <a:ext cx="2181240" cy="647640"/>
            <a:chOff x="7284960" y="214200"/>
            <a:chExt cx="2181240" cy="647640"/>
          </a:xfrm>
        </p:grpSpPr>
        <p:sp>
          <p:nvSpPr>
            <p:cNvPr id="591" name="矩形 16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17"/>
            <p:cNvSpPr/>
            <p:nvPr/>
          </p:nvSpPr>
          <p:spPr>
            <a:xfrm>
              <a:off x="7284960" y="273960"/>
              <a:ext cx="21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磋商策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灯片编号占位符 51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64C2-2FCF-4E1B-B329-AD0F3AE95A73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2"/>
          <p:cNvSpPr/>
          <p:nvPr/>
        </p:nvSpPr>
        <p:spPr>
          <a:xfrm>
            <a:off x="5349960" y="91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场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右箭头 3"/>
          <p:cNvSpPr/>
          <p:nvPr/>
        </p:nvSpPr>
        <p:spPr>
          <a:xfrm rot="19857600">
            <a:off x="1504800" y="2276280"/>
            <a:ext cx="1257480" cy="7365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747425" h="1021060">
                <a:moveTo>
                  <a:pt x="183" y="109215"/>
                </a:moveTo>
                <a:lnTo>
                  <a:pt x="1236895" y="255265"/>
                </a:lnTo>
                <a:lnTo>
                  <a:pt x="1236895" y="0"/>
                </a:lnTo>
                <a:lnTo>
                  <a:pt x="1747425" y="510530"/>
                </a:lnTo>
                <a:lnTo>
                  <a:pt x="1236895" y="1021060"/>
                </a:lnTo>
                <a:lnTo>
                  <a:pt x="1236895" y="765795"/>
                </a:lnTo>
                <a:lnTo>
                  <a:pt x="12883" y="924545"/>
                </a:lnTo>
                <a:cubicBezTo>
                  <a:pt x="15000" y="652768"/>
                  <a:pt x="-1934" y="380992"/>
                  <a:pt x="183" y="10921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e7ba17"/>
              </a:gs>
            </a:gsLst>
            <a:lin ang="1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右箭头 3"/>
          <p:cNvSpPr/>
          <p:nvPr/>
        </p:nvSpPr>
        <p:spPr>
          <a:xfrm rot="18444600">
            <a:off x="2412000" y="2454480"/>
            <a:ext cx="1258920" cy="736560"/>
          </a:xfrm>
          <a:custGeom>
            <a:avLst/>
            <a:gdLst>
              <a:gd name="textAreaLeft" fmla="*/ 0 w 1258920"/>
              <a:gd name="textAreaRight" fmla="*/ 1258920 w 12589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747425" h="1021060">
                <a:moveTo>
                  <a:pt x="183" y="109215"/>
                </a:moveTo>
                <a:lnTo>
                  <a:pt x="1236895" y="255265"/>
                </a:lnTo>
                <a:lnTo>
                  <a:pt x="1236895" y="0"/>
                </a:lnTo>
                <a:lnTo>
                  <a:pt x="1747425" y="510530"/>
                </a:lnTo>
                <a:lnTo>
                  <a:pt x="1236895" y="1021060"/>
                </a:lnTo>
                <a:lnTo>
                  <a:pt x="1236895" y="765795"/>
                </a:lnTo>
                <a:lnTo>
                  <a:pt x="12883" y="924545"/>
                </a:lnTo>
                <a:cubicBezTo>
                  <a:pt x="15000" y="652768"/>
                  <a:pt x="-1934" y="380992"/>
                  <a:pt x="183" y="10921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e7ba17"/>
              </a:gs>
            </a:gsLst>
            <a:lin ang="3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箭头 3"/>
          <p:cNvSpPr/>
          <p:nvPr/>
        </p:nvSpPr>
        <p:spPr>
          <a:xfrm rot="15642600">
            <a:off x="3799440" y="2562480"/>
            <a:ext cx="1257480" cy="735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1747425" h="1021060">
                <a:moveTo>
                  <a:pt x="183" y="109215"/>
                </a:moveTo>
                <a:lnTo>
                  <a:pt x="1236895" y="255265"/>
                </a:lnTo>
                <a:lnTo>
                  <a:pt x="1236895" y="0"/>
                </a:lnTo>
                <a:lnTo>
                  <a:pt x="1747425" y="510530"/>
                </a:lnTo>
                <a:lnTo>
                  <a:pt x="1236895" y="1021060"/>
                </a:lnTo>
                <a:lnTo>
                  <a:pt x="1236895" y="765795"/>
                </a:lnTo>
                <a:lnTo>
                  <a:pt x="12883" y="924545"/>
                </a:lnTo>
                <a:cubicBezTo>
                  <a:pt x="15000" y="652768"/>
                  <a:pt x="-1934" y="380992"/>
                  <a:pt x="183" y="10921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e7ba17"/>
              </a:gs>
            </a:gsLst>
            <a:lin ang="59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右箭头 3"/>
          <p:cNvSpPr/>
          <p:nvPr/>
        </p:nvSpPr>
        <p:spPr>
          <a:xfrm rot="13747200">
            <a:off x="5013360" y="2344680"/>
            <a:ext cx="1258560" cy="734760"/>
          </a:xfrm>
          <a:custGeom>
            <a:avLst/>
            <a:gdLst>
              <a:gd name="textAreaLeft" fmla="*/ 0 w 1258560"/>
              <a:gd name="textAreaRight" fmla="*/ 1258920 w 125856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747425" h="1021060">
                <a:moveTo>
                  <a:pt x="183" y="109215"/>
                </a:moveTo>
                <a:lnTo>
                  <a:pt x="1236895" y="255265"/>
                </a:lnTo>
                <a:lnTo>
                  <a:pt x="1236895" y="0"/>
                </a:lnTo>
                <a:lnTo>
                  <a:pt x="1747425" y="510530"/>
                </a:lnTo>
                <a:lnTo>
                  <a:pt x="1236895" y="1021060"/>
                </a:lnTo>
                <a:lnTo>
                  <a:pt x="1236895" y="765795"/>
                </a:lnTo>
                <a:lnTo>
                  <a:pt x="12883" y="924545"/>
                </a:lnTo>
                <a:cubicBezTo>
                  <a:pt x="15000" y="652768"/>
                  <a:pt x="-1934" y="380992"/>
                  <a:pt x="183" y="10921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e7ba17"/>
              </a:gs>
            </a:gsLst>
            <a:lin ang="7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"/>
          <p:cNvSpPr/>
          <p:nvPr/>
        </p:nvSpPr>
        <p:spPr>
          <a:xfrm>
            <a:off x="706320" y="339552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诉诸最高权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"/>
          <p:cNvSpPr/>
          <p:nvPr/>
        </p:nvSpPr>
        <p:spPr>
          <a:xfrm>
            <a:off x="2519280" y="365616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对抗性谈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22"/>
          <p:cNvSpPr/>
          <p:nvPr/>
        </p:nvSpPr>
        <p:spPr>
          <a:xfrm>
            <a:off x="4349880" y="38116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永远不要折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3"/>
          <p:cNvSpPr/>
          <p:nvPr/>
        </p:nvSpPr>
        <p:spPr>
          <a:xfrm>
            <a:off x="6227640" y="3527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要索取回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18F6-3B04-4165-B269-1FC26D3A7333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605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607" name="组合 7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608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609" name="矩形 12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直接连接符 13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直接连接符 14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TextBox 9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场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10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磋商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11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5"/>
          <p:cNvSpPr/>
          <p:nvPr/>
        </p:nvSpPr>
        <p:spPr>
          <a:xfrm>
            <a:off x="500040" y="857160"/>
            <a:ext cx="2033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6"/>
          <p:cNvSpPr/>
          <p:nvPr/>
        </p:nvSpPr>
        <p:spPr>
          <a:xfrm>
            <a:off x="2544840" y="885960"/>
            <a:ext cx="27129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5"/>
          <p:cNvGrpSpPr/>
          <p:nvPr/>
        </p:nvGrpSpPr>
        <p:grpSpPr>
          <a:xfrm>
            <a:off x="7284960" y="214200"/>
            <a:ext cx="2181240" cy="647640"/>
            <a:chOff x="7284960" y="214200"/>
            <a:chExt cx="2181240" cy="647640"/>
          </a:xfrm>
        </p:grpSpPr>
        <p:sp>
          <p:nvSpPr>
            <p:cNvPr id="620" name="矩形 16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17"/>
            <p:cNvSpPr/>
            <p:nvPr/>
          </p:nvSpPr>
          <p:spPr>
            <a:xfrm>
              <a:off x="7284960" y="273960"/>
              <a:ext cx="21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终场策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灯片编号占位符 51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C070-0012-44BE-A21C-6DA24B55DB6D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52"/>
          <p:cNvSpPr/>
          <p:nvPr/>
        </p:nvSpPr>
        <p:spPr>
          <a:xfrm>
            <a:off x="5349960" y="91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场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30"/>
          <p:cNvGrpSpPr/>
          <p:nvPr/>
        </p:nvGrpSpPr>
        <p:grpSpPr>
          <a:xfrm>
            <a:off x="399960" y="1700280"/>
            <a:ext cx="2451240" cy="1512720"/>
            <a:chOff x="399960" y="1700280"/>
            <a:chExt cx="2451240" cy="1512720"/>
          </a:xfrm>
        </p:grpSpPr>
        <p:pic>
          <p:nvPicPr>
            <p:cNvPr id="625" name="Picture 11" descr="4"/>
            <p:cNvPicPr/>
            <p:nvPr/>
          </p:nvPicPr>
          <p:blipFill>
            <a:blip r:embed="rId3"/>
            <a:stretch/>
          </p:blipFill>
          <p:spPr>
            <a:xfrm>
              <a:off x="399960" y="1700280"/>
              <a:ext cx="242928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Box 1"/>
            <p:cNvSpPr/>
            <p:nvPr/>
          </p:nvSpPr>
          <p:spPr>
            <a:xfrm>
              <a:off x="1063080" y="2067480"/>
              <a:ext cx="178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白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黑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1"/>
          <p:cNvGrpSpPr/>
          <p:nvPr/>
        </p:nvGrpSpPr>
        <p:grpSpPr>
          <a:xfrm>
            <a:off x="2738520" y="1700280"/>
            <a:ext cx="2428920" cy="1512720"/>
            <a:chOff x="2738520" y="1700280"/>
            <a:chExt cx="2428920" cy="1512720"/>
          </a:xfrm>
        </p:grpSpPr>
        <p:pic>
          <p:nvPicPr>
            <p:cNvPr id="628" name="Picture 11" descr="4"/>
            <p:cNvPicPr/>
            <p:nvPr/>
          </p:nvPicPr>
          <p:blipFill>
            <a:blip r:embed="rId4"/>
            <a:stretch/>
          </p:blipFill>
          <p:spPr>
            <a:xfrm>
              <a:off x="2738520" y="1700280"/>
              <a:ext cx="2428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Box 2"/>
            <p:cNvSpPr/>
            <p:nvPr/>
          </p:nvSpPr>
          <p:spPr>
            <a:xfrm>
              <a:off x="3564720" y="2067480"/>
              <a:ext cx="93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蚕食策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组合 32"/>
          <p:cNvGrpSpPr/>
          <p:nvPr/>
        </p:nvGrpSpPr>
        <p:grpSpPr>
          <a:xfrm>
            <a:off x="5064120" y="1727280"/>
            <a:ext cx="2428920" cy="1512720"/>
            <a:chOff x="5064120" y="1727280"/>
            <a:chExt cx="2428920" cy="1512720"/>
          </a:xfrm>
        </p:grpSpPr>
        <p:pic>
          <p:nvPicPr>
            <p:cNvPr id="631" name="Picture 11" descr="4"/>
            <p:cNvPicPr/>
            <p:nvPr/>
          </p:nvPicPr>
          <p:blipFill>
            <a:blip r:embed="rId5"/>
            <a:stretch/>
          </p:blipFill>
          <p:spPr>
            <a:xfrm>
              <a:off x="5064120" y="1727280"/>
              <a:ext cx="2428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Box 26"/>
            <p:cNvSpPr/>
            <p:nvPr/>
          </p:nvSpPr>
          <p:spPr>
            <a:xfrm>
              <a:off x="5704920" y="206784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让步模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3"/>
          <p:cNvGrpSpPr/>
          <p:nvPr/>
        </p:nvGrpSpPr>
        <p:grpSpPr>
          <a:xfrm>
            <a:off x="403200" y="3645000"/>
            <a:ext cx="2428920" cy="1512720"/>
            <a:chOff x="403200" y="3645000"/>
            <a:chExt cx="2428920" cy="1512720"/>
          </a:xfrm>
        </p:grpSpPr>
        <p:pic>
          <p:nvPicPr>
            <p:cNvPr id="634" name="Picture 11" descr="4"/>
            <p:cNvPicPr/>
            <p:nvPr/>
          </p:nvPicPr>
          <p:blipFill>
            <a:blip r:embed="rId6"/>
            <a:stretch/>
          </p:blipFill>
          <p:spPr>
            <a:xfrm>
              <a:off x="403200" y="3645000"/>
              <a:ext cx="2428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Box 27"/>
            <p:cNvSpPr/>
            <p:nvPr/>
          </p:nvSpPr>
          <p:spPr>
            <a:xfrm>
              <a:off x="1111320" y="4033440"/>
              <a:ext cx="9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收回报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34"/>
          <p:cNvGrpSpPr/>
          <p:nvPr/>
        </p:nvGrpSpPr>
        <p:grpSpPr>
          <a:xfrm>
            <a:off x="2817720" y="3645000"/>
            <a:ext cx="2428920" cy="1512720"/>
            <a:chOff x="2817720" y="3645000"/>
            <a:chExt cx="2428920" cy="1512720"/>
          </a:xfrm>
        </p:grpSpPr>
        <p:pic>
          <p:nvPicPr>
            <p:cNvPr id="637" name="Picture 11" descr="4"/>
            <p:cNvPicPr/>
            <p:nvPr/>
          </p:nvPicPr>
          <p:blipFill>
            <a:blip r:embed="rId7"/>
            <a:stretch/>
          </p:blipFill>
          <p:spPr>
            <a:xfrm>
              <a:off x="2817720" y="3645000"/>
              <a:ext cx="2428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TextBox 28"/>
            <p:cNvSpPr/>
            <p:nvPr/>
          </p:nvSpPr>
          <p:spPr>
            <a:xfrm>
              <a:off x="3564000" y="4049280"/>
              <a:ext cx="93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然接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35"/>
          <p:cNvGrpSpPr/>
          <p:nvPr/>
        </p:nvGrpSpPr>
        <p:grpSpPr>
          <a:xfrm>
            <a:off x="5167440" y="3638520"/>
            <a:ext cx="2428920" cy="1513080"/>
            <a:chOff x="5167440" y="3638520"/>
            <a:chExt cx="2428920" cy="1513080"/>
          </a:xfrm>
        </p:grpSpPr>
        <p:pic>
          <p:nvPicPr>
            <p:cNvPr id="640" name="Picture 11" descr="4"/>
            <p:cNvPicPr/>
            <p:nvPr/>
          </p:nvPicPr>
          <p:blipFill>
            <a:blip r:embed="rId8"/>
            <a:stretch/>
          </p:blipFill>
          <p:spPr>
            <a:xfrm>
              <a:off x="5167440" y="3638520"/>
              <a:ext cx="24289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Box 29"/>
            <p:cNvSpPr/>
            <p:nvPr/>
          </p:nvSpPr>
          <p:spPr>
            <a:xfrm>
              <a:off x="5823000" y="4048920"/>
              <a:ext cx="84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起草协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40"/>
          <p:cNvSpPr/>
          <p:nvPr/>
        </p:nvSpPr>
        <p:spPr>
          <a:xfrm>
            <a:off x="2411280" y="6021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9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8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5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2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9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56" name="矩形 21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2"/>
          <p:cNvSpPr/>
          <p:nvPr/>
        </p:nvSpPr>
        <p:spPr>
          <a:xfrm>
            <a:off x="4226040" y="3071880"/>
            <a:ext cx="7855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5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9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1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8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2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B1A7-93A9-413F-9C62-08548A12D472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531E-006 L -0.40538 -0.33025 E">
                                      <p:cBhvr>
                                        <p:cTn id="6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42118 -0.20463 E">
                                      <p:cBhvr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40538 -0.0787 E">
                                      <p:cBhvr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40538 0.05787 E">
                                      <p:cBhvr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41337 0.1838 E">
                                      <p:cBhvr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-0.41458 0.33102 E">
                                      <p:cBhvr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AD13-6B74-4A83-B62E-2BB849B5E318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645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647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6D9B-755E-48CF-AF4C-A57130AEBD2B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018 L -0.00677 0.5176 E">
                                      <p:cBhvr>
                                        <p:cTn id="1136" dur="2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-0.00035 0.3831 E">
                                      <p:cBhvr>
                                        <p:cTn id="1143" dur="2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46 L -1.38889E-006 0.2581 E">
                                      <p:cBhvr>
                                        <p:cTn id="1150" dur="2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1157" dur="2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2014 L -1.38889E-006 -0.14561 E">
                                      <p:cBhvr>
                                        <p:cTn id="1164" dur="2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0.01574 L -0.03177 -0.64074 E">
                                      <p:cBhvr>
                                        <p:cTn id="1172" dur="5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07407E-006 L -0.05903 -0.62524 E">
                                      <p:cBhvr>
                                        <p:cTn id="1174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62DC-104D-443B-925F-422A4DE1582B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662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664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665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666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675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5FD5-8254-4A9B-97DB-948E8598506E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组合 30"/>
          <p:cNvGrpSpPr/>
          <p:nvPr/>
        </p:nvGrpSpPr>
        <p:grpSpPr>
          <a:xfrm>
            <a:off x="1282680" y="2127240"/>
            <a:ext cx="2700360" cy="1000080"/>
            <a:chOff x="1282680" y="2127240"/>
            <a:chExt cx="2700360" cy="1000080"/>
          </a:xfrm>
        </p:grpSpPr>
        <p:sp>
          <p:nvSpPr>
            <p:cNvPr id="680" name="Text Box 7"/>
            <p:cNvSpPr/>
            <p:nvPr/>
          </p:nvSpPr>
          <p:spPr>
            <a:xfrm>
              <a:off x="152532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5"/>
            <p:cNvSpPr/>
            <p:nvPr/>
          </p:nvSpPr>
          <p:spPr>
            <a:xfrm>
              <a:off x="1427040" y="2870280"/>
              <a:ext cx="2527560" cy="14436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18"/>
            <p:cNvSpPr/>
            <p:nvPr/>
          </p:nvSpPr>
          <p:spPr>
            <a:xfrm>
              <a:off x="1282680" y="2766960"/>
              <a:ext cx="360360" cy="36036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31"/>
          <p:cNvGrpSpPr/>
          <p:nvPr/>
        </p:nvGrpSpPr>
        <p:grpSpPr>
          <a:xfrm>
            <a:off x="3038400" y="3127320"/>
            <a:ext cx="3387960" cy="973080"/>
            <a:chOff x="3038400" y="3127320"/>
            <a:chExt cx="3387960" cy="973080"/>
          </a:xfrm>
        </p:grpSpPr>
        <p:sp>
          <p:nvSpPr>
            <p:cNvPr id="684" name="Text Box 8"/>
            <p:cNvSpPr/>
            <p:nvPr/>
          </p:nvSpPr>
          <p:spPr>
            <a:xfrm>
              <a:off x="3228840" y="31273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6"/>
            <p:cNvSpPr/>
            <p:nvPr/>
          </p:nvSpPr>
          <p:spPr>
            <a:xfrm>
              <a:off x="3159000" y="38433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19"/>
            <p:cNvSpPr/>
            <p:nvPr/>
          </p:nvSpPr>
          <p:spPr>
            <a:xfrm>
              <a:off x="3038400" y="37400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32"/>
          <p:cNvGrpSpPr/>
          <p:nvPr/>
        </p:nvGrpSpPr>
        <p:grpSpPr>
          <a:xfrm>
            <a:off x="4572000" y="4056120"/>
            <a:ext cx="3564000" cy="1000080"/>
            <a:chOff x="4572000" y="4056120"/>
            <a:chExt cx="3564000" cy="1000080"/>
          </a:xfrm>
        </p:grpSpPr>
        <p:sp>
          <p:nvSpPr>
            <p:cNvPr id="688" name="Text Box 9"/>
            <p:cNvSpPr/>
            <p:nvPr/>
          </p:nvSpPr>
          <p:spPr>
            <a:xfrm>
              <a:off x="4877640" y="4056120"/>
              <a:ext cx="325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7"/>
            <p:cNvSpPr/>
            <p:nvPr/>
          </p:nvSpPr>
          <p:spPr>
            <a:xfrm>
              <a:off x="4668840" y="4799160"/>
              <a:ext cx="287748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20"/>
            <p:cNvSpPr/>
            <p:nvPr/>
          </p:nvSpPr>
          <p:spPr>
            <a:xfrm>
              <a:off x="4572000" y="4695840"/>
              <a:ext cx="36036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D4D5-3162-4085-96F3-E439D1D11B9B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693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695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696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697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706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8C3F-F6CD-4E0D-9836-FD3F8FCF6D6E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组合 24"/>
          <p:cNvGrpSpPr/>
          <p:nvPr/>
        </p:nvGrpSpPr>
        <p:grpSpPr>
          <a:xfrm>
            <a:off x="3038400" y="3129120"/>
            <a:ext cx="3387960" cy="973080"/>
            <a:chOff x="3038400" y="3129120"/>
            <a:chExt cx="3387960" cy="973080"/>
          </a:xfrm>
        </p:grpSpPr>
        <p:sp>
          <p:nvSpPr>
            <p:cNvPr id="711" name="Text Box 8"/>
            <p:cNvSpPr/>
            <p:nvPr/>
          </p:nvSpPr>
          <p:spPr>
            <a:xfrm>
              <a:off x="3228840" y="31291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3159000" y="38451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9"/>
            <p:cNvSpPr/>
            <p:nvPr/>
          </p:nvSpPr>
          <p:spPr>
            <a:xfrm>
              <a:off x="3038400" y="37418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组合 28"/>
          <p:cNvGrpSpPr/>
          <p:nvPr/>
        </p:nvGrpSpPr>
        <p:grpSpPr>
          <a:xfrm>
            <a:off x="4572000" y="4087800"/>
            <a:ext cx="3514680" cy="969840"/>
            <a:chOff x="4572000" y="4087800"/>
            <a:chExt cx="3514680" cy="969840"/>
          </a:xfrm>
        </p:grpSpPr>
        <p:sp>
          <p:nvSpPr>
            <p:cNvPr id="715" name="Text Box 9"/>
            <p:cNvSpPr/>
            <p:nvPr/>
          </p:nvSpPr>
          <p:spPr>
            <a:xfrm>
              <a:off x="4829040" y="4087800"/>
              <a:ext cx="325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7"/>
            <p:cNvSpPr/>
            <p:nvPr/>
          </p:nvSpPr>
          <p:spPr>
            <a:xfrm>
              <a:off x="4668840" y="4800240"/>
              <a:ext cx="287676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0"/>
            <p:cNvSpPr/>
            <p:nvPr/>
          </p:nvSpPr>
          <p:spPr>
            <a:xfrm>
              <a:off x="4572000" y="4697280"/>
              <a:ext cx="36036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7"/>
          <p:cNvGrpSpPr/>
          <p:nvPr/>
        </p:nvGrpSpPr>
        <p:grpSpPr>
          <a:xfrm>
            <a:off x="1281240" y="2127240"/>
            <a:ext cx="2700360" cy="1096920"/>
            <a:chOff x="1281240" y="2127240"/>
            <a:chExt cx="2700360" cy="1096920"/>
          </a:xfrm>
        </p:grpSpPr>
        <p:sp>
          <p:nvSpPr>
            <p:cNvPr id="719" name="Text Box 7"/>
            <p:cNvSpPr/>
            <p:nvPr/>
          </p:nvSpPr>
          <p:spPr>
            <a:xfrm>
              <a:off x="152388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5"/>
            <p:cNvSpPr/>
            <p:nvPr/>
          </p:nvSpPr>
          <p:spPr>
            <a:xfrm>
              <a:off x="1425600" y="2869560"/>
              <a:ext cx="2527560" cy="18252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8"/>
            <p:cNvSpPr/>
            <p:nvPr/>
          </p:nvSpPr>
          <p:spPr>
            <a:xfrm>
              <a:off x="1281240" y="2768760"/>
              <a:ext cx="360360" cy="45540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32292 2.71676E-006 E">
                                      <p:cBhvr>
                                        <p:cTn id="1214" dur="5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-2.42775E-006 L -0.41737 -2.42775E-006 E">
                                      <p:cBhvr>
                                        <p:cTn id="1216" dur="5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E5D4-56BF-4C7E-8CB6-13547DB33CB9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724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726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727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728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737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E8D4-1993-4813-A1BD-ED86A187F251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20"/>
          <p:cNvGrpSpPr/>
          <p:nvPr/>
        </p:nvGrpSpPr>
        <p:grpSpPr>
          <a:xfrm>
            <a:off x="1281240" y="2127240"/>
            <a:ext cx="2700360" cy="1000080"/>
            <a:chOff x="1281240" y="2127240"/>
            <a:chExt cx="2700360" cy="1000080"/>
          </a:xfrm>
        </p:grpSpPr>
        <p:sp>
          <p:nvSpPr>
            <p:cNvPr id="742" name="Text Box 7"/>
            <p:cNvSpPr/>
            <p:nvPr/>
          </p:nvSpPr>
          <p:spPr>
            <a:xfrm>
              <a:off x="152388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5"/>
            <p:cNvSpPr/>
            <p:nvPr/>
          </p:nvSpPr>
          <p:spPr>
            <a:xfrm>
              <a:off x="1425600" y="2870280"/>
              <a:ext cx="2527560" cy="14436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8"/>
            <p:cNvSpPr/>
            <p:nvPr/>
          </p:nvSpPr>
          <p:spPr>
            <a:xfrm>
              <a:off x="1281240" y="2766960"/>
              <a:ext cx="360360" cy="36036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直接连接符 24"/>
          <p:cNvSpPr/>
          <p:nvPr/>
        </p:nvSpPr>
        <p:spPr>
          <a:xfrm flipH="1">
            <a:off x="4021200" y="1227240"/>
            <a:ext cx="1440" cy="5667120"/>
          </a:xfrm>
          <a:prstGeom prst="line">
            <a:avLst/>
          </a:prstGeom>
          <a:ln w="507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25"/>
          <p:cNvSpPr/>
          <p:nvPr/>
        </p:nvSpPr>
        <p:spPr>
          <a:xfrm>
            <a:off x="4427640" y="1773360"/>
            <a:ext cx="43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理力争，运用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诉诸最高权威策略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以暗示的方式揭露对方的权限策略；或就对方所报股份进行谈判，运用让步策略，可以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适时放弃保险计入成本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在适当时候甚至可以许诺对方我方可以提供比较可观的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利润额度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nodeType="clickEffect" fill="hold">
                      <p:stCondLst>
                        <p:cond delay="0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8C9F-C7F7-42D4-9C99-6056B195D457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74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751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752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753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762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4FFA-29ED-4D1C-A652-6E501146AD0D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30"/>
          <p:cNvGrpSpPr/>
          <p:nvPr/>
        </p:nvGrpSpPr>
        <p:grpSpPr>
          <a:xfrm>
            <a:off x="1281240" y="2127240"/>
            <a:ext cx="2700360" cy="1000080"/>
            <a:chOff x="1281240" y="2127240"/>
            <a:chExt cx="2700360" cy="1000080"/>
          </a:xfrm>
        </p:grpSpPr>
        <p:sp>
          <p:nvSpPr>
            <p:cNvPr id="767" name="Text Box 7"/>
            <p:cNvSpPr/>
            <p:nvPr/>
          </p:nvSpPr>
          <p:spPr>
            <a:xfrm>
              <a:off x="152388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5"/>
            <p:cNvSpPr/>
            <p:nvPr/>
          </p:nvSpPr>
          <p:spPr>
            <a:xfrm>
              <a:off x="1425600" y="2870280"/>
              <a:ext cx="2527560" cy="14436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8"/>
            <p:cNvSpPr/>
            <p:nvPr/>
          </p:nvSpPr>
          <p:spPr>
            <a:xfrm>
              <a:off x="1281240" y="2766960"/>
              <a:ext cx="360360" cy="36036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31"/>
          <p:cNvGrpSpPr/>
          <p:nvPr/>
        </p:nvGrpSpPr>
        <p:grpSpPr>
          <a:xfrm>
            <a:off x="3038400" y="3129120"/>
            <a:ext cx="3387960" cy="973080"/>
            <a:chOff x="3038400" y="3129120"/>
            <a:chExt cx="3387960" cy="973080"/>
          </a:xfrm>
        </p:grpSpPr>
        <p:sp>
          <p:nvSpPr>
            <p:cNvPr id="771" name="Text Box 8"/>
            <p:cNvSpPr/>
            <p:nvPr/>
          </p:nvSpPr>
          <p:spPr>
            <a:xfrm>
              <a:off x="3228840" y="31291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6"/>
            <p:cNvSpPr/>
            <p:nvPr/>
          </p:nvSpPr>
          <p:spPr>
            <a:xfrm>
              <a:off x="3159000" y="38451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9"/>
            <p:cNvSpPr/>
            <p:nvPr/>
          </p:nvSpPr>
          <p:spPr>
            <a:xfrm>
              <a:off x="3038400" y="37418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组合 32"/>
          <p:cNvGrpSpPr/>
          <p:nvPr/>
        </p:nvGrpSpPr>
        <p:grpSpPr>
          <a:xfrm>
            <a:off x="4572000" y="4043520"/>
            <a:ext cx="3490920" cy="1014120"/>
            <a:chOff x="4572000" y="4043520"/>
            <a:chExt cx="3490920" cy="1014120"/>
          </a:xfrm>
        </p:grpSpPr>
        <p:sp>
          <p:nvSpPr>
            <p:cNvPr id="775" name="Text Box 9"/>
            <p:cNvSpPr/>
            <p:nvPr/>
          </p:nvSpPr>
          <p:spPr>
            <a:xfrm>
              <a:off x="4804920" y="4043520"/>
              <a:ext cx="325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7"/>
            <p:cNvSpPr/>
            <p:nvPr/>
          </p:nvSpPr>
          <p:spPr>
            <a:xfrm>
              <a:off x="4668840" y="4800240"/>
              <a:ext cx="287712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0"/>
            <p:cNvSpPr/>
            <p:nvPr/>
          </p:nvSpPr>
          <p:spPr>
            <a:xfrm>
              <a:off x="4572000" y="4697280"/>
              <a:ext cx="36036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3526E-006 L -0.33073 4.33526E-006 E">
                                      <p:cBhvr>
                                        <p:cTn id="1244" dur="5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-2.42775E-006 L -0.41737 -2.42775E-006 E">
                                      <p:cBhvr>
                                        <p:cTn id="1246" dur="5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8" dur="5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-0.25381 0.00209 E">
                                      <p:cBhvr>
                                        <p:cTn id="1259" dur="5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DB3-4C15-4E7D-8536-464DED08225A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780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783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784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14"/>
          <p:cNvSpPr/>
          <p:nvPr/>
        </p:nvSpPr>
        <p:spPr>
          <a:xfrm>
            <a:off x="2543040" y="857160"/>
            <a:ext cx="27068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793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6B41-EB86-46D5-BA04-C8C269234733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20"/>
          <p:cNvSpPr/>
          <p:nvPr/>
        </p:nvSpPr>
        <p:spPr>
          <a:xfrm>
            <a:off x="5249880" y="836640"/>
            <a:ext cx="21798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31"/>
          <p:cNvGrpSpPr/>
          <p:nvPr/>
        </p:nvGrpSpPr>
        <p:grpSpPr>
          <a:xfrm>
            <a:off x="757080" y="3129120"/>
            <a:ext cx="3387960" cy="973080"/>
            <a:chOff x="757080" y="3129120"/>
            <a:chExt cx="3387960" cy="973080"/>
          </a:xfrm>
        </p:grpSpPr>
        <p:sp>
          <p:nvSpPr>
            <p:cNvPr id="799" name="Text Box 8"/>
            <p:cNvSpPr/>
            <p:nvPr/>
          </p:nvSpPr>
          <p:spPr>
            <a:xfrm>
              <a:off x="947520" y="31291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6"/>
            <p:cNvSpPr/>
            <p:nvPr/>
          </p:nvSpPr>
          <p:spPr>
            <a:xfrm>
              <a:off x="877680" y="38451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"/>
            <p:cNvSpPr/>
            <p:nvPr/>
          </p:nvSpPr>
          <p:spPr>
            <a:xfrm>
              <a:off x="757080" y="37418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直接连接符 25"/>
          <p:cNvSpPr/>
          <p:nvPr/>
        </p:nvSpPr>
        <p:spPr>
          <a:xfrm flipH="1">
            <a:off x="3284640" y="857160"/>
            <a:ext cx="1440" cy="5668920"/>
          </a:xfrm>
          <a:prstGeom prst="line">
            <a:avLst/>
          </a:prstGeom>
          <a:ln w="507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26"/>
          <p:cNvSpPr/>
          <p:nvPr/>
        </p:nvSpPr>
        <p:spPr>
          <a:xfrm>
            <a:off x="3341520" y="1851120"/>
            <a:ext cx="5802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要求参与对方财务管理的底线上要求，适当给予让步，并趁机要求其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减少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2%~3%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的股份占有率或者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5%~10%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的利润额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E28B-EDF1-4EE1-9DFB-D499854AB680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806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808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809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810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14"/>
          <p:cNvSpPr/>
          <p:nvPr/>
        </p:nvSpPr>
        <p:spPr>
          <a:xfrm>
            <a:off x="2516040" y="785880"/>
            <a:ext cx="27338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819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ECE6-F232-4EAD-A943-C1C5A0368BFD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20"/>
          <p:cNvSpPr/>
          <p:nvPr/>
        </p:nvSpPr>
        <p:spPr>
          <a:xfrm>
            <a:off x="5249880" y="836640"/>
            <a:ext cx="21798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组合 30"/>
          <p:cNvGrpSpPr/>
          <p:nvPr/>
        </p:nvGrpSpPr>
        <p:grpSpPr>
          <a:xfrm>
            <a:off x="1281240" y="2127240"/>
            <a:ext cx="2700360" cy="1000080"/>
            <a:chOff x="1281240" y="2127240"/>
            <a:chExt cx="2700360" cy="1000080"/>
          </a:xfrm>
        </p:grpSpPr>
        <p:sp>
          <p:nvSpPr>
            <p:cNvPr id="825" name="Text Box 7"/>
            <p:cNvSpPr/>
            <p:nvPr/>
          </p:nvSpPr>
          <p:spPr>
            <a:xfrm>
              <a:off x="152388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5"/>
            <p:cNvSpPr/>
            <p:nvPr/>
          </p:nvSpPr>
          <p:spPr>
            <a:xfrm>
              <a:off x="1425600" y="2870280"/>
              <a:ext cx="2527560" cy="14436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8"/>
            <p:cNvSpPr/>
            <p:nvPr/>
          </p:nvSpPr>
          <p:spPr>
            <a:xfrm>
              <a:off x="1281240" y="2766960"/>
              <a:ext cx="360360" cy="36036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组合 31"/>
          <p:cNvGrpSpPr/>
          <p:nvPr/>
        </p:nvGrpSpPr>
        <p:grpSpPr>
          <a:xfrm>
            <a:off x="3038400" y="3129120"/>
            <a:ext cx="3387960" cy="973080"/>
            <a:chOff x="3038400" y="3129120"/>
            <a:chExt cx="3387960" cy="973080"/>
          </a:xfrm>
        </p:grpSpPr>
        <p:sp>
          <p:nvSpPr>
            <p:cNvPr id="829" name="Text Box 8"/>
            <p:cNvSpPr/>
            <p:nvPr/>
          </p:nvSpPr>
          <p:spPr>
            <a:xfrm>
              <a:off x="3228840" y="31291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6"/>
            <p:cNvSpPr/>
            <p:nvPr/>
          </p:nvSpPr>
          <p:spPr>
            <a:xfrm>
              <a:off x="3159000" y="38451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3038400" y="37418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32"/>
          <p:cNvGrpSpPr/>
          <p:nvPr/>
        </p:nvGrpSpPr>
        <p:grpSpPr>
          <a:xfrm>
            <a:off x="4572000" y="4073400"/>
            <a:ext cx="3543480" cy="984240"/>
            <a:chOff x="4572000" y="4073400"/>
            <a:chExt cx="3543480" cy="984240"/>
          </a:xfrm>
        </p:grpSpPr>
        <p:sp>
          <p:nvSpPr>
            <p:cNvPr id="833" name="Text Box 9"/>
            <p:cNvSpPr/>
            <p:nvPr/>
          </p:nvSpPr>
          <p:spPr>
            <a:xfrm>
              <a:off x="4857120" y="4073400"/>
              <a:ext cx="325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7"/>
            <p:cNvSpPr/>
            <p:nvPr/>
          </p:nvSpPr>
          <p:spPr>
            <a:xfrm>
              <a:off x="4668840" y="4800600"/>
              <a:ext cx="287748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4572000" y="4697280"/>
              <a:ext cx="36036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3526E-006 L -0.33073 4.33526E-006 E">
                                      <p:cBhvr>
                                        <p:cTn id="1279" dur="5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71676E-006 L -0.34653 2.71676E-006 E">
                                      <p:cBhvr>
                                        <p:cTn id="1281" dur="5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8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43941 0.0007 E">
                                      <p:cBhvr>
                                        <p:cTn id="1294" dur="5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92CE-9FA3-4528-BFEF-7AB1ECA9E5B0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838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840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841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842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14"/>
          <p:cNvSpPr/>
          <p:nvPr/>
        </p:nvSpPr>
        <p:spPr>
          <a:xfrm>
            <a:off x="2568600" y="826920"/>
            <a:ext cx="2717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851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84A1-AB91-4240-96B7-4A54F2E56246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20"/>
          <p:cNvSpPr/>
          <p:nvPr/>
        </p:nvSpPr>
        <p:spPr>
          <a:xfrm>
            <a:off x="5249880" y="836640"/>
            <a:ext cx="21798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组合 32"/>
          <p:cNvGrpSpPr/>
          <p:nvPr/>
        </p:nvGrpSpPr>
        <p:grpSpPr>
          <a:xfrm>
            <a:off x="574560" y="4057560"/>
            <a:ext cx="3436920" cy="1000080"/>
            <a:chOff x="574560" y="4057560"/>
            <a:chExt cx="3436920" cy="1000080"/>
          </a:xfrm>
        </p:grpSpPr>
        <p:sp>
          <p:nvSpPr>
            <p:cNvPr id="857" name="Text Box 9"/>
            <p:cNvSpPr/>
            <p:nvPr/>
          </p:nvSpPr>
          <p:spPr>
            <a:xfrm>
              <a:off x="754560" y="4057560"/>
              <a:ext cx="325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7"/>
            <p:cNvSpPr/>
            <p:nvPr/>
          </p:nvSpPr>
          <p:spPr>
            <a:xfrm>
              <a:off x="671040" y="4800600"/>
              <a:ext cx="287604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0"/>
            <p:cNvSpPr/>
            <p:nvPr/>
          </p:nvSpPr>
          <p:spPr>
            <a:xfrm>
              <a:off x="574560" y="4697280"/>
              <a:ext cx="36000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直接连接符 25"/>
          <p:cNvSpPr/>
          <p:nvPr/>
        </p:nvSpPr>
        <p:spPr>
          <a:xfrm flipH="1">
            <a:off x="3569760" y="857160"/>
            <a:ext cx="1800" cy="5668920"/>
          </a:xfrm>
          <a:prstGeom prst="line">
            <a:avLst/>
          </a:prstGeom>
          <a:ln w="507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26"/>
          <p:cNvSpPr/>
          <p:nvPr/>
        </p:nvSpPr>
        <p:spPr>
          <a:xfrm>
            <a:off x="3952800" y="1844640"/>
            <a:ext cx="482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我方先期投资的理由，并将投资形式再阐述一遍，使得对方了解我方，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方可适当增加投资，但必须要求对方减少</a:t>
            </a: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1%~2%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股份占有率或者要求对方减少</a:t>
            </a: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5%~8%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利润额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0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B7B5-4B39-4E7A-A68C-1C31E795F0DA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866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867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868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14"/>
          <p:cNvSpPr/>
          <p:nvPr/>
        </p:nvSpPr>
        <p:spPr>
          <a:xfrm>
            <a:off x="474840" y="843120"/>
            <a:ext cx="20700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877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法律资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B346-8F3E-4679-ACD8-D53C711ADF2D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32"/>
          <p:cNvSpPr/>
          <p:nvPr/>
        </p:nvSpPr>
        <p:spPr>
          <a:xfrm>
            <a:off x="5281560" y="861840"/>
            <a:ext cx="214812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C:\Documents and Settings\薛琨\桌面\参考资料.png"/>
          <p:cNvPicPr/>
          <p:nvPr/>
        </p:nvPicPr>
        <p:blipFill>
          <a:blip r:embed="rId3"/>
          <a:stretch/>
        </p:blipFill>
        <p:spPr>
          <a:xfrm>
            <a:off x="100080" y="1773360"/>
            <a:ext cx="3714840" cy="4189320"/>
          </a:xfrm>
          <a:prstGeom prst="rect">
            <a:avLst/>
          </a:prstGeom>
          <a:ln w="0">
            <a:noFill/>
          </a:ln>
        </p:spPr>
      </p:pic>
      <p:grpSp>
        <p:nvGrpSpPr>
          <p:cNvPr id="883" name="组合 5"/>
          <p:cNvGrpSpPr/>
          <p:nvPr/>
        </p:nvGrpSpPr>
        <p:grpSpPr>
          <a:xfrm>
            <a:off x="3895560" y="4363920"/>
            <a:ext cx="4865760" cy="825840"/>
            <a:chOff x="3895560" y="4363920"/>
            <a:chExt cx="4865760" cy="825840"/>
          </a:xfrm>
        </p:grpSpPr>
        <p:sp>
          <p:nvSpPr>
            <p:cNvPr id="884" name="TextBox 2"/>
            <p:cNvSpPr/>
            <p:nvPr/>
          </p:nvSpPr>
          <p:spPr>
            <a:xfrm>
              <a:off x="4247640" y="4364280"/>
              <a:ext cx="451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合同范文、背景资料、对方信息资料、技术资料、财务资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4"/>
            <p:cNvSpPr/>
            <p:nvPr/>
          </p:nvSpPr>
          <p:spPr>
            <a:xfrm>
              <a:off x="3895560" y="4363920"/>
              <a:ext cx="43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20"/>
          <p:cNvGrpSpPr/>
          <p:nvPr/>
        </p:nvGrpSpPr>
        <p:grpSpPr>
          <a:xfrm>
            <a:off x="3597120" y="2260440"/>
            <a:ext cx="5146920" cy="829800"/>
            <a:chOff x="3597120" y="2260440"/>
            <a:chExt cx="5146920" cy="829800"/>
          </a:xfrm>
        </p:grpSpPr>
        <p:sp>
          <p:nvSpPr>
            <p:cNvPr id="887" name="TextBox 1"/>
            <p:cNvSpPr/>
            <p:nvPr/>
          </p:nvSpPr>
          <p:spPr>
            <a:xfrm>
              <a:off x="3990240" y="2260440"/>
              <a:ext cx="47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法律、法规文件。包括《中华人民共和国合同法》、《经济合同法》以及其他相关法律法规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Box 21"/>
            <p:cNvSpPr/>
            <p:nvPr/>
          </p:nvSpPr>
          <p:spPr>
            <a:xfrm>
              <a:off x="3597120" y="2264760"/>
              <a:ext cx="43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Text Box 28"/>
          <p:cNvSpPr/>
          <p:nvPr/>
        </p:nvSpPr>
        <p:spPr>
          <a:xfrm>
            <a:off x="2484360" y="6021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5E2-B2CF-4D49-BFB1-1A66E10D7E48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892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894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2771-6BD5-4D80-80DE-81CB49196A4A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1.38889E-006 0.66389 E">
                                      <p:cBhvr>
                                        <p:cTn id="1369" dur="2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1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0.00625 L -0.00382 0.51389 E">
                                      <p:cBhvr>
                                        <p:cTn id="1376" dur="2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-0.01644 L 5E-006 0.38796 E">
                                      <p:cBhvr>
                                        <p:cTn id="1383" dur="2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89 L -1.38889E-006 0.25579 E">
                                      <p:cBhvr>
                                        <p:cTn id="1390" dur="2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2" dur="5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1397" dur="2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0.00069 L -0.03281 -0.77523 E">
                                      <p:cBhvr>
                                        <p:cTn id="1405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-0.05781 -0.78217 E">
                                      <p:cBhvr>
                                        <p:cTn id="1407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530E-5727-47B9-AB53-85634F91AA95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75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D1EB-4B04-4FB6-B1D6-32FEDEBF3E48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48566E-006 L -1.94444E-006 -0.15725 E">
                                      <p:cBhvr>
                                        <p:cTn id="68" dur="2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278 L 0.00677 -0.25949 E">
                                      <p:cBhvr>
                                        <p:cTn id="75" dur="2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277 L 0.00677 -0.39166 E">
                                      <p:cBhvr>
                                        <p:cTn id="82" dur="2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0.00764 L 0.00677 -0.53333 E">
                                      <p:cBhvr>
                                        <p:cTn id="89" dur="2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0.00764 L 0.00677 -0.66319 E">
                                      <p:cBhvr>
                                        <p:cTn id="96" dur="2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-0.09436 E">
                                      <p:cBhvr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-0.09436 E">
                                      <p:cBhvr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5F50-2408-4818-82F6-D5278DF35680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90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911" name="矩形 8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椭圆 9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灯片编号占位符 1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D750-6BEF-4D36-A808-BCED4D9DB1C1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"/>
          <p:cNvSpPr/>
          <p:nvPr/>
        </p:nvSpPr>
        <p:spPr>
          <a:xfrm>
            <a:off x="490680" y="1123920"/>
            <a:ext cx="5610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谈判地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己方公司附近大酒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组合 11"/>
          <p:cNvGrpSpPr/>
          <p:nvPr/>
        </p:nvGrpSpPr>
        <p:grpSpPr>
          <a:xfrm>
            <a:off x="2487600" y="3241800"/>
            <a:ext cx="6116760" cy="469440"/>
            <a:chOff x="2487600" y="3241800"/>
            <a:chExt cx="6116760" cy="469440"/>
          </a:xfrm>
        </p:grpSpPr>
        <p:sp>
          <p:nvSpPr>
            <p:cNvPr id="916" name="TextBox 12"/>
            <p:cNvSpPr/>
            <p:nvPr/>
          </p:nvSpPr>
          <p:spPr>
            <a:xfrm>
              <a:off x="2487600" y="3251520"/>
              <a:ext cx="300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Box 13"/>
            <p:cNvSpPr/>
            <p:nvPr/>
          </p:nvSpPr>
          <p:spPr>
            <a:xfrm>
              <a:off x="5882400" y="3241800"/>
              <a:ext cx="27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18" name=""/>
          <p:cNvGraphicFramePr/>
          <p:nvPr/>
        </p:nvGraphicFramePr>
        <p:xfrm>
          <a:off x="379440" y="3933720"/>
          <a:ext cx="8764560" cy="2219400"/>
        </p:xfrm>
        <a:graphic>
          <a:graphicData uri="http://schemas.openxmlformats.org/drawingml/2006/table">
            <a:tbl>
              <a:tblPr/>
              <a:tblGrid>
                <a:gridCol w="2104920"/>
                <a:gridCol w="3113280"/>
                <a:gridCol w="3546360"/>
              </a:tblGrid>
              <a:tr h="22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spcAft>
                          <a:spcPts val="700"/>
                        </a:spcAft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spcAft>
                          <a:spcPts val="700"/>
                        </a:spcAft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议程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投资金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责任义务分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风险承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利润分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WordArt 4"/>
          <p:cNvSpPr txBox="1"/>
          <p:nvPr/>
        </p:nvSpPr>
        <p:spPr>
          <a:xfrm>
            <a:off x="684360" y="328932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noFill/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noFill/>
              <a:latin typeface="黑体"/>
              <a:ea typeface="黑体"/>
            </a:endParaRPr>
          </a:p>
        </p:txBody>
      </p:sp>
      <p:sp>
        <p:nvSpPr>
          <p:cNvPr id="923" name="WordArt 5"/>
          <p:cNvSpPr txBox="1"/>
          <p:nvPr/>
        </p:nvSpPr>
        <p:spPr>
          <a:xfrm>
            <a:off x="1162080" y="400356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noFill/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noFill/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418C-DE16-4C9F-8729-54157E1BC977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5"/>
          <p:cNvGrpSpPr/>
          <p:nvPr/>
        </p:nvGrpSpPr>
        <p:grpSpPr>
          <a:xfrm>
            <a:off x="571680" y="857160"/>
            <a:ext cx="6957720" cy="652680"/>
            <a:chOff x="571680" y="857160"/>
            <a:chExt cx="6957720" cy="652680"/>
          </a:xfrm>
        </p:grpSpPr>
        <p:grpSp>
          <p:nvGrpSpPr>
            <p:cNvPr id="93" name="组合 11"/>
            <p:cNvGrpSpPr/>
            <p:nvPr/>
          </p:nvGrpSpPr>
          <p:grpSpPr>
            <a:xfrm>
              <a:off x="571680" y="857160"/>
              <a:ext cx="6957720" cy="642600"/>
              <a:chOff x="571680" y="857160"/>
              <a:chExt cx="6957720" cy="642600"/>
            </a:xfrm>
          </p:grpSpPr>
          <p:sp>
            <p:nvSpPr>
              <p:cNvPr id="94" name="矩形 5"/>
              <p:cNvSpPr/>
              <p:nvPr/>
            </p:nvSpPr>
            <p:spPr>
              <a:xfrm>
                <a:off x="571680" y="857160"/>
                <a:ext cx="695772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7"/>
              <p:cNvSpPr/>
              <p:nvPr/>
            </p:nvSpPr>
            <p:spPr>
              <a:xfrm flipH="1">
                <a:off x="2643120" y="9079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12"/>
            <p:cNvSpPr/>
            <p:nvPr/>
          </p:nvSpPr>
          <p:spPr>
            <a:xfrm>
              <a:off x="571680" y="9079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3"/>
            <p:cNvSpPr/>
            <p:nvPr/>
          </p:nvSpPr>
          <p:spPr>
            <a:xfrm>
              <a:off x="2928960" y="928440"/>
              <a:ext cx="358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    队   介    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25"/>
          <p:cNvSpPr/>
          <p:nvPr/>
        </p:nvSpPr>
        <p:spPr>
          <a:xfrm>
            <a:off x="2643120" y="857160"/>
            <a:ext cx="4857840" cy="64764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571680" y="264960"/>
            <a:ext cx="69544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及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9"/>
          <p:cNvGrpSpPr/>
          <p:nvPr/>
        </p:nvGrpSpPr>
        <p:grpSpPr>
          <a:xfrm>
            <a:off x="7500960" y="260280"/>
            <a:ext cx="1643040" cy="647640"/>
            <a:chOff x="7500960" y="260280"/>
            <a:chExt cx="1643040" cy="647640"/>
          </a:xfrm>
        </p:grpSpPr>
        <p:sp>
          <p:nvSpPr>
            <p:cNvPr id="102" name="矩形 22"/>
            <p:cNvSpPr/>
            <p:nvPr/>
          </p:nvSpPr>
          <p:spPr>
            <a:xfrm>
              <a:off x="7500960" y="260280"/>
              <a:ext cx="164304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28"/>
            <p:cNvSpPr/>
            <p:nvPr/>
          </p:nvSpPr>
          <p:spPr>
            <a:xfrm>
              <a:off x="7646760" y="285480"/>
              <a:ext cx="128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主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50"/>
          <p:cNvSpPr/>
          <p:nvPr/>
        </p:nvSpPr>
        <p:spPr>
          <a:xfrm>
            <a:off x="195120" y="1844640"/>
            <a:ext cx="8358480" cy="195120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39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A23A-BD2E-4451-A1BD-C355FC089FBE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836640" y="2205000"/>
            <a:ext cx="74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决融资问题，从而来扩大公司的生产规模和增强产品的宣传力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714240" y="2143080"/>
            <a:ext cx="7615440" cy="25243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" descr=""/>
          <p:cNvPicPr/>
          <p:nvPr/>
        </p:nvPicPr>
        <p:blipFill>
          <a:blip r:embed="rId4"/>
          <a:stretch/>
        </p:blipFill>
        <p:spPr>
          <a:xfrm>
            <a:off x="436680" y="4124160"/>
            <a:ext cx="3600360" cy="24130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6" descr=""/>
          <p:cNvPicPr/>
          <p:nvPr/>
        </p:nvPicPr>
        <p:blipFill>
          <a:blip r:embed="rId5"/>
          <a:stretch/>
        </p:blipFill>
        <p:spPr>
          <a:xfrm>
            <a:off x="5141880" y="4149720"/>
            <a:ext cx="3419640" cy="2411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0"/>
          <p:cNvSpPr/>
          <p:nvPr/>
        </p:nvSpPr>
        <p:spPr>
          <a:xfrm>
            <a:off x="2185920" y="3246480"/>
            <a:ext cx="50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联素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3lian.com/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7D13-30BE-4870-A6AA-D14CCF5FF4B1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115" name="组合 15"/>
          <p:cNvGrpSpPr/>
          <p:nvPr/>
        </p:nvGrpSpPr>
        <p:grpSpPr>
          <a:xfrm>
            <a:off x="571680" y="857160"/>
            <a:ext cx="6957720" cy="652680"/>
            <a:chOff x="571680" y="857160"/>
            <a:chExt cx="6957720" cy="652680"/>
          </a:xfrm>
        </p:grpSpPr>
        <p:grpSp>
          <p:nvGrpSpPr>
            <p:cNvPr id="116" name="组合 11"/>
            <p:cNvGrpSpPr/>
            <p:nvPr/>
          </p:nvGrpSpPr>
          <p:grpSpPr>
            <a:xfrm>
              <a:off x="571680" y="857160"/>
              <a:ext cx="6957720" cy="642600"/>
              <a:chOff x="571680" y="857160"/>
              <a:chExt cx="6957720" cy="642600"/>
            </a:xfrm>
          </p:grpSpPr>
          <p:sp>
            <p:nvSpPr>
              <p:cNvPr id="117" name="矩形 5"/>
              <p:cNvSpPr/>
              <p:nvPr/>
            </p:nvSpPr>
            <p:spPr>
              <a:xfrm>
                <a:off x="571680" y="857160"/>
                <a:ext cx="695772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接连接符 7"/>
              <p:cNvSpPr/>
              <p:nvPr/>
            </p:nvSpPr>
            <p:spPr>
              <a:xfrm flipH="1">
                <a:off x="2643120" y="9079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12"/>
            <p:cNvSpPr/>
            <p:nvPr/>
          </p:nvSpPr>
          <p:spPr>
            <a:xfrm>
              <a:off x="571680" y="9079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3"/>
            <p:cNvSpPr/>
            <p:nvPr/>
          </p:nvSpPr>
          <p:spPr>
            <a:xfrm>
              <a:off x="2928960" y="928440"/>
              <a:ext cx="40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    队    介    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5429160" y="9079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7"/>
          <p:cNvSpPr/>
          <p:nvPr/>
        </p:nvSpPr>
        <p:spPr>
          <a:xfrm>
            <a:off x="571680" y="852480"/>
            <a:ext cx="2071440" cy="64764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571680" y="264960"/>
            <a:ext cx="69544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及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4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7410600" y="260280"/>
            <a:ext cx="1823760" cy="647640"/>
            <a:chOff x="7410600" y="260280"/>
            <a:chExt cx="1823760" cy="647640"/>
          </a:xfrm>
        </p:grpSpPr>
        <p:sp>
          <p:nvSpPr>
            <p:cNvPr id="126" name="矩形 22"/>
            <p:cNvSpPr/>
            <p:nvPr/>
          </p:nvSpPr>
          <p:spPr>
            <a:xfrm>
              <a:off x="7500960" y="260280"/>
              <a:ext cx="164304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18"/>
            <p:cNvSpPr/>
            <p:nvPr/>
          </p:nvSpPr>
          <p:spPr>
            <a:xfrm>
              <a:off x="7410600" y="359280"/>
              <a:ext cx="18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团队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灯片编号占位符 26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6BF7-19BD-45C7-91C0-F738EA389072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6" descr=""/>
          <p:cNvPicPr/>
          <p:nvPr/>
        </p:nvPicPr>
        <p:blipFill>
          <a:blip r:embed="rId3"/>
          <a:srcRect l="23149" t="0" r="21596" b="6079"/>
          <a:stretch/>
        </p:blipFill>
        <p:spPr>
          <a:xfrm>
            <a:off x="571680" y="1606680"/>
            <a:ext cx="1552320" cy="152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650880" y="2990880"/>
            <a:ext cx="16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 目 主 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9" descr=""/>
          <p:cNvPicPr/>
          <p:nvPr/>
        </p:nvPicPr>
        <p:blipFill>
          <a:blip r:embed="rId4"/>
          <a:stretch/>
        </p:blipFill>
        <p:spPr>
          <a:xfrm>
            <a:off x="3670200" y="1709640"/>
            <a:ext cx="1576440" cy="15033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0"/>
          <p:cNvSpPr/>
          <p:nvPr/>
        </p:nvSpPr>
        <p:spPr>
          <a:xfrm>
            <a:off x="3573360" y="2957400"/>
            <a:ext cx="204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 目 决 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富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1" descr=""/>
          <p:cNvPicPr/>
          <p:nvPr/>
        </p:nvPicPr>
        <p:blipFill>
          <a:blip r:embed="rId5"/>
          <a:srcRect l="17573" t="2195" r="26567" b="2581"/>
          <a:stretch/>
        </p:blipFill>
        <p:spPr>
          <a:xfrm>
            <a:off x="6394320" y="1536840"/>
            <a:ext cx="1446480" cy="1420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1"/>
          <p:cNvSpPr/>
          <p:nvPr/>
        </p:nvSpPr>
        <p:spPr>
          <a:xfrm>
            <a:off x="6508800" y="2984400"/>
            <a:ext cx="204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 程 记 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闻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5" descr=""/>
          <p:cNvPicPr/>
          <p:nvPr/>
        </p:nvPicPr>
        <p:blipFill>
          <a:blip r:embed="rId6"/>
          <a:srcRect l="25740" t="15451" r="29693" b="11243"/>
          <a:stretch/>
        </p:blipFill>
        <p:spPr>
          <a:xfrm>
            <a:off x="328680" y="3841920"/>
            <a:ext cx="2038320" cy="19335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2"/>
          <p:cNvSpPr/>
          <p:nvPr/>
        </p:nvSpPr>
        <p:spPr>
          <a:xfrm>
            <a:off x="600120" y="5545080"/>
            <a:ext cx="20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技 术 顾 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段学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0" descr=""/>
          <p:cNvPicPr/>
          <p:nvPr/>
        </p:nvPicPr>
        <p:blipFill>
          <a:blip r:embed="rId7"/>
          <a:srcRect l="21559" t="15451" r="24016" b="15041"/>
          <a:stretch/>
        </p:blipFill>
        <p:spPr>
          <a:xfrm>
            <a:off x="2679840" y="3876840"/>
            <a:ext cx="2489040" cy="18334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3"/>
          <p:cNvSpPr/>
          <p:nvPr/>
        </p:nvSpPr>
        <p:spPr>
          <a:xfrm>
            <a:off x="3573360" y="5624640"/>
            <a:ext cx="204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 律 顾 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林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PPT相关资料\PPT图片\3D立体小人\方形立体小人锐普PPT论坛-136.jpg"/>
          <p:cNvPicPr/>
          <p:nvPr/>
        </p:nvPicPr>
        <p:blipFill>
          <a:blip r:embed="rId8"/>
          <a:srcRect l="15194" t="7525" r="16046" b="1816"/>
          <a:stretch/>
        </p:blipFill>
        <p:spPr>
          <a:xfrm>
            <a:off x="6121440" y="3989520"/>
            <a:ext cx="2152440" cy="163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6"/>
          <p:cNvSpPr/>
          <p:nvPr/>
        </p:nvSpPr>
        <p:spPr>
          <a:xfrm>
            <a:off x="6588000" y="5554800"/>
            <a:ext cx="204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 务顾 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跃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9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11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B3FE-3C16-420C-8DFC-6AA987C16825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145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3C21-A2B3-455A-A63E-0E9BBD89A34B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245" dur="2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5.55556E-007 -0.12801 E">
                                      <p:cBhvr>
                                        <p:cTn id="252" dur="2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5.55556E-007 -0.24954 E">
                                      <p:cBhvr>
                                        <p:cTn id="259" dur="2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5.55556E-007 -0.40162 E">
                                      <p:cBhvr>
                                        <p:cTn id="266" dur="2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0087 -0.52106 E">
                                      <p:cBhvr>
                                        <p:cTn id="273" dur="2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40741E-007 L -0.03958 -0.2338 E">
                                      <p:cBhvr>
                                        <p:cTn id="281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03923 -0.23588 E">
                                      <p:cBhvr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869F-8A14-483C-8573-90C2464E331D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163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164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谈判底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174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7"/>
            <p:cNvSpPr/>
            <p:nvPr/>
          </p:nvSpPr>
          <p:spPr>
            <a:xfrm>
              <a:off x="7504200" y="239400"/>
              <a:ext cx="14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AAE1-EFC0-4EB1-B882-9D842E2D6405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5592600" y="5411880"/>
            <a:ext cx="32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6c0a"/>
                </a:solidFill>
                <a:latin typeface="Franklin Gothic Book"/>
                <a:ea typeface="微软雅黑"/>
              </a:rPr>
              <a:t>各议题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3"/>
          <p:cNvSpPr/>
          <p:nvPr/>
        </p:nvSpPr>
        <p:spPr>
          <a:xfrm rot="19734000">
            <a:off x="3305160" y="4613400"/>
            <a:ext cx="5557680" cy="514080"/>
          </a:xfrm>
          <a:prstGeom prst="rightArrow">
            <a:avLst>
              <a:gd name="adj1" fmla="val 49722"/>
              <a:gd name="adj2" fmla="val 14674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28"/>
          <p:cNvGrpSpPr/>
          <p:nvPr/>
        </p:nvGrpSpPr>
        <p:grpSpPr>
          <a:xfrm>
            <a:off x="383760" y="2349360"/>
            <a:ext cx="8213040" cy="3436560"/>
            <a:chOff x="383760" y="2349360"/>
            <a:chExt cx="8213040" cy="3436560"/>
          </a:xfrm>
        </p:grpSpPr>
        <p:cxnSp>
          <p:nvCxnSpPr>
            <p:cNvPr id="180" name="肘形连接符 26"/>
            <p:cNvCxnSpPr/>
            <p:nvPr/>
          </p:nvCxnSpPr>
          <p:spPr>
            <a:xfrm flipV="1">
              <a:off x="383760" y="4625280"/>
              <a:ext cx="3668040" cy="1161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53275"/>
              </a:solidFill>
              <a:miter/>
            </a:ln>
          </p:spPr>
        </p:cxnSp>
        <p:cxnSp>
          <p:nvCxnSpPr>
            <p:cNvPr id="181" name="肘形连接符 27"/>
            <p:cNvCxnSpPr/>
            <p:nvPr/>
          </p:nvCxnSpPr>
          <p:spPr>
            <a:xfrm flipV="1">
              <a:off x="2284200" y="3466080"/>
              <a:ext cx="4107600" cy="1159560"/>
            </a:xfrm>
            <a:prstGeom prst="bentConnector3">
              <a:avLst>
                <a:gd name="adj1" fmla="val 49995"/>
              </a:avLst>
            </a:prstGeom>
            <a:ln w="9360">
              <a:solidFill>
                <a:srgbClr val="053275"/>
              </a:solidFill>
              <a:miter/>
            </a:ln>
          </p:spPr>
        </p:cxnSp>
        <p:cxnSp>
          <p:nvCxnSpPr>
            <p:cNvPr id="182" name="肘形连接符 28"/>
            <p:cNvCxnSpPr/>
            <p:nvPr/>
          </p:nvCxnSpPr>
          <p:spPr>
            <a:xfrm flipV="1">
              <a:off x="4311720" y="2349360"/>
              <a:ext cx="4285440" cy="1117800"/>
            </a:xfrm>
            <a:prstGeom prst="bentConnector3">
              <a:avLst>
                <a:gd name="adj1" fmla="val 49995"/>
              </a:avLst>
            </a:prstGeom>
            <a:ln w="9360">
              <a:solidFill>
                <a:srgbClr val="053275"/>
              </a:solidFill>
              <a:miter/>
            </a:ln>
          </p:spPr>
        </p:cxnSp>
      </p:grpSp>
      <p:sp>
        <p:nvSpPr>
          <p:cNvPr id="183" name="矩形 29"/>
          <p:cNvSpPr/>
          <p:nvPr/>
        </p:nvSpPr>
        <p:spPr>
          <a:xfrm>
            <a:off x="2309760" y="4765680"/>
            <a:ext cx="103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0"/>
          <p:cNvSpPr/>
          <p:nvPr/>
        </p:nvSpPr>
        <p:spPr>
          <a:xfrm>
            <a:off x="4470480" y="3573360"/>
            <a:ext cx="103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1"/>
          <p:cNvSpPr/>
          <p:nvPr/>
        </p:nvSpPr>
        <p:spPr>
          <a:xfrm>
            <a:off x="6678720" y="2476440"/>
            <a:ext cx="103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425520" y="1309680"/>
            <a:ext cx="1962000" cy="785880"/>
          </a:xfrm>
          <a:prstGeom prst="rect">
            <a:avLst/>
          </a:prstGeom>
          <a:solidFill>
            <a:srgbClr val="053275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总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"/>
          <p:cNvSpPr/>
          <p:nvPr/>
        </p:nvSpPr>
        <p:spPr>
          <a:xfrm>
            <a:off x="2519280" y="1460520"/>
            <a:ext cx="3052800" cy="617400"/>
          </a:xfrm>
          <a:custGeom>
            <a:avLst/>
            <a:gdLst>
              <a:gd name="textAreaLeft" fmla="*/ 0 w 3052800"/>
              <a:gd name="textAreaRight" fmla="*/ 3053160 w 305280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848570" h="2461364">
                <a:moveTo>
                  <a:pt x="0" y="0"/>
                </a:moveTo>
                <a:lnTo>
                  <a:pt x="2848570" y="0"/>
                </a:lnTo>
                <a:lnTo>
                  <a:pt x="2848570" y="2461364"/>
                </a:lnTo>
                <a:lnTo>
                  <a:pt x="0" y="2461364"/>
                </a:lnTo>
                <a:lnTo>
                  <a:pt x="0" y="0"/>
                </a:lnTo>
                <a:close/>
              </a:path>
            </a:pathLst>
          </a:custGeom>
          <a:solidFill>
            <a:srgbClr val="d0d8e8">
              <a:alpha val="89000"/>
            </a:srgbClr>
          </a:solidFill>
          <a:ln w="9360">
            <a:solidFill>
              <a:srgbClr val="cbd3e3">
                <a:alpha val="8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127800" tIns="95760" bIns="144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4"/>
          <p:cNvSpPr/>
          <p:nvPr/>
        </p:nvSpPr>
        <p:spPr>
          <a:xfrm>
            <a:off x="2532240" y="1503360"/>
            <a:ext cx="30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公司的战略合作，实现双方的互利共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2182680" y="3452760"/>
            <a:ext cx="2129040" cy="115884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2182680" y="3630600"/>
            <a:ext cx="21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出资额达到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00-150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2"/>
          <p:cNvGrpSpPr/>
          <p:nvPr/>
        </p:nvGrpSpPr>
        <p:grpSpPr>
          <a:xfrm>
            <a:off x="4051440" y="2149560"/>
            <a:ext cx="2547720" cy="1325520"/>
            <a:chOff x="4051440" y="2149560"/>
            <a:chExt cx="2547720" cy="1325520"/>
          </a:xfrm>
        </p:grpSpPr>
        <p:sp>
          <p:nvSpPr>
            <p:cNvPr id="192" name="矩形 7"/>
            <p:cNvSpPr/>
            <p:nvPr/>
          </p:nvSpPr>
          <p:spPr>
            <a:xfrm>
              <a:off x="4051440" y="2189160"/>
              <a:ext cx="2411280" cy="12859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9"/>
            <p:cNvSpPr/>
            <p:nvPr/>
          </p:nvSpPr>
          <p:spPr>
            <a:xfrm>
              <a:off x="4166640" y="2149560"/>
              <a:ext cx="243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己方负责生产，宣传以及销售，保证控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8"/>
          <p:cNvGrpSpPr/>
          <p:nvPr/>
        </p:nvGrpSpPr>
        <p:grpSpPr>
          <a:xfrm>
            <a:off x="6454800" y="1309680"/>
            <a:ext cx="2212920" cy="1025640"/>
            <a:chOff x="6454800" y="1309680"/>
            <a:chExt cx="2212920" cy="1025640"/>
          </a:xfrm>
        </p:grpSpPr>
        <p:sp>
          <p:nvSpPr>
            <p:cNvPr id="195" name="矩形 7"/>
            <p:cNvSpPr/>
            <p:nvPr/>
          </p:nvSpPr>
          <p:spPr>
            <a:xfrm>
              <a:off x="6454800" y="1309680"/>
              <a:ext cx="2119320" cy="10256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40"/>
            <p:cNvSpPr/>
            <p:nvPr/>
          </p:nvSpPr>
          <p:spPr>
            <a:xfrm>
              <a:off x="6539400" y="1488240"/>
              <a:ext cx="21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收益及利润合理分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E81C-A287-48E6-B5E7-8695C56520B6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201" name="圆角矩形 14"/>
          <p:cNvSpPr/>
          <p:nvPr/>
        </p:nvSpPr>
        <p:spPr>
          <a:xfrm>
            <a:off x="5303880" y="3284640"/>
            <a:ext cx="2927160" cy="2873160"/>
          </a:xfrm>
          <a:prstGeom prst="roundRect">
            <a:avLst>
              <a:gd name="adj" fmla="val 3278"/>
            </a:avLst>
          </a:prstGeom>
          <a:solidFill>
            <a:srgbClr val="ffffff">
              <a:alpha val="94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14"/>
          <p:cNvSpPr/>
          <p:nvPr/>
        </p:nvSpPr>
        <p:spPr>
          <a:xfrm>
            <a:off x="1182600" y="3284640"/>
            <a:ext cx="2925720" cy="2873160"/>
          </a:xfrm>
          <a:prstGeom prst="roundRect">
            <a:avLst>
              <a:gd name="adj" fmla="val 3278"/>
            </a:avLst>
          </a:prstGeom>
          <a:solidFill>
            <a:srgbClr val="ffffff">
              <a:alpha val="94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7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204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205" name="矩形 12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13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14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9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谈判底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1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500040" y="857160"/>
            <a:ext cx="2033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5264280" y="857160"/>
            <a:ext cx="21654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5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216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7"/>
            <p:cNvSpPr/>
            <p:nvPr/>
          </p:nvSpPr>
          <p:spPr>
            <a:xfrm>
              <a:off x="7504200" y="239400"/>
              <a:ext cx="14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底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灯片编号占位符 51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977F-FCF6-45D0-AECF-433A097EB41C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8"/>
          <p:cNvSpPr/>
          <p:nvPr/>
        </p:nvSpPr>
        <p:spPr>
          <a:xfrm>
            <a:off x="1225440" y="3618000"/>
            <a:ext cx="28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出资额度不低于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万元人民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.A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保证控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收益达到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%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5303880" y="3573360"/>
            <a:ext cx="287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出资额不低于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万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己方负责生产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保证控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对方承担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风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收益达到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%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上，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的利润分配控制在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%-20%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5"/>
          <p:cNvGrpSpPr/>
          <p:nvPr/>
        </p:nvGrpSpPr>
        <p:grpSpPr>
          <a:xfrm>
            <a:off x="1125360" y="2333520"/>
            <a:ext cx="3132360" cy="749520"/>
            <a:chOff x="1125360" y="2333520"/>
            <a:chExt cx="3132360" cy="749520"/>
          </a:xfrm>
        </p:grpSpPr>
        <p:sp>
          <p:nvSpPr>
            <p:cNvPr id="222" name="AutoShape 3"/>
            <p:cNvSpPr/>
            <p:nvPr/>
          </p:nvSpPr>
          <p:spPr>
            <a:xfrm>
              <a:off x="1125360" y="2333520"/>
              <a:ext cx="3132360" cy="7495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9360">
              <a:solidFill>
                <a:srgbClr val="9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">
              <a:hlinkClick r:id="rId3"/>
            </p:cNvPr>
            <p:cNvSpPr/>
            <p:nvPr/>
          </p:nvSpPr>
          <p:spPr>
            <a:xfrm>
              <a:off x="1125360" y="2445120"/>
              <a:ext cx="3132360" cy="52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总谈判底线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5"/>
          <p:cNvGrpSpPr/>
          <p:nvPr/>
        </p:nvGrpSpPr>
        <p:grpSpPr>
          <a:xfrm>
            <a:off x="5202360" y="2333520"/>
            <a:ext cx="3132000" cy="749520"/>
            <a:chOff x="5202360" y="2333520"/>
            <a:chExt cx="3132000" cy="749520"/>
          </a:xfrm>
        </p:grpSpPr>
        <p:sp>
          <p:nvSpPr>
            <p:cNvPr id="225" name="AutoShape 3"/>
            <p:cNvSpPr/>
            <p:nvPr/>
          </p:nvSpPr>
          <p:spPr>
            <a:xfrm>
              <a:off x="5202360" y="2333520"/>
              <a:ext cx="3132000" cy="7495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9360">
              <a:solidFill>
                <a:srgbClr val="9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">
              <a:hlinkClick r:id="rId4"/>
            </p:cNvPr>
            <p:cNvSpPr/>
            <p:nvPr/>
          </p:nvSpPr>
          <p:spPr>
            <a:xfrm>
              <a:off x="5202360" y="2445120"/>
              <a:ext cx="3132000" cy="52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各议题谈判底线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7474-E29D-44AC-9F8D-290998470684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231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82F1-B734-4CE7-9B38-D121A6F47B38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486 L -0.00295 0.25949 E">
                                      <p:cBhvr>
                                        <p:cTn id="424" dur="2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431" dur="2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0487 L 0.00382 -0.13217 E">
                                      <p:cBhvr>
                                        <p:cTn id="438" dur="2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0486 L 0.00382 -0.27384 E">
                                      <p:cBhvr>
                                        <p:cTn id="445" dur="2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0579 L 0.00382 -0.4037 E">
                                      <p:cBhvr>
                                        <p:cTn id="452" dur="2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 L -0.05382 -0.34074 E">
                                      <p:cBhvr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-0.0566 -0.34074 E">
                                      <p:cBhvr>
                                        <p:cTn id="462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5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cp:lastPrinted>2411-12-30T00:00:00Z</cp:lastPrinted>
  <dcterms:modified xsi:type="dcterms:W3CDTF">2015-07-21T01:57:58Z</dcterms:modified>
  <cp:revision>39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