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65C-758D-40B4-9F08-5BD48A64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A83-2DD2-4501-97EA-E652F711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AE3-7903-443D-B0D5-590497DB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361-637E-46B0-99B3-38B48FDF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B00-0690-48EA-B008-958A588D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143-3E1F-44F5-A24D-05F9A0E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A49-7CDC-4895-9780-6F4D5416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7B0-72DB-4B91-93AC-17774789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F01-7984-4D58-8B25-A010385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F98-6BAB-4F78-BB96-4C6BB08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607-29B5-4B10-8464-1192E70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9C0-80E2-4623-9101-203A4882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444-BB62-4AFA-9C40-8B2E1B6D06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beijin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tretch/>
        </p:blipFill>
        <p:spPr>
          <a:xfrm>
            <a:off x="6659640" y="6211800"/>
            <a:ext cx="253800" cy="29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6093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117960" y="12682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桃花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395280" y="115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使用说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611280" y="112536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937640" y="6308640"/>
            <a:ext cx="109836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595008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extBox 1" descr=""/>
          <p:cNvPicPr/>
          <p:nvPr/>
        </p:nvPicPr>
        <p:blipFill>
          <a:blip r:embed="rId1"/>
          <a:stretch/>
        </p:blipFill>
        <p:spPr>
          <a:xfrm>
            <a:off x="1109520" y="2620800"/>
            <a:ext cx="7498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2" descr=""/>
          <p:cNvPicPr/>
          <p:nvPr/>
        </p:nvPicPr>
        <p:blipFill>
          <a:blip r:embed="rId1"/>
          <a:stretch/>
        </p:blipFill>
        <p:spPr>
          <a:xfrm>
            <a:off x="2484360" y="1430280"/>
            <a:ext cx="4248360" cy="1265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547640" y="2565360"/>
            <a:ext cx="64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作者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dygi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5"/>
          <p:cNvSpPr/>
          <p:nvPr/>
        </p:nvSpPr>
        <p:spPr>
          <a:xfrm>
            <a:off x="1547640" y="306864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矩形 6" descr=""/>
          <p:cNvPicPr/>
          <p:nvPr/>
        </p:nvPicPr>
        <p:blipFill>
          <a:blip r:embed="rId2"/>
          <a:stretch/>
        </p:blipFill>
        <p:spPr>
          <a:xfrm>
            <a:off x="1530360" y="3097080"/>
            <a:ext cx="6076800" cy="841680"/>
          </a:xfrm>
          <a:prstGeom prst="rect">
            <a:avLst/>
          </a:prstGeom>
          <a:ln w="0">
            <a:noFill/>
          </a:ln>
        </p:spPr>
      </p:pic>
      <p:sp>
        <p:nvSpPr>
          <p:cNvPr id="175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2:23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40:42Z</dcterms:modified>
  <cp:revision>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