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15.png" ContentType="image/png"/>
  <Override PartName="/ppt/media/image24.jpeg" ContentType="image/jpeg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10.png" ContentType="image/png"/>
  <Override PartName="/ppt/media/image5.jpeg" ContentType="image/jpeg"/>
  <Override PartName="/ppt/media/image23.jpeg" ContentType="image/jpeg"/>
  <Override PartName="/ppt/media/image18.jpeg" ContentType="image/jpeg"/>
  <Override PartName="/ppt/media/image3.gif" ContentType="image/gif"/>
  <Override PartName="/ppt/media/image21.jpeg" ContentType="image/jpeg"/>
  <Override PartName="/ppt/media/image16.png" ContentType="image/png"/>
  <Override PartName="/ppt/media/image20.jpeg" ContentType="image/jpeg"/>
  <Override PartName="/ppt/media/image19.gif" ContentType="image/gif"/>
  <Override PartName="/ppt/media/image7.png" ContentType="image/png"/>
  <Override PartName="/ppt/media/image1.jpeg" ContentType="image/jpeg"/>
  <Override PartName="/ppt/media/image11.wmf" ContentType="image/x-wmf"/>
  <Override PartName="/ppt/media/image17.jpeg" ContentType="image/jpeg"/>
  <Override PartName="/ppt/media/image4.jpeg" ContentType="image/jpeg"/>
  <Override PartName="/ppt/media/image22.gif" ContentType="image/gif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6C2A-420C-411A-90B5-8E3290AB0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7043C-B2C8-4EC3-B848-0A242C65B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6DB8-49C9-4D9B-BFF6-6C25520D1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DD03E-0EC1-4E9F-BA08-D94132BCC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08CA-9756-4622-BDC6-B4F149241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0246D-8CBA-4C33-AE01-13C4E4745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2003-CD63-402C-B3E0-499158279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945F-00C4-4085-AE7A-A118A357F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741D-1946-4A78-BE80-18ECD43DE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12C9-6C2B-4DAA-966C-4E88BFA78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9E7D7-9F65-4210-8054-3935FF0A0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A096-4148-4FB6-BC55-CC348472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B61EA-5C45-4368-9E1A-1A14D37FF4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image" Target="../media/image10.png"/><Relationship Id="rId3" Type="http://schemas.openxmlformats.org/officeDocument/2006/relationships/image" Target="../media/image22.gi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hyperlink" Target="&#31179;&#22825;&#21040;&#20102;.wav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tingtingquideshengyin.exe" TargetMode="External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秋景"/>
          <p:cNvPicPr/>
          <p:nvPr/>
        </p:nvPicPr>
        <p:blipFill>
          <a:blip r:embed="rId1"/>
          <a:srcRect l="-2034" t="-1781" r="6791" b="7072"/>
          <a:stretch/>
        </p:blipFill>
        <p:spPr>
          <a:xfrm>
            <a:off x="-252360" y="-171360"/>
            <a:ext cx="9396360" cy="7067520"/>
          </a:xfrm>
          <a:prstGeom prst="rect">
            <a:avLst/>
          </a:prstGeom>
          <a:ln w="0">
            <a:noFill/>
          </a:ln>
        </p:spPr>
      </p:pic>
      <p:pic>
        <p:nvPicPr>
          <p:cNvPr id="42" name="Text Box 3" descr=""/>
          <p:cNvPicPr/>
          <p:nvPr/>
        </p:nvPicPr>
        <p:blipFill>
          <a:blip r:embed="rId2"/>
          <a:stretch/>
        </p:blipFill>
        <p:spPr>
          <a:xfrm>
            <a:off x="476280" y="774720"/>
            <a:ext cx="8070840" cy="2181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4" descr="秋叶"/>
          <p:cNvPicPr/>
          <p:nvPr/>
        </p:nvPicPr>
        <p:blipFill>
          <a:blip r:embed="rId3"/>
          <a:stretch/>
        </p:blipFill>
        <p:spPr>
          <a:xfrm>
            <a:off x="900000" y="3213000"/>
            <a:ext cx="809640" cy="13525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-36360" y="6165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a5966045bcb6f707869473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2638800" y="45720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听，秋的声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1421640" y="144792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大树抖抖手臂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刷刷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和黄叶到别的话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71680" y="4267080"/>
            <a:ext cx="8001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排排大雁追上白云 ，撒下一阵暖暖的叮咛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阵阵秋风掠过田野，送来一片丰收的歌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5612760" y="1447920"/>
            <a:ext cx="1674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蟋蟀振动翅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瞿瞿”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是和阳台告别的声韵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1026" descr="a5966045bcb6f7078694736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1027"/>
          <p:cNvSpPr/>
          <p:nvPr/>
        </p:nvSpPr>
        <p:spPr>
          <a:xfrm>
            <a:off x="685800" y="1905120"/>
            <a:ext cx="3886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每一片叶子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每一朵小花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每一滴汗水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在每一颗绽开的谷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28"/>
          <p:cNvSpPr/>
          <p:nvPr/>
        </p:nvSpPr>
        <p:spPr>
          <a:xfrm>
            <a:off x="2438280" y="30492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029"/>
          <p:cNvSpPr/>
          <p:nvPr/>
        </p:nvSpPr>
        <p:spPr>
          <a:xfrm>
            <a:off x="5734800" y="1919160"/>
            <a:ext cx="18874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从远方匆匆地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向远方匆匆地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们听到了秋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30"/>
          <p:cNvSpPr/>
          <p:nvPr/>
        </p:nvSpPr>
        <p:spPr>
          <a:xfrm>
            <a:off x="1698840" y="685800"/>
            <a:ext cx="463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听听，走进秋，走进这辽阔的音乐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你好好地去听秋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3"/>
          <p:cNvSpPr/>
          <p:nvPr/>
        </p:nvSpPr>
        <p:spPr>
          <a:xfrm>
            <a:off x="468360" y="1916280"/>
            <a:ext cx="8001000" cy="29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树抖抖手臂，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刷刷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黄叶道别的声     音，黄叶说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_______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蟋蟀振动翅膀，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_______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是和阳台告别的歌韵，蟋蟀在唱着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_______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一排排大雁追上白云，撒下一阵暖暖的叮咛：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en-US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_______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小学语文（散文）02-3"/>
          <p:cNvPicPr/>
          <p:nvPr/>
        </p:nvPicPr>
        <p:blipFill>
          <a:blip r:embed="rId2"/>
          <a:stretch/>
        </p:blipFill>
        <p:spPr>
          <a:xfrm>
            <a:off x="468360" y="333360"/>
            <a:ext cx="1714320" cy="45720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5"/>
          <p:cNvSpPr/>
          <p:nvPr/>
        </p:nvSpPr>
        <p:spPr>
          <a:xfrm>
            <a:off x="611280" y="981000"/>
            <a:ext cx="48006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开展想象性的表演：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5"/>
          <p:cNvSpPr/>
          <p:nvPr/>
        </p:nvSpPr>
        <p:spPr>
          <a:xfrm>
            <a:off x="900000" y="1197000"/>
            <a:ext cx="7345440" cy="4665960"/>
          </a:xfrm>
          <a:prstGeom prst="rect">
            <a:avLst/>
          </a:prstGeom>
          <a:solidFill>
            <a:srgbClr val="ffff99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听听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秋的声音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大树抖抖手臂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刷刷”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99"/>
                </a:solidFill>
                <a:latin typeface="Arial"/>
                <a:ea typeface="楷体_GB2312"/>
              </a:rPr>
              <a:t>是黄叶道别的话音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8317080" y="6381720"/>
            <a:ext cx="502920" cy="360360"/>
          </a:xfrm>
          <a:prstGeom prst="leftArrow">
            <a:avLst>
              <a:gd name="adj1" fmla="val 50000"/>
              <a:gd name="adj2" fmla="val 3489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WordArt 2"/>
          <p:cNvSpPr txBox="1"/>
          <p:nvPr/>
        </p:nvSpPr>
        <p:spPr>
          <a:xfrm>
            <a:off x="3492360" y="333360"/>
            <a:ext cx="396108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楷体_GB2312"/>
              </a:rPr>
              <a:t>填填演演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110" name="Picture 3" descr="图片10"/>
          <p:cNvPicPr/>
          <p:nvPr/>
        </p:nvPicPr>
        <p:blipFill>
          <a:blip r:embed="rId1"/>
          <a:stretch/>
        </p:blipFill>
        <p:spPr>
          <a:xfrm>
            <a:off x="684360" y="0"/>
            <a:ext cx="2447640" cy="14842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4"/>
          <p:cNvSpPr/>
          <p:nvPr/>
        </p:nvSpPr>
        <p:spPr>
          <a:xfrm>
            <a:off x="324000" y="2708280"/>
            <a:ext cx="8280360" cy="22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蟋蟀振动翅膀，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瞿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口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瞿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”，是和阳台告别的歌韵。蟋蟀在唱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2268360" y="2852640"/>
            <a:ext cx="5492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4724280"/>
            <a:ext cx="889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一排排大雁追上白云，撒下一阵暖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zh-CN" sz="3200" spc="-1" strike="noStrike">
                <a:solidFill>
                  <a:srgbClr val="008000"/>
                </a:solidFill>
                <a:latin typeface="Arial"/>
              </a:rPr>
              <a:t>的叮咛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________</a:t>
            </a: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1058760" y="16905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8"/>
          <p:cNvSpPr/>
          <p:nvPr/>
        </p:nvSpPr>
        <p:spPr>
          <a:xfrm>
            <a:off x="324000" y="1484280"/>
            <a:ext cx="94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树抖抖手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刷刷”，是黄叶道别的话音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黄叶说：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____________________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9"/>
          <p:cNvSpPr/>
          <p:nvPr/>
        </p:nvSpPr>
        <p:spPr>
          <a:xfrm>
            <a:off x="2124000" y="1773360"/>
            <a:ext cx="614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大树妈妈我真舍不得你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0"/>
          <p:cNvSpPr/>
          <p:nvPr/>
        </p:nvSpPr>
        <p:spPr>
          <a:xfrm>
            <a:off x="611280" y="3645000"/>
            <a:ext cx="49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我要回到温暖的家里去了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5162040" y="5229360"/>
            <a:ext cx="48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99"/>
                </a:solidFill>
                <a:latin typeface="Arial"/>
                <a:ea typeface="楷体_GB2312"/>
              </a:rPr>
              <a:t>再见了朋友，你可要注意身体哦。</a:t>
            </a:r>
            <a:r>
              <a:rPr b="0" lang="zh-CN" sz="32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2" descr="雁飞2"/>
          <p:cNvPicPr/>
          <p:nvPr/>
        </p:nvPicPr>
        <p:blipFill>
          <a:blip r:embed="rId2"/>
          <a:stretch/>
        </p:blipFill>
        <p:spPr>
          <a:xfrm>
            <a:off x="0" y="0"/>
            <a:ext cx="9144000" cy="4653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2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0" y="388800"/>
            <a:ext cx="9540720" cy="4243320"/>
          </a:xfrm>
          <a:prstGeom prst="rect">
            <a:avLst/>
          </a:prstGeom>
          <a:solidFill>
            <a:srgbClr val="ffff99">
              <a:alpha val="4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66"/>
                </a:solidFill>
                <a:latin typeface="幼圆"/>
                <a:ea typeface="幼圆"/>
              </a:rPr>
              <a:t>爱诵读的你，请美美地读课文，</a:t>
            </a:r>
            <a:r>
              <a:rPr b="1" lang="zh-CN" sz="5400" spc="-1" strike="noStrike">
                <a:solidFill>
                  <a:srgbClr val="66ff66"/>
                </a:solidFill>
                <a:latin typeface="Arial"/>
                <a:ea typeface="幼圆"/>
              </a:rPr>
              <a:t>“</a:t>
            </a:r>
            <a:r>
              <a:rPr b="1" lang="zh-CN" sz="5400" spc="-1" strike="noStrike">
                <a:solidFill>
                  <a:srgbClr val="66ff66"/>
                </a:solidFill>
                <a:latin typeface="幼圆"/>
                <a:ea typeface="幼圆"/>
              </a:rPr>
              <a:t>读出</a:t>
            </a:r>
            <a:r>
              <a:rPr b="1" lang="zh-CN" sz="5400" spc="-1" strike="noStrike">
                <a:solidFill>
                  <a:srgbClr val="66ff66"/>
                </a:solidFill>
                <a:latin typeface="Arial"/>
                <a:ea typeface="幼圆"/>
              </a:rPr>
              <a:t>”</a:t>
            </a:r>
            <a:r>
              <a:rPr b="1" lang="zh-CN" sz="5400" spc="-1" strike="noStrike">
                <a:solidFill>
                  <a:srgbClr val="66ff66"/>
                </a:solidFill>
                <a:latin typeface="幼圆"/>
                <a:ea typeface="幼圆"/>
              </a:rPr>
              <a:t>秋天的声音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66"/>
                </a:solidFill>
                <a:latin typeface="幼圆"/>
                <a:ea typeface="幼圆"/>
              </a:rPr>
              <a:t>爱绘画的你，请画一幅美美的画， </a:t>
            </a:r>
            <a:r>
              <a:rPr b="1" lang="zh-CN" sz="5400" spc="-1" strike="noStrike">
                <a:solidFill>
                  <a:srgbClr val="66ff66"/>
                </a:solidFill>
                <a:latin typeface="Arial"/>
                <a:ea typeface="幼圆"/>
              </a:rPr>
              <a:t>“</a:t>
            </a:r>
            <a:r>
              <a:rPr b="1" lang="zh-CN" sz="5400" spc="-1" strike="noStrike">
                <a:solidFill>
                  <a:srgbClr val="66ff66"/>
                </a:solidFill>
                <a:latin typeface="幼圆"/>
                <a:ea typeface="幼圆"/>
              </a:rPr>
              <a:t>画出</a:t>
            </a:r>
            <a:r>
              <a:rPr b="1" lang="zh-CN" sz="5400" spc="-1" strike="noStrike">
                <a:solidFill>
                  <a:srgbClr val="66ff66"/>
                </a:solidFill>
                <a:latin typeface="Arial"/>
                <a:ea typeface="幼圆"/>
              </a:rPr>
              <a:t>”</a:t>
            </a:r>
            <a:r>
              <a:rPr b="1" lang="zh-CN" sz="5400" spc="-1" strike="noStrike">
                <a:solidFill>
                  <a:srgbClr val="66ff66"/>
                </a:solidFill>
                <a:latin typeface="幼圆"/>
                <a:ea typeface="幼圆"/>
              </a:rPr>
              <a:t>秋天的声音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ff66"/>
                </a:solidFill>
                <a:latin typeface="幼圆"/>
                <a:ea typeface="幼圆"/>
              </a:rPr>
              <a:t>爱写作的你，请写一篇美美的文， </a:t>
            </a:r>
            <a:r>
              <a:rPr b="1" lang="zh-CN" sz="5400" spc="-1" strike="noStrike">
                <a:solidFill>
                  <a:srgbClr val="66ff66"/>
                </a:solidFill>
                <a:latin typeface="Arial"/>
                <a:ea typeface="幼圆"/>
              </a:rPr>
              <a:t>“</a:t>
            </a:r>
            <a:r>
              <a:rPr b="1" lang="zh-CN" sz="5400" spc="-1" strike="noStrike">
                <a:solidFill>
                  <a:srgbClr val="66ff66"/>
                </a:solidFill>
                <a:latin typeface="幼圆"/>
                <a:ea typeface="幼圆"/>
              </a:rPr>
              <a:t>写出</a:t>
            </a:r>
            <a:r>
              <a:rPr b="1" lang="zh-CN" sz="5400" spc="-1" strike="noStrike">
                <a:solidFill>
                  <a:srgbClr val="66ff66"/>
                </a:solidFill>
                <a:latin typeface="Arial"/>
                <a:ea typeface="幼圆"/>
              </a:rPr>
              <a:t>”</a:t>
            </a:r>
            <a:r>
              <a:rPr b="1" lang="zh-CN" sz="5400" spc="-1" strike="noStrike">
                <a:solidFill>
                  <a:srgbClr val="66ff66"/>
                </a:solidFill>
                <a:latin typeface="幼圆"/>
                <a:ea typeface="幼圆"/>
              </a:rPr>
              <a:t>秋天的声音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2"/>
          <p:cNvSpPr/>
          <p:nvPr/>
        </p:nvSpPr>
        <p:spPr>
          <a:xfrm>
            <a:off x="179280" y="1268280"/>
            <a:ext cx="896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听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秋的声音</a:t>
            </a:r>
            <a:r>
              <a:rPr b="1" lang="en-US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3" descr="图片1"/>
          <p:cNvPicPr/>
          <p:nvPr/>
        </p:nvPicPr>
        <p:blipFill>
          <a:blip r:embed="rId1"/>
          <a:stretch/>
        </p:blipFill>
        <p:spPr>
          <a:xfrm>
            <a:off x="900000" y="189000"/>
            <a:ext cx="787680" cy="838080"/>
          </a:xfrm>
          <a:prstGeom prst="rect">
            <a:avLst/>
          </a:prstGeom>
          <a:ln w="0">
            <a:noFill/>
          </a:ln>
        </p:spPr>
      </p:pic>
      <p:sp>
        <p:nvSpPr>
          <p:cNvPr id="123" name="Text Box 4"/>
          <p:cNvSpPr/>
          <p:nvPr/>
        </p:nvSpPr>
        <p:spPr>
          <a:xfrm>
            <a:off x="250920" y="270828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稻海翻起波浪，“哗啦”是它们欢快的歌声</a:t>
            </a:r>
            <a:r>
              <a:rPr b="0" lang="zh-CN" sz="4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79280" y="4076640"/>
            <a:ext cx="874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  <a:ea typeface="楷体_GB2312"/>
              </a:rPr>
              <a:t>秋雨落在地上，“滴答”，是秋雨正在弹琴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雨声.mp3" descr=""/>
          <p:cNvPicPr/>
          <p:nvPr/>
        </p:nvPicPr>
        <p:blipFill>
          <a:blip r:embed="rId2"/>
          <a:stretch/>
        </p:blipFill>
        <p:spPr>
          <a:xfrm>
            <a:off x="8964720" y="1844640"/>
            <a:ext cx="179280" cy="179280"/>
          </a:xfrm>
          <a:prstGeom prst="rect">
            <a:avLst/>
          </a:prstGeom>
          <a:ln w="0">
            <a:noFill/>
          </a:ln>
        </p:spPr>
      </p:pic>
      <p:sp>
        <p:nvSpPr>
          <p:cNvPr id="126" name="WordArt 7"/>
          <p:cNvSpPr txBox="1"/>
          <p:nvPr/>
        </p:nvSpPr>
        <p:spPr>
          <a:xfrm>
            <a:off x="1908000" y="260280"/>
            <a:ext cx="5472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00"/>
                </a:solidFill>
                <a:effectLst>
                  <a:outerShdw dist="53966" dir="2700000" blurRad="0" rotWithShape="0">
                    <a:srgbClr val="c0c0c0">
                      <a:alpha val="77000"/>
                    </a:srgbClr>
                  </a:outerShdw>
                </a:effectLst>
                <a:latin typeface="宋体"/>
              </a:rPr>
              <a:t>说说写写</a:t>
            </a:r>
            <a:endParaRPr b="0" lang="en-US" sz="1800" spc="-1" strike="noStrike">
              <a:ln w="0">
                <a:noFill/>
              </a:ln>
              <a:solidFill>
                <a:srgbClr val="000000"/>
              </a:solidFill>
              <a:effectLst>
                <a:outerShdw dist="53966" dir="2700000" blurRad="0" rotWithShape="0">
                  <a:srgbClr val="c0c0c0">
                    <a:alpha val="77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127" name="Picture 8" descr="图片1"/>
          <p:cNvPicPr/>
          <p:nvPr/>
        </p:nvPicPr>
        <p:blipFill>
          <a:blip r:embed="rId3"/>
          <a:stretch/>
        </p:blipFill>
        <p:spPr>
          <a:xfrm>
            <a:off x="7667640" y="260280"/>
            <a:ext cx="814320" cy="865080"/>
          </a:xfrm>
          <a:prstGeom prst="rect">
            <a:avLst/>
          </a:prstGeom>
          <a:ln w="0">
            <a:noFill/>
          </a:ln>
        </p:spPr>
      </p:pic>
      <p:pic>
        <p:nvPicPr>
          <p:cNvPr id="128" name="风吹稻浪.wav" descr=""/>
          <p:cNvPicPr/>
          <p:nvPr/>
        </p:nvPicPr>
        <p:blipFill>
          <a:blip r:embed="rId4"/>
          <a:stretch/>
        </p:blipFill>
        <p:spPr>
          <a:xfrm>
            <a:off x="8964720" y="1467000"/>
            <a:ext cx="179280" cy="179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10"/>
          <p:cNvSpPr/>
          <p:nvPr/>
        </p:nvSpPr>
        <p:spPr>
          <a:xfrm>
            <a:off x="80640" y="1557360"/>
            <a:ext cx="8359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_________________________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xit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285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6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97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0" dur="1" fill="hold"/>
                                        <p:tgtEl>
                                          <p:spTgt spid="1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1" restart="whenNotActive" nodeType="interactiveSeq" fill="hold">
                <p:stCondLst>
                  <p:cond evt="onClick">
                    <p:tgtEl>
                      <p:spTgt spid="128"/>
                    </p:tgtEl>
                  </p:cond>
                </p:stCondLst>
                <p:childTnLst>
                  <p:par>
                    <p:cTn id="302" fill="hold">
                      <p:stCondLst>
                        <p:cond evt="onClick">
                          <p:tgtEl>
                            <p:spTgt spid="128"/>
                          </p:tgtEl>
                        </p:cond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5" dur="1" fill="hold"/>
                                        <p:tgtEl>
                                          <p:spTgt spid="1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4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3"/>
          <p:cNvSpPr/>
          <p:nvPr/>
        </p:nvSpPr>
        <p:spPr>
          <a:xfrm>
            <a:off x="838080" y="533520"/>
            <a:ext cx="4572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秋的声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燕子拍拍翅膀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唧唧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和朋友们告别的歌韵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秋的声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青蛙张开嘴巴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呱呱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和田野离别的话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4572000" y="533520"/>
            <a:ext cx="457200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秋的声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秋雨从天上落下来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沙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是和云妈妈分别的歌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听听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秋的声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田野里一片金黄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咔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是农民收割稻谷的声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sp>
        <p:nvSpPr>
          <p:cNvPr id="134" name="Text Box 3"/>
          <p:cNvSpPr/>
          <p:nvPr/>
        </p:nvSpPr>
        <p:spPr>
          <a:xfrm>
            <a:off x="395280" y="404640"/>
            <a:ext cx="8353440" cy="154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听听，秋的声音，　　　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花枝（              ），　　　　　　　　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（“           ”    ），　　　　　　　　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是（                              ）。　　　　　　　　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听听，秋的声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蝉（                 ），　　　　　　　　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（“                     ”）。　　　　　　　　　　　　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Arial"/>
                <a:ea typeface="楷体_GB2312"/>
              </a:rPr>
              <a:t>是（                  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2684880" y="119700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扭扭腰身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406520" y="1951200"/>
            <a:ext cx="142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沙沙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6"/>
          <p:cNvSpPr/>
          <p:nvPr/>
        </p:nvSpPr>
        <p:spPr>
          <a:xfrm>
            <a:off x="2812320" y="256536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和花瓣告别的话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397240" y="414972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振动翅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014560" y="4653000"/>
            <a:ext cx="2009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知了，知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9"/>
          <p:cNvSpPr/>
          <p:nvPr/>
        </p:nvSpPr>
        <p:spPr>
          <a:xfrm>
            <a:off x="2453400" y="5516640"/>
            <a:ext cx="310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和大树告别的歌韵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未标题-1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2956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3"/>
          <p:cNvSpPr/>
          <p:nvPr/>
        </p:nvSpPr>
        <p:spPr>
          <a:xfrm>
            <a:off x="395280" y="179280"/>
            <a:ext cx="8424720" cy="81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听听，秋的声音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农民伯伯（      ），  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（           ），   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（                        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听听， 秋的声音，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小草（              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（                     ）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 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是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(                                     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）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/>
          <p:cNvSpPr/>
          <p:nvPr/>
        </p:nvSpPr>
        <p:spPr>
          <a:xfrm>
            <a:off x="3593520" y="981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笑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268640" y="1700280"/>
            <a:ext cx="178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哈哈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971640" y="2276640"/>
            <a:ext cx="4451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今年又大丰收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7"/>
          <p:cNvSpPr/>
          <p:nvPr/>
        </p:nvSpPr>
        <p:spPr>
          <a:xfrm>
            <a:off x="3045240" y="3789360"/>
            <a:ext cx="1643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摇摇身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8"/>
          <p:cNvSpPr/>
          <p:nvPr/>
        </p:nvSpPr>
        <p:spPr>
          <a:xfrm>
            <a:off x="1608120" y="4653000"/>
            <a:ext cx="215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“</a:t>
            </a: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飒飒</a:t>
            </a:r>
            <a:r>
              <a:rPr b="0" lang="zh-CN" sz="4800" spc="-1" strike="noStrike">
                <a:solidFill>
                  <a:srgbClr val="0000ff"/>
                </a:solidFill>
                <a:latin typeface="Arial"/>
                <a:ea typeface="楷体_GB2312"/>
              </a:rPr>
              <a:t>”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9"/>
          <p:cNvSpPr/>
          <p:nvPr/>
        </p:nvSpPr>
        <p:spPr>
          <a:xfrm>
            <a:off x="3128760" y="5300640"/>
            <a:ext cx="3838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66"/>
                </a:solidFill>
                <a:latin typeface="Arial"/>
                <a:ea typeface="楷体_GB2312"/>
              </a:rPr>
              <a:t>和大地母亲告别的舞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矩形 7"/>
          <p:cNvSpPr/>
          <p:nvPr/>
        </p:nvSpPr>
        <p:spPr>
          <a:xfrm>
            <a:off x="281160" y="528480"/>
            <a:ext cx="6616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4168080" y="228600"/>
            <a:ext cx="307008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秋天是</a:t>
            </a:r>
            <a:r>
              <a:rPr b="1" lang="zh-CN" sz="3600" spc="-1" strike="noStrike">
                <a:solidFill>
                  <a:srgbClr val="00ff00"/>
                </a:solidFill>
                <a:latin typeface="Times New Roman"/>
              </a:rPr>
              <a:t>绿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色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松树拿出细细的针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绣绿了满山遍野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秋天是</a:t>
            </a:r>
            <a:r>
              <a:rPr b="1" lang="zh-CN" sz="3600" spc="-1" strike="noStrike">
                <a:solidFill>
                  <a:srgbClr val="ffff66"/>
                </a:solidFill>
                <a:latin typeface="Times New Roman"/>
              </a:rPr>
              <a:t>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色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梧桐摇着小小的扇子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扇黄了大街小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秋天是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红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色的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枫树伸出红红的手掌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染红了花园果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啊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秋天是一个</a:t>
            </a:r>
            <a:r>
              <a:rPr b="1" lang="zh-CN" sz="3600" spc="-1" strike="noStrike">
                <a:solidFill>
                  <a:srgbClr val="ff00ff"/>
                </a:solidFill>
                <a:latin typeface="Times New Roman"/>
              </a:rPr>
              <a:t>色彩缤纷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季节。</a:t>
            </a:r>
            <a:r>
              <a:rPr b="1" lang="zh-CN" sz="3600" spc="-1" strike="noStrike">
                <a:solidFill>
                  <a:srgbClr val="666600"/>
                </a:solidFill>
                <a:latin typeface="Times New Roman"/>
              </a:rPr>
              <a:t>  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697680" y="72000"/>
            <a:ext cx="109476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秋天的色彩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"/>
          <p:cNvGrpSpPr/>
          <p:nvPr/>
        </p:nvGrpSpPr>
        <p:grpSpPr>
          <a:xfrm>
            <a:off x="-233280" y="0"/>
            <a:ext cx="9377280" cy="6858000"/>
            <a:chOff x="-233280" y="0"/>
            <a:chExt cx="9377280" cy="6858000"/>
          </a:xfrm>
        </p:grpSpPr>
        <p:pic>
          <p:nvPicPr>
            <p:cNvPr id="151" name="Picture 2" descr=""/>
            <p:cNvPicPr/>
            <p:nvPr/>
          </p:nvPicPr>
          <p:blipFill>
            <a:blip r:embed="rId1"/>
            <a:stretch/>
          </p:blipFill>
          <p:spPr>
            <a:xfrm>
              <a:off x="-233280" y="0"/>
              <a:ext cx="937728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 txBox="1"/>
            <p:nvPr/>
          </p:nvSpPr>
          <p:spPr>
            <a:xfrm>
              <a:off x="-233280" y="0"/>
              <a:ext cx="9377280" cy="685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0" y="333000"/>
            <a:ext cx="4194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听听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蜜蜂扇动翅膀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嗡嗡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和花朵告别的声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听听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 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 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石榴露出笑脸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啪啪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”</a:t>
            </a: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是对秋姑娘的问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只只燕子追上白云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撒下一阵暖暖的叮咛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一阵阵秋风掠过果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送来一片丰收的歌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9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924360" y="259920"/>
            <a:ext cx="49132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走进秋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走进这五彩缤纷的演奏厅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你仔细地去欣赏这秋的奏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每一个红红的苹果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每一片绚丽的花瓣上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每一滴晶莹的露珠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在每一朵绽放的秋菊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听听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秋的声音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从远方匆匆地跑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又向远方匆匆地离去 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2" descr="枫叶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自主作业</a:t>
            </a:r>
            <a:r>
              <a:rPr b="1" lang="zh-CN" sz="6000" spc="-1" strike="noStrike">
                <a:solidFill>
                  <a:srgbClr val="009999"/>
                </a:solidFill>
                <a:latin typeface="Arial"/>
              </a:rPr>
              <a:t>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520560" y="1916280"/>
            <a:ext cx="8541000" cy="41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爱诵读的你，可以美美地读读课文，“读出”秋天的声音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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爱绘画的你，可以“画出”秋天的声音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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爱写作的你，可以“写出”秋天的声音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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E36BA-E97E-4320-81D0-E0EB85FA20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5977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小学语文（散文）02-1"/>
          <p:cNvPicPr/>
          <p:nvPr/>
        </p:nvPicPr>
        <p:blipFill>
          <a:blip r:embed="rId2"/>
          <a:stretch/>
        </p:blipFill>
        <p:spPr>
          <a:xfrm>
            <a:off x="0" y="260280"/>
            <a:ext cx="2987640" cy="757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4"/>
          <p:cNvSpPr/>
          <p:nvPr/>
        </p:nvSpPr>
        <p:spPr>
          <a:xfrm>
            <a:off x="990720" y="175248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自然界中有许多美妙的声音。不信，你听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5"/>
          <p:cNvGrpSpPr/>
          <p:nvPr/>
        </p:nvGrpSpPr>
        <p:grpSpPr>
          <a:xfrm>
            <a:off x="2556000" y="2421000"/>
            <a:ext cx="3744360" cy="720360"/>
            <a:chOff x="2556000" y="2421000"/>
            <a:chExt cx="3744360" cy="720360"/>
          </a:xfrm>
        </p:grpSpPr>
        <p:sp>
          <p:nvSpPr>
            <p:cNvPr id="56" name="AutoShape 6"/>
            <p:cNvSpPr/>
            <p:nvPr/>
          </p:nvSpPr>
          <p:spPr>
            <a:xfrm>
              <a:off x="2556000" y="2421000"/>
              <a:ext cx="660600" cy="720360"/>
            </a:xfrm>
            <a:custGeom>
              <a:avLst/>
              <a:gdLst>
                <a:gd name="textAreaLeft" fmla="*/ 41040 w 660600"/>
                <a:gd name="textAreaRight" fmla="*/ 619560 w 660600"/>
                <a:gd name="textAreaTop" fmla="*/ 41040 h 720360"/>
                <a:gd name="textAreaBottom" fmla="*/ 679320 h 720360"/>
              </a:gdLst>
              <a:ahLst/>
              <a:rect l="textAreaLeft" t="textAreaTop" r="textAreaRight" b="textAreaBottom"/>
              <a:pathLst>
                <a:path w="21600" h="23553">
                  <a:moveTo>
                    <a:pt x="0" y="0"/>
                  </a:moveTo>
                  <a:lnTo>
                    <a:pt x="21600" y="0"/>
                  </a:lnTo>
                  <a:lnTo>
                    <a:pt x="21600" y="23553"/>
                  </a:lnTo>
                  <a:lnTo>
                    <a:pt x="0" y="23553"/>
                  </a:lnTo>
                  <a:close/>
                </a:path>
                <a:path fill="lightenLess" w="21600" h="23553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3553">
                  <a:moveTo>
                    <a:pt x="21600" y="0"/>
                  </a:moveTo>
                  <a:lnTo>
                    <a:pt x="21600" y="23553"/>
                  </a:lnTo>
                  <a:lnTo>
                    <a:pt x="20250" y="22203"/>
                  </a:lnTo>
                  <a:lnTo>
                    <a:pt x="20250" y="1350"/>
                  </a:lnTo>
                  <a:close/>
                </a:path>
                <a:path fill="darkenLess" w="21600" h="23553">
                  <a:moveTo>
                    <a:pt x="21600" y="23553"/>
                  </a:moveTo>
                  <a:lnTo>
                    <a:pt x="0" y="23553"/>
                  </a:lnTo>
                  <a:lnTo>
                    <a:pt x="1350" y="22203"/>
                  </a:lnTo>
                  <a:lnTo>
                    <a:pt x="20250" y="22203"/>
                  </a:lnTo>
                  <a:close/>
                </a:path>
                <a:path fill="lighten" w="21600" h="23553">
                  <a:moveTo>
                    <a:pt x="0" y="23553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2203"/>
                  </a:lnTo>
                  <a:close/>
                </a:path>
                <a:path fill="darken" w="21600" h="23553">
                  <a:moveTo>
                    <a:pt x="3756" y="9370"/>
                  </a:moveTo>
                  <a:lnTo>
                    <a:pt x="8210" y="9370"/>
                  </a:lnTo>
                  <a:lnTo>
                    <a:pt x="12655" y="4733"/>
                  </a:lnTo>
                  <a:lnTo>
                    <a:pt x="12655" y="18820"/>
                  </a:lnTo>
                  <a:lnTo>
                    <a:pt x="8210" y="14183"/>
                  </a:lnTo>
                  <a:lnTo>
                    <a:pt x="3756" y="14183"/>
                  </a:lnTo>
                  <a:close/>
                </a:path>
                <a:path fill="darken" w="21600" h="23553">
                  <a:moveTo>
                    <a:pt x="14318" y="11776"/>
                  </a:moveTo>
                  <a:lnTo>
                    <a:pt x="17844" y="11776"/>
                  </a:lnTo>
                </a:path>
                <a:path fill="darken" w="21600" h="23553">
                  <a:moveTo>
                    <a:pt x="14318" y="9370"/>
                  </a:moveTo>
                  <a:lnTo>
                    <a:pt x="17844" y="6588"/>
                  </a:lnTo>
                </a:path>
                <a:path fill="darken" w="21600" h="23553">
                  <a:moveTo>
                    <a:pt x="14318" y="14183"/>
                  </a:moveTo>
                  <a:lnTo>
                    <a:pt x="17844" y="16965"/>
                  </a:lnTo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AutoShape 7"/>
            <p:cNvSpPr/>
            <p:nvPr/>
          </p:nvSpPr>
          <p:spPr>
            <a:xfrm>
              <a:off x="3547080" y="2421000"/>
              <a:ext cx="660600" cy="720360"/>
            </a:xfrm>
            <a:custGeom>
              <a:avLst/>
              <a:gdLst>
                <a:gd name="textAreaLeft" fmla="*/ 41040 w 660600"/>
                <a:gd name="textAreaRight" fmla="*/ 619560 w 660600"/>
                <a:gd name="textAreaTop" fmla="*/ 41040 h 720360"/>
                <a:gd name="textAreaBottom" fmla="*/ 679320 h 720360"/>
              </a:gdLst>
              <a:ahLst/>
              <a:rect l="textAreaLeft" t="textAreaTop" r="textAreaRight" b="textAreaBottom"/>
              <a:pathLst>
                <a:path w="21600" h="23553">
                  <a:moveTo>
                    <a:pt x="0" y="0"/>
                  </a:moveTo>
                  <a:lnTo>
                    <a:pt x="21600" y="0"/>
                  </a:lnTo>
                  <a:lnTo>
                    <a:pt x="21600" y="23553"/>
                  </a:lnTo>
                  <a:lnTo>
                    <a:pt x="0" y="23553"/>
                  </a:lnTo>
                  <a:close/>
                </a:path>
                <a:path fill="lightenLess" w="21600" h="23553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3553">
                  <a:moveTo>
                    <a:pt x="21600" y="0"/>
                  </a:moveTo>
                  <a:lnTo>
                    <a:pt x="21600" y="23553"/>
                  </a:lnTo>
                  <a:lnTo>
                    <a:pt x="20250" y="22203"/>
                  </a:lnTo>
                  <a:lnTo>
                    <a:pt x="20250" y="1350"/>
                  </a:lnTo>
                  <a:close/>
                </a:path>
                <a:path fill="darkenLess" w="21600" h="23553">
                  <a:moveTo>
                    <a:pt x="21600" y="23553"/>
                  </a:moveTo>
                  <a:lnTo>
                    <a:pt x="0" y="23553"/>
                  </a:lnTo>
                  <a:lnTo>
                    <a:pt x="1350" y="22203"/>
                  </a:lnTo>
                  <a:lnTo>
                    <a:pt x="20250" y="22203"/>
                  </a:lnTo>
                  <a:close/>
                </a:path>
                <a:path fill="lighten" w="21600" h="23553">
                  <a:moveTo>
                    <a:pt x="0" y="23553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2203"/>
                  </a:lnTo>
                  <a:close/>
                </a:path>
                <a:path fill="darken" w="21600" h="23553">
                  <a:moveTo>
                    <a:pt x="3756" y="9370"/>
                  </a:moveTo>
                  <a:lnTo>
                    <a:pt x="8210" y="9370"/>
                  </a:lnTo>
                  <a:lnTo>
                    <a:pt x="12655" y="4733"/>
                  </a:lnTo>
                  <a:lnTo>
                    <a:pt x="12655" y="18820"/>
                  </a:lnTo>
                  <a:lnTo>
                    <a:pt x="8210" y="14183"/>
                  </a:lnTo>
                  <a:lnTo>
                    <a:pt x="3756" y="14183"/>
                  </a:lnTo>
                  <a:close/>
                </a:path>
                <a:path fill="darken" w="21600" h="23553">
                  <a:moveTo>
                    <a:pt x="14318" y="11776"/>
                  </a:moveTo>
                  <a:lnTo>
                    <a:pt x="17844" y="11776"/>
                  </a:lnTo>
                </a:path>
                <a:path fill="darken" w="21600" h="23553">
                  <a:moveTo>
                    <a:pt x="14318" y="9370"/>
                  </a:moveTo>
                  <a:lnTo>
                    <a:pt x="17844" y="6588"/>
                  </a:lnTo>
                </a:path>
                <a:path fill="darken" w="21600" h="23553">
                  <a:moveTo>
                    <a:pt x="14318" y="14183"/>
                  </a:moveTo>
                  <a:lnTo>
                    <a:pt x="17844" y="16965"/>
                  </a:lnTo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AutoShape 8"/>
            <p:cNvSpPr/>
            <p:nvPr/>
          </p:nvSpPr>
          <p:spPr>
            <a:xfrm>
              <a:off x="4593600" y="2421000"/>
              <a:ext cx="660600" cy="720360"/>
            </a:xfrm>
            <a:custGeom>
              <a:avLst/>
              <a:gdLst>
                <a:gd name="textAreaLeft" fmla="*/ 41040 w 660600"/>
                <a:gd name="textAreaRight" fmla="*/ 619560 w 660600"/>
                <a:gd name="textAreaTop" fmla="*/ 41040 h 720360"/>
                <a:gd name="textAreaBottom" fmla="*/ 679320 h 720360"/>
              </a:gdLst>
              <a:ahLst/>
              <a:rect l="textAreaLeft" t="textAreaTop" r="textAreaRight" b="textAreaBottom"/>
              <a:pathLst>
                <a:path w="21600" h="23553">
                  <a:moveTo>
                    <a:pt x="0" y="0"/>
                  </a:moveTo>
                  <a:lnTo>
                    <a:pt x="21600" y="0"/>
                  </a:lnTo>
                  <a:lnTo>
                    <a:pt x="21600" y="23553"/>
                  </a:lnTo>
                  <a:lnTo>
                    <a:pt x="0" y="23553"/>
                  </a:lnTo>
                  <a:close/>
                </a:path>
                <a:path fill="lightenLess" w="21600" h="23553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3553">
                  <a:moveTo>
                    <a:pt x="21600" y="0"/>
                  </a:moveTo>
                  <a:lnTo>
                    <a:pt x="21600" y="23553"/>
                  </a:lnTo>
                  <a:lnTo>
                    <a:pt x="20250" y="22203"/>
                  </a:lnTo>
                  <a:lnTo>
                    <a:pt x="20250" y="1350"/>
                  </a:lnTo>
                  <a:close/>
                </a:path>
                <a:path fill="darkenLess" w="21600" h="23553">
                  <a:moveTo>
                    <a:pt x="21600" y="23553"/>
                  </a:moveTo>
                  <a:lnTo>
                    <a:pt x="0" y="23553"/>
                  </a:lnTo>
                  <a:lnTo>
                    <a:pt x="1350" y="22203"/>
                  </a:lnTo>
                  <a:lnTo>
                    <a:pt x="20250" y="22203"/>
                  </a:lnTo>
                  <a:close/>
                </a:path>
                <a:path fill="lighten" w="21600" h="23553">
                  <a:moveTo>
                    <a:pt x="0" y="23553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2203"/>
                  </a:lnTo>
                  <a:close/>
                </a:path>
                <a:path fill="darken" w="21600" h="23553">
                  <a:moveTo>
                    <a:pt x="3756" y="9370"/>
                  </a:moveTo>
                  <a:lnTo>
                    <a:pt x="8210" y="9370"/>
                  </a:lnTo>
                  <a:lnTo>
                    <a:pt x="12655" y="4733"/>
                  </a:lnTo>
                  <a:lnTo>
                    <a:pt x="12655" y="18820"/>
                  </a:lnTo>
                  <a:lnTo>
                    <a:pt x="8210" y="14183"/>
                  </a:lnTo>
                  <a:lnTo>
                    <a:pt x="3756" y="14183"/>
                  </a:lnTo>
                  <a:close/>
                </a:path>
                <a:path fill="darken" w="21600" h="23553">
                  <a:moveTo>
                    <a:pt x="14318" y="11776"/>
                  </a:moveTo>
                  <a:lnTo>
                    <a:pt x="17844" y="11776"/>
                  </a:lnTo>
                </a:path>
                <a:path fill="darken" w="21600" h="23553">
                  <a:moveTo>
                    <a:pt x="14318" y="9370"/>
                  </a:moveTo>
                  <a:lnTo>
                    <a:pt x="17844" y="6588"/>
                  </a:lnTo>
                </a:path>
                <a:path fill="darken" w="21600" h="23553">
                  <a:moveTo>
                    <a:pt x="14318" y="14183"/>
                  </a:moveTo>
                  <a:lnTo>
                    <a:pt x="17844" y="16965"/>
                  </a:lnTo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AutoShape 9"/>
            <p:cNvSpPr/>
            <p:nvPr/>
          </p:nvSpPr>
          <p:spPr>
            <a:xfrm>
              <a:off x="5639760" y="2421000"/>
              <a:ext cx="660600" cy="720360"/>
            </a:xfrm>
            <a:custGeom>
              <a:avLst/>
              <a:gdLst>
                <a:gd name="textAreaLeft" fmla="*/ 41040 w 660600"/>
                <a:gd name="textAreaRight" fmla="*/ 619560 w 660600"/>
                <a:gd name="textAreaTop" fmla="*/ 41040 h 720360"/>
                <a:gd name="textAreaBottom" fmla="*/ 679320 h 720360"/>
              </a:gdLst>
              <a:ahLst/>
              <a:rect l="textAreaLeft" t="textAreaTop" r="textAreaRight" b="textAreaBottom"/>
              <a:pathLst>
                <a:path w="21600" h="23553">
                  <a:moveTo>
                    <a:pt x="0" y="0"/>
                  </a:moveTo>
                  <a:lnTo>
                    <a:pt x="21600" y="0"/>
                  </a:lnTo>
                  <a:lnTo>
                    <a:pt x="21600" y="23553"/>
                  </a:lnTo>
                  <a:lnTo>
                    <a:pt x="0" y="23553"/>
                  </a:lnTo>
                  <a:close/>
                </a:path>
                <a:path fill="lightenLess" w="21600" h="23553">
                  <a:moveTo>
                    <a:pt x="0" y="0"/>
                  </a:moveTo>
                  <a:lnTo>
                    <a:pt x="21600" y="0"/>
                  </a:lnTo>
                  <a:lnTo>
                    <a:pt x="20250" y="1350"/>
                  </a:lnTo>
                  <a:lnTo>
                    <a:pt x="1350" y="1350"/>
                  </a:lnTo>
                  <a:close/>
                </a:path>
                <a:path fill="darken" w="21600" h="23553">
                  <a:moveTo>
                    <a:pt x="21600" y="0"/>
                  </a:moveTo>
                  <a:lnTo>
                    <a:pt x="21600" y="23553"/>
                  </a:lnTo>
                  <a:lnTo>
                    <a:pt x="20250" y="22203"/>
                  </a:lnTo>
                  <a:lnTo>
                    <a:pt x="20250" y="1350"/>
                  </a:lnTo>
                  <a:close/>
                </a:path>
                <a:path fill="darkenLess" w="21600" h="23553">
                  <a:moveTo>
                    <a:pt x="21600" y="23553"/>
                  </a:moveTo>
                  <a:lnTo>
                    <a:pt x="0" y="23553"/>
                  </a:lnTo>
                  <a:lnTo>
                    <a:pt x="1350" y="22203"/>
                  </a:lnTo>
                  <a:lnTo>
                    <a:pt x="20250" y="22203"/>
                  </a:lnTo>
                  <a:close/>
                </a:path>
                <a:path fill="lighten" w="21600" h="23553">
                  <a:moveTo>
                    <a:pt x="0" y="23553"/>
                  </a:moveTo>
                  <a:lnTo>
                    <a:pt x="0" y="0"/>
                  </a:lnTo>
                  <a:lnTo>
                    <a:pt x="1350" y="1350"/>
                  </a:lnTo>
                  <a:lnTo>
                    <a:pt x="1350" y="22203"/>
                  </a:lnTo>
                  <a:close/>
                </a:path>
                <a:path fill="darken" w="21600" h="23553">
                  <a:moveTo>
                    <a:pt x="3756" y="9370"/>
                  </a:moveTo>
                  <a:lnTo>
                    <a:pt x="8210" y="9370"/>
                  </a:lnTo>
                  <a:lnTo>
                    <a:pt x="12655" y="4733"/>
                  </a:lnTo>
                  <a:lnTo>
                    <a:pt x="12655" y="18820"/>
                  </a:lnTo>
                  <a:lnTo>
                    <a:pt x="8210" y="14183"/>
                  </a:lnTo>
                  <a:lnTo>
                    <a:pt x="3756" y="14183"/>
                  </a:lnTo>
                  <a:close/>
                </a:path>
                <a:path fill="darken" w="21600" h="23553">
                  <a:moveTo>
                    <a:pt x="14318" y="11776"/>
                  </a:moveTo>
                  <a:lnTo>
                    <a:pt x="17844" y="11776"/>
                  </a:lnTo>
                </a:path>
                <a:path fill="darken" w="21600" h="23553">
                  <a:moveTo>
                    <a:pt x="14318" y="9370"/>
                  </a:moveTo>
                  <a:lnTo>
                    <a:pt x="17844" y="6588"/>
                  </a:lnTo>
                </a:path>
                <a:path fill="darken" w="21600" h="23553">
                  <a:moveTo>
                    <a:pt x="14318" y="14183"/>
                  </a:moveTo>
                  <a:lnTo>
                    <a:pt x="17844" y="16965"/>
                  </a:lnTo>
                </a:path>
              </a:pathLst>
            </a:custGeom>
            <a:solidFill>
              <a:srgbClr val="33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AutoShape 10"/>
          <p:cNvSpPr/>
          <p:nvPr/>
        </p:nvSpPr>
        <p:spPr>
          <a:xfrm>
            <a:off x="4500720" y="3357720"/>
            <a:ext cx="3421080" cy="2112840"/>
          </a:xfrm>
          <a:prstGeom prst="wedgeEllipseCallout">
            <a:avLst>
              <a:gd name="adj1" fmla="val -65824"/>
              <a:gd name="adj2" fmla="val 3512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听着这些声音，你想到了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1" descr="r05"/>
          <p:cNvPicPr/>
          <p:nvPr/>
        </p:nvPicPr>
        <p:blipFill>
          <a:blip r:embed="rId3"/>
          <a:stretch/>
        </p:blipFill>
        <p:spPr>
          <a:xfrm>
            <a:off x="2286000" y="3965400"/>
            <a:ext cx="1731960" cy="2892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500"/>
                            </p:stCondLst>
                            <p:childTnLst>
                              <p:par>
                                <p:cTn id="3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956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3" descr="小学语文（散文）02-2"/>
          <p:cNvPicPr/>
          <p:nvPr/>
        </p:nvPicPr>
        <p:blipFill>
          <a:blip r:embed="rId2"/>
          <a:stretch/>
        </p:blipFill>
        <p:spPr>
          <a:xfrm>
            <a:off x="468360" y="692280"/>
            <a:ext cx="2374920" cy="911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4"/>
          <p:cNvSpPr/>
          <p:nvPr/>
        </p:nvSpPr>
        <p:spPr>
          <a:xfrm>
            <a:off x="1219320" y="2133720"/>
            <a:ext cx="670536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自读课文，读准字音，读通句子，生字可以多读几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quirisiyu.mp3" descr=""/>
          <p:cNvPicPr/>
          <p:nvPr/>
        </p:nvPicPr>
        <p:blipFill>
          <a:blip r:embed="rId3"/>
          <a:stretch/>
        </p:blipFill>
        <p:spPr>
          <a:xfrm>
            <a:off x="8101080" y="5877000"/>
            <a:ext cx="736560" cy="736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52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02485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2"/>
          <p:cNvSpPr/>
          <p:nvPr/>
        </p:nvSpPr>
        <p:spPr>
          <a:xfrm>
            <a:off x="3635280" y="1125360"/>
            <a:ext cx="129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"/>
          <p:cNvSpPr/>
          <p:nvPr/>
        </p:nvSpPr>
        <p:spPr>
          <a:xfrm>
            <a:off x="5940360" y="2924280"/>
            <a:ext cx="2828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圣诞老人6"/>
          <p:cNvPicPr/>
          <p:nvPr/>
        </p:nvPicPr>
        <p:blipFill>
          <a:blip r:embed="rId1"/>
          <a:stretch/>
        </p:blipFill>
        <p:spPr>
          <a:xfrm>
            <a:off x="0" y="765000"/>
            <a:ext cx="3024360" cy="5040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419640" y="1700280"/>
            <a:ext cx="1008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329280" y="1209600"/>
            <a:ext cx="122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è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 flipH="1">
            <a:off x="4427640" y="191628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6084720" y="3068640"/>
            <a:ext cx="331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叮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6300720" y="1773360"/>
            <a:ext cx="10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绽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6135840" y="1197000"/>
            <a:ext cx="138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3348000" y="3573360"/>
            <a:ext cx="107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辽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2"/>
          <p:cNvSpPr/>
          <p:nvPr/>
        </p:nvSpPr>
        <p:spPr>
          <a:xfrm>
            <a:off x="3471840" y="2997360"/>
            <a:ext cx="117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iá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13" descr="2"/>
          <p:cNvPicPr/>
          <p:nvPr/>
        </p:nvPicPr>
        <p:blipFill>
          <a:blip r:embed="rId2"/>
          <a:stretch/>
        </p:blipFill>
        <p:spPr>
          <a:xfrm>
            <a:off x="6948360" y="5229360"/>
            <a:ext cx="2195640" cy="162864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4"/>
          <p:cNvSpPr/>
          <p:nvPr/>
        </p:nvSpPr>
        <p:spPr>
          <a:xfrm>
            <a:off x="7308720" y="191628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5"/>
          <p:cNvSpPr/>
          <p:nvPr/>
        </p:nvSpPr>
        <p:spPr>
          <a:xfrm>
            <a:off x="4614120" y="378936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6012000" y="3068640"/>
            <a:ext cx="25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ī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ng  níng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9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3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5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13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8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4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5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7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9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6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4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45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66">
                                          <p:stCondLst>
                                            <p:cond delay="166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83">
                                          <p:stCondLst>
                                            <p:cond delay="331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41">
                                          <p:stCondLst>
                                            <p:cond delay="414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" dur="7" fill="hold">
                                          <p:stCondLst>
                                            <p:cond delay="16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8" dur="41" fill="hold">
                                          <p:stCondLst>
                                            <p:cond delay="16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9" dur="7" fill="hold">
                                          <p:stCondLst>
                                            <p:cond delay="32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0" dur="41" fill="hold">
                                          <p:stCondLst>
                                            <p:cond delay="335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1" dur="7" fill="hold">
                                          <p:stCondLst>
                                            <p:cond delay="41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72" dur="41" fill="hold">
                                          <p:stCondLst>
                                            <p:cond delay="417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3" dur="7" fill="hold">
                                          <p:stCondLst>
                                            <p:cond delay="452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74" dur="41" fill="hold">
                                          <p:stCondLst>
                                            <p:cond delay="458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79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228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2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78" autoRev="1" fill="hold">
                                          <p:stCondLst>
                                            <p:cond delay="228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68" fill="hold">
                                          <p:stCondLst>
                                            <p:cond delay="432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20070117214651610"/>
          <p:cNvPicPr/>
          <p:nvPr/>
        </p:nvPicPr>
        <p:blipFill>
          <a:blip r:embed="rId1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852000" y="1219320"/>
            <a:ext cx="34146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手臂  刷刷  蟋蟀  振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歌韵  叮咛  掠过  歌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辽阔  大厅  绽开  匆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未标题-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3"/>
          <p:cNvSpPr/>
          <p:nvPr/>
        </p:nvSpPr>
        <p:spPr>
          <a:xfrm>
            <a:off x="900000" y="2205000"/>
            <a:ext cx="75596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你在诗中听到了哪些声音？你最喜欢哪种声音，喜欢的话多读几遍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小学语文（散文）02-2"/>
          <p:cNvPicPr/>
          <p:nvPr/>
        </p:nvPicPr>
        <p:blipFill>
          <a:blip r:embed="rId2"/>
          <a:stretch/>
        </p:blipFill>
        <p:spPr>
          <a:xfrm>
            <a:off x="941400" y="836640"/>
            <a:ext cx="226224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slide0005_image013"/>
          <p:cNvPicPr/>
          <p:nvPr/>
        </p:nvPicPr>
        <p:blipFill>
          <a:blip r:embed="rId1"/>
          <a:stretch/>
        </p:blipFill>
        <p:spPr>
          <a:xfrm>
            <a:off x="-252360" y="0"/>
            <a:ext cx="9612360" cy="707400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3" descr="未命名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752480" y="1981080"/>
            <a:ext cx="5561280" cy="41720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4" descr="小学语文（散文）02-3"/>
          <p:cNvPicPr/>
          <p:nvPr/>
        </p:nvPicPr>
        <p:blipFill>
          <a:blip r:embed="rId4"/>
          <a:stretch/>
        </p:blipFill>
        <p:spPr>
          <a:xfrm>
            <a:off x="952560" y="1219320"/>
            <a:ext cx="1714320" cy="457200"/>
          </a:xfrm>
          <a:prstGeom prst="rect">
            <a:avLst/>
          </a:prstGeom>
          <a:ln w="0">
            <a:noFill/>
          </a:ln>
        </p:spPr>
      </p:pic>
      <p:grpSp>
        <p:nvGrpSpPr>
          <p:cNvPr id="89" name="Group 5"/>
          <p:cNvGrpSpPr/>
          <p:nvPr/>
        </p:nvGrpSpPr>
        <p:grpSpPr>
          <a:xfrm>
            <a:off x="2459160" y="2133720"/>
            <a:ext cx="4322160" cy="4340160"/>
            <a:chOff x="2459160" y="2133720"/>
            <a:chExt cx="4322160" cy="4340160"/>
          </a:xfrm>
        </p:grpSpPr>
        <p:sp>
          <p:nvSpPr>
            <p:cNvPr id="90" name="AutoShape 6"/>
            <p:cNvSpPr/>
            <p:nvPr/>
          </p:nvSpPr>
          <p:spPr>
            <a:xfrm>
              <a:off x="4190760" y="2133720"/>
              <a:ext cx="2590560" cy="1724040"/>
            </a:xfrm>
            <a:prstGeom prst="cloudCallout">
              <a:avLst>
                <a:gd name="adj1" fmla="val -58944"/>
                <a:gd name="adj2" fmla="val 10451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看谁读得最好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7" descr="r05"/>
            <p:cNvPicPr/>
            <p:nvPr/>
          </p:nvPicPr>
          <p:blipFill>
            <a:blip r:embed="rId5"/>
            <a:stretch/>
          </p:blipFill>
          <p:spPr>
            <a:xfrm>
              <a:off x="2459160" y="3581640"/>
              <a:ext cx="1731600" cy="289224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8T11:31:27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8-23T05:09:00Z</dcterms:modified>
  <cp:revision>23</cp:revision>
  <dc:subject/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