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D092-9684-422D-944B-911DA5C8B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FA76-8806-407E-97E2-10B9A201D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808B-2928-4A99-A0F6-4F888F65A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F4C7-B6E4-4BD2-90A6-D619890C1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A857-4686-479B-9AD5-C641CC0A7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6786-3A31-4144-AA8B-AE0CF5160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5CDB-094E-4CDA-A311-0FA03C246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D23B-5707-47DD-A7AA-F9DB273D4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DAF1-25DF-4549-99B8-1F4D9538B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75A6-310E-476D-A6A2-4173C6F46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5089-3244-421D-B6A7-7D17309EC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2078-BC57-4BFE-8E37-C6C012338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0776D-AE3C-4BE2-82C7-C91D33FADCF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E669D-0021-4899-85E2-F71B8B1704E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"/>
          <p:cNvSpPr/>
          <p:nvPr/>
        </p:nvSpPr>
        <p:spPr>
          <a:xfrm>
            <a:off x="0" y="3492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37760" y="1676520"/>
            <a:ext cx="26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舞蹈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4771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B34F-6C83-44C4-BE3B-7BEE175D757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6:42:22Z</dcterms:modified>
  <cp:revision>5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