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A0B1-5A1C-4F5F-9C56-F12BDBC4E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8800" y="22597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A430-DB6C-46F9-AE90-BD71FAD46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0876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C0DE-33F9-40E2-989C-957A741E5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9276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5708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82880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9276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5708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9347-D4CC-46CE-BB19-A0073895E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8800" y="2666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AADC-2269-473E-B7CE-A74D91AA1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0876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8800" y="22597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0876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276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708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82880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276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708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8B3E-6341-42E7-8C37-517EA02BA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CC0D-1EF0-4A9A-865B-DD4B1180F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92F4-CF8E-4831-85FB-40522FF5B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828800" y="2666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E195-359E-4659-AC25-9E03ECEF5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0401-A7EF-4671-97E3-C2BB291EA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0876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BFF0-1839-473A-B4E8-F7994FFD3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1282-14D6-473B-9550-EB87BCDEF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708360" y="3024360"/>
            <a:ext cx="5435640" cy="3833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25360"/>
            <a:ext cx="2843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95480"/>
            <a:ext cx="914400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907920"/>
            <a:ext cx="9143640" cy="144360"/>
            <a:chOff x="0" y="907920"/>
            <a:chExt cx="9143640" cy="144360"/>
          </a:xfrm>
        </p:grpSpPr>
        <p:sp>
          <p:nvSpPr>
            <p:cNvPr id="5" name=""/>
            <p:cNvSpPr/>
            <p:nvPr/>
          </p:nvSpPr>
          <p:spPr>
            <a:xfrm>
              <a:off x="0" y="90792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97920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522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-7920" y="-7920"/>
            <a:ext cx="2851200" cy="11034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1A77-82CF-40E5-8D8C-3C4786057510}" type="slidenum"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0760"/>
            <a:ext cx="9144000" cy="120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741760"/>
            <a:ext cx="7308720" cy="657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53160" y="304920"/>
            <a:ext cx="1204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外国计算机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模板免费下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2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fe878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393b"/>
                </a:gs>
                <a:gs pos="5000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1c1c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5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5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7c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7c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4245"/>
                </a:gs>
                <a:gs pos="50000">
                  <a:srgbClr val="ff7c80"/>
                </a:gs>
                <a:gs pos="100000">
                  <a:srgbClr val="8942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0"/>
                  </a:srgbClr>
                </a:gs>
                <a:gs pos="100000">
                  <a:srgbClr val="a14e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1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b14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4511e"/>
                </a:gs>
                <a:gs pos="100000">
                  <a:srgbClr val="72b14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d5f24"/>
                </a:gs>
                <a:gs pos="50000">
                  <a:srgbClr val="72b143"/>
                </a:gs>
                <a:gs pos="100000">
                  <a:srgbClr val="3d5f2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72b143">
                    <a:alpha val="0"/>
                  </a:srgbClr>
                </a:gs>
                <a:gs pos="100000">
                  <a:srgbClr val="487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1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6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447920" y="1406520"/>
            <a:ext cx="5715000" cy="4842000"/>
            <a:chOff x="1447920" y="1406520"/>
            <a:chExt cx="5715000" cy="4842000"/>
          </a:xfrm>
        </p:grpSpPr>
        <p:sp>
          <p:nvSpPr>
            <p:cNvPr id="294" name=""/>
            <p:cNvSpPr/>
            <p:nvPr/>
          </p:nvSpPr>
          <p:spPr>
            <a:xfrm rot="13770000">
              <a:off x="4783320" y="399384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0856000">
              <a:off x="2755800" y="351108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394200">
              <a:off x="4918320" y="235548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719520" y="2389320"/>
              <a:ext cx="1652760" cy="1684080"/>
              <a:chOff x="3719520" y="2389320"/>
              <a:chExt cx="1652760" cy="16840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3719520" y="2389320"/>
                <a:ext cx="1652760" cy="1684080"/>
                <a:chOff x="3719520" y="2389320"/>
                <a:chExt cx="1652760" cy="16840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19520" y="238932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>
                  <a:off x="3908160" y="241704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3826440" y="3121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166000" y="1406520"/>
              <a:ext cx="925200" cy="912960"/>
              <a:chOff x="5166000" y="1406520"/>
              <a:chExt cx="925200" cy="91296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166000" y="1406520"/>
                <a:ext cx="894600" cy="912960"/>
                <a:chOff x="5166000" y="1406520"/>
                <a:chExt cx="894600" cy="9129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166000" y="140652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1b2a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>
                  <a:off x="5268240" y="142164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5181840" y="17571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447920" y="2739960"/>
              <a:ext cx="1790640" cy="1895400"/>
              <a:chOff x="1447920" y="2739960"/>
              <a:chExt cx="1790640" cy="18954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1447920" y="2739960"/>
                <a:ext cx="1790640" cy="1895400"/>
                <a:chOff x="1447920" y="2739960"/>
                <a:chExt cx="1790640" cy="18954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447920" y="273996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0" name="未知"/>
                <p:cNvSpPr/>
                <p:nvPr/>
              </p:nvSpPr>
              <p:spPr>
                <a:xfrm>
                  <a:off x="1652400" y="277128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564200" y="3582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097600" y="4143240"/>
              <a:ext cx="2065320" cy="2105280"/>
              <a:chOff x="5097600" y="4143240"/>
              <a:chExt cx="2065320" cy="21052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097600" y="4143240"/>
                <a:ext cx="2065320" cy="2105280"/>
                <a:chOff x="5097600" y="4143240"/>
                <a:chExt cx="2065320" cy="210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097600" y="41432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23f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>
                  <a:off x="5333400" y="41781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5412600" y="5055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43560" y="1944720"/>
            <a:ext cx="7282440" cy="3770280"/>
            <a:chOff x="943560" y="1944720"/>
            <a:chExt cx="7282440" cy="3770280"/>
          </a:xfrm>
        </p:grpSpPr>
        <p:sp>
          <p:nvSpPr>
            <p:cNvPr id="320" name=""/>
            <p:cNvSpPr/>
            <p:nvPr/>
          </p:nvSpPr>
          <p:spPr>
            <a:xfrm rot="17973000">
              <a:off x="4747680" y="2645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3465600">
              <a:off x="4798080" y="47552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4368800">
              <a:off x="3579120" y="266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7534800">
              <a:off x="3540600" y="47217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84880" y="37274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0800000">
              <a:off x="2974680" y="37206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95680" y="197028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4704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5796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6144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47040" y="52974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4356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81640" y="5235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52760" y="37479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67160" y="209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72280" y="209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91200" y="52974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72280" y="529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6680" y="3735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35720" y="30002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7c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40400" y="299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7c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46600" y="3110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4245"/>
                </a:gs>
                <a:gs pos="50000">
                  <a:srgbClr val="ff7c80"/>
                </a:gs>
                <a:gs pos="100000">
                  <a:srgbClr val="8942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43360" y="311328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0"/>
                  </a:srgbClr>
                </a:gs>
                <a:gs pos="100000">
                  <a:srgbClr val="a14e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21120" y="318456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942000" y="3203640"/>
              <a:ext cx="1290600" cy="1278000"/>
              <a:chOff x="3942000" y="3203640"/>
              <a:chExt cx="1290600" cy="1278000"/>
            </a:xfrm>
          </p:grpSpPr>
          <p:sp>
            <p:nvSpPr>
              <p:cNvPr id="345" name=""/>
              <p:cNvSpPr/>
              <p:nvPr/>
            </p:nvSpPr>
            <p:spPr>
              <a:xfrm>
                <a:off x="3942000" y="32036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58560" y="32104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971880" y="32230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41720" y="32554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4205160" y="3676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52" name="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57" name="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365" name="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370" name="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378" name="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1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62120" y="2685960"/>
              <a:ext cx="1931400" cy="3265560"/>
              <a:chOff x="762120" y="2685960"/>
              <a:chExt cx="1931400" cy="32655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164600" y="3522960"/>
                <a:ext cx="1528920" cy="2428560"/>
                <a:chOff x="1164600" y="3522960"/>
                <a:chExt cx="1528920" cy="242856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1164600" y="3681360"/>
                  <a:ext cx="1423080" cy="2270160"/>
                  <a:chOff x="1164600" y="3681360"/>
                  <a:chExt cx="1423080" cy="2270160"/>
                </a:xfrm>
              </p:grpSpPr>
              <p:sp>
                <p:nvSpPr>
                  <p:cNvPr id="397" name="未知"/>
                  <p:cNvSpPr/>
                  <p:nvPr/>
                </p:nvSpPr>
                <p:spPr>
                  <a:xfrm rot="3876600">
                    <a:off x="73656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未知"/>
                  <p:cNvSpPr/>
                  <p:nvPr/>
                </p:nvSpPr>
                <p:spPr>
                  <a:xfrm rot="3876600">
                    <a:off x="210636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1601640" y="3522960"/>
                  <a:ext cx="1091880" cy="1742040"/>
                  <a:chOff x="1601640" y="3522960"/>
                  <a:chExt cx="1091880" cy="1742040"/>
                </a:xfrm>
              </p:grpSpPr>
              <p:sp>
                <p:nvSpPr>
                  <p:cNvPr id="400" name="未知"/>
                  <p:cNvSpPr/>
                  <p:nvPr/>
                </p:nvSpPr>
                <p:spPr>
                  <a:xfrm flipV="1" rot="3876600">
                    <a:off x="127296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未知"/>
                  <p:cNvSpPr/>
                  <p:nvPr/>
                </p:nvSpPr>
                <p:spPr>
                  <a:xfrm flipV="1" rot="3876600">
                    <a:off x="230832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762120" y="2685960"/>
                <a:ext cx="1274040" cy="1311480"/>
                <a:chOff x="762120" y="2685960"/>
                <a:chExt cx="1274040" cy="1311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46360" y="277092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46360" y="277380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9010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916560" y="2844720"/>
                  <a:ext cx="964800" cy="994680"/>
                  <a:chOff x="916560" y="2844720"/>
                  <a:chExt cx="964800" cy="9946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91656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92880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93888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99108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3" name=""/>
              <p:cNvSpPr/>
              <p:nvPr/>
            </p:nvSpPr>
            <p:spPr>
              <a:xfrm rot="3925800">
                <a:off x="113148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3925800">
                <a:off x="15901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509920" y="2685960"/>
              <a:ext cx="1930320" cy="3265560"/>
              <a:chOff x="2509920" y="2685960"/>
              <a:chExt cx="1930320" cy="326556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910960" y="3522600"/>
                <a:ext cx="1529280" cy="2428920"/>
                <a:chOff x="2910960" y="3522600"/>
                <a:chExt cx="1529280" cy="242892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910960" y="3681360"/>
                  <a:ext cx="1423080" cy="2270160"/>
                  <a:chOff x="2910960" y="3681360"/>
                  <a:chExt cx="1423080" cy="2270160"/>
                </a:xfrm>
              </p:grpSpPr>
              <p:sp>
                <p:nvSpPr>
                  <p:cNvPr id="418" name="未知"/>
                  <p:cNvSpPr/>
                  <p:nvPr/>
                </p:nvSpPr>
                <p:spPr>
                  <a:xfrm rot="3876600">
                    <a:off x="248292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未知"/>
                  <p:cNvSpPr/>
                  <p:nvPr/>
                </p:nvSpPr>
                <p:spPr>
                  <a:xfrm rot="3876600">
                    <a:off x="385272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348720" y="3522600"/>
                  <a:ext cx="1091520" cy="1742040"/>
                  <a:chOff x="3348720" y="3522600"/>
                  <a:chExt cx="1091520" cy="1742040"/>
                </a:xfrm>
              </p:grpSpPr>
              <p:sp>
                <p:nvSpPr>
                  <p:cNvPr id="421" name="未知"/>
                  <p:cNvSpPr/>
                  <p:nvPr/>
                </p:nvSpPr>
                <p:spPr>
                  <a:xfrm flipV="1" rot="3876600">
                    <a:off x="3020040" y="4203720"/>
                    <a:ext cx="17485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未知"/>
                  <p:cNvSpPr/>
                  <p:nvPr/>
                </p:nvSpPr>
                <p:spPr>
                  <a:xfrm flipV="1" rot="3876600">
                    <a:off x="4055400" y="488736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3" name=""/>
              <p:cNvGrpSpPr/>
              <p:nvPr/>
            </p:nvGrpSpPr>
            <p:grpSpPr>
              <a:xfrm>
                <a:off x="2509920" y="2685960"/>
                <a:ext cx="1273680" cy="1311480"/>
                <a:chOff x="2509920" y="2685960"/>
                <a:chExt cx="1273680" cy="13114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94160" y="277092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594160" y="277380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6488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2664000" y="2844720"/>
                  <a:ext cx="964800" cy="994680"/>
                  <a:chOff x="2664000" y="2844720"/>
                  <a:chExt cx="964800" cy="9946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266400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67624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68632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73852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4" name=""/>
              <p:cNvSpPr/>
              <p:nvPr/>
            </p:nvSpPr>
            <p:spPr>
              <a:xfrm rot="3925800">
                <a:off x="287280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3925800">
                <a:off x="33307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313160" y="2685960"/>
              <a:ext cx="1931400" cy="3265560"/>
              <a:chOff x="4313160" y="2685960"/>
              <a:chExt cx="1931400" cy="32655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4715640" y="3522960"/>
                <a:ext cx="1528920" cy="2428560"/>
                <a:chOff x="4715640" y="3522960"/>
                <a:chExt cx="1528920" cy="24285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4715640" y="3681360"/>
                  <a:ext cx="1423080" cy="2270160"/>
                  <a:chOff x="4715640" y="3681360"/>
                  <a:chExt cx="1423080" cy="2270160"/>
                </a:xfrm>
              </p:grpSpPr>
              <p:sp>
                <p:nvSpPr>
                  <p:cNvPr id="439" name="未知"/>
                  <p:cNvSpPr/>
                  <p:nvPr/>
                </p:nvSpPr>
                <p:spPr>
                  <a:xfrm rot="3876600">
                    <a:off x="428760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未知"/>
                  <p:cNvSpPr/>
                  <p:nvPr/>
                </p:nvSpPr>
                <p:spPr>
                  <a:xfrm rot="3876600">
                    <a:off x="565740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5152680" y="3522960"/>
                  <a:ext cx="1091880" cy="1742040"/>
                  <a:chOff x="5152680" y="3522960"/>
                  <a:chExt cx="1091880" cy="1742040"/>
                </a:xfrm>
              </p:grpSpPr>
              <p:sp>
                <p:nvSpPr>
                  <p:cNvPr id="442" name="未知"/>
                  <p:cNvSpPr/>
                  <p:nvPr/>
                </p:nvSpPr>
                <p:spPr>
                  <a:xfrm flipV="1" rot="3876600">
                    <a:off x="482400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未知"/>
                  <p:cNvSpPr/>
                  <p:nvPr/>
                </p:nvSpPr>
                <p:spPr>
                  <a:xfrm flipV="1" rot="3876600">
                    <a:off x="585936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4" name=""/>
              <p:cNvGrpSpPr/>
              <p:nvPr/>
            </p:nvGrpSpPr>
            <p:grpSpPr>
              <a:xfrm>
                <a:off x="4313160" y="2685960"/>
                <a:ext cx="1275840" cy="1311480"/>
                <a:chOff x="4313160" y="2685960"/>
                <a:chExt cx="1275840" cy="13114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397400" y="277092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397400" y="277380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452480" y="2829240"/>
                  <a:ext cx="99684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4467600" y="2844720"/>
                  <a:ext cx="966240" cy="994680"/>
                  <a:chOff x="4467600" y="2844720"/>
                  <a:chExt cx="966240" cy="99468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4467600" y="2844720"/>
                    <a:ext cx="96624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479840" y="2850120"/>
                    <a:ext cx="94284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489920" y="2859840"/>
                    <a:ext cx="89676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542480" y="2885040"/>
                    <a:ext cx="79704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5" name=""/>
              <p:cNvSpPr/>
              <p:nvPr/>
            </p:nvSpPr>
            <p:spPr>
              <a:xfrm rot="3925800">
                <a:off x="468576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3925800">
                <a:off x="514440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6684480" y="3589920"/>
                <a:ext cx="1528200" cy="2427840"/>
                <a:chOff x="6684480" y="3589920"/>
                <a:chExt cx="1528200" cy="242784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6684480" y="3747960"/>
                  <a:ext cx="1422360" cy="2269800"/>
                  <a:chOff x="6684480" y="3747960"/>
                  <a:chExt cx="1422360" cy="2269800"/>
                </a:xfrm>
              </p:grpSpPr>
              <p:sp>
                <p:nvSpPr>
                  <p:cNvPr id="460" name="未知"/>
                  <p:cNvSpPr/>
                  <p:nvPr/>
                </p:nvSpPr>
                <p:spPr>
                  <a:xfrm rot="3876600">
                    <a:off x="6256080" y="4636080"/>
                    <a:ext cx="227844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未知"/>
                  <p:cNvSpPr/>
                  <p:nvPr/>
                </p:nvSpPr>
                <p:spPr>
                  <a:xfrm rot="3876600">
                    <a:off x="762516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7121160" y="3589920"/>
                  <a:ext cx="1091520" cy="1741680"/>
                  <a:chOff x="7121160" y="3589920"/>
                  <a:chExt cx="1091520" cy="1741680"/>
                </a:xfrm>
              </p:grpSpPr>
              <p:sp>
                <p:nvSpPr>
                  <p:cNvPr id="463" name="未知"/>
                  <p:cNvSpPr/>
                  <p:nvPr/>
                </p:nvSpPr>
                <p:spPr>
                  <a:xfrm flipV="1" rot="3876600">
                    <a:off x="6792480" y="4271760"/>
                    <a:ext cx="17485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未知"/>
                  <p:cNvSpPr/>
                  <p:nvPr/>
                </p:nvSpPr>
                <p:spPr>
                  <a:xfrm flipV="1" rot="3876600">
                    <a:off x="7827480" y="49543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5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91640" y="2644920"/>
                <a:ext cx="1329480" cy="13647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93440" y="2647800"/>
                <a:ext cx="1329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256800" y="2713320"/>
                <a:ext cx="1197000" cy="122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6276240" y="2732400"/>
                <a:ext cx="1160280" cy="1191600"/>
                <a:chOff x="6276240" y="2732400"/>
                <a:chExt cx="1160280" cy="11916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276240" y="2732400"/>
                  <a:ext cx="1160280" cy="119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291000" y="2738880"/>
                  <a:ext cx="1132200" cy="116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302880" y="2750400"/>
                  <a:ext cx="1076760" cy="108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365880" y="2780640"/>
                  <a:ext cx="957240" cy="88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rot="3925800">
                <a:off x="6638760" y="464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925800">
                <a:off x="7095600" y="43650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78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82" name=""/>
              <p:cNvCxnSpPr>
                <a:stCxn id="478" idx="3"/>
                <a:endCxn id="479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3" name=""/>
              <p:cNvCxnSpPr>
                <a:stCxn id="479" idx="3"/>
                <a:endCxn id="480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4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87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89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b143"/>
                  </a:gs>
                  <a:gs pos="100000">
                    <a:srgbClr val="4f7b2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d397"/>
                  </a:gs>
                  <a:gs pos="50000">
                    <a:srgbClr val="72b143">
                      <a:alpha val="0"/>
                    </a:srgbClr>
                  </a:gs>
                  <a:gs pos="100000">
                    <a:srgbClr val="b1d3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4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96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e9fa2"/>
                  </a:gs>
                  <a:gs pos="100000">
                    <a:srgbClr val="ff7c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7c80">
                      <a:alpha val="0"/>
                    </a:srgbClr>
                  </a:gs>
                  <a:gs pos="100000">
                    <a:srgbClr val="fec6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1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3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1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27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46000" y="2498760"/>
          <a:ext cx="7604280" cy="2919240"/>
        </p:xfrm>
        <a:graphic>
          <a:graphicData uri="http://schemas.openxmlformats.org/drawingml/2006/table">
            <a:tbl>
              <a:tblPr/>
              <a:tblGrid>
                <a:gridCol w="1714680"/>
                <a:gridCol w="1196640"/>
                <a:gridCol w="1173240"/>
                <a:gridCol w="1170000"/>
                <a:gridCol w="1179720"/>
                <a:gridCol w="1170000"/>
              </a:tblGrid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4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ea7a9"/>
                </a:gs>
                <a:gs pos="100000">
                  <a:srgbClr val="ff7c8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56b28"/>
                </a:gs>
                <a:gs pos="100000">
                  <a:srgbClr val="72b14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00536e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6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a5a5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55600" y="163440"/>
            <a:ext cx="6002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c8e8f3"/>
                </a:gs>
                <a:gs pos="100000">
                  <a:srgbClr val="0099c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e0edd6"/>
                </a:gs>
                <a:gs pos="100000">
                  <a:srgbClr val="72b14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72b14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ee2e3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ff7c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914400" y="1863720"/>
            <a:ext cx="7391520" cy="4156200"/>
            <a:chOff x="914400" y="1863720"/>
            <a:chExt cx="7391520" cy="4156200"/>
          </a:xfrm>
        </p:grpSpPr>
        <p:sp>
          <p:nvSpPr>
            <p:cNvPr id="565" name=""/>
            <p:cNvSpPr/>
            <p:nvPr/>
          </p:nvSpPr>
          <p:spPr>
            <a:xfrm>
              <a:off x="1905120" y="26258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18637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dbebd0"/>
                </a:gs>
                <a:gs pos="100000">
                  <a:srgbClr val="72b14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42480" y="32353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914400" y="4498920"/>
              <a:ext cx="1486080" cy="1514520"/>
              <a:chOff x="914400" y="4498920"/>
              <a:chExt cx="1486080" cy="15145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914400" y="4498920"/>
                <a:ext cx="1486080" cy="1514520"/>
                <a:chOff x="914400" y="4498920"/>
                <a:chExt cx="1486080" cy="15145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14400" y="44989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1" name="未知"/>
                <p:cNvSpPr/>
                <p:nvPr/>
              </p:nvSpPr>
              <p:spPr>
                <a:xfrm>
                  <a:off x="1084320" y="45237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1072440" y="5270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6781680" y="4454640"/>
              <a:ext cx="1524240" cy="1531800"/>
              <a:chOff x="6781680" y="4454640"/>
              <a:chExt cx="1524240" cy="153180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6781680" y="4454640"/>
                <a:ext cx="1524240" cy="1531800"/>
                <a:chOff x="6781680" y="4454640"/>
                <a:chExt cx="1524240" cy="15318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6781680" y="44546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6" name="未知"/>
                <p:cNvSpPr/>
                <p:nvPr/>
              </p:nvSpPr>
              <p:spPr>
                <a:xfrm>
                  <a:off x="6955920" y="44798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924600" y="51685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819520" y="4498920"/>
              <a:ext cx="1523880" cy="1521000"/>
              <a:chOff x="2819520" y="4498920"/>
              <a:chExt cx="1523880" cy="15210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819520" y="4498920"/>
                <a:ext cx="1523880" cy="1521000"/>
                <a:chOff x="2819520" y="4498920"/>
                <a:chExt cx="1523880" cy="15210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819520" y="44989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23f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1" name="未知"/>
                <p:cNvSpPr/>
                <p:nvPr/>
              </p:nvSpPr>
              <p:spPr>
                <a:xfrm>
                  <a:off x="2993760" y="45241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2895840" y="5229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876920" y="4454640"/>
              <a:ext cx="1523880" cy="1520640"/>
              <a:chOff x="4876920" y="4454640"/>
              <a:chExt cx="1523880" cy="152064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4876920" y="4454640"/>
                <a:ext cx="1523880" cy="1520640"/>
                <a:chOff x="4876920" y="4454640"/>
                <a:chExt cx="1523880" cy="15206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876920" y="44546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a5a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未知"/>
                <p:cNvSpPr/>
                <p:nvPr/>
              </p:nvSpPr>
              <p:spPr>
                <a:xfrm>
                  <a:off x="5051160" y="44798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4953240" y="5184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2438280" y="2743200"/>
            <a:ext cx="4953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0099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528d"/>
                  </a:gs>
                  <a:gs pos="100000">
                    <a:srgbClr val="0099cc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zh-CN" sz="2400" spc="-1" strike="noStrike">
              <a:solidFill>
                <a:srgbClr val="ddddd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0" y="1740960"/>
            <a:ext cx="78440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99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nu, point to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then click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8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0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cbddd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2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a62"/>
                    </a:gs>
                    <a:gs pos="100000">
                      <a:srgbClr val="0099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8dd0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72b143"/>
                  </a:gs>
                  <a:gs pos="100000">
                    <a:srgbClr val="345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ce2bc"/>
                  </a:gs>
                  <a:gs pos="100000">
                    <a:srgbClr val="72b14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72b143">
                      <a:alpha val="48235"/>
                    </a:srgbClr>
                  </a:gs>
                  <a:gs pos="100000">
                    <a:srgbClr val="598b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72b14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2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4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1e5c2"/>
              </a:gs>
              <a:gs pos="100000">
                <a:srgbClr val="72b1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7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572a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337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6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5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5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4" name=""/>
            <p:cNvGrpSpPr/>
            <p:nvPr/>
          </p:nvGrpSpPr>
          <p:grpSpPr>
            <a:xfrm>
              <a:off x="3008520" y="2209680"/>
              <a:ext cx="2900520" cy="2706120"/>
              <a:chOff x="3008520" y="2209680"/>
              <a:chExt cx="2900520" cy="2706120"/>
            </a:xfrm>
          </p:grpSpPr>
          <p:sp>
            <p:nvSpPr>
              <p:cNvPr id="175" name=""/>
              <p:cNvSpPr/>
              <p:nvPr/>
            </p:nvSpPr>
            <p:spPr>
              <a:xfrm flipH="1" rot="16200000">
                <a:off x="2926800" y="325224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5400000">
                <a:off x="5530320" y="320148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0800000">
                <a:off x="423936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6240" y="2209680"/>
                <a:ext cx="23317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39440" y="2344680"/>
                <a:ext cx="20646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60760" y="2471040"/>
                <a:ext cx="18219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7c8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60760" y="2471040"/>
                <a:ext cx="18219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80640" y="2594520"/>
                <a:ext cx="1582200" cy="1631880"/>
              </a:xfrm>
              <a:prstGeom prst="ellipse">
                <a:avLst/>
              </a:prstGeom>
              <a:gradFill rotWithShape="0">
                <a:gsLst>
                  <a:gs pos="0">
                    <a:srgbClr val="894245"/>
                  </a:gs>
                  <a:gs pos="50000">
                    <a:srgbClr val="ff7c80"/>
                  </a:gs>
                  <a:gs pos="100000">
                    <a:srgbClr val="89424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80640" y="2594520"/>
                <a:ext cx="158220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0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4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5e"/>
                  </a:gs>
                  <a:gs pos="5000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393b"/>
                  </a:gs>
                  <a:gs pos="50000">
                    <a:srgbClr val="ff7c80"/>
                  </a:gs>
                  <a:gs pos="100000">
                    <a:srgbClr val="7539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4511e"/>
                  </a:gs>
                  <a:gs pos="50000">
                    <a:srgbClr val="72b143"/>
                  </a:gs>
                  <a:gs pos="100000">
                    <a:srgbClr val="345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e93"/>
                  </a:gs>
                  <a:gs pos="50000">
                    <a:srgbClr val="0099cc"/>
                  </a:gs>
                  <a:gs pos="100000">
                    <a:srgbClr val="006e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8595c"/>
                  </a:gs>
                  <a:gs pos="50000">
                    <a:srgbClr val="ff7c80"/>
                  </a:gs>
                  <a:gs pos="100000">
                    <a:srgbClr val="b8595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27f30"/>
                  </a:gs>
                  <a:gs pos="50000">
                    <a:srgbClr val="72b143"/>
                  </a:gs>
                  <a:gs pos="100000">
                    <a:srgbClr val="527f3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0CBF-076F-448C-BAE7-AE79AEB7EF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4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9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