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3"/>
          <a:stretch/>
        </p:blipFill>
        <p:spPr>
          <a:xfrm>
            <a:off x="0" y="3905280"/>
            <a:ext cx="9142560" cy="2952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4"/>
          <a:stretch/>
        </p:blipFill>
        <p:spPr>
          <a:xfrm>
            <a:off x="0" y="3905280"/>
            <a:ext cx="1866960" cy="29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"/>
          <p:cNvPicPr/>
          <p:nvPr/>
        </p:nvPicPr>
        <p:blipFill>
          <a:blip r:embed="rId3"/>
          <a:stretch/>
        </p:blipFill>
        <p:spPr>
          <a:xfrm>
            <a:off x="0" y="2438280"/>
            <a:ext cx="9142560" cy="4419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9" descr=""/>
          <p:cNvPicPr/>
          <p:nvPr/>
        </p:nvPicPr>
        <p:blipFill>
          <a:blip r:embed="rId4"/>
          <a:stretch/>
        </p:blipFill>
        <p:spPr>
          <a:xfrm>
            <a:off x="6896160" y="0"/>
            <a:ext cx="2247840" cy="310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2495520" cy="685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5705640"/>
            <a:ext cx="9142560" cy="115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705040" cy="14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419200" cy="685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4"/>
          <a:stretch/>
        </p:blipFill>
        <p:spPr>
          <a:xfrm>
            <a:off x="0" y="1440"/>
            <a:ext cx="2495520" cy="68565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-36360" y="0"/>
            <a:ext cx="2017440" cy="6856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4"/>
          <a:stretch/>
        </p:blipFill>
        <p:spPr>
          <a:xfrm>
            <a:off x="0" y="5638680"/>
            <a:ext cx="9142560" cy="1219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5"/>
          <a:stretch/>
        </p:blipFill>
        <p:spPr>
          <a:xfrm>
            <a:off x="1658880" y="1440"/>
            <a:ext cx="7485120" cy="685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1135800" y="4114800"/>
            <a:ext cx="27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ritannic Bold"/>
              </a:rPr>
              <a:t>LOG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20" y="6478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00600" y="30492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喜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4573800" y="41148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添加大标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150840" y="22860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6402240"/>
            <a:ext cx="4497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2622960" y="304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845000" y="1563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正文正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231840" y="61675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554480" y="8380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609480" y="1828800"/>
            <a:ext cx="3986280" cy="6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738360" y="2743200"/>
            <a:ext cx="3985920" cy="6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890640" y="3733920"/>
            <a:ext cx="3986280" cy="68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042920" y="4648320"/>
            <a:ext cx="3986280" cy="68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63000" y="457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2592360" y="990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231840" y="61675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231840" y="61675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630440" y="457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2135160" y="144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6402240"/>
            <a:ext cx="4497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1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12:57Z</dcterms:modified>
  <cp:revision>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