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14F4-F1ED-4B65-A2A0-E866FB69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1CAE-FEFD-4D8C-8FF6-5575498F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4C6F-00A9-4DEA-BC9C-F9DAC167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64BA-4ACE-46FF-8EE0-19028DE2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D4649-D495-4DED-8FA2-2B6F7EF2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9DD36-8288-4BB0-B9A6-4666F833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D1044-3D27-4C64-94AB-55CAA989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7422D-53E8-4723-B0A9-096BA9F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3E268-DC90-4A4A-8FF4-4CF03AE8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412920"/>
            <a:ext cx="845820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B8853-5AAA-4309-B60D-C89CBAB5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D612A-7818-41A6-8A1C-B2C7BB6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F5DB-8D52-4C26-92BD-51B78130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57F3E-215D-4CFC-94A7-709A2C95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17F63-8742-4CBD-9B80-83F61F0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2C738-0550-4252-8B00-F941666B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F29CC-0376-4681-A8DA-D4567ADC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75D33-2CB0-4561-A0C5-2D57DF9D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CAF8-E039-4640-946E-69EC0968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E5B6-A597-4688-9735-9F47B9E8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6976-0669-48FD-B147-E3E78141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412920"/>
            <a:ext cx="845820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4A47-77EE-4A0D-893A-E60CF56A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32991-0EF1-4AB8-AE48-EC94C66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8FE6B-15AF-4BA1-9E92-9E29915A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CE0A-5EB7-4E33-97E1-3F3F34B4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89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5e5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2" name="Rectangle 91"/>
          <p:cNvSpPr/>
          <p:nvPr/>
        </p:nvSpPr>
        <p:spPr>
          <a:xfrm>
            <a:off x="12600" y="1309680"/>
            <a:ext cx="9131400" cy="17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95280" y="6513480"/>
            <a:ext cx="8353440" cy="1800"/>
            <a:chOff x="395280" y="6513480"/>
            <a:chExt cx="8353440" cy="1800"/>
          </a:xfrm>
        </p:grpSpPr>
        <p:sp>
          <p:nvSpPr>
            <p:cNvPr id="4" name="Line 92"/>
            <p:cNvSpPr/>
            <p:nvPr/>
          </p:nvSpPr>
          <p:spPr>
            <a:xfrm>
              <a:off x="395280" y="6513480"/>
              <a:ext cx="8353440" cy="1800"/>
            </a:xfrm>
            <a:prstGeom prst="line">
              <a:avLst/>
            </a:prstGeom>
            <a:ln w="1908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395280" y="6513480"/>
              <a:ext cx="8353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77c5"/>
              </a:buClr>
              <a:buSzPct val="25000"/>
              <a:buFont typeface="Wingdings" charset="2"/>
              <a:buChar char="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72b88e"/>
              </a:buClr>
              <a:buSzPct val="25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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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380520" y="649296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5CBD-2457-442D-B4A0-8C590D574008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594324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ject 89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5e5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9" name="Rectangle 91"/>
          <p:cNvSpPr/>
          <p:nvPr/>
        </p:nvSpPr>
        <p:spPr>
          <a:xfrm>
            <a:off x="12600" y="1309680"/>
            <a:ext cx="9131400" cy="17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95280" y="6513480"/>
            <a:ext cx="8353440" cy="1800"/>
            <a:chOff x="395280" y="6513480"/>
            <a:chExt cx="8353440" cy="1800"/>
          </a:xfrm>
        </p:grpSpPr>
        <p:sp>
          <p:nvSpPr>
            <p:cNvPr id="51" name="Line 92"/>
            <p:cNvSpPr/>
            <p:nvPr/>
          </p:nvSpPr>
          <p:spPr>
            <a:xfrm>
              <a:off x="395280" y="6513480"/>
              <a:ext cx="8353440" cy="1800"/>
            </a:xfrm>
            <a:prstGeom prst="line">
              <a:avLst/>
            </a:prstGeom>
            <a:ln w="1908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95280" y="6513480"/>
              <a:ext cx="8353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77c5"/>
              </a:buClr>
              <a:buSzPct val="25000"/>
              <a:buFont typeface="Wingdings" charset="2"/>
              <a:buChar char="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72b88e"/>
              </a:buClr>
              <a:buSzPct val="25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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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4"/>
          </p:nvPr>
        </p:nvSpPr>
        <p:spPr>
          <a:xfrm>
            <a:off x="380520" y="649296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e508c"/>
                </a:solidFill>
                <a:latin typeface="Verdana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FE94-2E56-4EDF-A3E5-E42AF8E00B8E}" type="slidenum">
              <a:rPr b="0" lang="zh-CN" sz="1200" spc="-1" strike="noStrike">
                <a:solidFill>
                  <a:srgbClr val="5e508c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>
            <a:off x="594324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e508c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-720" y="1440"/>
            <a:ext cx="9146520" cy="6856560"/>
            <a:chOff x="-720" y="1440"/>
            <a:chExt cx="9146520" cy="6856560"/>
          </a:xfrm>
        </p:grpSpPr>
        <p:sp>
          <p:nvSpPr>
            <p:cNvPr id="95" name="AutoShape 90"/>
            <p:cNvSpPr/>
            <p:nvPr/>
          </p:nvSpPr>
          <p:spPr>
            <a:xfrm>
              <a:off x="45720" y="39600"/>
              <a:ext cx="906012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6" name="Freeform 91"/>
            <p:cNvSpPr/>
            <p:nvPr/>
          </p:nvSpPr>
          <p:spPr>
            <a:xfrm>
              <a:off x="7560" y="1440"/>
              <a:ext cx="45648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7" name="Freeform 92"/>
            <p:cNvSpPr/>
            <p:nvPr/>
          </p:nvSpPr>
          <p:spPr>
            <a:xfrm rot="16191000">
              <a:off x="66960" y="6377400"/>
              <a:ext cx="405000" cy="53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8" name="Freeform 93"/>
            <p:cNvSpPr/>
            <p:nvPr/>
          </p:nvSpPr>
          <p:spPr>
            <a:xfrm rot="10768800">
              <a:off x="8676360" y="6400080"/>
              <a:ext cx="46728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9" name="Freeform 94"/>
            <p:cNvSpPr/>
            <p:nvPr/>
          </p:nvSpPr>
          <p:spPr>
            <a:xfrm rot="5400000">
              <a:off x="8686800" y="1440"/>
              <a:ext cx="457200" cy="45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00" name="Text Box 64"/>
          <p:cNvSpPr/>
          <p:nvPr/>
        </p:nvSpPr>
        <p:spPr>
          <a:xfrm>
            <a:off x="304920" y="411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038480"/>
            <a:ext cx="780732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5"/>
          <p:cNvSpPr/>
          <p:nvPr/>
        </p:nvSpPr>
        <p:spPr>
          <a:xfrm rot="1715400">
            <a:off x="7667280" y="5084280"/>
            <a:ext cx="504720" cy="289080"/>
          </a:xfrm>
          <a:prstGeom prst="leftArrow">
            <a:avLst>
              <a:gd name="adj1" fmla="val 23074"/>
              <a:gd name="adj2" fmla="val 88971"/>
            </a:avLst>
          </a:prstGeom>
          <a:solidFill>
            <a:srgbClr val="5e5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76160" y="4952880"/>
            <a:ext cx="6019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5e508c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6524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86400" y="1350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药品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965520" y="1595520"/>
            <a:ext cx="6841800" cy="4728600"/>
            <a:chOff x="965520" y="1595520"/>
            <a:chExt cx="6841800" cy="4728600"/>
          </a:xfrm>
        </p:grpSpPr>
        <p:sp>
          <p:nvSpPr>
            <p:cNvPr id="324" name="Rectangle 3"/>
            <p:cNvSpPr/>
            <p:nvPr/>
          </p:nvSpPr>
          <p:spPr>
            <a:xfrm rot="13770000">
              <a:off x="4817520" y="3885840"/>
              <a:ext cx="901440" cy="17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5" name="Rectangle 4"/>
            <p:cNvSpPr/>
            <p:nvPr/>
          </p:nvSpPr>
          <p:spPr>
            <a:xfrm rot="20856000">
              <a:off x="3024000" y="3462840"/>
              <a:ext cx="918360" cy="16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 rot="18394200">
              <a:off x="4938840" y="2432160"/>
              <a:ext cx="560160" cy="12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980800" y="2466720"/>
              <a:ext cx="3227040" cy="1494000"/>
              <a:chOff x="2980800" y="2466720"/>
              <a:chExt cx="3227040" cy="149400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3879720" y="2466720"/>
                <a:ext cx="1465920" cy="1494000"/>
                <a:chOff x="3879720" y="2466720"/>
                <a:chExt cx="1465920" cy="1494000"/>
              </a:xfrm>
            </p:grpSpPr>
            <p:sp>
              <p:nvSpPr>
                <p:cNvPr id="329" name="Oval 8"/>
                <p:cNvSpPr/>
                <p:nvPr/>
              </p:nvSpPr>
              <p:spPr>
                <a:xfrm>
                  <a:off x="3879720" y="2466720"/>
                  <a:ext cx="1465920" cy="149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9"/>
                <p:cNvSpPr/>
                <p:nvPr/>
              </p:nvSpPr>
              <p:spPr>
                <a:xfrm>
                  <a:off x="4047120" y="2491200"/>
                  <a:ext cx="1130760" cy="563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Text Box 10"/>
              <p:cNvSpPr/>
              <p:nvPr/>
            </p:nvSpPr>
            <p:spPr>
              <a:xfrm>
                <a:off x="2980800" y="3116160"/>
                <a:ext cx="32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212360" y="1595520"/>
              <a:ext cx="2738160" cy="809280"/>
              <a:chOff x="4212360" y="1595520"/>
              <a:chExt cx="2738160" cy="80928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5162400" y="1595520"/>
                <a:ext cx="794160" cy="809280"/>
                <a:chOff x="5162400" y="1595520"/>
                <a:chExt cx="794160" cy="809280"/>
              </a:xfrm>
            </p:grpSpPr>
            <p:sp>
              <p:nvSpPr>
                <p:cNvPr id="334" name="Oval 13"/>
                <p:cNvSpPr/>
                <p:nvPr/>
              </p:nvSpPr>
              <p:spPr>
                <a:xfrm>
                  <a:off x="5162400" y="1595520"/>
                  <a:ext cx="794160" cy="80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4"/>
                <p:cNvSpPr/>
                <p:nvPr/>
              </p:nvSpPr>
              <p:spPr>
                <a:xfrm>
                  <a:off x="5253120" y="1608840"/>
                  <a:ext cx="612720" cy="305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Text Box 15"/>
              <p:cNvSpPr/>
              <p:nvPr/>
            </p:nvSpPr>
            <p:spPr>
              <a:xfrm>
                <a:off x="4212360" y="1906560"/>
                <a:ext cx="273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965520" y="2778480"/>
              <a:ext cx="3372120" cy="1680840"/>
              <a:chOff x="965520" y="2778480"/>
              <a:chExt cx="3372120" cy="16808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1863720" y="2778480"/>
                <a:ext cx="1588320" cy="1680840"/>
                <a:chOff x="1863720" y="2778480"/>
                <a:chExt cx="1588320" cy="1680840"/>
              </a:xfrm>
            </p:grpSpPr>
            <p:sp>
              <p:nvSpPr>
                <p:cNvPr id="339" name="Oval 18"/>
                <p:cNvSpPr/>
                <p:nvPr/>
              </p:nvSpPr>
              <p:spPr>
                <a:xfrm>
                  <a:off x="1863720" y="2778480"/>
                  <a:ext cx="1588320" cy="168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19"/>
                <p:cNvSpPr/>
                <p:nvPr/>
              </p:nvSpPr>
              <p:spPr>
                <a:xfrm>
                  <a:off x="2045160" y="2806200"/>
                  <a:ext cx="1225440" cy="63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Text Box 20"/>
              <p:cNvSpPr/>
              <p:nvPr/>
            </p:nvSpPr>
            <p:spPr>
              <a:xfrm>
                <a:off x="965520" y="352548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377600" y="4023360"/>
              <a:ext cx="3429720" cy="1867680"/>
              <a:chOff x="4377600" y="4023360"/>
              <a:chExt cx="3429720" cy="186768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101560" y="4023360"/>
                <a:ext cx="1832760" cy="1867680"/>
                <a:chOff x="5101560" y="4023360"/>
                <a:chExt cx="1832760" cy="1867680"/>
              </a:xfrm>
            </p:grpSpPr>
            <p:sp>
              <p:nvSpPr>
                <p:cNvPr id="344" name="Oval 23"/>
                <p:cNvSpPr/>
                <p:nvPr/>
              </p:nvSpPr>
              <p:spPr>
                <a:xfrm>
                  <a:off x="5101560" y="4023360"/>
                  <a:ext cx="1832760" cy="18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4"/>
                <p:cNvSpPr/>
                <p:nvPr/>
              </p:nvSpPr>
              <p:spPr>
                <a:xfrm>
                  <a:off x="5311080" y="4054320"/>
                  <a:ext cx="1413720" cy="70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5"/>
              <p:cNvSpPr/>
              <p:nvPr/>
            </p:nvSpPr>
            <p:spPr>
              <a:xfrm>
                <a:off x="4377600" y="483264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47" name="Oval 26"/>
            <p:cNvSpPr/>
            <p:nvPr/>
          </p:nvSpPr>
          <p:spPr>
            <a:xfrm>
              <a:off x="2046960" y="4521240"/>
              <a:ext cx="1290240" cy="43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4001760" y="3963600"/>
              <a:ext cx="1291680" cy="43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9" name="Oval 28"/>
            <p:cNvSpPr/>
            <p:nvPr/>
          </p:nvSpPr>
          <p:spPr>
            <a:xfrm>
              <a:off x="5407200" y="5891040"/>
              <a:ext cx="1290240" cy="43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0" name="Oval 29"/>
            <p:cNvSpPr/>
            <p:nvPr/>
          </p:nvSpPr>
          <p:spPr>
            <a:xfrm>
              <a:off x="5284800" y="2466720"/>
              <a:ext cx="591840" cy="21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-161640" y="1828800"/>
            <a:ext cx="9111600" cy="3770280"/>
            <a:chOff x="-161640" y="1828800"/>
            <a:chExt cx="9111600" cy="3770280"/>
          </a:xfrm>
        </p:grpSpPr>
        <p:sp>
          <p:nvSpPr>
            <p:cNvPr id="354" name="AutoShape 3"/>
            <p:cNvSpPr/>
            <p:nvPr/>
          </p:nvSpPr>
          <p:spPr>
            <a:xfrm rot="17973000">
              <a:off x="4558320" y="2532600"/>
              <a:ext cx="792000" cy="289080"/>
            </a:xfrm>
            <a:prstGeom prst="rightArrow">
              <a:avLst>
                <a:gd name="adj1" fmla="val 35176"/>
                <a:gd name="adj2" fmla="val 110946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5" name="AutoShape 4"/>
            <p:cNvSpPr/>
            <p:nvPr/>
          </p:nvSpPr>
          <p:spPr>
            <a:xfrm rot="3465600">
              <a:off x="4608360" y="464256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 rot="14368800">
              <a:off x="3389760" y="255492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 rot="7534800">
              <a:off x="3351600" y="460944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76"/>
                <a:gd name="adj2" fmla="val 120968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0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4642200" y="182880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52760" y="182880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3" name="Text Box 12"/>
            <p:cNvSpPr/>
            <p:nvPr/>
          </p:nvSpPr>
          <p:spPr>
            <a:xfrm>
              <a:off x="5556600" y="35812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642200" y="51814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-161640" y="35812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676440" y="511956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7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8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9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0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1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2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3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9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0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1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2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83" name="Text Box 32"/>
            <p:cNvSpPr/>
            <p:nvPr/>
          </p:nvSpPr>
          <p:spPr>
            <a:xfrm>
              <a:off x="3099960" y="356076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189800" y="1832040"/>
            <a:ext cx="2199600" cy="4034880"/>
            <a:chOff x="1189800" y="1832040"/>
            <a:chExt cx="2199600" cy="4034880"/>
          </a:xfrm>
        </p:grpSpPr>
        <p:sp>
          <p:nvSpPr>
            <p:cNvPr id="386" name="AutoShape 49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7" name="AutoShape 50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8" name="AutoShape 51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9" name="AutoShape 52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0" name="AutoShape 53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1" name="AutoShape 54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93" name="Oval 56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4" name="Oval 57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5" name="Oval 58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6" name="Oval 59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7" name="Oval 60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98" name="Text Box 61"/>
            <p:cNvSpPr/>
            <p:nvPr/>
          </p:nvSpPr>
          <p:spPr>
            <a:xfrm>
              <a:off x="1189800" y="192384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9" name="Text Box 62"/>
            <p:cNvSpPr/>
            <p:nvPr/>
          </p:nvSpPr>
          <p:spPr>
            <a:xfrm>
              <a:off x="1295640" y="2593800"/>
              <a:ext cx="2057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551760" y="1832040"/>
            <a:ext cx="2196360" cy="4034880"/>
            <a:chOff x="3551760" y="1832040"/>
            <a:chExt cx="2196360" cy="4034880"/>
          </a:xfrm>
        </p:grpSpPr>
        <p:sp>
          <p:nvSpPr>
            <p:cNvPr id="401" name="AutoShape 64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2" name="AutoShape 65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3" name="AutoShape 66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4" name="AutoShape 67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5" name="Oval 68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6" name="Oval 69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7" name="Oval 70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8" name="Oval 71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9" name="Oval 72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0" name="Text Box 73"/>
            <p:cNvSpPr/>
            <p:nvPr/>
          </p:nvSpPr>
          <p:spPr>
            <a:xfrm>
              <a:off x="3551760" y="192384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1" name="Text Box 74"/>
            <p:cNvSpPr/>
            <p:nvPr/>
          </p:nvSpPr>
          <p:spPr>
            <a:xfrm>
              <a:off x="3657600" y="2593800"/>
              <a:ext cx="2057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2" name="AutoShape 75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3" name="AutoShape 76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913720" y="1832040"/>
            <a:ext cx="2193480" cy="4034880"/>
            <a:chOff x="5913720" y="1832040"/>
            <a:chExt cx="2193480" cy="4034880"/>
          </a:xfrm>
        </p:grpSpPr>
        <p:sp>
          <p:nvSpPr>
            <p:cNvPr id="415" name="AutoShape 78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6" name="AutoShape 79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7" name="AutoShape 80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8" name="AutoShape 81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20" name="Oval 83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1" name="Oval 84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2" name="Oval 85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3" name="Oval 86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4" name="Oval 87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425" name="Text Box 88"/>
            <p:cNvSpPr/>
            <p:nvPr/>
          </p:nvSpPr>
          <p:spPr>
            <a:xfrm>
              <a:off x="5913720" y="192384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26" name="Text Box 89"/>
            <p:cNvSpPr/>
            <p:nvPr/>
          </p:nvSpPr>
          <p:spPr>
            <a:xfrm>
              <a:off x="6019560" y="2593800"/>
              <a:ext cx="2057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27" name="AutoShape 90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28" name="AutoShape 91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0" y="1828800"/>
            <a:ext cx="9144000" cy="4549320"/>
            <a:chOff x="0" y="1828800"/>
            <a:chExt cx="9144000" cy="4549320"/>
          </a:xfrm>
        </p:grpSpPr>
        <p:grpSp>
          <p:nvGrpSpPr>
            <p:cNvPr id="431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32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33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62120" y="2685960"/>
              <a:ext cx="2056320" cy="3548880"/>
              <a:chOff x="762120" y="2685960"/>
              <a:chExt cx="2056320" cy="354888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1167120" y="3524400"/>
                <a:ext cx="1527120" cy="2426400"/>
                <a:chOff x="1167120" y="3524400"/>
                <a:chExt cx="1527120" cy="242640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1167120" y="3682080"/>
                  <a:ext cx="1421640" cy="2268720"/>
                  <a:chOff x="1167120" y="3682080"/>
                  <a:chExt cx="1421640" cy="2268720"/>
                </a:xfrm>
              </p:grpSpPr>
              <p:sp>
                <p:nvSpPr>
                  <p:cNvPr id="437" name="Freeform 61"/>
                  <p:cNvSpPr/>
                  <p:nvPr/>
                </p:nvSpPr>
                <p:spPr>
                  <a:xfrm rot="3876600">
                    <a:off x="739080" y="4570200"/>
                    <a:ext cx="2277720" cy="49248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62"/>
                  <p:cNvSpPr/>
                  <p:nvPr/>
                </p:nvSpPr>
                <p:spPr>
                  <a:xfrm rot="3876600">
                    <a:off x="2107800" y="5450040"/>
                    <a:ext cx="357840" cy="403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1603080" y="3524400"/>
                  <a:ext cx="1091160" cy="1740960"/>
                  <a:chOff x="1603080" y="3524400"/>
                  <a:chExt cx="1091160" cy="1740960"/>
                </a:xfrm>
              </p:grpSpPr>
              <p:sp>
                <p:nvSpPr>
                  <p:cNvPr id="440" name="Freeform 64"/>
                  <p:cNvSpPr/>
                  <p:nvPr/>
                </p:nvSpPr>
                <p:spPr>
                  <a:xfrm flipV="1" rot="3876600">
                    <a:off x="1274400" y="4205880"/>
                    <a:ext cx="1747800" cy="37800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65"/>
                  <p:cNvSpPr/>
                  <p:nvPr/>
                </p:nvSpPr>
                <p:spPr>
                  <a:xfrm flipV="1" rot="3876600">
                    <a:off x="2309400" y="4888080"/>
                    <a:ext cx="274680" cy="3096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762120" y="2685960"/>
                <a:ext cx="1271520" cy="1310760"/>
                <a:chOff x="762120" y="2685960"/>
                <a:chExt cx="1271520" cy="1310760"/>
              </a:xfrm>
            </p:grpSpPr>
            <p:sp>
              <p:nvSpPr>
                <p:cNvPr id="443" name="Oval 67"/>
                <p:cNvSpPr/>
                <p:nvPr/>
              </p:nvSpPr>
              <p:spPr>
                <a:xfrm>
                  <a:off x="762120" y="2685960"/>
                  <a:ext cx="12715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762120" y="2685960"/>
                  <a:ext cx="12715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846360" y="2770920"/>
                  <a:ext cx="110304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6" name="Oval 70"/>
                <p:cNvSpPr/>
                <p:nvPr/>
              </p:nvSpPr>
              <p:spPr>
                <a:xfrm>
                  <a:off x="846360" y="2773800"/>
                  <a:ext cx="110304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7" name="Oval 71"/>
                <p:cNvSpPr/>
                <p:nvPr/>
              </p:nvSpPr>
              <p:spPr>
                <a:xfrm>
                  <a:off x="900720" y="2828880"/>
                  <a:ext cx="99360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916200" y="2844720"/>
                  <a:ext cx="963000" cy="993960"/>
                  <a:chOff x="916200" y="2844720"/>
                  <a:chExt cx="963000" cy="993960"/>
                </a:xfrm>
              </p:grpSpPr>
              <p:sp>
                <p:nvSpPr>
                  <p:cNvPr id="449" name="Oval 73"/>
                  <p:cNvSpPr/>
                  <p:nvPr/>
                </p:nvSpPr>
                <p:spPr>
                  <a:xfrm>
                    <a:off x="916200" y="2844720"/>
                    <a:ext cx="96300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74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75"/>
                  <p:cNvSpPr/>
                  <p:nvPr/>
                </p:nvSpPr>
                <p:spPr>
                  <a:xfrm>
                    <a:off x="938520" y="2859840"/>
                    <a:ext cx="89388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76"/>
                  <p:cNvSpPr/>
                  <p:nvPr/>
                </p:nvSpPr>
                <p:spPr>
                  <a:xfrm>
                    <a:off x="990720" y="2885040"/>
                    <a:ext cx="79452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3" name="Text Box 77"/>
              <p:cNvSpPr/>
              <p:nvPr/>
            </p:nvSpPr>
            <p:spPr>
              <a:xfrm rot="3925800">
                <a:off x="215280" y="450504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54" name="Text Box 78"/>
              <p:cNvSpPr/>
              <p:nvPr/>
            </p:nvSpPr>
            <p:spPr>
              <a:xfrm rot="3925800">
                <a:off x="674640" y="422388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2509920" y="2685960"/>
              <a:ext cx="2049840" cy="3548880"/>
              <a:chOff x="2509920" y="2685960"/>
              <a:chExt cx="2049840" cy="35488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2913120" y="3524400"/>
                <a:ext cx="1527120" cy="2426400"/>
                <a:chOff x="2913120" y="3524400"/>
                <a:chExt cx="1527120" cy="242640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2913120" y="3682080"/>
                  <a:ext cx="1421640" cy="2268720"/>
                  <a:chOff x="2913120" y="3682080"/>
                  <a:chExt cx="1421640" cy="2268720"/>
                </a:xfrm>
              </p:grpSpPr>
              <p:sp>
                <p:nvSpPr>
                  <p:cNvPr id="458" name="Freeform 43"/>
                  <p:cNvSpPr/>
                  <p:nvPr/>
                </p:nvSpPr>
                <p:spPr>
                  <a:xfrm rot="3876600">
                    <a:off x="2485080" y="4570200"/>
                    <a:ext cx="2277720" cy="49248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44"/>
                  <p:cNvSpPr/>
                  <p:nvPr/>
                </p:nvSpPr>
                <p:spPr>
                  <a:xfrm rot="3876600">
                    <a:off x="3853800" y="5450040"/>
                    <a:ext cx="357840" cy="403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3349440" y="3524400"/>
                  <a:ext cx="1090800" cy="1740960"/>
                  <a:chOff x="3349440" y="3524400"/>
                  <a:chExt cx="1090800" cy="1740960"/>
                </a:xfrm>
              </p:grpSpPr>
              <p:sp>
                <p:nvSpPr>
                  <p:cNvPr id="461" name="Freeform 46"/>
                  <p:cNvSpPr/>
                  <p:nvPr/>
                </p:nvSpPr>
                <p:spPr>
                  <a:xfrm flipV="1" rot="3876600">
                    <a:off x="3020760" y="4205880"/>
                    <a:ext cx="1747800" cy="3776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47"/>
                  <p:cNvSpPr/>
                  <p:nvPr/>
                </p:nvSpPr>
                <p:spPr>
                  <a:xfrm flipV="1" rot="3876600">
                    <a:off x="4055760" y="4888080"/>
                    <a:ext cx="27468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2509920" y="2685960"/>
                <a:ext cx="1271520" cy="1310760"/>
                <a:chOff x="2509920" y="2685960"/>
                <a:chExt cx="1271520" cy="1310760"/>
              </a:xfrm>
            </p:grpSpPr>
            <p:sp>
              <p:nvSpPr>
                <p:cNvPr id="464" name="Oval 49"/>
                <p:cNvSpPr/>
                <p:nvPr/>
              </p:nvSpPr>
              <p:spPr>
                <a:xfrm>
                  <a:off x="2509920" y="2685960"/>
                  <a:ext cx="12715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5" name="Oval 50"/>
                <p:cNvSpPr/>
                <p:nvPr/>
              </p:nvSpPr>
              <p:spPr>
                <a:xfrm>
                  <a:off x="2509920" y="2685960"/>
                  <a:ext cx="12715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6" name="Oval 51"/>
                <p:cNvSpPr/>
                <p:nvPr/>
              </p:nvSpPr>
              <p:spPr>
                <a:xfrm>
                  <a:off x="2594160" y="2770920"/>
                  <a:ext cx="110304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7" name="Oval 52"/>
                <p:cNvSpPr/>
                <p:nvPr/>
              </p:nvSpPr>
              <p:spPr>
                <a:xfrm>
                  <a:off x="2594160" y="2773800"/>
                  <a:ext cx="110304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8" name="Oval 53"/>
                <p:cNvSpPr/>
                <p:nvPr/>
              </p:nvSpPr>
              <p:spPr>
                <a:xfrm>
                  <a:off x="2648520" y="2828880"/>
                  <a:ext cx="99360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2664000" y="2844720"/>
                  <a:ext cx="963000" cy="993960"/>
                  <a:chOff x="2664000" y="2844720"/>
                  <a:chExt cx="963000" cy="993960"/>
                </a:xfrm>
              </p:grpSpPr>
              <p:sp>
                <p:nvSpPr>
                  <p:cNvPr id="470" name="Oval 55"/>
                  <p:cNvSpPr/>
                  <p:nvPr/>
                </p:nvSpPr>
                <p:spPr>
                  <a:xfrm>
                    <a:off x="2664000" y="2844720"/>
                    <a:ext cx="96300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56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57"/>
                  <p:cNvSpPr/>
                  <p:nvPr/>
                </p:nvSpPr>
                <p:spPr>
                  <a:xfrm>
                    <a:off x="2686320" y="2859840"/>
                    <a:ext cx="89388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58"/>
                  <p:cNvSpPr/>
                  <p:nvPr/>
                </p:nvSpPr>
                <p:spPr>
                  <a:xfrm>
                    <a:off x="2738520" y="2885040"/>
                    <a:ext cx="79452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4" name="Text Box 79"/>
              <p:cNvSpPr/>
              <p:nvPr/>
            </p:nvSpPr>
            <p:spPr>
              <a:xfrm rot="3925800">
                <a:off x="1957320" y="450504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75" name="Text Box 80"/>
              <p:cNvSpPr/>
              <p:nvPr/>
            </p:nvSpPr>
            <p:spPr>
              <a:xfrm rot="3925800">
                <a:off x="2415960" y="422388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313160" y="2685960"/>
              <a:ext cx="2059560" cy="3548880"/>
              <a:chOff x="4313160" y="2685960"/>
              <a:chExt cx="2059560" cy="354888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4718160" y="3524400"/>
                <a:ext cx="1527120" cy="2426400"/>
                <a:chOff x="4718160" y="3524400"/>
                <a:chExt cx="1527120" cy="242640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4718160" y="3682080"/>
                  <a:ext cx="1421640" cy="2268720"/>
                  <a:chOff x="4718160" y="3682080"/>
                  <a:chExt cx="1421640" cy="2268720"/>
                </a:xfrm>
              </p:grpSpPr>
              <p:sp>
                <p:nvSpPr>
                  <p:cNvPr id="479" name="Freeform 8"/>
                  <p:cNvSpPr/>
                  <p:nvPr/>
                </p:nvSpPr>
                <p:spPr>
                  <a:xfrm rot="3876600">
                    <a:off x="4290120" y="4570200"/>
                    <a:ext cx="2277720" cy="49248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9"/>
                  <p:cNvSpPr/>
                  <p:nvPr/>
                </p:nvSpPr>
                <p:spPr>
                  <a:xfrm rot="3876600">
                    <a:off x="5658840" y="5450040"/>
                    <a:ext cx="357840" cy="403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5154120" y="3524400"/>
                  <a:ext cx="1091160" cy="1740960"/>
                  <a:chOff x="5154120" y="3524400"/>
                  <a:chExt cx="1091160" cy="1740960"/>
                </a:xfrm>
              </p:grpSpPr>
              <p:sp>
                <p:nvSpPr>
                  <p:cNvPr id="482" name="Freeform 11"/>
                  <p:cNvSpPr/>
                  <p:nvPr/>
                </p:nvSpPr>
                <p:spPr>
                  <a:xfrm flipV="1" rot="3876600">
                    <a:off x="4825440" y="4205880"/>
                    <a:ext cx="1747800" cy="37800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12"/>
                  <p:cNvSpPr/>
                  <p:nvPr/>
                </p:nvSpPr>
                <p:spPr>
                  <a:xfrm flipV="1" rot="3876600">
                    <a:off x="5860440" y="4888080"/>
                    <a:ext cx="274680" cy="3096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"/>
              <p:cNvGrpSpPr/>
              <p:nvPr/>
            </p:nvGrpSpPr>
            <p:grpSpPr>
              <a:xfrm>
                <a:off x="4313160" y="2685960"/>
                <a:ext cx="1273320" cy="1310760"/>
                <a:chOff x="4313160" y="2685960"/>
                <a:chExt cx="1273320" cy="1310760"/>
              </a:xfrm>
            </p:grpSpPr>
            <p:sp>
              <p:nvSpPr>
                <p:cNvPr id="485" name="Oval 14"/>
                <p:cNvSpPr/>
                <p:nvPr/>
              </p:nvSpPr>
              <p:spPr>
                <a:xfrm>
                  <a:off x="4313160" y="2685960"/>
                  <a:ext cx="12733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86" name="Oval 15"/>
                <p:cNvSpPr/>
                <p:nvPr/>
              </p:nvSpPr>
              <p:spPr>
                <a:xfrm>
                  <a:off x="4313160" y="2685960"/>
                  <a:ext cx="12733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6"/>
                <p:cNvSpPr/>
                <p:nvPr/>
              </p:nvSpPr>
              <p:spPr>
                <a:xfrm>
                  <a:off x="4397400" y="2770920"/>
                  <a:ext cx="110448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88" name="Oval 17"/>
                <p:cNvSpPr/>
                <p:nvPr/>
              </p:nvSpPr>
              <p:spPr>
                <a:xfrm>
                  <a:off x="4397400" y="2773800"/>
                  <a:ext cx="110448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8"/>
                <p:cNvSpPr/>
                <p:nvPr/>
              </p:nvSpPr>
              <p:spPr>
                <a:xfrm>
                  <a:off x="4452120" y="2828880"/>
                  <a:ext cx="99504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4467240" y="2844720"/>
                  <a:ext cx="964440" cy="993960"/>
                  <a:chOff x="4467240" y="2844720"/>
                  <a:chExt cx="964440" cy="993960"/>
                </a:xfrm>
              </p:grpSpPr>
              <p:sp>
                <p:nvSpPr>
                  <p:cNvPr id="491" name="Oval 20"/>
                  <p:cNvSpPr/>
                  <p:nvPr/>
                </p:nvSpPr>
                <p:spPr>
                  <a:xfrm>
                    <a:off x="4467240" y="2844720"/>
                    <a:ext cx="96444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Oval 21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22"/>
                  <p:cNvSpPr/>
                  <p:nvPr/>
                </p:nvSpPr>
                <p:spPr>
                  <a:xfrm>
                    <a:off x="4489560" y="2859840"/>
                    <a:ext cx="89496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23"/>
                  <p:cNvSpPr/>
                  <p:nvPr/>
                </p:nvSpPr>
                <p:spPr>
                  <a:xfrm>
                    <a:off x="4541760" y="2885040"/>
                    <a:ext cx="79560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5" name="Text Box 81"/>
              <p:cNvSpPr/>
              <p:nvPr/>
            </p:nvSpPr>
            <p:spPr>
              <a:xfrm rot="3925800">
                <a:off x="3769560" y="450504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6" name="Text Box 82"/>
              <p:cNvSpPr/>
              <p:nvPr/>
            </p:nvSpPr>
            <p:spPr>
              <a:xfrm rot="3925800">
                <a:off x="4228920" y="422388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6089760" y="2541600"/>
              <a:ext cx="2234520" cy="3836520"/>
              <a:chOff x="6089760" y="2541600"/>
              <a:chExt cx="2234520" cy="383652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6685200" y="3591360"/>
                <a:ext cx="1527120" cy="2426400"/>
                <a:chOff x="6685200" y="3591360"/>
                <a:chExt cx="1527120" cy="242640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6685200" y="3749040"/>
                  <a:ext cx="1421280" cy="2268720"/>
                  <a:chOff x="6685200" y="3749040"/>
                  <a:chExt cx="1421280" cy="2268720"/>
                </a:xfrm>
              </p:grpSpPr>
              <p:sp>
                <p:nvSpPr>
                  <p:cNvPr id="500" name="Freeform 26"/>
                  <p:cNvSpPr/>
                  <p:nvPr/>
                </p:nvSpPr>
                <p:spPr>
                  <a:xfrm rot="3876600">
                    <a:off x="6257160" y="4636800"/>
                    <a:ext cx="2277360" cy="49248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27"/>
                  <p:cNvSpPr/>
                  <p:nvPr/>
                </p:nvSpPr>
                <p:spPr>
                  <a:xfrm rot="3876600">
                    <a:off x="7625520" y="5516640"/>
                    <a:ext cx="357840" cy="403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7121880" y="3591360"/>
                  <a:ext cx="1090440" cy="1740600"/>
                  <a:chOff x="7121880" y="3591360"/>
                  <a:chExt cx="1090440" cy="1740600"/>
                </a:xfrm>
              </p:grpSpPr>
              <p:sp>
                <p:nvSpPr>
                  <p:cNvPr id="503" name="Freeform 29"/>
                  <p:cNvSpPr/>
                  <p:nvPr/>
                </p:nvSpPr>
                <p:spPr>
                  <a:xfrm flipV="1" rot="3876600">
                    <a:off x="6793200" y="4272120"/>
                    <a:ext cx="1747440" cy="37764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30"/>
                  <p:cNvSpPr/>
                  <p:nvPr/>
                </p:nvSpPr>
                <p:spPr>
                  <a:xfrm flipV="1" rot="3876600">
                    <a:off x="7827840" y="4954680"/>
                    <a:ext cx="27468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Oval 31"/>
              <p:cNvSpPr/>
              <p:nvPr/>
            </p:nvSpPr>
            <p:spPr>
              <a:xfrm>
                <a:off x="6089760" y="2541600"/>
                <a:ext cx="1527480" cy="157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6" name="Oval 32"/>
              <p:cNvSpPr/>
              <p:nvPr/>
            </p:nvSpPr>
            <p:spPr>
              <a:xfrm>
                <a:off x="6089760" y="2541600"/>
                <a:ext cx="1527480" cy="157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7" name="Oval 33"/>
              <p:cNvSpPr/>
              <p:nvPr/>
            </p:nvSpPr>
            <p:spPr>
              <a:xfrm>
                <a:off x="6191280" y="2644920"/>
                <a:ext cx="1327320" cy="136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8" name="Oval 34"/>
              <p:cNvSpPr/>
              <p:nvPr/>
            </p:nvSpPr>
            <p:spPr>
              <a:xfrm>
                <a:off x="6193080" y="2647800"/>
                <a:ext cx="1326960" cy="136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9" name="Oval 35"/>
              <p:cNvSpPr/>
              <p:nvPr/>
            </p:nvSpPr>
            <p:spPr>
              <a:xfrm>
                <a:off x="6256800" y="2712960"/>
                <a:ext cx="1195200" cy="1227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6275880" y="2732400"/>
                <a:ext cx="1158120" cy="1191240"/>
                <a:chOff x="6275880" y="2732400"/>
                <a:chExt cx="1158120" cy="1191240"/>
              </a:xfrm>
            </p:grpSpPr>
            <p:sp>
              <p:nvSpPr>
                <p:cNvPr id="511" name="Oval 37"/>
                <p:cNvSpPr/>
                <p:nvPr/>
              </p:nvSpPr>
              <p:spPr>
                <a:xfrm>
                  <a:off x="6275880" y="2732400"/>
                  <a:ext cx="1158120" cy="119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12" name="Oval 38"/>
                <p:cNvSpPr/>
                <p:nvPr/>
              </p:nvSpPr>
              <p:spPr>
                <a:xfrm>
                  <a:off x="6290640" y="2738880"/>
                  <a:ext cx="1130040" cy="116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13" name="Oval 39"/>
                <p:cNvSpPr/>
                <p:nvPr/>
              </p:nvSpPr>
              <p:spPr>
                <a:xfrm>
                  <a:off x="6302520" y="2750400"/>
                  <a:ext cx="1074960" cy="10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14" name="Oval 40"/>
                <p:cNvSpPr/>
                <p:nvPr/>
              </p:nvSpPr>
              <p:spPr>
                <a:xfrm>
                  <a:off x="6365520" y="2780640"/>
                  <a:ext cx="955440" cy="88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Text Box 83"/>
              <p:cNvSpPr/>
              <p:nvPr/>
            </p:nvSpPr>
            <p:spPr>
              <a:xfrm rot="3925800">
                <a:off x="5722560" y="464832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6" name="Text Box 84"/>
              <p:cNvSpPr/>
              <p:nvPr/>
            </p:nvSpPr>
            <p:spPr>
              <a:xfrm rot="3925800">
                <a:off x="6180480" y="436752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7200" y="1828800"/>
              <a:ext cx="7885800" cy="407880"/>
              <a:chOff x="187200" y="1828800"/>
              <a:chExt cx="7885800" cy="407880"/>
            </a:xfrm>
          </p:grpSpPr>
          <p:sp>
            <p:nvSpPr>
              <p:cNvPr id="518" name="Text Box 86"/>
              <p:cNvSpPr/>
              <p:nvPr/>
            </p:nvSpPr>
            <p:spPr>
              <a:xfrm>
                <a:off x="187200" y="186840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9" name="Text Box 87"/>
              <p:cNvSpPr/>
              <p:nvPr/>
            </p:nvSpPr>
            <p:spPr>
              <a:xfrm>
                <a:off x="1941480" y="186840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0" name="Text Box 88"/>
              <p:cNvSpPr/>
              <p:nvPr/>
            </p:nvSpPr>
            <p:spPr>
              <a:xfrm>
                <a:off x="3687840" y="186840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1" name="Text Box 89"/>
              <p:cNvSpPr/>
              <p:nvPr/>
            </p:nvSpPr>
            <p:spPr>
              <a:xfrm>
                <a:off x="5478120" y="1828800"/>
                <a:ext cx="25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cxnSp>
            <p:nvCxnSpPr>
              <p:cNvPr id="522" name="AutoShape 90"/>
              <p:cNvCxnSpPr>
                <a:stCxn id="518" idx="3"/>
                <a:endCxn id="519" idx="1"/>
              </p:cNvCxnSpPr>
              <p:nvPr/>
            </p:nvCxnSpPr>
            <p:spPr>
              <a:xfrm>
                <a:off x="1837800" y="2052720"/>
                <a:ext cx="986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3" name="AutoShape 91"/>
              <p:cNvCxnSpPr>
                <a:stCxn id="519" idx="3"/>
                <a:endCxn id="520" idx="1"/>
              </p:cNvCxnSpPr>
              <p:nvPr/>
            </p:nvCxnSpPr>
            <p:spPr>
              <a:xfrm>
                <a:off x="3592440" y="2052720"/>
                <a:ext cx="97848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4" name="AutoShape 92"/>
              <p:cNvCxnSpPr/>
              <p:nvPr/>
            </p:nvCxnSpPr>
            <p:spPr>
              <a:xfrm>
                <a:off x="5338800" y="2057400"/>
                <a:ext cx="97848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016640" y="1523880"/>
            <a:ext cx="6527160" cy="1301760"/>
            <a:chOff x="1016640" y="1523880"/>
            <a:chExt cx="6527160" cy="1301760"/>
          </a:xfrm>
        </p:grpSpPr>
        <p:sp>
          <p:nvSpPr>
            <p:cNvPr id="527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016640" y="1643400"/>
              <a:ext cx="2681640" cy="1064520"/>
              <a:chOff x="1016640" y="1643400"/>
              <a:chExt cx="2681640" cy="106452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0" name="Freeform 7"/>
              <p:cNvSpPr/>
              <p:nvPr/>
            </p:nvSpPr>
            <p:spPr>
              <a:xfrm>
                <a:off x="1875240" y="171180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1" name="Text Box 8"/>
              <p:cNvSpPr/>
              <p:nvPr/>
            </p:nvSpPr>
            <p:spPr>
              <a:xfrm>
                <a:off x="1016640" y="1932840"/>
                <a:ext cx="268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32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016640" y="3054240"/>
            <a:ext cx="6527160" cy="1301760"/>
            <a:chOff x="1016640" y="3054240"/>
            <a:chExt cx="6527160" cy="1301760"/>
          </a:xfrm>
        </p:grpSpPr>
        <p:sp>
          <p:nvSpPr>
            <p:cNvPr id="534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1016640" y="3173760"/>
              <a:ext cx="2681640" cy="1064520"/>
              <a:chOff x="1016640" y="3173760"/>
              <a:chExt cx="2681640" cy="1064520"/>
            </a:xfrm>
          </p:grpSpPr>
          <p:sp>
            <p:nvSpPr>
              <p:cNvPr id="536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7" name="Freeform 14"/>
              <p:cNvSpPr/>
              <p:nvPr/>
            </p:nvSpPr>
            <p:spPr>
              <a:xfrm>
                <a:off x="1875240" y="324216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8" name="Text Box 15"/>
              <p:cNvSpPr/>
              <p:nvPr/>
            </p:nvSpPr>
            <p:spPr>
              <a:xfrm>
                <a:off x="1016640" y="3464640"/>
                <a:ext cx="268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39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016640" y="4594320"/>
            <a:ext cx="6527160" cy="1301760"/>
            <a:chOff x="1016640" y="4594320"/>
            <a:chExt cx="6527160" cy="1301760"/>
          </a:xfrm>
        </p:grpSpPr>
        <p:sp>
          <p:nvSpPr>
            <p:cNvPr id="541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016640" y="4713840"/>
              <a:ext cx="2681640" cy="1064520"/>
              <a:chOff x="1016640" y="4713840"/>
              <a:chExt cx="2681640" cy="1064520"/>
            </a:xfrm>
          </p:grpSpPr>
          <p:sp>
            <p:nvSpPr>
              <p:cNvPr id="543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44" name="Freeform 21"/>
              <p:cNvSpPr/>
              <p:nvPr/>
            </p:nvSpPr>
            <p:spPr>
              <a:xfrm>
                <a:off x="1875240" y="478224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45" name="Text Box 22"/>
              <p:cNvSpPr/>
              <p:nvPr/>
            </p:nvSpPr>
            <p:spPr>
              <a:xfrm>
                <a:off x="1016640" y="5004720"/>
                <a:ext cx="268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46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340000" y="60865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8f77c5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498760"/>
          <a:ext cx="7467480" cy="31986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e508c"/>
                      </a:solidFill>
                    </a:lnR>
                    <a:lnT>
                      <a:noFill/>
                    </a:lnT>
                    <a:lnB w="5760">
                      <a:solidFill>
                        <a:srgbClr val="5e50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5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5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e508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87FC-1F28-4D4E-AC67-CB058A80B3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8"/>
          <p:cNvSpPr/>
          <p:nvPr/>
        </p:nvSpPr>
        <p:spPr>
          <a:xfrm>
            <a:off x="20520" y="4027320"/>
            <a:ext cx="9104400" cy="736920"/>
          </a:xfrm>
          <a:prstGeom prst="rect">
            <a:avLst/>
          </a:prstGeom>
          <a:solidFill>
            <a:srgbClr val="5e50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-720" y="1440"/>
            <a:ext cx="9146520" cy="6856560"/>
            <a:chOff x="-720" y="1440"/>
            <a:chExt cx="9146520" cy="6856560"/>
          </a:xfrm>
        </p:grpSpPr>
        <p:sp>
          <p:nvSpPr>
            <p:cNvPr id="555" name="AutoShape 90"/>
            <p:cNvSpPr/>
            <p:nvPr/>
          </p:nvSpPr>
          <p:spPr>
            <a:xfrm>
              <a:off x="45720" y="39600"/>
              <a:ext cx="906012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6" name="Freeform 91"/>
            <p:cNvSpPr/>
            <p:nvPr/>
          </p:nvSpPr>
          <p:spPr>
            <a:xfrm>
              <a:off x="7560" y="1440"/>
              <a:ext cx="45648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7" name="Freeform 92"/>
            <p:cNvSpPr/>
            <p:nvPr/>
          </p:nvSpPr>
          <p:spPr>
            <a:xfrm rot="16191000">
              <a:off x="66960" y="6377400"/>
              <a:ext cx="405000" cy="53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8" name="Freeform 93"/>
            <p:cNvSpPr/>
            <p:nvPr/>
          </p:nvSpPr>
          <p:spPr>
            <a:xfrm rot="10768800">
              <a:off x="8676360" y="6400080"/>
              <a:ext cx="46728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9" name="Freeform 94"/>
            <p:cNvSpPr/>
            <p:nvPr/>
          </p:nvSpPr>
          <p:spPr>
            <a:xfrm rot="5400000">
              <a:off x="8686800" y="1440"/>
              <a:ext cx="457200" cy="45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60" name="Text Box 64"/>
          <p:cNvSpPr/>
          <p:nvPr/>
        </p:nvSpPr>
        <p:spPr>
          <a:xfrm>
            <a:off x="304920" y="411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61" name="WordArt 2"/>
          <p:cNvSpPr/>
          <p:nvPr/>
        </p:nvSpPr>
        <p:spPr>
          <a:xfrm>
            <a:off x="2590920" y="4114800"/>
            <a:ext cx="4343400" cy="5335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676160" y="4952880"/>
            <a:ext cx="6019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65760" y="2176560"/>
            <a:ext cx="6125400" cy="664920"/>
            <a:chOff x="1265760" y="2176560"/>
            <a:chExt cx="6125400" cy="664920"/>
          </a:xfrm>
        </p:grpSpPr>
        <p:grpSp>
          <p:nvGrpSpPr>
            <p:cNvPr id="108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09" name="AutoShape 9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10" name="AutoShape 10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11" name="AutoShape 11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590560" y="2785680"/>
              <a:ext cx="4800600" cy="1440"/>
              <a:chOff x="2590560" y="2785680"/>
              <a:chExt cx="4800600" cy="1440"/>
            </a:xfrm>
          </p:grpSpPr>
          <p:sp>
            <p:nvSpPr>
              <p:cNvPr id="113" name="Line 16"/>
              <p:cNvSpPr/>
              <p:nvPr/>
            </p:nvSpPr>
            <p:spPr>
              <a:xfrm>
                <a:off x="2590560" y="2785680"/>
                <a:ext cx="4800600" cy="1440"/>
              </a:xfrm>
              <a:prstGeom prst="line">
                <a:avLst/>
              </a:prstGeom>
              <a:ln w="25560">
                <a:solidFill>
                  <a:srgbClr val="878fa5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2590560" y="278568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15" name="Text Box 17"/>
            <p:cNvSpPr/>
            <p:nvPr/>
          </p:nvSpPr>
          <p:spPr>
            <a:xfrm>
              <a:off x="2670120" y="225252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1265760" y="22744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265760" y="3090960"/>
            <a:ext cx="6125400" cy="664920"/>
            <a:chOff x="1265760" y="3090960"/>
            <a:chExt cx="6125400" cy="664920"/>
          </a:xfrm>
        </p:grpSpPr>
        <p:grpSp>
          <p:nvGrpSpPr>
            <p:cNvPr id="118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19" name="AutoShape 13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1" name="AutoShape 15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590560" y="3700080"/>
              <a:ext cx="4800600" cy="1440"/>
              <a:chOff x="2590560" y="3700080"/>
              <a:chExt cx="4800600" cy="1440"/>
            </a:xfrm>
          </p:grpSpPr>
          <p:sp>
            <p:nvSpPr>
              <p:cNvPr id="123" name="Line 19"/>
              <p:cNvSpPr/>
              <p:nvPr/>
            </p:nvSpPr>
            <p:spPr>
              <a:xfrm>
                <a:off x="2590560" y="3700080"/>
                <a:ext cx="4800600" cy="1440"/>
              </a:xfrm>
              <a:prstGeom prst="line">
                <a:avLst/>
              </a:prstGeom>
              <a:ln w="25560">
                <a:solidFill>
                  <a:srgbClr val="878fa5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590560" y="370008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25" name="Text Box 20"/>
            <p:cNvSpPr/>
            <p:nvPr/>
          </p:nvSpPr>
          <p:spPr>
            <a:xfrm>
              <a:off x="2670120" y="316692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1265760" y="31888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65760" y="3983040"/>
            <a:ext cx="6125400" cy="665280"/>
            <a:chOff x="1265760" y="3983040"/>
            <a:chExt cx="6125400" cy="665280"/>
          </a:xfrm>
        </p:grpSpPr>
        <p:grpSp>
          <p:nvGrpSpPr>
            <p:cNvPr id="128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29" name="AutoShape 23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30" name="AutoShape 24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31" name="AutoShape 25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590560" y="4592520"/>
              <a:ext cx="4800600" cy="1800"/>
              <a:chOff x="2590560" y="4592520"/>
              <a:chExt cx="4800600" cy="1800"/>
            </a:xfrm>
          </p:grpSpPr>
          <p:sp>
            <p:nvSpPr>
              <p:cNvPr id="133" name="Line 30"/>
              <p:cNvSpPr/>
              <p:nvPr/>
            </p:nvSpPr>
            <p:spPr>
              <a:xfrm>
                <a:off x="2590560" y="4592520"/>
                <a:ext cx="4800600" cy="1800"/>
              </a:xfrm>
              <a:prstGeom prst="line">
                <a:avLst/>
              </a:prstGeom>
              <a:ln w="25560">
                <a:solidFill>
                  <a:srgbClr val="878fa5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2590560" y="45925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35" name="Text Box 31"/>
            <p:cNvSpPr/>
            <p:nvPr/>
          </p:nvSpPr>
          <p:spPr>
            <a:xfrm>
              <a:off x="2670120" y="405936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265760" y="40813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265760" y="4897440"/>
            <a:ext cx="6125400" cy="665280"/>
            <a:chOff x="1265760" y="4897440"/>
            <a:chExt cx="6125400" cy="665280"/>
          </a:xfrm>
        </p:grpSpPr>
        <p:grpSp>
          <p:nvGrpSpPr>
            <p:cNvPr id="138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39" name="AutoShape 27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40" name="AutoShape 28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41" name="AutoShape 29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590560" y="5506920"/>
              <a:ext cx="4800600" cy="1800"/>
              <a:chOff x="2590560" y="5506920"/>
              <a:chExt cx="4800600" cy="1800"/>
            </a:xfrm>
          </p:grpSpPr>
          <p:sp>
            <p:nvSpPr>
              <p:cNvPr id="143" name="Line 33"/>
              <p:cNvSpPr/>
              <p:nvPr/>
            </p:nvSpPr>
            <p:spPr>
              <a:xfrm>
                <a:off x="2590560" y="5506920"/>
                <a:ext cx="4800600" cy="1800"/>
              </a:xfrm>
              <a:prstGeom prst="line">
                <a:avLst/>
              </a:prstGeom>
              <a:ln w="25560">
                <a:solidFill>
                  <a:srgbClr val="878fa5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2590560" y="55069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45" name="Text Box 34"/>
            <p:cNvSpPr/>
            <p:nvPr/>
          </p:nvSpPr>
          <p:spPr>
            <a:xfrm>
              <a:off x="2670120" y="497376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6" name="Text Box 35"/>
            <p:cNvSpPr/>
            <p:nvPr/>
          </p:nvSpPr>
          <p:spPr>
            <a:xfrm>
              <a:off x="1265760" y="49957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354400" y="6029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8f77c5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731600"/>
            <a:ext cx="792468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f77c5"/>
              </a:buClr>
              <a:buSzPct val="2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5e508c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5e508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5e508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</a:pPr>
            <a:endParaRPr b="1" lang="en-US" sz="3600" spc="-1" strike="noStrike">
              <a:solidFill>
                <a:srgbClr val="5e508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b88e"/>
              </a:buClr>
              <a:buSzPct val="25000"/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1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View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1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Master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1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Slide Master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1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Notes Master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5e50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43000" y="3276720"/>
            <a:ext cx="2286000" cy="2666880"/>
            <a:chOff x="1143000" y="3276720"/>
            <a:chExt cx="2286000" cy="2666880"/>
          </a:xfrm>
        </p:grpSpPr>
        <p:sp>
          <p:nvSpPr>
            <p:cNvPr id="152" name="AutoShape 4"/>
            <p:cNvSpPr/>
            <p:nvPr/>
          </p:nvSpPr>
          <p:spPr>
            <a:xfrm>
              <a:off x="114300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1238400" y="3476880"/>
              <a:ext cx="2038320" cy="21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54" name="Freeform 6"/>
          <p:cNvSpPr/>
          <p:nvPr/>
        </p:nvSpPr>
        <p:spPr>
          <a:xfrm>
            <a:off x="322272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968560" y="1552680"/>
            <a:ext cx="3078000" cy="1601280"/>
            <a:chOff x="2968560" y="1552680"/>
            <a:chExt cx="3078000" cy="1601280"/>
          </a:xfrm>
        </p:grpSpPr>
        <p:grpSp>
          <p:nvGrpSpPr>
            <p:cNvPr id="157" name=""/>
            <p:cNvGrpSpPr/>
            <p:nvPr/>
          </p:nvGrpSpPr>
          <p:grpSpPr>
            <a:xfrm>
              <a:off x="3048120" y="1552680"/>
              <a:ext cx="2998440" cy="1601280"/>
              <a:chOff x="3048120" y="1552680"/>
              <a:chExt cx="2998440" cy="16012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048120" y="1695600"/>
                <a:ext cx="2998440" cy="1458360"/>
                <a:chOff x="3048120" y="1695600"/>
                <a:chExt cx="2998440" cy="1458360"/>
              </a:xfrm>
            </p:grpSpPr>
            <p:sp>
              <p:nvSpPr>
                <p:cNvPr id="159" name="Oval 11"/>
                <p:cNvSpPr/>
                <p:nvPr/>
              </p:nvSpPr>
              <p:spPr>
                <a:xfrm>
                  <a:off x="3080880" y="17420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160" name="Oval 12"/>
                <p:cNvSpPr/>
                <p:nvPr/>
              </p:nvSpPr>
              <p:spPr>
                <a:xfrm>
                  <a:off x="3048120" y="16956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Oval 13"/>
              <p:cNvSpPr/>
              <p:nvPr/>
            </p:nvSpPr>
            <p:spPr>
              <a:xfrm>
                <a:off x="3189240" y="15526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62" name="Oval 14"/>
              <p:cNvSpPr/>
              <p:nvPr/>
            </p:nvSpPr>
            <p:spPr>
              <a:xfrm>
                <a:off x="3224160" y="15606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63" name="Oval 15"/>
              <p:cNvSpPr/>
              <p:nvPr/>
            </p:nvSpPr>
            <p:spPr>
              <a:xfrm>
                <a:off x="3251160" y="15732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64" name="Oval 16"/>
              <p:cNvSpPr/>
              <p:nvPr/>
            </p:nvSpPr>
            <p:spPr>
              <a:xfrm>
                <a:off x="3382920" y="16002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65" name="Text Box 17"/>
            <p:cNvSpPr/>
            <p:nvPr/>
          </p:nvSpPr>
          <p:spPr>
            <a:xfrm>
              <a:off x="2968560" y="1752840"/>
              <a:ext cx="30639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562720" y="3276720"/>
            <a:ext cx="2286000" cy="2666880"/>
            <a:chOff x="5562720" y="3276720"/>
            <a:chExt cx="2286000" cy="2666880"/>
          </a:xfrm>
        </p:grpSpPr>
        <p:sp>
          <p:nvSpPr>
            <p:cNvPr id="167" name="AutoShape 3"/>
            <p:cNvSpPr/>
            <p:nvPr/>
          </p:nvSpPr>
          <p:spPr>
            <a:xfrm>
              <a:off x="556272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715000" y="3476880"/>
              <a:ext cx="2038320" cy="21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69" name="Freeform 8"/>
          <p:cNvSpPr/>
          <p:nvPr/>
        </p:nvSpPr>
        <p:spPr>
          <a:xfrm flipH="1">
            <a:off x="487440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62120" y="1722240"/>
            <a:ext cx="7512840" cy="4583520"/>
            <a:chOff x="762120" y="1722240"/>
            <a:chExt cx="7512840" cy="4583520"/>
          </a:xfrm>
        </p:grpSpPr>
        <p:sp>
          <p:nvSpPr>
            <p:cNvPr id="172" name="Freeform 4"/>
            <p:cNvSpPr/>
            <p:nvPr/>
          </p:nvSpPr>
          <p:spPr>
            <a:xfrm rot="20241600">
              <a:off x="1392120" y="2801880"/>
              <a:ext cx="6094440" cy="2424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852120" y="374184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3155400" y="242424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5765400" y="266400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4173120" y="466416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1663200" y="520236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85" name="Line 16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cxnSp>
          <p:nvCxnSpPr>
            <p:cNvPr id="187" name="AutoShape 17"/>
            <p:cNvCxnSpPr/>
            <p:nvPr/>
          </p:nvCxnSpPr>
          <p:spPr>
            <a:xfrm flipH="1">
              <a:off x="887040" y="2452680"/>
              <a:ext cx="1726560" cy="2160"/>
            </a:xfrm>
            <a:prstGeom prst="straightConnector1">
              <a:avLst/>
            </a:prstGeom>
            <a:ln w="9360">
              <a:solidFill>
                <a:srgbClr val="5e508c"/>
              </a:solidFill>
              <a:miter/>
            </a:ln>
          </p:spPr>
        </p:cxnSp>
        <p:sp>
          <p:nvSpPr>
            <p:cNvPr id="188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91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3308760" y="326340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3308760" y="376992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3308760" y="427680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8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9" name="Text Box 12"/>
            <p:cNvSpPr/>
            <p:nvPr/>
          </p:nvSpPr>
          <p:spPr>
            <a:xfrm>
              <a:off x="1365480" y="2537640"/>
              <a:ext cx="154836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0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6153120" y="2537640"/>
              <a:ext cx="154872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9"/>
                <a:gd name="adj2" fmla="val 70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3287160" y="196344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6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3287160" y="551016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8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102"/>
                <a:gd name="adj2" fmla="val 640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73920" y="2209680"/>
            <a:ext cx="7575840" cy="3352680"/>
            <a:chOff x="673920" y="2209680"/>
            <a:chExt cx="7575840" cy="3352680"/>
          </a:xfrm>
        </p:grpSpPr>
        <p:grpSp>
          <p:nvGrpSpPr>
            <p:cNvPr id="211" name=""/>
            <p:cNvGrpSpPr/>
            <p:nvPr/>
          </p:nvGrpSpPr>
          <p:grpSpPr>
            <a:xfrm>
              <a:off x="3009240" y="2209680"/>
              <a:ext cx="2899800" cy="2706120"/>
              <a:chOff x="3009240" y="2209680"/>
              <a:chExt cx="2899800" cy="2706120"/>
            </a:xfrm>
          </p:grpSpPr>
          <p:sp>
            <p:nvSpPr>
              <p:cNvPr id="212" name="AutoShape 5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3" name="AutoShape 6"/>
              <p:cNvSpPr/>
              <p:nvPr/>
            </p:nvSpPr>
            <p:spPr>
              <a:xfrm flipH="1" rot="5400000">
                <a:off x="5530320" y="3204720"/>
                <a:ext cx="459360" cy="29700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4" name="AutoShape 7"/>
              <p:cNvSpPr/>
              <p:nvPr/>
            </p:nvSpPr>
            <p:spPr>
              <a:xfrm flipH="1" rot="10800000">
                <a:off x="4240440" y="4609800"/>
                <a:ext cx="444240" cy="30600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5" name="Oval 8"/>
              <p:cNvSpPr/>
              <p:nvPr/>
            </p:nvSpPr>
            <p:spPr>
              <a:xfrm>
                <a:off x="330732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6" name="Oval 9"/>
              <p:cNvSpPr/>
              <p:nvPr/>
            </p:nvSpPr>
            <p:spPr>
              <a:xfrm>
                <a:off x="344016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7" name="Oval 10"/>
              <p:cNvSpPr/>
              <p:nvPr/>
            </p:nvSpPr>
            <p:spPr>
              <a:xfrm>
                <a:off x="356148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8" name="Oval 11"/>
              <p:cNvSpPr/>
              <p:nvPr/>
            </p:nvSpPr>
            <p:spPr>
              <a:xfrm>
                <a:off x="356148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9" name="Oval 12"/>
              <p:cNvSpPr/>
              <p:nvPr/>
            </p:nvSpPr>
            <p:spPr>
              <a:xfrm>
                <a:off x="368136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20" name="Oval 13"/>
              <p:cNvSpPr/>
              <p:nvPr/>
            </p:nvSpPr>
            <p:spPr>
              <a:xfrm>
                <a:off x="368136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21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3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4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5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6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2861280" y="3208320"/>
              <a:ext cx="322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8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9" name="Text Box 22"/>
            <p:cNvSpPr/>
            <p:nvPr/>
          </p:nvSpPr>
          <p:spPr>
            <a:xfrm>
              <a:off x="673920" y="28558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673920" y="335556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673920" y="38548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2" name="Text Box 25"/>
            <p:cNvSpPr/>
            <p:nvPr/>
          </p:nvSpPr>
          <p:spPr>
            <a:xfrm>
              <a:off x="5770800" y="28558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5770800" y="335556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5770800" y="38548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0320" y="2276640"/>
            <a:ext cx="8106480" cy="3352680"/>
            <a:chOff x="310320" y="2276640"/>
            <a:chExt cx="8106480" cy="3352680"/>
          </a:xfrm>
        </p:grpSpPr>
        <p:grpSp>
          <p:nvGrpSpPr>
            <p:cNvPr id="237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38" name="Line 3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72640" y="4783320"/>
              <a:ext cx="2438640" cy="1440"/>
              <a:chOff x="872640" y="4783320"/>
              <a:chExt cx="2438640" cy="1440"/>
            </a:xfrm>
          </p:grpSpPr>
          <p:sp>
            <p:nvSpPr>
              <p:cNvPr id="241" name="Line 4"/>
              <p:cNvSpPr/>
              <p:nvPr/>
            </p:nvSpPr>
            <p:spPr>
              <a:xfrm flipH="1">
                <a:off x="872640" y="4783320"/>
                <a:ext cx="2438280" cy="144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873000" y="4783320"/>
                <a:ext cx="2438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872640" y="3953160"/>
              <a:ext cx="3353040" cy="1440"/>
              <a:chOff x="872640" y="3953160"/>
              <a:chExt cx="3353040" cy="1440"/>
            </a:xfrm>
          </p:grpSpPr>
          <p:sp>
            <p:nvSpPr>
              <p:cNvPr id="244" name="Line 5"/>
              <p:cNvSpPr/>
              <p:nvPr/>
            </p:nvSpPr>
            <p:spPr>
              <a:xfrm flipH="1">
                <a:off x="872640" y="3953160"/>
                <a:ext cx="3352680" cy="144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873000" y="3953160"/>
                <a:ext cx="3352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872640" y="3124440"/>
              <a:ext cx="4165920" cy="1440"/>
              <a:chOff x="872640" y="3124440"/>
              <a:chExt cx="4165920" cy="1440"/>
            </a:xfrm>
          </p:grpSpPr>
          <p:sp>
            <p:nvSpPr>
              <p:cNvPr id="247" name="Line 6"/>
              <p:cNvSpPr/>
              <p:nvPr/>
            </p:nvSpPr>
            <p:spPr>
              <a:xfrm flipH="1">
                <a:off x="872640" y="3124440"/>
                <a:ext cx="4165560" cy="144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873000" y="3124440"/>
                <a:ext cx="4165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872640" y="2283120"/>
              <a:ext cx="5033880" cy="1440"/>
              <a:chOff x="872640" y="2283120"/>
              <a:chExt cx="5033880" cy="1440"/>
            </a:xfrm>
          </p:grpSpPr>
          <p:sp>
            <p:nvSpPr>
              <p:cNvPr id="250" name="Line 7"/>
              <p:cNvSpPr/>
              <p:nvPr/>
            </p:nvSpPr>
            <p:spPr>
              <a:xfrm flipH="1" flipV="1">
                <a:off x="872640" y="2283120"/>
                <a:ext cx="5033880" cy="144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 rot="10800000">
                <a:off x="872640" y="2282760"/>
                <a:ext cx="5033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025280" y="2276640"/>
              <a:ext cx="1800" cy="871560"/>
              <a:chOff x="1025280" y="2276640"/>
              <a:chExt cx="1800" cy="871560"/>
            </a:xfrm>
          </p:grpSpPr>
          <p:sp>
            <p:nvSpPr>
              <p:cNvPr id="253" name="Line 8"/>
              <p:cNvSpPr/>
              <p:nvPr/>
            </p:nvSpPr>
            <p:spPr>
              <a:xfrm>
                <a:off x="1025280" y="2276640"/>
                <a:ext cx="1800" cy="87156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1025280" y="2276640"/>
                <a:ext cx="180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025280" y="3148200"/>
              <a:ext cx="1800" cy="817560"/>
              <a:chOff x="1025280" y="3148200"/>
              <a:chExt cx="1800" cy="817560"/>
            </a:xfrm>
          </p:grpSpPr>
          <p:sp>
            <p:nvSpPr>
              <p:cNvPr id="256" name="Line 9"/>
              <p:cNvSpPr/>
              <p:nvPr/>
            </p:nvSpPr>
            <p:spPr>
              <a:xfrm>
                <a:off x="1025280" y="3148200"/>
                <a:ext cx="1800" cy="81756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1025280" y="3148200"/>
                <a:ext cx="180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025280" y="3965760"/>
              <a:ext cx="1800" cy="816120"/>
              <a:chOff x="1025280" y="3965760"/>
              <a:chExt cx="1800" cy="816120"/>
            </a:xfrm>
          </p:grpSpPr>
          <p:sp>
            <p:nvSpPr>
              <p:cNvPr id="259" name="Line 10"/>
              <p:cNvSpPr/>
              <p:nvPr/>
            </p:nvSpPr>
            <p:spPr>
              <a:xfrm>
                <a:off x="1025280" y="3965760"/>
                <a:ext cx="1800" cy="81612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1025280" y="3965760"/>
                <a:ext cx="180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025280" y="4783320"/>
              <a:ext cx="1800" cy="816120"/>
              <a:chOff x="1025280" y="4783320"/>
              <a:chExt cx="1800" cy="816120"/>
            </a:xfrm>
          </p:grpSpPr>
          <p:sp>
            <p:nvSpPr>
              <p:cNvPr id="262" name="Line 11"/>
              <p:cNvSpPr/>
              <p:nvPr/>
            </p:nvSpPr>
            <p:spPr>
              <a:xfrm>
                <a:off x="1025280" y="4783320"/>
                <a:ext cx="1800" cy="81612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1025280" y="4783320"/>
                <a:ext cx="180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64" name="Text Box 12"/>
            <p:cNvSpPr/>
            <p:nvPr/>
          </p:nvSpPr>
          <p:spPr>
            <a:xfrm>
              <a:off x="310320" y="260064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310320" y="342756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310320" y="429120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310320" y="509760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69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prstGeom prst="pie">
                <a:avLst/>
              </a:prstGeom>
              <a:solidFill>
                <a:srgbClr val="8bc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prstGeom prst="pie">
                <a:avLst/>
              </a:prstGeom>
              <a:solidFill>
                <a:srgbClr val="8f7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4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prstGeom prst="pie">
                <a:avLst/>
              </a:prstGeom>
              <a:solidFill>
                <a:srgbClr val="72b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7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prstGeom prst="pie">
                <a:avLst/>
              </a:prstGeom>
              <a:solidFill>
                <a:srgbClr val="878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81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51040" y="1828800"/>
            <a:ext cx="7537680" cy="4114800"/>
            <a:chOff x="851040" y="1828800"/>
            <a:chExt cx="7537680" cy="4114800"/>
          </a:xfrm>
        </p:grpSpPr>
        <p:sp>
          <p:nvSpPr>
            <p:cNvPr id="284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8" y="0"/>
                  </a:moveTo>
                  <a:arcTo wR="2968" hR="2968" stAng="16200000" swAng="-5400000"/>
                  <a:lnTo>
                    <a:pt x="0" y="23867"/>
                  </a:lnTo>
                  <a:arcTo wR="2968" hR="2968" stAng="10800000" swAng="-5400000"/>
                  <a:lnTo>
                    <a:pt x="18632" y="26835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5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8" y="0"/>
                  </a:moveTo>
                  <a:arcTo wR="2968" hR="2968" stAng="16200000" swAng="-5400000"/>
                  <a:lnTo>
                    <a:pt x="0" y="24031"/>
                  </a:lnTo>
                  <a:arcTo wR="2968" hR="2968" stAng="10800000" swAng="-5400000"/>
                  <a:lnTo>
                    <a:pt x="18632" y="26999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6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200 w 1752480"/>
                <a:gd name="textAreaRight" fmla="*/ 1682280 w 1752480"/>
                <a:gd name="textAreaTop" fmla="*/ 70200 h 2286000"/>
                <a:gd name="textAreaBottom" fmla="*/ 221580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8" y="0"/>
                  </a:moveTo>
                  <a:arcTo wR="2968" hR="2968" stAng="16200000" swAng="-5400000"/>
                  <a:lnTo>
                    <a:pt x="0" y="25206"/>
                  </a:lnTo>
                  <a:arcTo wR="2968" hR="2968" stAng="10800000" swAng="-5400000"/>
                  <a:lnTo>
                    <a:pt x="18632" y="28174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f7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0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1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2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4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5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00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03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04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5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6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7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8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10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1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2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3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15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6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7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8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19" name="Text Box 38"/>
            <p:cNvSpPr/>
            <p:nvPr/>
          </p:nvSpPr>
          <p:spPr>
            <a:xfrm>
              <a:off x="851040" y="250524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0" name="Text Box 39"/>
            <p:cNvSpPr/>
            <p:nvPr/>
          </p:nvSpPr>
          <p:spPr>
            <a:xfrm>
              <a:off x="3319560" y="250524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1" name="Text Box 40"/>
            <p:cNvSpPr/>
            <p:nvPr/>
          </p:nvSpPr>
          <p:spPr>
            <a:xfrm>
              <a:off x="5786280" y="250524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311560" y="6100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8f77c5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7:0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0:40:42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