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7F8-3684-48EA-8132-2821AF66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152-D05A-4318-8063-8F2C62BA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F3D-FF8E-4123-9261-1374832B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47A-1E5D-46E4-8833-2CE5736B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8ADF-9F2B-43AC-B2AC-1BBD8FB1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A74-F6B1-41F2-B66E-A4C078C8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69B0-428B-4A42-8185-D8DEF4D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E0F0-18B7-4C9E-A6D5-517DA1D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2D64-DBAB-4FF2-BCB8-C4FE9DC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5CDB-B0DE-455F-AD02-C39BAA9F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622B-1122-4131-8DD9-2BDB54E2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0F2-ABBC-4513-BC58-6FD2C18C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9F4-5DF7-44E2-B997-BC0FFA8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27C4-3CCB-4D34-B8D0-FFB6231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864E-E3C5-4968-8CAD-1E4DC38D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725B-91BD-4AC8-8F8D-B80EDA0C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4A74-F9B4-4FFF-AFE9-8497A677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CF7-67F0-4426-A52F-48CE5825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174-5521-4582-9BC1-7B7ABD94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6F5-6E8E-466A-8235-032E807C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B1D-40C8-4045-AD60-2E9DDB0C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5AC-061B-4D64-8FF6-CD89C130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5A6-E9B4-4475-9892-F96012DA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B61-93F2-432E-B426-62C95480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3C86-E223-47B4-A2BB-45202291E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FC33-43DA-4D80-8883-0875301CDB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5"/>
          <p:cNvSpPr/>
          <p:nvPr/>
        </p:nvSpPr>
        <p:spPr>
          <a:xfrm>
            <a:off x="900000" y="1052640"/>
            <a:ext cx="4319640" cy="64764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4762800" y="5805360"/>
            <a:ext cx="37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1ppt.com/beijing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072880" y="99216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艺术线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6:41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5:52:26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