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 flipH="1">
            <a:off x="5105520" y="365760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4185720" y="4157640"/>
            <a:ext cx="1148040" cy="1023840"/>
            <a:chOff x="4185720" y="4157640"/>
            <a:chExt cx="1148040" cy="1023840"/>
          </a:xfrm>
        </p:grpSpPr>
        <p:sp>
          <p:nvSpPr>
            <p:cNvPr id="41" name=""/>
            <p:cNvSpPr/>
            <p:nvPr/>
          </p:nvSpPr>
          <p:spPr>
            <a:xfrm flipH="1">
              <a:off x="4876560" y="4157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4185360" y="41911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4418640" y="48769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9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427200">
              <a:off x="4343400" y="4343400"/>
              <a:ext cx="609480" cy="76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0196"/>
                  </a:srgbClr>
                </a:gs>
                <a:gs pos="50000">
                  <a:srgbClr val="ffffff"/>
                </a:gs>
                <a:gs pos="100000">
                  <a:srgbClr val="ffffff">
                    <a:alpha val="90196"/>
                  </a:srgbClr>
                </a:gs>
              </a:gsLst>
              <a:lin ang="49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8726600">
              <a:off x="4524840" y="4678920"/>
              <a:ext cx="609480" cy="74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0196"/>
                  </a:srgbClr>
                </a:gs>
                <a:gs pos="50000">
                  <a:srgbClr val="ffffff"/>
                </a:gs>
                <a:gs pos="100000">
                  <a:srgbClr val="ffffff">
                    <a:alpha val="90196"/>
                  </a:srgbClr>
                </a:gs>
              </a:gsLst>
              <a:lin ang="82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H="1">
            <a:off x="5562000" y="40384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743240" y="3749040"/>
            <a:ext cx="804960" cy="998280"/>
            <a:chOff x="7743240" y="3749040"/>
            <a:chExt cx="804960" cy="998280"/>
          </a:xfrm>
        </p:grpSpPr>
        <p:sp>
          <p:nvSpPr>
            <p:cNvPr id="48" name=""/>
            <p:cNvSpPr/>
            <p:nvPr/>
          </p:nvSpPr>
          <p:spPr>
            <a:xfrm flipH="1" rot="7881000">
              <a:off x="7828200" y="4343760"/>
              <a:ext cx="335160" cy="33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7881000">
              <a:off x="8278200" y="3998160"/>
              <a:ext cx="223560" cy="222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7881000">
              <a:off x="7788240" y="3794760"/>
              <a:ext cx="223560" cy="222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9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8308800">
              <a:off x="7995960" y="4233600"/>
              <a:ext cx="446760" cy="55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0196"/>
                  </a:srgbClr>
                </a:gs>
                <a:gs pos="50000">
                  <a:srgbClr val="ffffff"/>
                </a:gs>
                <a:gs pos="100000">
                  <a:srgbClr val="ffffff">
                    <a:alpha val="90196"/>
                  </a:srgbClr>
                </a:gs>
              </a:gsLst>
              <a:lin ang="49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007600">
              <a:off x="7724880" y="4172760"/>
              <a:ext cx="445680" cy="543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0196"/>
                  </a:srgbClr>
                </a:gs>
                <a:gs pos="50000">
                  <a:srgbClr val="ffffff"/>
                </a:gs>
                <a:gs pos="100000">
                  <a:srgbClr val="ffffff">
                    <a:alpha val="90196"/>
                  </a:srgbClr>
                </a:gs>
              </a:gsLst>
              <a:lin ang="82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8534520" y="4572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4800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581280" y="4647600"/>
            <a:ext cx="76320" cy="7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809880" y="480060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038480" y="449568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8153280" y="312408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458200" y="2818800"/>
            <a:ext cx="76320" cy="7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381880" y="3504600"/>
            <a:ext cx="76320" cy="7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648320" y="4190400"/>
            <a:ext cx="75960" cy="7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0840" y="304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检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02:56:5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3:47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