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E54-4AC3-4C69-A9EB-7714AF2C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CE4-335D-493A-AA62-236770B5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E3C-B9F3-4537-B89A-A148E5F4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A70-05FE-4BF0-B7E5-BADE70E4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79C-CB02-45F3-AA5A-33EBE71C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6FF-86EF-4F9A-829A-C8641AC9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564-080B-4BE9-9261-E5EBE282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E83-A36D-4FB4-B93A-30869CEF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DE1-2C2A-4C88-AD2A-655507F6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38B-F931-41F9-9CB7-42FF4D1B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D22-1E97-47B8-9165-5A432D9B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783-C06A-4A2F-8A9B-C957348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86F5-8F62-419F-A71E-B69EE2C20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7500960" y="1214280"/>
            <a:ext cx="57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行楷繁体"/>
                <a:ea typeface="方正行楷繁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4760" y="33336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中国酒文化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8072280" y="3371760"/>
            <a:ext cx="3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逍遥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91040" y="6289560"/>
            <a:ext cx="43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69D-BFB2-4360-A53A-13BE98768E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5:37Z</dcterms:modified>
  <cp:revision>39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