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085-29C7-42C6-A2B4-4CA834C2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F0F-8F9E-4F3F-8345-B13F3DC4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E0C-4579-445C-AB16-0E215B47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710-55AC-4508-969C-689AAF34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53B8-599A-43BF-B7E9-9581EEBB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EA92-C831-4684-94DA-B526E72A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06EC-D9B6-4178-B1B7-3D29E0E2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6042-E795-4871-A857-8A116BA5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E91F-1F5D-4D1F-893C-376D3C21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029200" y="188640"/>
            <a:ext cx="4114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9150-7E09-4BEF-9686-075CB0AF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889B-A8BE-4127-A9A8-0D91C409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AB5D-EF34-49E4-9990-65F8EE6F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83FD-AA62-481C-ABA1-639F37D0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B93B-A62D-4F9C-AB40-23BAAE8A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1AD0-3DB7-44F1-95D9-04C747D7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D329-D2F9-488B-8417-A0981F3B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6F0A-9077-4966-B9D0-529050EA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029-09B7-45C6-8745-311044E1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841-F048-46B8-9412-67AF6831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701-B863-4BC8-89C2-215AA1B2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029200" y="188640"/>
            <a:ext cx="4114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6F9-7964-483D-9F56-275A69A7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FD4-6A09-4252-98CE-28FB2DD0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DE7-E91C-42A1-BB22-1EFA1C05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783-856D-4E80-B97A-948A2547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360"/>
            <a:ext cx="9144000" cy="981000"/>
            <a:chOff x="0" y="-360"/>
            <a:chExt cx="9144000" cy="981000"/>
          </a:xfrm>
        </p:grpSpPr>
        <p:pic>
          <p:nvPicPr>
            <p:cNvPr id="1" name="Picture 3" descr="0142"/>
            <p:cNvPicPr/>
            <p:nvPr/>
          </p:nvPicPr>
          <p:blipFill>
            <a:blip r:embed="rId2"/>
            <a:stretch/>
          </p:blipFill>
          <p:spPr>
            <a:xfrm rot="10800000">
              <a:off x="0" y="-360"/>
              <a:ext cx="914400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0142"/>
            <p:cNvPicPr/>
            <p:nvPr/>
          </p:nvPicPr>
          <p:blipFill>
            <a:blip r:embed="rId3"/>
            <a:stretch/>
          </p:blipFill>
          <p:spPr>
            <a:xfrm>
              <a:off x="0" y="917640"/>
              <a:ext cx="9144000" cy="6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0139-966E-43EA-B732-5DC42219A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966960" y="1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公司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123"/>
          <p:cNvPicPr/>
          <p:nvPr/>
        </p:nvPicPr>
        <p:blipFill>
          <a:blip r:embed="rId4"/>
          <a:stretch/>
        </p:blipFill>
        <p:spPr>
          <a:xfrm>
            <a:off x="163440" y="165240"/>
            <a:ext cx="577800" cy="5364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图片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0142"/>
          <p:cNvPicPr/>
          <p:nvPr/>
        </p:nvPicPr>
        <p:blipFill>
          <a:blip r:embed="rId3"/>
          <a:stretch/>
        </p:blipFill>
        <p:spPr>
          <a:xfrm>
            <a:off x="0" y="5457960"/>
            <a:ext cx="9144000" cy="140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0143"/>
          <p:cNvPicPr/>
          <p:nvPr/>
        </p:nvPicPr>
        <p:blipFill>
          <a:blip r:embed="rId4"/>
          <a:stretch/>
        </p:blipFill>
        <p:spPr>
          <a:xfrm>
            <a:off x="4168800" y="115920"/>
            <a:ext cx="4975200" cy="5897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123"/>
          <p:cNvPicPr/>
          <p:nvPr/>
        </p:nvPicPr>
        <p:blipFill>
          <a:blip r:embed="rId5"/>
          <a:stretch/>
        </p:blipFill>
        <p:spPr>
          <a:xfrm>
            <a:off x="7740720" y="260280"/>
            <a:ext cx="1150920" cy="1071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0" y="18864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3642-DA5B-48D2-8234-2F1C87FC4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557360"/>
            <a:ext cx="6553080" cy="21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35480" y="2492280"/>
            <a:ext cx="3966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中石油动态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458136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96DF-A9EB-4220-93B3-F333135516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WordArt 4" descr=""/>
          <p:cNvPicPr/>
          <p:nvPr/>
        </p:nvPicPr>
        <p:blipFill>
          <a:blip r:embed="rId1"/>
          <a:stretch/>
        </p:blipFill>
        <p:spPr>
          <a:xfrm>
            <a:off x="2152800" y="2146320"/>
            <a:ext cx="4802040" cy="1773360"/>
          </a:xfrm>
          <a:prstGeom prst="rect">
            <a:avLst/>
          </a:prstGeom>
          <a:ln w="0">
            <a:noFill/>
          </a:ln>
        </p:spPr>
      </p:pic>
      <p:sp>
        <p:nvSpPr>
          <p:cNvPr id="99" name="矩形 3"/>
          <p:cNvSpPr/>
          <p:nvPr/>
        </p:nvSpPr>
        <p:spPr>
          <a:xfrm>
            <a:off x="5364000" y="549360"/>
            <a:ext cx="72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01:58:5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40:37Z</dcterms:modified>
  <cp:revision>9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