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698-DB04-4DDC-8A3D-FDE8F2B2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A39-E0C7-4D83-B7F0-3C617CAE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B46-9FD9-4145-A3BA-F9269085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38E-63DA-4BB1-ACA0-9CE538C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934-C639-4A7D-942A-6A31068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9D7-8564-4527-9E7E-4F846F6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EED-49C3-49EC-B5F0-357C626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214-64D2-40F0-A8C9-AABA2166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B3E-4F1C-47EF-953B-630963AE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805-1CA6-46C3-AA0B-82C924E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89A-7AEB-4E02-856F-2DFD159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886-0CA2-426B-A312-8456251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9D1A-8B31-459C-BF0A-12C91E4A5A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6190-5FC5-44BB-9D23-7B5D9822D0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4259880" y="6505560"/>
            <a:ext cx="107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浪微博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敌的面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2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df3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-19080" y="3706920"/>
            <a:ext cx="9182160" cy="3062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-19080" y="3789360"/>
            <a:ext cx="9177480" cy="3095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400" y="4343400"/>
            <a:ext cx="8929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安全生产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完整版在线下载</a:t>
            </a:r>
            <a:endParaRPr b="1" lang="en-US" sz="4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0" y="1952640"/>
            <a:ext cx="680400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标题 1"/>
          <p:cNvSpPr/>
          <p:nvPr/>
        </p:nvSpPr>
        <p:spPr>
          <a:xfrm>
            <a:off x="144360" y="1952640"/>
            <a:ext cx="64436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法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公司安全生产管理各项工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459640" y="1952640"/>
            <a:ext cx="62712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508720" y="1389240"/>
            <a:ext cx="1201680" cy="112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yesight"/>
          <p:cNvPicPr/>
          <p:nvPr/>
        </p:nvPicPr>
        <p:blipFill>
          <a:blip r:embed="rId2"/>
          <a:srcRect l="29449" t="0" r="0" b="0"/>
          <a:stretch/>
        </p:blipFill>
        <p:spPr>
          <a:xfrm>
            <a:off x="6877080" y="1952640"/>
            <a:ext cx="1519200" cy="1692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6AD-21E7-4A98-A086-0836FBF3D0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1892160" y="5877000"/>
            <a:ext cx="37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安全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2413080" y="2276640"/>
            <a:ext cx="675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3840" y="1917720"/>
            <a:ext cx="202392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DAD-BDE6-4606-B9D8-5C9B104398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d8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2D8-2D87-4F1A-8048-454EB5097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​​ 27"/>
          <p:cNvSpPr/>
          <p:nvPr/>
        </p:nvSpPr>
        <p:spPr>
          <a:xfrm>
            <a:off x="1476360" y="1643040"/>
            <a:ext cx="6264360" cy="2376360"/>
          </a:xfrm>
          <a:prstGeom prst="rect">
            <a:avLst/>
          </a:prstGeom>
          <a:solidFill>
            <a:srgbClr val="f2f2f2"/>
          </a:solidFill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​​ 6"/>
          <p:cNvSpPr/>
          <p:nvPr/>
        </p:nvSpPr>
        <p:spPr>
          <a:xfrm>
            <a:off x="0" y="48830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7"/>
          <p:cNvSpPr/>
          <p:nvPr/>
        </p:nvSpPr>
        <p:spPr>
          <a:xfrm>
            <a:off x="263520" y="4867200"/>
            <a:ext cx="873000" cy="14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​​ 9"/>
          <p:cNvSpPr/>
          <p:nvPr/>
        </p:nvSpPr>
        <p:spPr>
          <a:xfrm>
            <a:off x="250920" y="4832280"/>
            <a:ext cx="144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​​ 10"/>
          <p:cNvSpPr/>
          <p:nvPr/>
        </p:nvSpPr>
        <p:spPr>
          <a:xfrm>
            <a:off x="2022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​​ 11"/>
          <p:cNvSpPr/>
          <p:nvPr/>
        </p:nvSpPr>
        <p:spPr>
          <a:xfrm>
            <a:off x="113652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​​ 12"/>
          <p:cNvSpPr/>
          <p:nvPr/>
        </p:nvSpPr>
        <p:spPr>
          <a:xfrm>
            <a:off x="2895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​​ 13"/>
          <p:cNvSpPr/>
          <p:nvPr/>
        </p:nvSpPr>
        <p:spPr>
          <a:xfrm>
            <a:off x="376884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​​ 14"/>
          <p:cNvSpPr/>
          <p:nvPr/>
        </p:nvSpPr>
        <p:spPr>
          <a:xfrm>
            <a:off x="464184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4723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1357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237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3110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3983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606680" y="2325600"/>
            <a:ext cx="61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本公司安全生产工作负组织领导和综合监督管理领导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​​ 14"/>
          <p:cNvSpPr/>
          <p:nvPr/>
        </p:nvSpPr>
        <p:spPr>
          <a:xfrm>
            <a:off x="552780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486324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​​ 14"/>
          <p:cNvSpPr/>
          <p:nvPr/>
        </p:nvSpPr>
        <p:spPr>
          <a:xfrm>
            <a:off x="641340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74920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​​ 14"/>
          <p:cNvSpPr/>
          <p:nvPr/>
        </p:nvSpPr>
        <p:spPr>
          <a:xfrm>
            <a:off x="729756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66333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​​ 14"/>
          <p:cNvSpPr/>
          <p:nvPr/>
        </p:nvSpPr>
        <p:spPr>
          <a:xfrm>
            <a:off x="8183520" y="48322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75189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​​ 14"/>
          <p:cNvSpPr/>
          <p:nvPr/>
        </p:nvSpPr>
        <p:spPr>
          <a:xfrm>
            <a:off x="9069480" y="48322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8404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FA7-6DCA-4E3D-9ADA-AD02A009D9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2081520" y="587700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其他分管领导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771640" y="765000"/>
            <a:ext cx="64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79280" y="1611360"/>
            <a:ext cx="2457720" cy="33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CC8-65B8-484C-8E2D-9FA72FDB2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0"/>
          <p:cNvSpPr/>
          <p:nvPr/>
        </p:nvSpPr>
        <p:spPr>
          <a:xfrm>
            <a:off x="1322280" y="2795760"/>
            <a:ext cx="649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对各自分管工作范围内的安全生产工作负直接领导责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809-7C35-4C7B-8BDD-5D7C32B9F2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30864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77C-4F4E-4558-8A1F-2E5EE8CD0E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2816280"/>
            <a:ext cx="826920" cy="132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​​ 9"/>
          <p:cNvSpPr/>
          <p:nvPr/>
        </p:nvSpPr>
        <p:spPr>
          <a:xfrm>
            <a:off x="0" y="-34920"/>
            <a:ext cx="9144000" cy="1916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r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8E1-A871-470F-9A18-458C21BF6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-19080" y="3706920"/>
            <a:ext cx="9182160" cy="3062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-19080" y="3789360"/>
            <a:ext cx="9177480" cy="3095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400" y="4343040"/>
            <a:ext cx="89298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微软雅黑"/>
              </a:rPr>
              <a:t>谢  谢</a:t>
            </a:r>
            <a:endParaRPr b="1" lang="en-US" sz="12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51B-3C1E-4E80-95EB-3D91FB4E1B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9"/>
          <p:cNvSpPr/>
          <p:nvPr/>
        </p:nvSpPr>
        <p:spPr>
          <a:xfrm>
            <a:off x="431640" y="590220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董事长、总裁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5352840" y="1484280"/>
            <a:ext cx="9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二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三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四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五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六、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7" descr=""/>
          <p:cNvPicPr/>
          <p:nvPr/>
        </p:nvPicPr>
        <p:blipFill>
          <a:blip r:embed="rId1"/>
          <a:stretch/>
        </p:blipFill>
        <p:spPr>
          <a:xfrm>
            <a:off x="285840" y="1797120"/>
            <a:ext cx="2857320" cy="27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9ED-E333-4EA0-9052-C341FC3D5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4"/>
          <p:cNvGrpSpPr/>
          <p:nvPr/>
        </p:nvGrpSpPr>
        <p:grpSpPr>
          <a:xfrm>
            <a:off x="395280" y="2370240"/>
            <a:ext cx="3889440" cy="2325600"/>
            <a:chOff x="395280" y="2370240"/>
            <a:chExt cx="3889440" cy="2325600"/>
          </a:xfrm>
        </p:grpSpPr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442240"/>
              <a:ext cx="2442600" cy="22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3"/>
            <p:cNvSpPr/>
            <p:nvPr/>
          </p:nvSpPr>
          <p:spPr>
            <a:xfrm>
              <a:off x="2268000" y="2370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5"/>
            <p:cNvSpPr/>
            <p:nvPr/>
          </p:nvSpPr>
          <p:spPr>
            <a:xfrm>
              <a:off x="2628000" y="2802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6"/>
            <p:cNvSpPr/>
            <p:nvPr/>
          </p:nvSpPr>
          <p:spPr>
            <a:xfrm>
              <a:off x="2772360" y="338436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8"/>
          <p:cNvSpPr/>
          <p:nvPr/>
        </p:nvSpPr>
        <p:spPr>
          <a:xfrm>
            <a:off x="2879640" y="1628640"/>
            <a:ext cx="61214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安全生产管理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B06-B718-445B-A307-243285CBA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879640" y="1628640"/>
            <a:ext cx="6121440" cy="64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01480" y="2708280"/>
            <a:ext cx="2926080" cy="2612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01F-D923-45EA-9B0D-C3E7160DE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805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集团安全生产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</a:rPr>
              <a:t>十大职责</a:t>
            </a:r>
            <a:endParaRPr b="1" lang="en-US" sz="44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24120" y="1052280"/>
            <a:ext cx="554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</a:rPr>
              <a:t>xxxxxxxxxxxxxxxxxxxxxxxxxxxxxxxxxxx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317808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DDD-4F1D-4EA9-820E-DC2850B885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295200" y="2421000"/>
            <a:ext cx="866952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5820" t="3695" r="5823" b="0"/>
          <a:stretch/>
        </p:blipFill>
        <p:spPr>
          <a:xfrm>
            <a:off x="250920" y="1339920"/>
            <a:ext cx="8669160" cy="247644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295200" y="2421000"/>
            <a:ext cx="8669520" cy="82512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0000"/>
                </a:solidFill>
                <a:latin typeface="微软雅黑"/>
                <a:ea typeface="微软雅黑"/>
              </a:rPr>
              <a:t>依法履行安全生产监督职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3FC-8369-4F52-BC27-59E6FBF9E1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773360"/>
            <a:ext cx="8669520" cy="255744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39B-7897-413F-B328-75DCE4437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2360" y="1643040"/>
            <a:ext cx="8612280" cy="2556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503280" y="51577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943-08CE-445F-A27C-4EC2CF83B1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833480" cy="18334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2009520" y="580536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董事长总经理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03640" y="1123920"/>
            <a:ext cx="629928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</a:rPr>
              <a:t>XXXXXXXXXXXXXXXXXXXXX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04F-9787-4FA9-BCED-217ABC3B9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3:3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