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F06-61F0-446C-AFAF-C47724F8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EEF-8AB5-4D3D-933F-E57E018E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E16-AB2D-4370-A1F5-6930BE55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E5F4-ACC0-4F7B-BCE1-1C0F4DD9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80D-1825-46AE-9041-BE6D6CE1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984-AD4B-483D-868F-D246D383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4BE-2103-482A-AD1D-288ACA74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CFE-3439-4308-BAA9-03D90DA2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44D-5798-4E90-9072-09C51BE6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12D-CFAF-4763-897F-EBB6427C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8AA-43A8-48DF-B15E-CE092E19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AAC-AAF8-4DBF-97F6-DD8705A5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95E4-9CD1-4563-93A6-DBC2E57612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072040" y="1015920"/>
            <a:ext cx="528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6840" y="50846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爱心标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"/>
          <p:cNvSpPr/>
          <p:nvPr/>
        </p:nvSpPr>
        <p:spPr>
          <a:xfrm>
            <a:off x="5904360" y="500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925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3997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72126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2831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8550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5936760" y="690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40708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855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2068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623736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586512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26406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8550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2120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579384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18572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211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99772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783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426640" y="564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9AD-5EE9-45AD-BD7B-7AB0978F88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600804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2928960" y="4572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140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5640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593676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3926520" y="564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2497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9266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2140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8720" y="6381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38:27Z</dcterms:modified>
  <cp:revision>4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