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矩形 1"/>
          <p:cNvSpPr/>
          <p:nvPr/>
        </p:nvSpPr>
        <p:spPr>
          <a:xfrm>
            <a:off x="544680" y="233280"/>
            <a:ext cx="805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E Inspira"/>
                <a:ea typeface="宋体"/>
              </a:rPr>
              <a:t>宝贵水资源</a:t>
            </a:r>
            <a:r>
              <a:rPr b="0" lang="en-US" sz="4000" spc="-1" strike="noStrike">
                <a:solidFill>
                  <a:srgbClr val="000000"/>
                </a:solidFill>
                <a:latin typeface="GE Inspir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E Inspira"/>
                <a:ea typeface="宋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GE Inspira"/>
            </a:endParaRPr>
          </a:p>
        </p:txBody>
      </p:sp>
      <p:sp>
        <p:nvSpPr>
          <p:cNvPr id="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E Inspi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elvetica Neue Light"/>
                <a:ea typeface="宋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站点介绍：</a:t>
            </a: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elvetica Neue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特别说明：</a:t>
            </a: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Neue"/>
                <a:ea typeface="宋体"/>
              </a:rPr>
              <a:t>栏目推荐：</a:t>
            </a:r>
            <a:endParaRPr b="0" lang="en-US" sz="14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E Inspir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E Inspi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2:53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6:05Z</dcterms:modified>
  <cp:revision>2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