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D0D588-5719-4F0F-A806-89512E9CE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1D47BC-520C-4297-841E-9E0B538A7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D025CF-0118-4D1B-85F0-9C975D3F4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03EF01-94A1-4078-9B6E-FD6C121DB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36ECAE-C858-4705-9756-D58354EC9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AEF620-BFC3-458A-8F7C-429AF57FF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6EDA5B-1CA2-4030-B7B6-FA4DC2BE9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0BD998-CCB9-4AAC-8176-274CCB0F9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7A34DB-2057-495F-A405-366808ADD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41EA45-1706-4CE9-8F69-154CD46DA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51B8D8-51CC-46EE-9A11-6EF16547C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2D7BB1-DC58-46AF-9F3C-42E07FC8E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33D76C-C36B-418E-A677-D87E3E2EC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AF5599-D865-4880-AE8F-C68DE4715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93B454-83FB-49B1-AB1C-04DE9A5E3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2A5903-ABC3-40AF-87C4-83B40E804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297ABA-C7A1-4963-9A63-355B7DACE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4BE5E8-D624-464C-9D5A-CDB40E29E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754C8B-6C56-47F5-8543-BF2C99027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183B67-63A8-4B66-8E38-762B34BD6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0E67DA-835E-429B-9FD3-A90B50682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70C554-703C-49FD-8D27-90B1900EA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051291-706B-42B3-B6C7-B587318B2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D1B901-3724-4780-BF6B-C81F925AC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5DCB07-9086-4C5F-B064-125860055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45DB6D-43CE-4A6C-9F11-187262130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CA1C0C-B3C2-422E-AE3C-9FD55FEBA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A446BF-173D-461E-B616-1D9F66F3F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651614-F741-4DBE-AF52-4AE7E250F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CB44ED-CE59-497C-A4ED-7627D6D78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398E0-2E69-4874-A09E-E36026F6C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79DCB3-C86D-4FA7-A425-F86DF97C2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543224-DEF6-41D9-97AD-933824994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764B3E-0D86-42F0-BB61-D2FB69F61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8F65B8-DCF3-4A1E-981D-07580DBC7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8ACC6B-06D3-4D75-A3E9-0564820E5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9AB48A-5F30-4967-B1C0-8DB7400BF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DD9704-86B7-46AF-A615-E56A1AA09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7513A7-AF36-4CD6-8186-FA9CCB634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4616B4-B392-4E88-A6F4-451FBCFC5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EFC2AB-D744-4625-B424-536836BC5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017DA-F0C1-44BC-B768-B97D3342B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B4DE59-13DA-482F-BAC0-5F1769D2B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E2D64D-773D-4521-8307-271123F9A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025C6C-67C0-463C-B7C0-01469AEEE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F2A38A-BF77-4AC1-926F-90208052F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41C3C8-1D4A-4263-A308-442E43114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EE671D-70FD-4E93-801D-91EEAED53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803012-DFB0-4DD8-B669-5DCD0410F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FC58D5-40F7-4397-A074-EE41AC3D6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75A646-234D-44CB-8283-F8A2EFD37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65D2A2-71E2-441A-9B28-5B274D12D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FD0BE-E151-4434-A246-998D9B7E8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743305-A70D-4ACB-A5A5-CF7F8A37D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A6FF38-7F46-4A09-9192-B6070820B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80846C-E4A1-40E1-830E-5D116E848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8CF2DA-FDCD-4501-8C73-4CF48CEBC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C999AE-6BE9-4DA2-9DA3-8EA7ECC17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D9CF0A-EDF2-4313-A41A-DFDBEDFA7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A39E00-B2F3-4BA7-B8E3-1BF57049E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1A0E88-FF5B-4189-8131-1A7F25EB8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DF8F8B-0590-4701-9B16-E97EBCEE2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C9AAAB-A6D5-4B84-AFC0-3ABCD3FC4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9723A-A60A-4B7A-9069-2F8D64046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DF09C7-5021-47F2-9095-AD12DAD4C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EB8B19-B456-4137-BDA9-F24AEEBB0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1E43C3-4BD8-4441-9519-A2074007F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39DE3F-B14E-400F-8304-8DA517C02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A5EB49-96C4-48A1-915D-9E4D224B2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F2436B-EFD0-4CBE-8F12-EA4362D6E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2A2E33-D8D7-4E7D-8F4F-FEE7A164C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72AD17-BF1A-485E-8ACA-361C7F29C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45B050-5485-475E-ADBC-0A830CE7E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0D7C7-4949-48D6-A23B-8E242623D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34DEB-B7C0-4747-887C-ABB09CAB3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9C30E-2BE9-4B4C-9E98-389C8E253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EDC10-B21A-4607-8269-1520C2C2A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3B06B-B80B-4052-9AFE-5CCEFE2E3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1E5E5-4066-45A9-9B08-63A1CDA9B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2733D-C549-40ED-BD89-8E1390B99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A68F2-8666-4002-B134-F92743D00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596DD-A90A-46DA-87E3-11EE9136B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7F0A2-3591-4369-960D-CD6E52376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6ADA2-8CCC-4423-B2DF-16081B56D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F7044-9F57-4DF9-A015-2C0C6B630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90A76-AD5D-486D-B7F5-BAB74355F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64586-1136-4D08-BB89-3B6E956B1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2E3D2-AEF3-4F2D-B00D-4E4FA05A8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42A7B-577D-467A-A40B-21B1AE259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7FB4A-38DE-41BB-B697-F9A0232DE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4DC12-ADCC-43C2-9FB3-9D8D41A51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13C0B-3935-483B-B002-759A0DB0D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2853F-5A2F-4CF6-8C2E-8B0292AE3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F8F29E-491C-4EDE-8BB7-F4692555C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0644EF-4237-4516-AD41-DB1C17625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5C78F1-B307-442C-AF3A-75DAFA65F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CA4EF5-8695-4077-8DFB-4A742BA56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DB1957-A671-47C5-966E-DF83B9F5B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6572F9-3FF3-40F7-8CC2-165A88EBB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8FF1B8-D93C-47A8-974B-807C34947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3405E4-4ADA-4B1E-8AC9-799835C16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A0006F-F416-40E0-BC04-04CBA05CD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926D24-6686-4E78-A349-6C98AC88D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61B9E0-9375-4066-B8D5-4C0CB8889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438F0B-C441-411B-868E-27350E41F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BF3F11-CC7B-4A8A-9BCF-A265894E7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B4F278-8DD6-4E71-9D3A-8A753B68F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C882C1-1C2A-4FD0-A171-0928DE6C9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2B402D-E515-48D0-A79E-F2BDEC83F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DFAE1A-2897-41FA-8BB9-90D8B10ED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FC3E75-3B3E-4B59-ABD6-A6BD052BB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29D1B1-D2F4-44C1-BB59-8D3D958F5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D9AD35-F880-4508-9803-5D1C6F381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904E87-7A8C-404C-9D65-FF1186822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0F3A19-71B2-4AE8-B271-19986D1AA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F788E0-9D50-47FC-970A-121E22764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AB8E68-F05C-4CA7-BE02-E33A85373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DFF04C-25A8-478C-AF9C-5CB9A8034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DB0FB0-7BE5-4580-8D19-21C43BED7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B39814-4047-4D50-9FD1-19A68B7EF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86EA2D-5D6C-4597-BD2C-A0EE21872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C1568A-2B7B-4AF9-8F01-3AC05162D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FF6E2A-C8DF-47A7-A245-796ACC26B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44B656-F761-47C8-B006-0FEF6F415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AD295E-F043-4F48-B410-4A1C4C310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DCE6FD-3B7C-4C4C-B844-1378F9932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0AE6DF-3DFD-49A2-8420-467BA5933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5D941B-ACF9-4A68-94CA-87A109FC3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31DD68-B3D4-4E01-81BC-7B55AC0C0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0E11AF-C0D7-40F1-AD91-4C6984855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23AFE6-F8C2-4CFC-9578-BDF822C7B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D5A582-9B2A-4F38-9BAD-AC930C155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72ECD3-6A08-448D-9DE6-85E71DC99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3A3F02-2BDB-4D13-8ECD-5F3047C8B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112962-F5D0-460D-8505-EB03E37C1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DA9DC7-1266-404C-84B6-DF51B175C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F9ED1D-6F0A-47AB-A76D-55151B905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D1C7EB-8AD3-41B2-8ACF-F57216CFA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5F4654-DFDF-4AED-8CB0-000E3859C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C89921-F795-427A-ADF2-6908C4E85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286B6B-9A06-43F3-9231-68473E910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644025-C578-44D1-A00A-4CA0CAA9C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B967D6-D330-4724-A4BD-7C78039BB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A79B06-775E-4F92-943B-6A9FAEDD5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687240" y="685800"/>
            <a:ext cx="7769520" cy="5486400"/>
          </a:xfrm>
          <a:prstGeom prst="rect">
            <a:avLst/>
          </a:prstGeom>
          <a:solidFill>
            <a:srgbClr val="fcee9d"/>
          </a:solidFill>
          <a:ln w="507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914400" y="914400"/>
            <a:ext cx="7313760" cy="5027760"/>
          </a:xfrm>
          <a:prstGeom prst="rect">
            <a:avLst/>
          </a:prstGeom>
          <a:solidFill>
            <a:srgbClr val="ffffff"/>
          </a:solidFill>
          <a:ln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4" descr="kindergarten_diploma"/>
          <p:cNvPicPr/>
          <p:nvPr/>
        </p:nvPicPr>
        <p:blipFill>
          <a:blip r:embed="rId2"/>
          <a:stretch/>
        </p:blipFill>
        <p:spPr>
          <a:xfrm>
            <a:off x="4680" y="42840"/>
            <a:ext cx="9134640" cy="6772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066680" y="99036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066680" y="2209680"/>
            <a:ext cx="70106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E4B52-751D-4623-AB22-EBF61D856EB2}" type="slidenum">
              <a: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B31EC-127D-48E5-A745-4AF1DF1FE818}" type="slidenum">
              <a: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D3C22-8469-4547-A76B-C2E16A8DF6D5}" type="slidenum">
              <a: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5B0D0-C474-4B6F-9A7A-5C061CEA125D}" type="slidenum">
              <a: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DA1F9-0CE7-4713-8969-09BE470F2F27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80C22-0EB9-4DF1-831F-4CC71D4C2A13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687240" y="685800"/>
            <a:ext cx="7769520" cy="5486400"/>
          </a:xfrm>
          <a:prstGeom prst="rect">
            <a:avLst/>
          </a:prstGeom>
          <a:solidFill>
            <a:srgbClr val="fcee9d"/>
          </a:solidFill>
          <a:ln w="507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914400" y="914400"/>
            <a:ext cx="7313760" cy="5027760"/>
          </a:xfrm>
          <a:prstGeom prst="rect">
            <a:avLst/>
          </a:prstGeom>
          <a:solidFill>
            <a:srgbClr val="ffffff"/>
          </a:solidFill>
          <a:ln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kindergarten_diploma"/>
          <p:cNvPicPr/>
          <p:nvPr/>
        </p:nvPicPr>
        <p:blipFill>
          <a:blip r:embed="rId2"/>
          <a:stretch/>
        </p:blipFill>
        <p:spPr>
          <a:xfrm>
            <a:off x="4680" y="42840"/>
            <a:ext cx="9134640" cy="67723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99036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1066680" y="2209680"/>
            <a:ext cx="70106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9EBD9-63BE-4272-B9CF-B28D76706818}" type="slidenum">
              <a: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B17E3-B581-4163-868C-B04F20F1FEFB}" type="slidenum">
              <a: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0B3FB-FE55-4F4C-8116-AFCD4E31DD50}" type="slidenum">
              <a: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0D0E3-F6AC-4575-A07B-6B2FAFC4012E}" type="slidenum">
              <a: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E6064-D084-463B-8458-E046693E212F}" type="slidenum">
              <a: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D8076-8D93-4751-9D86-A46F6BDC42D8}" type="slidenum">
              <a: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eppt.com/sucai/" TargetMode="External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5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矩形 5"/>
          <p:cNvSpPr/>
          <p:nvPr/>
        </p:nvSpPr>
        <p:spPr>
          <a:xfrm>
            <a:off x="2987640" y="-19080"/>
            <a:ext cx="76212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1940040" y="6407280"/>
            <a:ext cx="66960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ppt图片素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2914560" y="1270080"/>
            <a:ext cx="262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边框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素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</a:t>
            </a:r>
            <a:r>
              <a:rPr b="1" lang="en-US" sz="1500" spc="-1" strike="noStrike">
                <a:solidFill>
                  <a:srgbClr val="ededed"/>
                </a:solidFill>
                <a:latin typeface="Calibri"/>
              </a:rPr>
              <a:t>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Calibri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Calibri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</a:t>
            </a:r>
            <a:r>
              <a:rPr b="1" lang="en-US" sz="1500" spc="-1" strike="noStrike">
                <a:solidFill>
                  <a:srgbClr val="ededed"/>
                </a:solidFill>
                <a:latin typeface="Calibri"/>
              </a:rPr>
              <a:t>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F74FC5-7AA0-476B-BC4B-7E70CDCDEF3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19T06:55:05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1T06:19:02Z</dcterms:modified>
  <cp:revision>8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  <property fmtid="{D5CDD505-2E9C-101B-9397-08002B2CF9AE}" pid="3" name="_TemplateID">
    <vt:lpwstr>TC101130471033</vt:lpwstr>
  </property>
</Properties>
</file>