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114A-E6C6-4C11-9B8B-6CE6DF53A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88E9-454B-400E-BCDE-E14D9E50A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988B-85FE-48CD-865B-A81AA68CE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57EE-A2F5-4EEB-A8DE-AF86E6942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31FE-2F9F-488E-9355-8745C641F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C19A-734B-47C7-B418-0607861AD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93AE-9182-449C-AF87-7443A535A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834E-5697-4E52-B8F0-DAA916190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F8AB-8BB8-4F94-B529-78AE79D28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8D4C-4082-4A60-A731-A61F1542A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31D0-D8F4-4860-8E7B-A593FD36E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6EBC-9D7D-4B95-9E2B-F1C6D5940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4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B261E-7B73-4DC6-9CCB-099D74F56FE8}" type="slidenum">
              <a:rPr b="0" lang="zh-CN" sz="4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dongtai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565080" y="2130120"/>
            <a:ext cx="489420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013280" y="363852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05240" y="1892160"/>
            <a:ext cx="268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比赛动态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模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402920" y="274320"/>
            <a:ext cx="74264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393920" y="1701720"/>
            <a:ext cx="7426080" cy="41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971640" y="4510080"/>
            <a:ext cx="564336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动态ppt模板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eeppt.com/dongtai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C192-C862-4473-A732-2C91A9F1FC4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4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Backslash"/>
              </a:rPr>
              <a:t>Thank you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3"/>
          <p:cNvSpPr/>
          <p:nvPr/>
        </p:nvSpPr>
        <p:spPr>
          <a:xfrm>
            <a:off x="301680" y="559440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c1c1d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c1c1d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0c1c1d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0c1c1d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0c1c1d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c1c1d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0c1c1d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c1c1d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0c1c1d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c1c1d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0c1c1d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0c1c1d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0c1c1d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c1c1d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c1c1d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0c1c1d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0c1c1d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0c1c1d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c1c1d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0c1c1d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c1c1d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0c1c1d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0c1c1d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0c1c1d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c1c1d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0c1c1d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0c1c1d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0c1c1d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0c1c1d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c1c1d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0c1c1d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0c1c1d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0c1c1d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c1c1d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0c1c1d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0c1c1d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0c1c1d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c1c1d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0c1c1d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c1c1d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6T05:56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07T07:02:26Z</dcterms:modified>
  <cp:revision>4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