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7DD-5E7F-4149-9390-DF4AE0E5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ED3-C813-4F0A-84DD-D4BC7159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8A9-8B59-43CF-8710-403214EA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25D-1297-4688-A8BA-37C139A7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430-FA0A-4156-B592-D8C5D9E0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2B1-4B8D-4A24-BC2C-355C6B70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D52-4469-416C-A351-139B525B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491-8D96-465E-9515-0011C7FC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2A8-3B0B-47D9-A1AB-06E4AB6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63F-81E1-46B6-99FC-011298EB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AB7-7BE8-4B56-9491-B894B6B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D8D-8BEC-45A1-B580-92FAE8F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4C7D-0E88-4548-AEE5-452C019731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27AD-3674-4D1F-A7C0-785060FE83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E:\A;\ppt材料\ppt素材\图片+封面\00f341161f11f0364a90a7b8.jpg"/>
          <p:cNvPicPr/>
          <p:nvPr/>
        </p:nvPicPr>
        <p:blipFill>
          <a:blip r:embed="rId2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A;\ppt材料\ppt素材\图片+封面\00f341161f11f0364a90a7b8.jpg"/>
          <p:cNvPicPr/>
          <p:nvPr/>
        </p:nvPicPr>
        <p:blipFill>
          <a:blip r:embed="rId1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A;\ppt材料\ppt素材\图片+封面\00f341161f11f0364a90a7b8.jpg"/>
          <p:cNvPicPr/>
          <p:nvPr/>
        </p:nvPicPr>
        <p:blipFill>
          <a:blip r:embed="rId3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A;\ppt材料\ppt本人原创\菜鸟微竞赛2\剪纸\6955351_160407047332_2.jpg"/>
          <p:cNvPicPr/>
          <p:nvPr/>
        </p:nvPicPr>
        <p:blipFill>
          <a:blip r:embed="rId4"/>
          <a:srcRect l="1892" t="1764" r="1038" b="1920"/>
          <a:stretch/>
        </p:blipFill>
        <p:spPr>
          <a:xfrm>
            <a:off x="654120" y="1266840"/>
            <a:ext cx="2458800" cy="24382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8"/>
          <p:cNvSpPr/>
          <p:nvPr/>
        </p:nvSpPr>
        <p:spPr>
          <a:xfrm>
            <a:off x="3305160" y="2273400"/>
            <a:ext cx="47228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3855960" y="15541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日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1600" y="4788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6B7-5B17-4F4E-8554-804E74D5D3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51" name="矩形 3"/>
          <p:cNvSpPr/>
          <p:nvPr/>
        </p:nvSpPr>
        <p:spPr>
          <a:xfrm>
            <a:off x="1192320" y="138420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一、蛇年大吉</a:t>
            </a: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192320" y="375912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五、吉祥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1192320" y="195264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二、恭喜发财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192320" y="2536920"/>
            <a:ext cx="6966000" cy="42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三、万事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192320" y="311940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四、阖家欢乐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8"/>
          <p:cNvSpPr/>
          <p:nvPr/>
        </p:nvSpPr>
        <p:spPr>
          <a:xfrm rot="21375600">
            <a:off x="-555120" y="4309560"/>
            <a:ext cx="9769320" cy="695520"/>
          </a:xfrm>
          <a:custGeom>
            <a:avLst/>
            <a:gdLst>
              <a:gd name="textAreaLeft" fmla="*/ 0 w 9769320"/>
              <a:gd name="textAreaRight" fmla="*/ 9769680 w 976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9768840" h="1127760">
                <a:moveTo>
                  <a:pt x="0" y="1112520"/>
                </a:moveTo>
                <a:lnTo>
                  <a:pt x="9738360" y="1127760"/>
                </a:lnTo>
                <a:lnTo>
                  <a:pt x="9768840" y="0"/>
                </a:lnTo>
                <a:cubicBezTo>
                  <a:pt x="9173565" y="61208"/>
                  <a:pt x="8502091" y="259576"/>
                  <a:pt x="7906816" y="320784"/>
                </a:cubicBezTo>
                <a:cubicBezTo>
                  <a:pt x="5306771" y="655816"/>
                  <a:pt x="2706725" y="838448"/>
                  <a:pt x="106680" y="1097280"/>
                </a:cubicBezTo>
                <a:lnTo>
                  <a:pt x="91440" y="1127760"/>
                </a:lnTo>
              </a:path>
            </a:pathLst>
          </a:custGeom>
          <a:solidFill>
            <a:srgbClr val="ff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9"/>
          <p:cNvSpPr/>
          <p:nvPr/>
        </p:nvSpPr>
        <p:spPr>
          <a:xfrm>
            <a:off x="-588960" y="4462560"/>
            <a:ext cx="9769320" cy="695160"/>
          </a:xfrm>
          <a:custGeom>
            <a:avLst/>
            <a:gdLst>
              <a:gd name="textAreaLeft" fmla="*/ 0 w 9769320"/>
              <a:gd name="textAreaRight" fmla="*/ 9769680 w 976932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9768840" h="1127760">
                <a:moveTo>
                  <a:pt x="0" y="1112520"/>
                </a:moveTo>
                <a:lnTo>
                  <a:pt x="9738360" y="1127760"/>
                </a:lnTo>
                <a:lnTo>
                  <a:pt x="9768840" y="0"/>
                </a:lnTo>
                <a:cubicBezTo>
                  <a:pt x="9173565" y="61208"/>
                  <a:pt x="8502091" y="259576"/>
                  <a:pt x="7906816" y="320784"/>
                </a:cubicBezTo>
                <a:cubicBezTo>
                  <a:pt x="5306771" y="655816"/>
                  <a:pt x="2706725" y="838448"/>
                  <a:pt x="106680" y="1097280"/>
                </a:cubicBezTo>
                <a:lnTo>
                  <a:pt x="91440" y="112776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906720" y="61272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新年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60" name="矩形 3"/>
          <p:cNvSpPr/>
          <p:nvPr/>
        </p:nvSpPr>
        <p:spPr>
          <a:xfrm>
            <a:off x="885960" y="1457280"/>
            <a:ext cx="1804680" cy="2592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735280" y="1457280"/>
            <a:ext cx="1843200" cy="2592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492960" y="1457280"/>
            <a:ext cx="1805040" cy="259236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4610160" y="1457280"/>
            <a:ext cx="1843200" cy="259236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9"/>
          <p:cNvSpPr/>
          <p:nvPr/>
        </p:nvSpPr>
        <p:spPr>
          <a:xfrm>
            <a:off x="885960" y="1262160"/>
            <a:ext cx="741204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1"/>
          <p:cNvSpPr/>
          <p:nvPr/>
        </p:nvSpPr>
        <p:spPr>
          <a:xfrm>
            <a:off x="905040" y="4022640"/>
            <a:ext cx="74120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3"/>
          <p:cNvGrpSpPr/>
          <p:nvPr/>
        </p:nvGrpSpPr>
        <p:grpSpPr>
          <a:xfrm>
            <a:off x="2536920" y="758880"/>
            <a:ext cx="5607000" cy="1843200"/>
            <a:chOff x="2536920" y="758880"/>
            <a:chExt cx="5607000" cy="1843200"/>
          </a:xfrm>
        </p:grpSpPr>
        <p:sp>
          <p:nvSpPr>
            <p:cNvPr id="68" name="矩形 4"/>
            <p:cNvSpPr/>
            <p:nvPr/>
          </p:nvSpPr>
          <p:spPr>
            <a:xfrm>
              <a:off x="2536920" y="759240"/>
              <a:ext cx="2880360" cy="18428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E:\A;\ppt材料\ppt本人原创\win8界面ppt\1196293278-2382314.jpg"/>
            <p:cNvPicPr/>
            <p:nvPr/>
          </p:nvPicPr>
          <p:blipFill>
            <a:blip r:embed="rId2"/>
            <a:stretch/>
          </p:blipFill>
          <p:spPr>
            <a:xfrm>
              <a:off x="5280120" y="758880"/>
              <a:ext cx="2863800" cy="18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组合 5"/>
          <p:cNvGrpSpPr/>
          <p:nvPr/>
        </p:nvGrpSpPr>
        <p:grpSpPr>
          <a:xfrm>
            <a:off x="2536920" y="2717640"/>
            <a:ext cx="5607000" cy="1766880"/>
            <a:chOff x="2536920" y="2717640"/>
            <a:chExt cx="5607000" cy="1766880"/>
          </a:xfrm>
        </p:grpSpPr>
        <p:sp>
          <p:nvSpPr>
            <p:cNvPr id="71" name="矩形 6"/>
            <p:cNvSpPr/>
            <p:nvPr/>
          </p:nvSpPr>
          <p:spPr>
            <a:xfrm>
              <a:off x="2536920" y="2729160"/>
              <a:ext cx="2880360" cy="175536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3" descr="E:\A;\ppt材料\ppt本人原创\win8界面ppt\9928bb4c32f0a20a874dcd215acfffcf.jpg"/>
            <p:cNvPicPr/>
            <p:nvPr/>
          </p:nvPicPr>
          <p:blipFill>
            <a:blip r:embed="rId3"/>
            <a:srcRect l="6652" t="12174" r="28165" b="14161"/>
            <a:stretch/>
          </p:blipFill>
          <p:spPr>
            <a:xfrm>
              <a:off x="5280120" y="2717640"/>
              <a:ext cx="2863800" cy="17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直接连接符 9"/>
          <p:cNvSpPr/>
          <p:nvPr/>
        </p:nvSpPr>
        <p:spPr>
          <a:xfrm>
            <a:off x="2536920" y="549360"/>
            <a:ext cx="56070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1"/>
          <p:cNvSpPr/>
          <p:nvPr/>
        </p:nvSpPr>
        <p:spPr>
          <a:xfrm>
            <a:off x="2536920" y="2541600"/>
            <a:ext cx="560700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4"/>
          <p:cNvSpPr/>
          <p:nvPr/>
        </p:nvSpPr>
        <p:spPr>
          <a:xfrm>
            <a:off x="2536920" y="4425840"/>
            <a:ext cx="56070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1114560" y="17654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行楷"/>
                <a:ea typeface="华文行楷"/>
              </a:rPr>
              <a:t>图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03640" y="47322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5"/>
          <p:cNvSpPr/>
          <p:nvPr/>
        </p:nvSpPr>
        <p:spPr>
          <a:xfrm>
            <a:off x="3649680" y="758880"/>
            <a:ext cx="3417840" cy="538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2728800" y="1701720"/>
            <a:ext cx="3490920" cy="5382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885960" y="3494160"/>
            <a:ext cx="3417840" cy="53820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1854360" y="2610000"/>
            <a:ext cx="3489120" cy="5378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2"/>
          <p:cNvGrpSpPr/>
          <p:nvPr/>
        </p:nvGrpSpPr>
        <p:grpSpPr>
          <a:xfrm>
            <a:off x="693720" y="690480"/>
            <a:ext cx="7896240" cy="3905280"/>
            <a:chOff x="693720" y="690480"/>
            <a:chExt cx="7896240" cy="3905280"/>
          </a:xfrm>
        </p:grpSpPr>
        <p:sp>
          <p:nvSpPr>
            <p:cNvPr id="83" name="直接连接符 9"/>
            <p:cNvSpPr/>
            <p:nvPr/>
          </p:nvSpPr>
          <p:spPr>
            <a:xfrm flipH="1">
              <a:off x="693720" y="4595760"/>
              <a:ext cx="777096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10"/>
            <p:cNvSpPr/>
            <p:nvPr/>
          </p:nvSpPr>
          <p:spPr>
            <a:xfrm flipV="1">
              <a:off x="8589960" y="690480"/>
              <a:ext cx="0" cy="378108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:\A;\ppt材料\ppt素材\图片+封面\00f341161f11f0364a90a7b8.jpg"/>
          <p:cNvPicPr/>
          <p:nvPr/>
        </p:nvPicPr>
        <p:blipFill>
          <a:blip r:embed="rId1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16"/>
          <p:cNvGrpSpPr/>
          <p:nvPr/>
        </p:nvGrpSpPr>
        <p:grpSpPr>
          <a:xfrm>
            <a:off x="1228680" y="641520"/>
            <a:ext cx="6835680" cy="922320"/>
            <a:chOff x="1228680" y="641520"/>
            <a:chExt cx="6835680" cy="922320"/>
          </a:xfrm>
        </p:grpSpPr>
        <p:sp>
          <p:nvSpPr>
            <p:cNvPr id="88" name="圆角矩形 5"/>
            <p:cNvSpPr/>
            <p:nvPr/>
          </p:nvSpPr>
          <p:spPr>
            <a:xfrm>
              <a:off x="1441080" y="641520"/>
              <a:ext cx="662328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"/>
            <p:cNvSpPr/>
            <p:nvPr/>
          </p:nvSpPr>
          <p:spPr>
            <a:xfrm>
              <a:off x="1228680" y="871200"/>
              <a:ext cx="383760" cy="4143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5"/>
          <p:cNvGrpSpPr/>
          <p:nvPr/>
        </p:nvGrpSpPr>
        <p:grpSpPr>
          <a:xfrm>
            <a:off x="1228680" y="1604880"/>
            <a:ext cx="6835680" cy="920880"/>
            <a:chOff x="1228680" y="1604880"/>
            <a:chExt cx="6835680" cy="920880"/>
          </a:xfrm>
        </p:grpSpPr>
        <p:sp>
          <p:nvSpPr>
            <p:cNvPr id="91" name="圆角矩形 6"/>
            <p:cNvSpPr/>
            <p:nvPr/>
          </p:nvSpPr>
          <p:spPr>
            <a:xfrm>
              <a:off x="1458720" y="1604880"/>
              <a:ext cx="6605640" cy="92088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2"/>
            <p:cNvSpPr/>
            <p:nvPr/>
          </p:nvSpPr>
          <p:spPr>
            <a:xfrm>
              <a:off x="1228680" y="1827000"/>
              <a:ext cx="392040" cy="414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3"/>
          <p:cNvGrpSpPr/>
          <p:nvPr/>
        </p:nvGrpSpPr>
        <p:grpSpPr>
          <a:xfrm>
            <a:off x="1228680" y="3549600"/>
            <a:ext cx="6835680" cy="920880"/>
            <a:chOff x="1228680" y="3549600"/>
            <a:chExt cx="6835680" cy="920880"/>
          </a:xfrm>
        </p:grpSpPr>
        <p:sp>
          <p:nvSpPr>
            <p:cNvPr id="94" name="圆角矩形 8"/>
            <p:cNvSpPr/>
            <p:nvPr/>
          </p:nvSpPr>
          <p:spPr>
            <a:xfrm>
              <a:off x="1458720" y="3549600"/>
              <a:ext cx="6605640" cy="92088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3"/>
            <p:cNvSpPr/>
            <p:nvPr/>
          </p:nvSpPr>
          <p:spPr>
            <a:xfrm>
              <a:off x="1228680" y="3768840"/>
              <a:ext cx="383760" cy="41400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4"/>
          <p:cNvGrpSpPr/>
          <p:nvPr/>
        </p:nvGrpSpPr>
        <p:grpSpPr>
          <a:xfrm>
            <a:off x="1228680" y="2576520"/>
            <a:ext cx="6835680" cy="922320"/>
            <a:chOff x="1228680" y="2576520"/>
            <a:chExt cx="6835680" cy="922320"/>
          </a:xfrm>
        </p:grpSpPr>
        <p:sp>
          <p:nvSpPr>
            <p:cNvPr id="97" name="圆角矩形 7"/>
            <p:cNvSpPr/>
            <p:nvPr/>
          </p:nvSpPr>
          <p:spPr>
            <a:xfrm>
              <a:off x="1458720" y="2576520"/>
              <a:ext cx="660564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"/>
            <p:cNvSpPr/>
            <p:nvPr/>
          </p:nvSpPr>
          <p:spPr>
            <a:xfrm>
              <a:off x="1228680" y="2796120"/>
              <a:ext cx="392040" cy="41436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A;\ppt材料\ppt素材\图片+封面\00f341161f11f0364a90a7b8.jpg"/>
          <p:cNvPicPr/>
          <p:nvPr/>
        </p:nvPicPr>
        <p:blipFill>
          <a:blip r:embed="rId1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 rot="1632000">
            <a:off x="2282760" y="984240"/>
            <a:ext cx="424080" cy="31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7428E-006 L 0.46771 4.67428E-006 E">
                                      <p:cBhvr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4:4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7:03Z</dcterms:modified>
  <cp:revision>2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