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39D-F156-4CD2-A29F-FA5F5794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BE8-5EB7-4A74-9913-5546DABC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DE5-FFC3-4CBD-B7DB-0B64254D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D11-9217-4470-A707-A0433210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62A-6CC9-4235-BA00-788A26B4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436-4744-4BB4-881B-A7A23834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9C9-576E-4FBE-AB5E-7E0E13B8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5163-4125-4CB1-8747-7F8C3407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98CA-B270-4F49-83F9-A96A9F1E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4D4F-6160-4306-8F9E-20268E1F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6C63-124F-4031-931B-ADE0C6B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445-004C-404C-B5CB-63D3AD93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533-8400-4E40-A711-F5E737A9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416A-C967-4C11-83C0-14FC6AA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ADC3-0B0D-4495-8F6D-6E40379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AA30-F140-447E-997E-623671E8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46E2-B970-42D4-8C0F-235370A0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8962-5955-4936-84E6-EF1DDCDF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C329-B9B7-4912-B4F4-B636B24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8F40-0D71-4B7E-B9C6-D2530889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DC45-8911-4944-B82D-AAE69F2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AB75-17F2-44F1-B226-7FE41B5C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28C-2229-483F-9A27-03F4BCC8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8F57-07D5-4789-B086-7537FBBA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7D44-D4E8-4DA2-91B0-81506BF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A0AB-CB9B-4138-8BE5-4CF5347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FE24-21EB-43B7-8E6E-CDDFE125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953E-0CB2-4D25-8B23-3F4F3B2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D3FF-7C74-4BDB-BB3C-A44E2F04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26E8-3835-46B9-8686-9677B6B3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508C-4323-42C6-A1AD-A3A0200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449B-5AED-4E91-92AE-7C01B17F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9081-422E-433A-8FF9-0A8527B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D40-9797-4866-A74C-8E63293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716C-95DB-4080-9D95-E040792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8B66-D79C-425D-8001-5A87E0A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819F1-004A-4FD4-A785-B1AD1267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855B-040B-43C1-882A-58D4817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D394-83FB-408D-A367-FC1F6F5C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7C21-2B5F-405D-8125-8F6999C4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6A82-4C54-4C98-A49D-B81F056B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9CFE-F72D-400B-A656-825C6F2E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8293-A32D-43A7-B102-B5AA47E7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8424-67FE-4D5D-BC06-D3AB5666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D8E-1A88-493B-AC0B-6B1E610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16FA-42F8-4955-8B68-9B4CFD4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AA5C-CA82-41D9-93AE-098B8E7E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C89B-D2D4-4AC6-8112-8E3A848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1C9DC-60E6-4624-B475-C5C5F3A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FF65-A252-48D8-8404-659D19D9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757E-EBFA-4EB9-98E5-CA0B7A5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65DB-8EED-4790-B6E9-7A78D3F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62BE-DDB2-4F2B-B4F7-60152877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6FFC8-B892-47EC-8F22-6AC43CC4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578BA-28FD-4B9E-AA97-01FDAB67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282-5D22-4EEC-AA48-D5C8CED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9B7A4-63F6-472E-B690-F22B08B3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8083-9DA3-482A-AC16-6946C7BB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FACAA-99A7-4A69-A605-4E2C479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EC0F-6FDA-4598-9140-7D82E513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DB5C-9372-4C50-93FA-9674004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7563-499C-4FA9-BB23-915C482D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82FC6-01A3-4D9D-96E6-85FE343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2ADB-B2F1-4AE3-BB74-EB3FFEE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7288-B352-4B68-9395-3DE004C6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FD3C8-15FA-47A2-BAFA-8679214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DC8-7235-434F-A7F8-CE04B71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B39F-5BB6-40A1-9DAB-3E352A05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55F02-7DCF-4E91-AD6B-9D7CB46A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9AF4-C2E2-42E6-A896-704906BD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F6F2-5526-4829-B29D-36EF96C6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FD23-AE8E-436F-8A0E-6CAA993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4DB2-64CE-41EA-A965-8930EC93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3E04-BD3D-4F9F-B8F3-0CA6D15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959B-6E65-4BFD-B1A6-E3AE181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F9C8-A1E6-40BD-AC96-076EF8CB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3459-CEE8-428E-80DC-875DAFC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697-D741-451B-A973-CAB078B0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3DD6-6B4C-40DE-A951-137F3F9A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68DC7-BED2-4ED1-B21D-8A3ED2F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45D7D-9704-49D4-9DC3-E6BB1AB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72D0F-9EFD-401B-BFCF-A3E3B197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6797-68F7-4CD4-9C84-7E048520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908-8CEA-4ED3-9DD9-9A085AF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066-32DB-4F14-8D20-9ACF571B295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allon rose"/>
          <p:cNvPicPr/>
          <p:nvPr/>
        </p:nvPicPr>
        <p:blipFill>
          <a:blip r:embed="rId2"/>
          <a:stretch/>
        </p:blipFill>
        <p:spPr>
          <a:xfrm>
            <a:off x="1030320" y="2060640"/>
            <a:ext cx="1525680" cy="36734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5b2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ballon bleu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85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4" descr="ballon orange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4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7" descr="ballon vert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ballon bleu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92A-545B-4519-AC10-34A456DDBC09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3" descr="fond BALLON 3"/>
          <p:cNvPicPr/>
          <p:nvPr/>
        </p:nvPicPr>
        <p:blipFill>
          <a:blip r:embed="rId3"/>
          <a:stretch/>
        </p:blipFill>
        <p:spPr>
          <a:xfrm>
            <a:off x="0" y="647640"/>
            <a:ext cx="1562040" cy="623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ballon rose"/>
          <p:cNvPicPr/>
          <p:nvPr/>
        </p:nvPicPr>
        <p:blipFill>
          <a:blip r:embed="rId2"/>
          <a:srcRect l="0" t="6702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4D3A-B527-4FE6-9AEB-D9AF3E48E84F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7" descr="ballon rose"/>
          <p:cNvPicPr/>
          <p:nvPr/>
        </p:nvPicPr>
        <p:blipFill>
          <a:blip r:embed="rId2"/>
          <a:srcRect l="0" t="6702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08C2-71A4-4FBD-91F5-1C9C4B9F8887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5" descr="ballon bleu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85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838-8FD3-4C91-BBF0-24AF6CAD1E26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ballon orange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E2F-6D11-41D0-A5BD-7345ADCCFE4A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1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649-DFF8-426F-A4BE-3E05964CF1EC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257" name="Picture 41" descr="ballon vert"/>
          <p:cNvPicPr/>
          <p:nvPr/>
        </p:nvPicPr>
        <p:blipFill>
          <a:blip r:embed="rId2"/>
          <a:srcRect l="0" t="6621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920" y="44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75" descr="fond BALLON 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2"/>
          </p:nvPr>
        </p:nvSpPr>
        <p:spPr>
          <a:xfrm>
            <a:off x="5940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92" descr="fond TEMPLATE 2"/>
          <p:cNvPicPr/>
          <p:nvPr/>
        </p:nvPicPr>
        <p:blipFill>
          <a:blip r:embed="rId2"/>
          <a:stretch/>
        </p:blipFill>
        <p:spPr>
          <a:xfrm>
            <a:off x="0" y="0"/>
            <a:ext cx="4344840" cy="6885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94" descr="ballon rose"/>
          <p:cNvPicPr/>
          <p:nvPr/>
        </p:nvPicPr>
        <p:blipFill>
          <a:blip r:embed="rId3"/>
          <a:stretch/>
        </p:blipFill>
        <p:spPr>
          <a:xfrm>
            <a:off x="6659640" y="549360"/>
            <a:ext cx="1525680" cy="3673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1"/>
          <p:cNvSpPr/>
          <p:nvPr/>
        </p:nvSpPr>
        <p:spPr>
          <a:xfrm>
            <a:off x="218484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气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EFA2-DE1A-4026-A337-6161D3454548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5b2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5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5b2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85b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5b2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85b2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5b2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ABA6-38CE-430C-A3C8-61F15074F041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33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14E-0947-48FE-BDEA-5A734D722EBA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5280" y="75204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565200" y="2133720"/>
            <a:ext cx="578016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3132000" y="4076280"/>
            <a:ext cx="578016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D988-3787-4101-89AF-2207CF8BBF8C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4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7B74-F46C-42E2-986F-2366308CC8E4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Object 2"/>
          <p:cNvGraphicFramePr/>
          <p:nvPr/>
        </p:nvGraphicFramePr>
        <p:xfrm>
          <a:off x="0" y="2874960"/>
          <a:ext cx="511344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4960"/>
                    <a:ext cx="51134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3"/>
          <p:cNvSpPr/>
          <p:nvPr/>
        </p:nvSpPr>
        <p:spPr>
          <a:xfrm>
            <a:off x="5222880" y="2565360"/>
            <a:ext cx="35971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64944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of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Example with a hist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4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5F0B-E218-46A4-9C05-F8F473D95DD6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5b2"/>
                </a:solidFill>
                <a:latin typeface="Arial"/>
                <a:ea typeface="宋体"/>
              </a:rPr>
              <a:t>Example with a pie char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268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3621240" y="2349360"/>
            <a:ext cx="5522760" cy="4054320"/>
            <a:chOff x="3621240" y="2349360"/>
            <a:chExt cx="5522760" cy="4054320"/>
          </a:xfrm>
        </p:grpSpPr>
        <p:graphicFrame>
          <p:nvGraphicFramePr>
            <p:cNvPr id="551" name="Object 5"/>
            <p:cNvGraphicFramePr/>
            <p:nvPr/>
          </p:nvGraphicFramePr>
          <p:xfrm>
            <a:off x="3621240" y="2349360"/>
            <a:ext cx="5522760" cy="405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21240" y="2349360"/>
                      <a:ext cx="5522760" cy="40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Oval 6"/>
            <p:cNvSpPr/>
            <p:nvPr/>
          </p:nvSpPr>
          <p:spPr>
            <a:xfrm>
              <a:off x="4969080" y="2687400"/>
              <a:ext cx="2792520" cy="279252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7"/>
            <p:cNvSpPr/>
            <p:nvPr/>
          </p:nvSpPr>
          <p:spPr>
            <a:xfrm>
              <a:off x="5681880" y="3400200"/>
              <a:ext cx="1368360" cy="136836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5605560" y="3889080"/>
              <a:ext cx="152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lor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9"/>
          <p:cNvSpPr/>
          <p:nvPr/>
        </p:nvSpPr>
        <p:spPr>
          <a:xfrm>
            <a:off x="447516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of the Pi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85b2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85b2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9649-57FE-44EE-B744-B168F942F4A7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  <a:ea typeface="宋体"/>
              </a:rPr>
              <a:t>Example with an objec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 rot="2700000">
            <a:off x="7097760" y="3704760"/>
            <a:ext cx="898560" cy="898560"/>
          </a:xfrm>
          <a:prstGeom prst="rect">
            <a:avLst/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 rot="2700000">
            <a:off x="6359400" y="4425480"/>
            <a:ext cx="898560" cy="8985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 rot="2700000">
            <a:off x="5010120" y="3704760"/>
            <a:ext cx="898560" cy="8985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 rot="2700000">
            <a:off x="6359400" y="2950920"/>
            <a:ext cx="898560" cy="898560"/>
          </a:xfrm>
          <a:prstGeom prst="rect">
            <a:avLst/>
          </a:prstGeom>
          <a:solidFill>
            <a:srgbClr val="fdc51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 rot="18900000">
            <a:off x="5651640" y="2997000"/>
            <a:ext cx="2314440" cy="2314440"/>
          </a:xfrm>
          <a:custGeom>
            <a:avLst/>
            <a:gdLst>
              <a:gd name="textAreaLeft" fmla="*/ 114120 w 2314440"/>
              <a:gd name="textAreaRight" fmla="*/ 2200320 w 2314440"/>
              <a:gd name="textAreaTop" fmla="*/ 1004400 h 2314440"/>
              <a:gd name="textAreaBottom" fmla="*/ 1310040 h 2314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9276" y="1141"/>
                </a:lnTo>
                <a:lnTo>
                  <a:pt x="9375" y="1141"/>
                </a:lnTo>
                <a:lnTo>
                  <a:pt x="9375" y="9375"/>
                </a:lnTo>
                <a:lnTo>
                  <a:pt x="1141" y="9375"/>
                </a:lnTo>
                <a:lnTo>
                  <a:pt x="1141" y="9276"/>
                </a:lnTo>
                <a:lnTo>
                  <a:pt x="0" y="10800"/>
                </a:lnTo>
                <a:lnTo>
                  <a:pt x="1141" y="12324"/>
                </a:lnTo>
                <a:lnTo>
                  <a:pt x="1141" y="12225"/>
                </a:lnTo>
                <a:lnTo>
                  <a:pt x="9375" y="12225"/>
                </a:lnTo>
                <a:lnTo>
                  <a:pt x="9375" y="20459"/>
                </a:lnTo>
                <a:lnTo>
                  <a:pt x="9276" y="20459"/>
                </a:lnTo>
                <a:lnTo>
                  <a:pt x="10800" y="21600"/>
                </a:lnTo>
                <a:lnTo>
                  <a:pt x="12324" y="20459"/>
                </a:lnTo>
                <a:lnTo>
                  <a:pt x="12225" y="20459"/>
                </a:lnTo>
                <a:lnTo>
                  <a:pt x="12225" y="12225"/>
                </a:lnTo>
                <a:lnTo>
                  <a:pt x="20459" y="12225"/>
                </a:lnTo>
                <a:lnTo>
                  <a:pt x="20459" y="12324"/>
                </a:lnTo>
                <a:lnTo>
                  <a:pt x="21600" y="10800"/>
                </a:lnTo>
                <a:lnTo>
                  <a:pt x="20459" y="9276"/>
                </a:lnTo>
                <a:lnTo>
                  <a:pt x="20459" y="9375"/>
                </a:lnTo>
                <a:lnTo>
                  <a:pt x="12225" y="9375"/>
                </a:lnTo>
                <a:lnTo>
                  <a:pt x="12225" y="1141"/>
                </a:lnTo>
                <a:lnTo>
                  <a:pt x="12324" y="1141"/>
                </a:lnTo>
                <a:lnTo>
                  <a:pt x="10800" y="0"/>
                </a:lnTo>
                <a:close/>
              </a:path>
            </a:pathLst>
          </a:custGeom>
          <a:solidFill>
            <a:srgbClr val="0085b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268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3300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3300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0"/>
          <p:cNvSpPr/>
          <p:nvPr/>
        </p:nvSpPr>
        <p:spPr>
          <a:xfrm flipH="1">
            <a:off x="5230440" y="4152960"/>
            <a:ext cx="863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D24-89B1-459D-8C84-7C33CA6E94CA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cc00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21:28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4:04Z</dcterms:modified>
  <cp:revision>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Templates</vt:lpwstr>
  </property>
  <property fmtid="{D5CDD505-2E9C-101B-9397-08002B2CF9AE}" pid="3" name="Conditions of use">
    <vt:lpwstr>http://creativecommons.org/licenses/by-nd/3.0/</vt:lpwstr>
  </property>
  <property fmtid="{D5CDD505-2E9C-101B-9397-08002B2CF9AE}" pid="4" name="ID">
    <vt:lpwstr>#1-001</vt:lpwstr>
  </property>
  <property fmtid="{D5CDD505-2E9C-101B-9397-08002B2CF9AE}" pid="5" name="KSOProductBuildVer">
    <vt:lpwstr>2052-9.1.0.5133</vt:lpwstr>
  </property>
  <property fmtid="{D5CDD505-2E9C-101B-9397-08002B2CF9AE}" pid="6" name="Source">
    <vt:lpwstr>http://www.showeet.com</vt:lpwstr>
  </property>
</Properties>
</file>