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EDD-ED43-4506-A302-7BC030F8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510-31D0-4466-B50A-B80234B5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EAE-472F-4079-8953-BB34A4B1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513-0553-465E-A52B-0B418EBD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4180-70AF-479E-8C4B-03FA3046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8DFA-FB91-4D88-A5D3-C1CFE396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03AF-8C74-4B9B-B9D9-9387F8CD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D299-51B6-4633-8E7A-32A39FAC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FE21-9F17-4CF6-BD6A-91BBF2DB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05B7-BD89-4690-86BF-7BA19069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7E31-D21E-42CC-81EE-0209AECD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358-78F7-4968-BE89-5562F1D3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B87E-DB14-483C-947E-1A327C2C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5464-515B-4715-8DA7-2FD59D77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9347-5AE0-4E02-86DE-D23D28ED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3B4F-31C5-4CD1-9480-08343BF9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E66C-9FFD-4E7C-BD74-922D05A9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A2E-1457-4D5D-87FC-65DF2591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E99-DF56-4274-A1B7-EE1F4CDA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1B1-28F6-44E2-9EC6-492B44AB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661-0326-4D76-BE00-EB188B6C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D8E7-9C10-478B-928B-1C4EF7BB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CDB-B0C1-45E8-B64D-A6F3A673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563-6F4E-483C-B262-B36C7B75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41C5-C6DA-41CD-83F1-65AC7F37110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4B7E-FD10-4C86-8109-808DDF84766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2135880" y="235260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彩条系列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免费完整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6280" y="5305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3"/>
          <p:cNvSpPr/>
          <p:nvPr/>
        </p:nvSpPr>
        <p:spPr>
          <a:xfrm>
            <a:off x="1227240" y="152568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1332000" y="1382760"/>
            <a:ext cx="7315200" cy="2378160"/>
          </a:xfrm>
          <a:prstGeom prst="rect">
            <a:avLst/>
          </a:prstGeom>
          <a:solidFill>
            <a:srgbClr val="f07f0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1498680" y="1763640"/>
            <a:ext cx="698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请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3"/>
          <p:cNvSpPr/>
          <p:nvPr/>
        </p:nvSpPr>
        <p:spPr>
          <a:xfrm>
            <a:off x="1389240" y="1343160"/>
            <a:ext cx="656244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1454040" y="1150920"/>
            <a:ext cx="6432840" cy="482760"/>
          </a:xfrm>
          <a:prstGeom prst="rect">
            <a:avLst/>
          </a:prstGeom>
          <a:solidFill>
            <a:srgbClr val="ff3399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3249720" y="123660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1389240" y="2214720"/>
            <a:ext cx="656244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1454040" y="2022480"/>
            <a:ext cx="6432840" cy="482760"/>
          </a:xfrm>
          <a:prstGeom prst="rect">
            <a:avLst/>
          </a:prstGeom>
          <a:solidFill>
            <a:srgbClr val="c00000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3249720" y="210816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1389240" y="3087720"/>
            <a:ext cx="656244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454040" y="2895480"/>
            <a:ext cx="6432840" cy="482760"/>
          </a:xfrm>
          <a:prstGeom prst="rect">
            <a:avLst/>
          </a:prstGeom>
          <a:solidFill>
            <a:srgbClr val="eebb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3249720" y="298116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389240" y="3959280"/>
            <a:ext cx="656244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1454040" y="3767040"/>
            <a:ext cx="6432840" cy="482760"/>
          </a:xfrm>
          <a:prstGeom prst="rect">
            <a:avLst/>
          </a:prstGeom>
          <a:solidFill>
            <a:srgbClr val="ff6600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3249720" y="385272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2152800" y="988920"/>
            <a:ext cx="6359400" cy="571680"/>
            <a:chOff x="2152800" y="988920"/>
            <a:chExt cx="6359400" cy="571680"/>
          </a:xfrm>
        </p:grpSpPr>
        <p:sp>
          <p:nvSpPr>
            <p:cNvPr id="98" name="矩形 4"/>
            <p:cNvSpPr/>
            <p:nvPr/>
          </p:nvSpPr>
          <p:spPr>
            <a:xfrm>
              <a:off x="2152800" y="988920"/>
              <a:ext cx="6359400" cy="571680"/>
            </a:xfrm>
            <a:prstGeom prst="rect">
              <a:avLst/>
            </a:prstGeom>
            <a:solidFill>
              <a:srgbClr val="bfbfbf"/>
            </a:soli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2152800" y="988920"/>
              <a:ext cx="571320" cy="571680"/>
              <a:chOff x="2152800" y="988920"/>
              <a:chExt cx="571320" cy="571680"/>
            </a:xfrm>
          </p:grpSpPr>
          <p:sp>
            <p:nvSpPr>
              <p:cNvPr id="100" name="矩形 7"/>
              <p:cNvSpPr/>
              <p:nvPr/>
            </p:nvSpPr>
            <p:spPr>
              <a:xfrm>
                <a:off x="2152800" y="988920"/>
                <a:ext cx="571320" cy="571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00000"/>
                  </a:gs>
                </a:gsLst>
                <a:lin ang="30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Box 21"/>
              <p:cNvSpPr/>
              <p:nvPr/>
            </p:nvSpPr>
            <p:spPr>
              <a:xfrm>
                <a:off x="2259000" y="104436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TextBox 26"/>
            <p:cNvSpPr/>
            <p:nvPr/>
          </p:nvSpPr>
          <p:spPr>
            <a:xfrm>
              <a:off x="3081240" y="109044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2152800" y="1828800"/>
            <a:ext cx="6359400" cy="571680"/>
            <a:chOff x="2152800" y="1828800"/>
            <a:chExt cx="6359400" cy="571680"/>
          </a:xfrm>
        </p:grpSpPr>
        <p:sp>
          <p:nvSpPr>
            <p:cNvPr id="104" name="矩形 10"/>
            <p:cNvSpPr/>
            <p:nvPr/>
          </p:nvSpPr>
          <p:spPr>
            <a:xfrm>
              <a:off x="2152800" y="1828800"/>
              <a:ext cx="6359400" cy="57168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10"/>
            <p:cNvGrpSpPr/>
            <p:nvPr/>
          </p:nvGrpSpPr>
          <p:grpSpPr>
            <a:xfrm>
              <a:off x="2152800" y="1828800"/>
              <a:ext cx="571320" cy="571680"/>
              <a:chOff x="2152800" y="1828800"/>
              <a:chExt cx="571320" cy="571680"/>
            </a:xfrm>
          </p:grpSpPr>
          <p:sp>
            <p:nvSpPr>
              <p:cNvPr id="106" name="矩形 13"/>
              <p:cNvSpPr/>
              <p:nvPr/>
            </p:nvSpPr>
            <p:spPr>
              <a:xfrm>
                <a:off x="2152800" y="1828800"/>
                <a:ext cx="571320" cy="571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00000"/>
                  </a:gs>
                </a:gsLst>
                <a:lin ang="30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TextBox 22"/>
              <p:cNvSpPr/>
              <p:nvPr/>
            </p:nvSpPr>
            <p:spPr>
              <a:xfrm>
                <a:off x="2259000" y="188280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" name="TextBox 27"/>
            <p:cNvSpPr/>
            <p:nvPr/>
          </p:nvSpPr>
          <p:spPr>
            <a:xfrm>
              <a:off x="3081240" y="192888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2152800" y="2668680"/>
            <a:ext cx="6359400" cy="571320"/>
            <a:chOff x="2152800" y="2668680"/>
            <a:chExt cx="6359400" cy="571320"/>
          </a:xfrm>
        </p:grpSpPr>
        <p:sp>
          <p:nvSpPr>
            <p:cNvPr id="110" name="矩形 16"/>
            <p:cNvSpPr/>
            <p:nvPr/>
          </p:nvSpPr>
          <p:spPr>
            <a:xfrm>
              <a:off x="2152800" y="2668680"/>
              <a:ext cx="6359400" cy="571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Group 16"/>
            <p:cNvGrpSpPr/>
            <p:nvPr/>
          </p:nvGrpSpPr>
          <p:grpSpPr>
            <a:xfrm>
              <a:off x="2152800" y="2668680"/>
              <a:ext cx="571320" cy="571320"/>
              <a:chOff x="2152800" y="2668680"/>
              <a:chExt cx="571320" cy="571320"/>
            </a:xfrm>
          </p:grpSpPr>
          <p:sp>
            <p:nvSpPr>
              <p:cNvPr id="112" name="矩形 19"/>
              <p:cNvSpPr/>
              <p:nvPr/>
            </p:nvSpPr>
            <p:spPr>
              <a:xfrm>
                <a:off x="2152800" y="2668680"/>
                <a:ext cx="571320" cy="571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00000"/>
                  </a:gs>
                </a:gsLst>
                <a:lin ang="30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23"/>
              <p:cNvSpPr/>
              <p:nvPr/>
            </p:nvSpPr>
            <p:spPr>
              <a:xfrm>
                <a:off x="2259000" y="272232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4" name="TextBox 28"/>
            <p:cNvSpPr/>
            <p:nvPr/>
          </p:nvSpPr>
          <p:spPr>
            <a:xfrm>
              <a:off x="3081240" y="276840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2152800" y="3506760"/>
            <a:ext cx="6359400" cy="571680"/>
            <a:chOff x="2152800" y="3506760"/>
            <a:chExt cx="6359400" cy="571680"/>
          </a:xfrm>
        </p:grpSpPr>
        <p:sp>
          <p:nvSpPr>
            <p:cNvPr id="116" name="矩形 22"/>
            <p:cNvSpPr/>
            <p:nvPr/>
          </p:nvSpPr>
          <p:spPr>
            <a:xfrm>
              <a:off x="2152800" y="3506760"/>
              <a:ext cx="6359400" cy="57168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7" name="Group 22"/>
            <p:cNvGrpSpPr/>
            <p:nvPr/>
          </p:nvGrpSpPr>
          <p:grpSpPr>
            <a:xfrm>
              <a:off x="2152800" y="3506760"/>
              <a:ext cx="571320" cy="571680"/>
              <a:chOff x="2152800" y="3506760"/>
              <a:chExt cx="571320" cy="571680"/>
            </a:xfrm>
          </p:grpSpPr>
          <p:sp>
            <p:nvSpPr>
              <p:cNvPr id="118" name="矩形 25"/>
              <p:cNvSpPr/>
              <p:nvPr/>
            </p:nvSpPr>
            <p:spPr>
              <a:xfrm>
                <a:off x="2152800" y="3506760"/>
                <a:ext cx="571320" cy="571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00000"/>
                  </a:gs>
                </a:gsLst>
                <a:lin ang="30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TextBox 24"/>
              <p:cNvSpPr/>
              <p:nvPr/>
            </p:nvSpPr>
            <p:spPr>
              <a:xfrm>
                <a:off x="2259000" y="356220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TextBox 29"/>
            <p:cNvSpPr/>
            <p:nvPr/>
          </p:nvSpPr>
          <p:spPr>
            <a:xfrm>
              <a:off x="3081240" y="360828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26"/>
          <p:cNvGrpSpPr/>
          <p:nvPr/>
        </p:nvGrpSpPr>
        <p:grpSpPr>
          <a:xfrm>
            <a:off x="2152800" y="4346640"/>
            <a:ext cx="6359400" cy="571320"/>
            <a:chOff x="2152800" y="4346640"/>
            <a:chExt cx="6359400" cy="571320"/>
          </a:xfrm>
        </p:grpSpPr>
        <p:sp>
          <p:nvSpPr>
            <p:cNvPr id="122" name="矩形 28"/>
            <p:cNvSpPr/>
            <p:nvPr/>
          </p:nvSpPr>
          <p:spPr>
            <a:xfrm>
              <a:off x="2152800" y="4346640"/>
              <a:ext cx="6359400" cy="571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3" name="Group 28"/>
            <p:cNvGrpSpPr/>
            <p:nvPr/>
          </p:nvGrpSpPr>
          <p:grpSpPr>
            <a:xfrm>
              <a:off x="2152800" y="4346640"/>
              <a:ext cx="571320" cy="571320"/>
              <a:chOff x="2152800" y="4346640"/>
              <a:chExt cx="571320" cy="571320"/>
            </a:xfrm>
          </p:grpSpPr>
          <p:sp>
            <p:nvSpPr>
              <p:cNvPr id="124" name="矩形 31"/>
              <p:cNvSpPr/>
              <p:nvPr/>
            </p:nvSpPr>
            <p:spPr>
              <a:xfrm>
                <a:off x="2152800" y="4346640"/>
                <a:ext cx="571320" cy="571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00000"/>
                  </a:gs>
                </a:gsLst>
                <a:lin ang="30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TextBox 25"/>
              <p:cNvSpPr/>
              <p:nvPr/>
            </p:nvSpPr>
            <p:spPr>
              <a:xfrm>
                <a:off x="2259000" y="440208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" name="TextBox 30"/>
            <p:cNvSpPr/>
            <p:nvPr/>
          </p:nvSpPr>
          <p:spPr>
            <a:xfrm>
              <a:off x="3081240" y="444816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3243240" y="912960"/>
            <a:ext cx="1036800" cy="1036440"/>
            <a:chOff x="3243240" y="912960"/>
            <a:chExt cx="1036800" cy="1036440"/>
          </a:xfrm>
        </p:grpSpPr>
        <p:sp>
          <p:nvSpPr>
            <p:cNvPr id="128" name="空心弧 4"/>
            <p:cNvSpPr/>
            <p:nvPr/>
          </p:nvSpPr>
          <p:spPr>
            <a:xfrm>
              <a:off x="3243240" y="91296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1036636" y="519065"/>
                  </a:moveTo>
                  <a:cubicBezTo>
                    <a:pt x="1036224" y="805202"/>
                    <a:pt x="804021" y="1036876"/>
                    <a:pt x="517884" y="1036637"/>
                  </a:cubicBezTo>
                  <a:cubicBezTo>
                    <a:pt x="231747" y="1036398"/>
                    <a:pt x="-68" y="804335"/>
                    <a:pt x="-2" y="518198"/>
                  </a:cubicBezTo>
                  <a:cubicBezTo>
                    <a:pt x="64" y="232061"/>
                    <a:pt x="231986" y="106"/>
                    <a:pt x="518124" y="-1"/>
                  </a:cubicBezTo>
                  <a:cubicBezTo>
                    <a:pt x="518157" y="87008"/>
                    <a:pt x="518190" y="174016"/>
                    <a:pt x="518223" y="261025"/>
                  </a:cubicBezTo>
                  <a:cubicBezTo>
                    <a:pt x="376185" y="261078"/>
                    <a:pt x="261059" y="376220"/>
                    <a:pt x="261026" y="518258"/>
                  </a:cubicBezTo>
                  <a:cubicBezTo>
                    <a:pt x="260993" y="660296"/>
                    <a:pt x="376066" y="775492"/>
                    <a:pt x="518104" y="775610"/>
                  </a:cubicBezTo>
                  <a:cubicBezTo>
                    <a:pt x="660142" y="775729"/>
                    <a:pt x="775407" y="660726"/>
                    <a:pt x="775612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空心弧 5"/>
            <p:cNvSpPr/>
            <p:nvPr/>
          </p:nvSpPr>
          <p:spPr>
            <a:xfrm>
              <a:off x="3243240" y="91296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331" y="682"/>
                    <a:pt x="1036638" y="232541"/>
                    <a:pt x="1036638" y="518319"/>
                  </a:cubicBezTo>
                  <a:lnTo>
                    <a:pt x="777478" y="518319"/>
                  </a:lnTo>
                  <a:cubicBezTo>
                    <a:pt x="777478" y="375431"/>
                    <a:pt x="661825" y="259501"/>
                    <a:pt x="518937" y="25916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eebb00">
                <a:alpha val="80000"/>
              </a:srgbClr>
            </a:solidFill>
            <a:ln w="255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3475080" y="12654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6"/>
          <p:cNvGrpSpPr/>
          <p:nvPr/>
        </p:nvGrpSpPr>
        <p:grpSpPr>
          <a:xfrm>
            <a:off x="5040360" y="912960"/>
            <a:ext cx="1036440" cy="1036440"/>
            <a:chOff x="5040360" y="912960"/>
            <a:chExt cx="1036440" cy="1036440"/>
          </a:xfrm>
        </p:grpSpPr>
        <p:sp>
          <p:nvSpPr>
            <p:cNvPr id="132" name="空心弧 8"/>
            <p:cNvSpPr/>
            <p:nvPr/>
          </p:nvSpPr>
          <p:spPr>
            <a:xfrm>
              <a:off x="5040360" y="912960"/>
              <a:ext cx="103644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7825" y="1036637"/>
                  </a:moveTo>
                  <a:cubicBezTo>
                    <a:pt x="231700" y="1036365"/>
                    <a:pt x="-83" y="804294"/>
                    <a:pt x="0" y="518168"/>
                  </a:cubicBezTo>
                  <a:cubicBezTo>
                    <a:pt x="83" y="232042"/>
                    <a:pt x="232000" y="106"/>
                    <a:pt x="518126" y="-1"/>
                  </a:cubicBezTo>
                  <a:cubicBezTo>
                    <a:pt x="518158" y="87008"/>
                    <a:pt x="518191" y="174016"/>
                    <a:pt x="518223" y="261025"/>
                  </a:cubicBezTo>
                  <a:cubicBezTo>
                    <a:pt x="376191" y="261078"/>
                    <a:pt x="261067" y="376211"/>
                    <a:pt x="261026" y="518243"/>
                  </a:cubicBezTo>
                  <a:cubicBezTo>
                    <a:pt x="260985" y="660275"/>
                    <a:pt x="376042" y="775475"/>
                    <a:pt x="518074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空心弧 9"/>
            <p:cNvSpPr/>
            <p:nvPr/>
          </p:nvSpPr>
          <p:spPr>
            <a:xfrm>
              <a:off x="5040360" y="912960"/>
              <a:ext cx="103644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224" y="682"/>
                    <a:pt x="1036486" y="232374"/>
                    <a:pt x="1036638" y="518044"/>
                  </a:cubicBezTo>
                  <a:cubicBezTo>
                    <a:pt x="1036790" y="803714"/>
                    <a:pt x="805773" y="1035651"/>
                    <a:pt x="520105" y="1036635"/>
                  </a:cubicBezTo>
                  <a:cubicBezTo>
                    <a:pt x="519804" y="949195"/>
                    <a:pt x="519502" y="861754"/>
                    <a:pt x="519201" y="774314"/>
                  </a:cubicBezTo>
                  <a:cubicBezTo>
                    <a:pt x="660293" y="773828"/>
                    <a:pt x="774392" y="659274"/>
                    <a:pt x="774317" y="518182"/>
                  </a:cubicBezTo>
                  <a:cubicBezTo>
                    <a:pt x="774242" y="377090"/>
                    <a:pt x="660022" y="262657"/>
                    <a:pt x="518930" y="262321"/>
                  </a:cubicBezTo>
                  <a:cubicBezTo>
                    <a:pt x="519138" y="174881"/>
                    <a:pt x="519347" y="87441"/>
                    <a:pt x="519555" y="1"/>
                  </a:cubicBezTo>
                  <a:close/>
                </a:path>
              </a:pathLst>
            </a:custGeom>
            <a:solidFill>
              <a:srgbClr val="eebb00">
                <a:alpha val="80000"/>
              </a:srgbClr>
            </a:solidFill>
            <a:ln w="255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13"/>
            <p:cNvSpPr/>
            <p:nvPr/>
          </p:nvSpPr>
          <p:spPr>
            <a:xfrm>
              <a:off x="5271840" y="12654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0"/>
          <p:cNvGrpSpPr/>
          <p:nvPr/>
        </p:nvGrpSpPr>
        <p:grpSpPr>
          <a:xfrm>
            <a:off x="6838920" y="912960"/>
            <a:ext cx="1036800" cy="1036440"/>
            <a:chOff x="6838920" y="912960"/>
            <a:chExt cx="1036800" cy="1036440"/>
          </a:xfrm>
        </p:grpSpPr>
        <p:sp>
          <p:nvSpPr>
            <p:cNvPr id="136" name="空心弧 12"/>
            <p:cNvSpPr/>
            <p:nvPr/>
          </p:nvSpPr>
          <p:spPr>
            <a:xfrm>
              <a:off x="6838920" y="91296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1" y="519417"/>
                  </a:moveTo>
                  <a:cubicBezTo>
                    <a:pt x="-291" y="381794"/>
                    <a:pt x="54162" y="249704"/>
                    <a:pt x="151355" y="152268"/>
                  </a:cubicBezTo>
                  <a:cubicBezTo>
                    <a:pt x="248548" y="54832"/>
                    <a:pt x="380502" y="50"/>
                    <a:pt x="518125" y="-1"/>
                  </a:cubicBezTo>
                  <a:cubicBezTo>
                    <a:pt x="518158" y="87008"/>
                    <a:pt x="518190" y="174016"/>
                    <a:pt x="518223" y="261025"/>
                  </a:cubicBezTo>
                  <a:cubicBezTo>
                    <a:pt x="449907" y="261050"/>
                    <a:pt x="384405" y="288244"/>
                    <a:pt x="336158" y="336611"/>
                  </a:cubicBezTo>
                  <a:cubicBezTo>
                    <a:pt x="287911" y="384978"/>
                    <a:pt x="260880" y="450547"/>
                    <a:pt x="261025" y="518864"/>
                  </a:cubicBezTo>
                  <a:lnTo>
                    <a:pt x="1" y="51941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空心弧 13"/>
            <p:cNvSpPr/>
            <p:nvPr/>
          </p:nvSpPr>
          <p:spPr>
            <a:xfrm>
              <a:off x="6838920" y="91296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519555" y="1"/>
                  </a:moveTo>
                  <a:cubicBezTo>
                    <a:pt x="805653" y="683"/>
                    <a:pt x="1037092" y="233044"/>
                    <a:pt x="1036637" y="519142"/>
                  </a:cubicBezTo>
                  <a:cubicBezTo>
                    <a:pt x="1036182" y="805240"/>
                    <a:pt x="804005" y="1036864"/>
                    <a:pt x="517907" y="1036637"/>
                  </a:cubicBezTo>
                  <a:cubicBezTo>
                    <a:pt x="231808" y="1036410"/>
                    <a:pt x="0" y="804417"/>
                    <a:pt x="0" y="518318"/>
                  </a:cubicBezTo>
                  <a:lnTo>
                    <a:pt x="260922" y="518319"/>
                  </a:lnTo>
                  <a:cubicBezTo>
                    <a:pt x="260922" y="660396"/>
                    <a:pt x="376038" y="775603"/>
                    <a:pt x="518114" y="775716"/>
                  </a:cubicBezTo>
                  <a:cubicBezTo>
                    <a:pt x="660190" y="775829"/>
                    <a:pt x="775489" y="660805"/>
                    <a:pt x="775715" y="518728"/>
                  </a:cubicBezTo>
                  <a:cubicBezTo>
                    <a:pt x="775941" y="376652"/>
                    <a:pt x="661008" y="261261"/>
                    <a:pt x="518932" y="260923"/>
                  </a:cubicBezTo>
                  <a:cubicBezTo>
                    <a:pt x="519140" y="173949"/>
                    <a:pt x="519347" y="86975"/>
                    <a:pt x="519555" y="1"/>
                  </a:cubicBezTo>
                  <a:close/>
                </a:path>
              </a:pathLst>
            </a:custGeom>
            <a:solidFill>
              <a:srgbClr val="eebb00">
                <a:alpha val="80000"/>
              </a:srgbClr>
            </a:solidFill>
            <a:ln w="255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7068960" y="12654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4"/>
          <p:cNvGrpSpPr/>
          <p:nvPr/>
        </p:nvGrpSpPr>
        <p:grpSpPr>
          <a:xfrm>
            <a:off x="3502080" y="1995480"/>
            <a:ext cx="519120" cy="347760"/>
            <a:chOff x="3502080" y="1995480"/>
            <a:chExt cx="519120" cy="347760"/>
          </a:xfrm>
        </p:grpSpPr>
        <p:sp>
          <p:nvSpPr>
            <p:cNvPr id="140" name="燕尾形 16"/>
            <p:cNvSpPr/>
            <p:nvPr/>
          </p:nvSpPr>
          <p:spPr>
            <a:xfrm rot="5400000">
              <a:off x="3663720" y="183348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燕尾形 17"/>
            <p:cNvSpPr/>
            <p:nvPr/>
          </p:nvSpPr>
          <p:spPr>
            <a:xfrm rot="5400000">
              <a:off x="3663720" y="198576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17"/>
          <p:cNvGrpSpPr/>
          <p:nvPr/>
        </p:nvGrpSpPr>
        <p:grpSpPr>
          <a:xfrm>
            <a:off x="5300640" y="1995480"/>
            <a:ext cx="517680" cy="347760"/>
            <a:chOff x="5300640" y="1995480"/>
            <a:chExt cx="517680" cy="347760"/>
          </a:xfrm>
        </p:grpSpPr>
        <p:sp>
          <p:nvSpPr>
            <p:cNvPr id="143" name="燕尾形 19"/>
            <p:cNvSpPr/>
            <p:nvPr/>
          </p:nvSpPr>
          <p:spPr>
            <a:xfrm rot="5400000">
              <a:off x="5461560" y="183420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燕尾形 20"/>
            <p:cNvSpPr/>
            <p:nvPr/>
          </p:nvSpPr>
          <p:spPr>
            <a:xfrm rot="5400000">
              <a:off x="5461560" y="198648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7097400" y="1995480"/>
            <a:ext cx="517320" cy="347760"/>
            <a:chOff x="7097400" y="1995480"/>
            <a:chExt cx="517320" cy="347760"/>
          </a:xfrm>
        </p:grpSpPr>
        <p:sp>
          <p:nvSpPr>
            <p:cNvPr id="146" name="燕尾形 22"/>
            <p:cNvSpPr/>
            <p:nvPr/>
          </p:nvSpPr>
          <p:spPr>
            <a:xfrm rot="5400000">
              <a:off x="7258320" y="1834560"/>
              <a:ext cx="195480" cy="5173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燕尾形 23"/>
            <p:cNvSpPr/>
            <p:nvPr/>
          </p:nvSpPr>
          <p:spPr>
            <a:xfrm rot="5400000">
              <a:off x="7258320" y="1986840"/>
              <a:ext cx="195480" cy="5173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23"/>
          <p:cNvGrpSpPr/>
          <p:nvPr/>
        </p:nvGrpSpPr>
        <p:grpSpPr>
          <a:xfrm>
            <a:off x="2919240" y="2436840"/>
            <a:ext cx="1684440" cy="2428920"/>
            <a:chOff x="2919240" y="2436840"/>
            <a:chExt cx="1684440" cy="2428920"/>
          </a:xfrm>
        </p:grpSpPr>
        <p:sp>
          <p:nvSpPr>
            <p:cNvPr id="149" name="矩形 25"/>
            <p:cNvSpPr/>
            <p:nvPr/>
          </p:nvSpPr>
          <p:spPr>
            <a:xfrm>
              <a:off x="2919240" y="2436840"/>
              <a:ext cx="168444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Box 146"/>
            <p:cNvSpPr/>
            <p:nvPr/>
          </p:nvSpPr>
          <p:spPr>
            <a:xfrm>
              <a:off x="2941200" y="310032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直接连接符 27"/>
            <p:cNvSpPr/>
            <p:nvPr/>
          </p:nvSpPr>
          <p:spPr>
            <a:xfrm>
              <a:off x="2984040" y="297180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46"/>
            <p:cNvSpPr/>
            <p:nvPr/>
          </p:nvSpPr>
          <p:spPr>
            <a:xfrm>
              <a:off x="2950920" y="256212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8"/>
          <p:cNvGrpSpPr/>
          <p:nvPr/>
        </p:nvGrpSpPr>
        <p:grpSpPr>
          <a:xfrm>
            <a:off x="4716360" y="2436840"/>
            <a:ext cx="1684440" cy="2428920"/>
            <a:chOff x="4716360" y="2436840"/>
            <a:chExt cx="1684440" cy="2428920"/>
          </a:xfrm>
        </p:grpSpPr>
        <p:sp>
          <p:nvSpPr>
            <p:cNvPr id="154" name="矩形 30"/>
            <p:cNvSpPr/>
            <p:nvPr/>
          </p:nvSpPr>
          <p:spPr>
            <a:xfrm>
              <a:off x="4716360" y="2436840"/>
              <a:ext cx="168444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146"/>
            <p:cNvSpPr/>
            <p:nvPr/>
          </p:nvSpPr>
          <p:spPr>
            <a:xfrm>
              <a:off x="4740120" y="310032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 32"/>
            <p:cNvSpPr/>
            <p:nvPr/>
          </p:nvSpPr>
          <p:spPr>
            <a:xfrm>
              <a:off x="4781160" y="297180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46"/>
            <p:cNvSpPr/>
            <p:nvPr/>
          </p:nvSpPr>
          <p:spPr>
            <a:xfrm>
              <a:off x="4749480" y="256212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33"/>
          <p:cNvGrpSpPr/>
          <p:nvPr/>
        </p:nvGrpSpPr>
        <p:grpSpPr>
          <a:xfrm>
            <a:off x="6515280" y="2436840"/>
            <a:ext cx="1684080" cy="2428920"/>
            <a:chOff x="6515280" y="2436840"/>
            <a:chExt cx="1684080" cy="2428920"/>
          </a:xfrm>
        </p:grpSpPr>
        <p:sp>
          <p:nvSpPr>
            <p:cNvPr id="159" name="矩形 35"/>
            <p:cNvSpPr/>
            <p:nvPr/>
          </p:nvSpPr>
          <p:spPr>
            <a:xfrm>
              <a:off x="6515280" y="243684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46"/>
            <p:cNvSpPr/>
            <p:nvPr/>
          </p:nvSpPr>
          <p:spPr>
            <a:xfrm>
              <a:off x="6537240" y="310032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直接连接符 37"/>
            <p:cNvSpPr/>
            <p:nvPr/>
          </p:nvSpPr>
          <p:spPr>
            <a:xfrm>
              <a:off x="6578640" y="297180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Box 146"/>
            <p:cNvSpPr/>
            <p:nvPr/>
          </p:nvSpPr>
          <p:spPr>
            <a:xfrm>
              <a:off x="6546960" y="256212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1122480" y="1360440"/>
            <a:ext cx="7740360" cy="3600360"/>
            <a:chOff x="1122480" y="1360440"/>
            <a:chExt cx="7740360" cy="3600360"/>
          </a:xfrm>
        </p:grpSpPr>
        <p:sp>
          <p:nvSpPr>
            <p:cNvPr id="164" name="矩形 4"/>
            <p:cNvSpPr/>
            <p:nvPr/>
          </p:nvSpPr>
          <p:spPr>
            <a:xfrm>
              <a:off x="1122480" y="1360440"/>
              <a:ext cx="774036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5" name="Group 4"/>
            <p:cNvGrpSpPr/>
            <p:nvPr/>
          </p:nvGrpSpPr>
          <p:grpSpPr>
            <a:xfrm>
              <a:off x="1797120" y="2763720"/>
              <a:ext cx="6610320" cy="307080"/>
              <a:chOff x="1797120" y="2763720"/>
              <a:chExt cx="6610320" cy="307080"/>
            </a:xfrm>
          </p:grpSpPr>
          <p:sp>
            <p:nvSpPr>
              <p:cNvPr id="166" name="Rectangle 12"/>
              <p:cNvSpPr/>
              <p:nvPr/>
            </p:nvSpPr>
            <p:spPr>
              <a:xfrm>
                <a:off x="345924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42912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Rectangle 12"/>
              <p:cNvSpPr/>
              <p:nvPr/>
            </p:nvSpPr>
            <p:spPr>
              <a:xfrm>
                <a:off x="5121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59533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67852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Rectangle 12"/>
              <p:cNvSpPr/>
              <p:nvPr/>
            </p:nvSpPr>
            <p:spPr>
              <a:xfrm>
                <a:off x="761544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Rectangle 12"/>
              <p:cNvSpPr/>
              <p:nvPr/>
            </p:nvSpPr>
            <p:spPr>
              <a:xfrm>
                <a:off x="17971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Rectangle 12"/>
              <p:cNvSpPr/>
              <p:nvPr/>
            </p:nvSpPr>
            <p:spPr>
              <a:xfrm>
                <a:off x="262872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4" name="Group 13"/>
            <p:cNvGrpSpPr/>
            <p:nvPr/>
          </p:nvGrpSpPr>
          <p:grpSpPr>
            <a:xfrm>
              <a:off x="1255680" y="1589040"/>
              <a:ext cx="539640" cy="3353760"/>
              <a:chOff x="1255680" y="1589040"/>
              <a:chExt cx="539640" cy="335376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125568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Rectangle 12"/>
              <p:cNvSpPr/>
              <p:nvPr/>
            </p:nvSpPr>
            <p:spPr>
              <a:xfrm>
                <a:off x="125568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Rectangle 12"/>
              <p:cNvSpPr/>
              <p:nvPr/>
            </p:nvSpPr>
            <p:spPr>
              <a:xfrm>
                <a:off x="125568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125568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125568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Rectangle 12"/>
              <p:cNvSpPr/>
              <p:nvPr/>
            </p:nvSpPr>
            <p:spPr>
              <a:xfrm>
                <a:off x="125568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Rectangle 12"/>
              <p:cNvSpPr/>
              <p:nvPr/>
            </p:nvSpPr>
            <p:spPr>
              <a:xfrm>
                <a:off x="125568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125568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12"/>
              <p:cNvSpPr/>
              <p:nvPr/>
            </p:nvSpPr>
            <p:spPr>
              <a:xfrm>
                <a:off x="125568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125568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tangle 12"/>
              <p:cNvSpPr/>
              <p:nvPr/>
            </p:nvSpPr>
            <p:spPr>
              <a:xfrm>
                <a:off x="125568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125568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Rectangle 12"/>
              <p:cNvSpPr/>
              <p:nvPr/>
            </p:nvSpPr>
            <p:spPr>
              <a:xfrm>
                <a:off x="125568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Group 27"/>
            <p:cNvGrpSpPr/>
            <p:nvPr/>
          </p:nvGrpSpPr>
          <p:grpSpPr>
            <a:xfrm>
              <a:off x="1778040" y="1728720"/>
              <a:ext cx="6661080" cy="3060720"/>
              <a:chOff x="1778040" y="1728720"/>
              <a:chExt cx="6661080" cy="3060720"/>
            </a:xfrm>
          </p:grpSpPr>
          <p:sp>
            <p:nvSpPr>
              <p:cNvPr id="189" name="直接连接符 8"/>
              <p:cNvSpPr/>
              <p:nvPr/>
            </p:nvSpPr>
            <p:spPr>
              <a:xfrm>
                <a:off x="677376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接连接符 9"/>
              <p:cNvSpPr/>
              <p:nvPr/>
            </p:nvSpPr>
            <p:spPr>
              <a:xfrm flipV="1">
                <a:off x="344304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接连接符 10"/>
              <p:cNvSpPr/>
              <p:nvPr/>
            </p:nvSpPr>
            <p:spPr>
              <a:xfrm>
                <a:off x="427500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接连接符 11"/>
              <p:cNvSpPr/>
              <p:nvPr/>
            </p:nvSpPr>
            <p:spPr>
              <a:xfrm>
                <a:off x="510840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接连接符 12"/>
              <p:cNvSpPr/>
              <p:nvPr/>
            </p:nvSpPr>
            <p:spPr>
              <a:xfrm flipV="1">
                <a:off x="260964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接连接符 13"/>
              <p:cNvSpPr/>
              <p:nvPr/>
            </p:nvSpPr>
            <p:spPr>
              <a:xfrm>
                <a:off x="1778040" y="2749320"/>
                <a:ext cx="666108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直接连接符 14"/>
              <p:cNvSpPr/>
              <p:nvPr/>
            </p:nvSpPr>
            <p:spPr>
              <a:xfrm flipV="1">
                <a:off x="177804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直接连接符 15"/>
              <p:cNvSpPr/>
              <p:nvPr/>
            </p:nvSpPr>
            <p:spPr>
              <a:xfrm>
                <a:off x="177804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接连接符 16"/>
              <p:cNvSpPr/>
              <p:nvPr/>
            </p:nvSpPr>
            <p:spPr>
              <a:xfrm>
                <a:off x="177804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接连接符 17"/>
              <p:cNvSpPr/>
              <p:nvPr/>
            </p:nvSpPr>
            <p:spPr>
              <a:xfrm>
                <a:off x="177804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直接连接符 18"/>
              <p:cNvSpPr/>
              <p:nvPr/>
            </p:nvSpPr>
            <p:spPr>
              <a:xfrm>
                <a:off x="177804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直接连接符 19"/>
              <p:cNvSpPr/>
              <p:nvPr/>
            </p:nvSpPr>
            <p:spPr>
              <a:xfrm>
                <a:off x="177804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直接连接符 20"/>
              <p:cNvSpPr/>
              <p:nvPr/>
            </p:nvSpPr>
            <p:spPr>
              <a:xfrm>
                <a:off x="177804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接连接符 21"/>
              <p:cNvSpPr/>
              <p:nvPr/>
            </p:nvSpPr>
            <p:spPr>
              <a:xfrm>
                <a:off x="177804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接连接符 22"/>
              <p:cNvSpPr/>
              <p:nvPr/>
            </p:nvSpPr>
            <p:spPr>
              <a:xfrm>
                <a:off x="177804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接连接符 23"/>
              <p:cNvSpPr/>
              <p:nvPr/>
            </p:nvSpPr>
            <p:spPr>
              <a:xfrm>
                <a:off x="177804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接连接符 24"/>
              <p:cNvSpPr/>
              <p:nvPr/>
            </p:nvSpPr>
            <p:spPr>
              <a:xfrm>
                <a:off x="177804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接连接符 25"/>
              <p:cNvSpPr/>
              <p:nvPr/>
            </p:nvSpPr>
            <p:spPr>
              <a:xfrm>
                <a:off x="177804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26"/>
              <p:cNvSpPr/>
              <p:nvPr/>
            </p:nvSpPr>
            <p:spPr>
              <a:xfrm>
                <a:off x="177804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27"/>
              <p:cNvSpPr/>
              <p:nvPr/>
            </p:nvSpPr>
            <p:spPr>
              <a:xfrm>
                <a:off x="843300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28"/>
              <p:cNvSpPr/>
              <p:nvPr/>
            </p:nvSpPr>
            <p:spPr>
              <a:xfrm>
                <a:off x="594036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29"/>
              <p:cNvSpPr/>
              <p:nvPr/>
            </p:nvSpPr>
            <p:spPr>
              <a:xfrm>
                <a:off x="76057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1" name="TextBox 146"/>
          <p:cNvSpPr/>
          <p:nvPr/>
        </p:nvSpPr>
        <p:spPr>
          <a:xfrm>
            <a:off x="1122480" y="928800"/>
            <a:ext cx="32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46"/>
          <p:cNvSpPr/>
          <p:nvPr/>
        </p:nvSpPr>
        <p:spPr>
          <a:xfrm>
            <a:off x="112248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oup 52"/>
          <p:cNvGrpSpPr/>
          <p:nvPr/>
        </p:nvGrpSpPr>
        <p:grpSpPr>
          <a:xfrm>
            <a:off x="1892160" y="1389240"/>
            <a:ext cx="6440760" cy="3342240"/>
            <a:chOff x="1892160" y="1389240"/>
            <a:chExt cx="6440760" cy="3342240"/>
          </a:xfrm>
        </p:grpSpPr>
        <p:grpSp>
          <p:nvGrpSpPr>
            <p:cNvPr id="214" name="Group 53"/>
            <p:cNvGrpSpPr/>
            <p:nvPr/>
          </p:nvGrpSpPr>
          <p:grpSpPr>
            <a:xfrm>
              <a:off x="2122200" y="1591560"/>
              <a:ext cx="6210720" cy="3139920"/>
              <a:chOff x="2122200" y="1591560"/>
              <a:chExt cx="6210720" cy="3139920"/>
            </a:xfrm>
          </p:grpSpPr>
          <p:sp>
            <p:nvSpPr>
              <p:cNvPr id="215" name="任意多边形 56"/>
              <p:cNvSpPr/>
              <p:nvPr/>
            </p:nvSpPr>
            <p:spPr>
              <a:xfrm>
                <a:off x="2199600" y="1755720"/>
                <a:ext cx="2716560" cy="992160"/>
              </a:xfrm>
              <a:custGeom>
                <a:avLst/>
                <a:gdLst/>
                <a:ahLst/>
                <a:rect l="l" t="t" r="r" b="b"/>
                <a:pathLst>
                  <a:path w="2717006" h="992982">
                    <a:moveTo>
                      <a:pt x="0" y="0"/>
                    </a:moveTo>
                    <a:lnTo>
                      <a:pt x="833437" y="190501"/>
                    </a:lnTo>
                    <a:lnTo>
                      <a:pt x="1664493" y="576263"/>
                    </a:lnTo>
                    <a:lnTo>
                      <a:pt x="2505075" y="678657"/>
                    </a:lnTo>
                    <a:lnTo>
                      <a:pt x="2717006" y="992982"/>
                    </a:lnTo>
                  </a:path>
                </a:pathLst>
              </a:custGeom>
              <a:noFill/>
              <a:ln w="38160">
                <a:solidFill>
                  <a:srgbClr val="f07f0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任意多边形 57"/>
              <p:cNvSpPr/>
              <p:nvPr/>
            </p:nvSpPr>
            <p:spPr>
              <a:xfrm>
                <a:off x="4916160" y="2747880"/>
                <a:ext cx="3115080" cy="1643040"/>
              </a:xfrm>
              <a:custGeom>
                <a:avLst/>
                <a:gdLst/>
                <a:ahLst/>
                <a:rect l="l" t="t" r="r" b="b"/>
                <a:pathLst>
                  <a:path w="3114675" h="1643063">
                    <a:moveTo>
                      <a:pt x="0" y="0"/>
                    </a:moveTo>
                    <a:lnTo>
                      <a:pt x="611981" y="1052512"/>
                    </a:lnTo>
                    <a:lnTo>
                      <a:pt x="1445419" y="538163"/>
                    </a:lnTo>
                    <a:lnTo>
                      <a:pt x="2274094" y="781050"/>
                    </a:lnTo>
                    <a:lnTo>
                      <a:pt x="3114675" y="1643063"/>
                    </a:lnTo>
                  </a:path>
                </a:pathLst>
              </a:custGeom>
              <a:noFill/>
              <a:ln w="3816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矩形 50"/>
              <p:cNvSpPr/>
              <p:nvPr/>
            </p:nvSpPr>
            <p:spPr>
              <a:xfrm>
                <a:off x="2122200" y="1680480"/>
                <a:ext cx="144360" cy="142560"/>
              </a:xfrm>
              <a:prstGeom prst="rect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矩形 59"/>
              <p:cNvSpPr/>
              <p:nvPr/>
            </p:nvSpPr>
            <p:spPr>
              <a:xfrm>
                <a:off x="6284880" y="3211560"/>
                <a:ext cx="144360" cy="1443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矩形 52"/>
              <p:cNvSpPr/>
              <p:nvPr/>
            </p:nvSpPr>
            <p:spPr>
              <a:xfrm>
                <a:off x="2953800" y="1870920"/>
                <a:ext cx="144360" cy="144360"/>
              </a:xfrm>
              <a:prstGeom prst="rect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矩形 53"/>
              <p:cNvSpPr/>
              <p:nvPr/>
            </p:nvSpPr>
            <p:spPr>
              <a:xfrm>
                <a:off x="3787560" y="2251800"/>
                <a:ext cx="144360" cy="144360"/>
              </a:xfrm>
              <a:prstGeom prst="rect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矩形 54"/>
              <p:cNvSpPr/>
              <p:nvPr/>
            </p:nvSpPr>
            <p:spPr>
              <a:xfrm>
                <a:off x="4619520" y="2359800"/>
                <a:ext cx="144360" cy="142560"/>
              </a:xfrm>
              <a:prstGeom prst="rect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矩形 63"/>
              <p:cNvSpPr/>
              <p:nvPr/>
            </p:nvSpPr>
            <p:spPr>
              <a:xfrm>
                <a:off x="5452920" y="3722760"/>
                <a:ext cx="142560" cy="1425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矩形 64"/>
              <p:cNvSpPr/>
              <p:nvPr/>
            </p:nvSpPr>
            <p:spPr>
              <a:xfrm>
                <a:off x="7118640" y="3448080"/>
                <a:ext cx="142560" cy="1443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矩形 65"/>
              <p:cNvSpPr/>
              <p:nvPr/>
            </p:nvSpPr>
            <p:spPr>
              <a:xfrm>
                <a:off x="7950600" y="4316400"/>
                <a:ext cx="144360" cy="1443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TextBox 146"/>
              <p:cNvSpPr/>
              <p:nvPr/>
            </p:nvSpPr>
            <p:spPr>
              <a:xfrm>
                <a:off x="5224320" y="385272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TextBox 146"/>
              <p:cNvSpPr/>
              <p:nvPr/>
            </p:nvSpPr>
            <p:spPr>
              <a:xfrm>
                <a:off x="6049800" y="333216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TextBox 146"/>
              <p:cNvSpPr/>
              <p:nvPr/>
            </p:nvSpPr>
            <p:spPr>
              <a:xfrm>
                <a:off x="7231320" y="338292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TextBox 146"/>
              <p:cNvSpPr/>
              <p:nvPr/>
            </p:nvSpPr>
            <p:spPr>
              <a:xfrm>
                <a:off x="7713720" y="442440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TextBox 146"/>
              <p:cNvSpPr/>
              <p:nvPr/>
            </p:nvSpPr>
            <p:spPr>
              <a:xfrm>
                <a:off x="4386240" y="208692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07f02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TextBox 146"/>
              <p:cNvSpPr/>
              <p:nvPr/>
            </p:nvSpPr>
            <p:spPr>
              <a:xfrm>
                <a:off x="3560400" y="198684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07f02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TextBox 146"/>
              <p:cNvSpPr/>
              <p:nvPr/>
            </p:nvSpPr>
            <p:spPr>
              <a:xfrm>
                <a:off x="2722320" y="159156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07f02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2" name="TextBox 146"/>
            <p:cNvSpPr/>
            <p:nvPr/>
          </p:nvSpPr>
          <p:spPr>
            <a:xfrm>
              <a:off x="1892160" y="13892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07f0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5307120" y="1967040"/>
            <a:ext cx="3552840" cy="2366640"/>
            <a:chOff x="5307120" y="1967040"/>
            <a:chExt cx="3552840" cy="2366640"/>
          </a:xfrm>
        </p:grpSpPr>
        <p:sp>
          <p:nvSpPr>
            <p:cNvPr id="234" name="任意多边形 4"/>
            <p:cNvSpPr/>
            <p:nvPr/>
          </p:nvSpPr>
          <p:spPr>
            <a:xfrm flipH="1">
              <a:off x="5307120" y="1967040"/>
              <a:ext cx="1187280" cy="2505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任意多边形 5"/>
            <p:cNvSpPr/>
            <p:nvPr/>
          </p:nvSpPr>
          <p:spPr>
            <a:xfrm flipH="1" flipV="1">
              <a:off x="5307120" y="40809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直接连接符 6"/>
            <p:cNvSpPr/>
            <p:nvPr/>
          </p:nvSpPr>
          <p:spPr>
            <a:xfrm>
              <a:off x="5849280" y="27709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直接连接符 7"/>
            <p:cNvSpPr/>
            <p:nvPr/>
          </p:nvSpPr>
          <p:spPr>
            <a:xfrm flipV="1">
              <a:off x="5849280" y="35600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146"/>
            <p:cNvSpPr/>
            <p:nvPr/>
          </p:nvSpPr>
          <p:spPr>
            <a:xfrm>
              <a:off x="6478560" y="20494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07f0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f07f0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Box 146"/>
            <p:cNvSpPr/>
            <p:nvPr/>
          </p:nvSpPr>
          <p:spPr>
            <a:xfrm>
              <a:off x="647856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146"/>
            <p:cNvSpPr/>
            <p:nvPr/>
          </p:nvSpPr>
          <p:spPr>
            <a:xfrm>
              <a:off x="647856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46"/>
            <p:cNvSpPr/>
            <p:nvPr/>
          </p:nvSpPr>
          <p:spPr>
            <a:xfrm>
              <a:off x="647856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11"/>
          <p:cNvGrpSpPr/>
          <p:nvPr/>
        </p:nvGrpSpPr>
        <p:grpSpPr>
          <a:xfrm>
            <a:off x="501480" y="2082960"/>
            <a:ext cx="3562560" cy="2206440"/>
            <a:chOff x="501480" y="2082960"/>
            <a:chExt cx="3562560" cy="2206440"/>
          </a:xfrm>
        </p:grpSpPr>
        <p:sp>
          <p:nvSpPr>
            <p:cNvPr id="243" name="任意多边形 13"/>
            <p:cNvSpPr/>
            <p:nvPr/>
          </p:nvSpPr>
          <p:spPr>
            <a:xfrm>
              <a:off x="2874960" y="20829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任意多边形 14"/>
            <p:cNvSpPr/>
            <p:nvPr/>
          </p:nvSpPr>
          <p:spPr>
            <a:xfrm flipV="1">
              <a:off x="2874960" y="4038840"/>
              <a:ext cx="1189080" cy="2505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直接连接符 15"/>
            <p:cNvSpPr/>
            <p:nvPr/>
          </p:nvSpPr>
          <p:spPr>
            <a:xfrm>
              <a:off x="2874960" y="33386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Box 146"/>
            <p:cNvSpPr/>
            <p:nvPr/>
          </p:nvSpPr>
          <p:spPr>
            <a:xfrm>
              <a:off x="50148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46"/>
            <p:cNvSpPr/>
            <p:nvPr/>
          </p:nvSpPr>
          <p:spPr>
            <a:xfrm>
              <a:off x="50148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146"/>
            <p:cNvSpPr/>
            <p:nvPr/>
          </p:nvSpPr>
          <p:spPr>
            <a:xfrm>
              <a:off x="50148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Group 18"/>
          <p:cNvGrpSpPr/>
          <p:nvPr/>
        </p:nvGrpSpPr>
        <p:grpSpPr>
          <a:xfrm>
            <a:off x="3222720" y="1643040"/>
            <a:ext cx="2987640" cy="2987640"/>
            <a:chOff x="3222720" y="1643040"/>
            <a:chExt cx="2987640" cy="2987640"/>
          </a:xfrm>
        </p:grpSpPr>
        <p:sp>
          <p:nvSpPr>
            <p:cNvPr id="250" name="饼形 20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2527507" y="691487"/>
                  </a:moveTo>
                  <a:cubicBezTo>
                    <a:pt x="2639358" y="891787"/>
                    <a:pt x="2698294" y="1117297"/>
                    <a:pt x="2698747" y="1346710"/>
                  </a:cubicBezTo>
                  <a:lnTo>
                    <a:pt x="1349375" y="1349375"/>
                  </a:lnTo>
                  <a:lnTo>
                    <a:pt x="2527507" y="691487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饼形 21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2698748" y="1346972"/>
                  </a:moveTo>
                  <a:cubicBezTo>
                    <a:pt x="2699318" y="1666929"/>
                    <a:pt x="2586176" y="1976678"/>
                    <a:pt x="2379515" y="2220940"/>
                  </a:cubicBezTo>
                  <a:lnTo>
                    <a:pt x="1349375" y="1349375"/>
                  </a:lnTo>
                  <a:lnTo>
                    <a:pt x="2698748" y="1346972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饼形 22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2379565" y="2220881"/>
                  </a:moveTo>
                  <a:cubicBezTo>
                    <a:pt x="2121066" y="2526448"/>
                    <a:pt x="1740256" y="2701491"/>
                    <a:pt x="1340025" y="2698718"/>
                  </a:cubicBezTo>
                  <a:cubicBezTo>
                    <a:pt x="1343142" y="2248937"/>
                    <a:pt x="1346258" y="1799156"/>
                    <a:pt x="1349375" y="1349375"/>
                  </a:cubicBezTo>
                  <a:lnTo>
                    <a:pt x="2379565" y="2220881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饼形 23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1343161" y="2698736"/>
                  </a:moveTo>
                  <a:cubicBezTo>
                    <a:pt x="917897" y="2696778"/>
                    <a:pt x="518440" y="2494458"/>
                    <a:pt x="265239" y="2152782"/>
                  </a:cubicBezTo>
                  <a:lnTo>
                    <a:pt x="1349375" y="1349375"/>
                  </a:lnTo>
                  <a:cubicBezTo>
                    <a:pt x="1347304" y="1799162"/>
                    <a:pt x="1345232" y="2248949"/>
                    <a:pt x="1343161" y="2698736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饼形 24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268956" y="2157773"/>
                  </a:moveTo>
                  <a:cubicBezTo>
                    <a:pt x="11569" y="1813776"/>
                    <a:pt x="-66625" y="1367772"/>
                    <a:pt x="58389" y="956732"/>
                  </a:cubicBezTo>
                  <a:lnTo>
                    <a:pt x="1349375" y="1349375"/>
                  </a:lnTo>
                  <a:lnTo>
                    <a:pt x="268956" y="2157773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饼形 25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60003" y="951463"/>
                  </a:moveTo>
                  <a:cubicBezTo>
                    <a:pt x="234565" y="385821"/>
                    <a:pt x="757410" y="0"/>
                    <a:pt x="1349375" y="0"/>
                  </a:cubicBezTo>
                  <a:lnTo>
                    <a:pt x="1349375" y="1349375"/>
                  </a:lnTo>
                  <a:lnTo>
                    <a:pt x="60003" y="951463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饼形 26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1348135" y="1"/>
                  </a:moveTo>
                  <a:cubicBezTo>
                    <a:pt x="1838984" y="-450"/>
                    <a:pt x="2291363" y="265676"/>
                    <a:pt x="2529424" y="694930"/>
                  </a:cubicBezTo>
                  <a:lnTo>
                    <a:pt x="1349375" y="1349375"/>
                  </a:lnTo>
                  <a:cubicBezTo>
                    <a:pt x="1348962" y="899584"/>
                    <a:pt x="1348548" y="449792"/>
                    <a:pt x="1348135" y="1"/>
                  </a:cubicBezTo>
                  <a:close/>
                </a:path>
              </a:pathLst>
            </a:custGeom>
            <a:solidFill>
              <a:srgbClr val="eebb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椭圆 27"/>
            <p:cNvSpPr/>
            <p:nvPr/>
          </p:nvSpPr>
          <p:spPr>
            <a:xfrm>
              <a:off x="3222720" y="1643040"/>
              <a:ext cx="298764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TextBox 146"/>
          <p:cNvSpPr/>
          <p:nvPr/>
        </p:nvSpPr>
        <p:spPr>
          <a:xfrm>
            <a:off x="309240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5651640" y="82692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  <p:grpSp>
        <p:nvGrpSpPr>
          <p:cNvPr id="260" name="Group 3"/>
          <p:cNvGrpSpPr/>
          <p:nvPr/>
        </p:nvGrpSpPr>
        <p:grpSpPr>
          <a:xfrm>
            <a:off x="868320" y="3184560"/>
            <a:ext cx="4643640" cy="2122560"/>
            <a:chOff x="868320" y="3184560"/>
            <a:chExt cx="4643640" cy="2122560"/>
          </a:xfrm>
        </p:grpSpPr>
        <p:sp>
          <p:nvSpPr>
            <p:cNvPr id="261" name="矩形 5"/>
            <p:cNvSpPr/>
            <p:nvPr/>
          </p:nvSpPr>
          <p:spPr>
            <a:xfrm>
              <a:off x="868320" y="3184560"/>
              <a:ext cx="4643640" cy="21225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1010880" y="3255840"/>
              <a:ext cx="4358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这里填加文本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3" name="TextBox 146"/>
          <p:cNvSpPr/>
          <p:nvPr/>
        </p:nvSpPr>
        <p:spPr>
          <a:xfrm>
            <a:off x="2184480" y="272412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7f02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矩形 3" descr=""/>
          <p:cNvPicPr/>
          <p:nvPr/>
        </p:nvPicPr>
        <p:blipFill>
          <a:blip r:embed="rId2"/>
          <a:stretch/>
        </p:blipFill>
        <p:spPr>
          <a:xfrm>
            <a:off x="3938760" y="3255840"/>
            <a:ext cx="574164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4:02:0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38:2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