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7.png" ContentType="image/png"/>
  <Override PartName="/ppt/media/image27.png" ContentType="image/png"/>
  <Override PartName="/ppt/media/image12.wmf" ContentType="image/x-wmf"/>
  <Override PartName="/ppt/media/image8.png" ContentType="image/png"/>
  <Override PartName="/ppt/media/image14.jpeg" ContentType="image/jpeg"/>
  <Override PartName="/ppt/media/image9.png" ContentType="image/png"/>
  <Override PartName="/ppt/media/image11.png" ContentType="image/png"/>
  <Override PartName="/ppt/media/image23.png" ContentType="image/png"/>
  <Override PartName="/ppt/media/image13.jpeg" ContentType="image/jpeg"/>
  <Override PartName="/ppt/media/image30.jpeg" ContentType="image/jpeg"/>
  <Override PartName="/ppt/media/image5.png" ContentType="image/png"/>
  <Override PartName="/ppt/media/image28.png" ContentType="image/png"/>
  <Override PartName="/ppt/media/image4.wmf" ContentType="image/x-wmf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6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5713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E524-04DF-4CA4-B74D-B3A9B6FC5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3104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823104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2640"/>
            <a:ext cx="823104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C344-6BF0-4DDA-80B4-1FA7188B2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3104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401652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333080"/>
            <a:ext cx="401652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2640"/>
            <a:ext cx="401652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302640"/>
            <a:ext cx="401652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1F04-E9AC-453D-B493-319E63FD7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3104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265032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333080"/>
            <a:ext cx="265032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333080"/>
            <a:ext cx="265032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2640"/>
            <a:ext cx="265032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302640"/>
            <a:ext cx="265032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302640"/>
            <a:ext cx="265032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346C-AED2-43F3-B8CF-A102103D2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3104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080"/>
            <a:ext cx="823104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1083-6DC8-434C-BBCF-92AD4F9E1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3104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823104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F8A8-3ED0-46D4-AC2C-30E02C01F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3104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401652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333080"/>
            <a:ext cx="401652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7B4C-AB55-4EC6-9EC5-45C104893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3104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D752-8424-4979-8527-D41185DF2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3104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2F95-8FBA-475F-98E6-927329F53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3104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401652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333080"/>
            <a:ext cx="401652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2640"/>
            <a:ext cx="401652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EFDE-6448-41F9-9105-7BC27FEE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3104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401652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333080"/>
            <a:ext cx="401652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302640"/>
            <a:ext cx="401652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B54C-A287-4053-A2A7-3DBC8E082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3104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401652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333080"/>
            <a:ext cx="401652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2640"/>
            <a:ext cx="823104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CB9B-4BB5-40DB-A115-9E465071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3104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080"/>
            <a:ext cx="823104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02360"/>
            <a:ext cx="213372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02360"/>
            <a:ext cx="289728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4880" y="5202360"/>
            <a:ext cx="213336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E465B-DD49-4995-83AF-463BF70517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wmf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2"/>
          <p:cNvSpPr/>
          <p:nvPr/>
        </p:nvSpPr>
        <p:spPr>
          <a:xfrm rot="19608000">
            <a:off x="-1110960" y="1920960"/>
            <a:ext cx="1008000" cy="957240"/>
          </a:xfrm>
          <a:custGeom>
            <a:avLst/>
            <a:gdLst/>
            <a:ahLst/>
            <a:rect l="l" t="t" r="r" b="b"/>
            <a:pathLst>
              <a:path w="1008062" h="957263">
                <a:moveTo>
                  <a:pt x="1" y="365641"/>
                </a:moveTo>
                <a:lnTo>
                  <a:pt x="385048" y="365644"/>
                </a:lnTo>
                <a:lnTo>
                  <a:pt x="504031" y="0"/>
                </a:lnTo>
                <a:lnTo>
                  <a:pt x="623014" y="365644"/>
                </a:lnTo>
                <a:lnTo>
                  <a:pt x="1008061" y="365641"/>
                </a:lnTo>
                <a:lnTo>
                  <a:pt x="696550" y="591619"/>
                </a:lnTo>
                <a:lnTo>
                  <a:pt x="815539" y="957261"/>
                </a:lnTo>
                <a:lnTo>
                  <a:pt x="504031" y="731279"/>
                </a:lnTo>
                <a:lnTo>
                  <a:pt x="192523" y="957261"/>
                </a:lnTo>
                <a:lnTo>
                  <a:pt x="311512" y="591619"/>
                </a:lnTo>
                <a:lnTo>
                  <a:pt x="1" y="365641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3"/>
          <p:cNvSpPr/>
          <p:nvPr/>
        </p:nvSpPr>
        <p:spPr>
          <a:xfrm rot="20061000">
            <a:off x="-1039320" y="4655880"/>
            <a:ext cx="576000" cy="547560"/>
          </a:xfrm>
          <a:custGeom>
            <a:avLst/>
            <a:gdLst/>
            <a:ahLst/>
            <a:rect l="l" t="t" r="r" b="b"/>
            <a:pathLst>
              <a:path w="576263" h="547687">
                <a:moveTo>
                  <a:pt x="1" y="209197"/>
                </a:moveTo>
                <a:lnTo>
                  <a:pt x="220114" y="209199"/>
                </a:lnTo>
                <a:lnTo>
                  <a:pt x="288132" y="0"/>
                </a:lnTo>
                <a:lnTo>
                  <a:pt x="356149" y="209199"/>
                </a:lnTo>
                <a:lnTo>
                  <a:pt x="576262" y="209197"/>
                </a:lnTo>
                <a:lnTo>
                  <a:pt x="398186" y="338488"/>
                </a:lnTo>
                <a:lnTo>
                  <a:pt x="466206" y="547686"/>
                </a:lnTo>
                <a:lnTo>
                  <a:pt x="288132" y="418393"/>
                </a:lnTo>
                <a:lnTo>
                  <a:pt x="110057" y="547686"/>
                </a:lnTo>
                <a:lnTo>
                  <a:pt x="178077" y="338488"/>
                </a:lnTo>
                <a:lnTo>
                  <a:pt x="1" y="209197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-1255680" y="4713120"/>
            <a:ext cx="288720" cy="274680"/>
          </a:xfrm>
          <a:custGeom>
            <a:avLst/>
            <a:gdLst/>
            <a:ahLst/>
            <a:rect l="l" t="t" r="r" b="b"/>
            <a:pathLst>
              <a:path w="288925" h="274637">
                <a:moveTo>
                  <a:pt x="0" y="104902"/>
                </a:moveTo>
                <a:lnTo>
                  <a:pt x="110360" y="104902"/>
                </a:lnTo>
                <a:lnTo>
                  <a:pt x="144463" y="0"/>
                </a:lnTo>
                <a:lnTo>
                  <a:pt x="178565" y="104902"/>
                </a:lnTo>
                <a:lnTo>
                  <a:pt x="288925" y="104902"/>
                </a:lnTo>
                <a:lnTo>
                  <a:pt x="199641" y="169734"/>
                </a:lnTo>
                <a:lnTo>
                  <a:pt x="233745" y="274636"/>
                </a:lnTo>
                <a:lnTo>
                  <a:pt x="144463" y="209803"/>
                </a:lnTo>
                <a:lnTo>
                  <a:pt x="55180" y="274636"/>
                </a:lnTo>
                <a:lnTo>
                  <a:pt x="89284" y="169734"/>
                </a:lnTo>
                <a:lnTo>
                  <a:pt x="0" y="104902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-1687680" y="1415880"/>
            <a:ext cx="1008360" cy="957600"/>
          </a:xfrm>
          <a:custGeom>
            <a:avLst/>
            <a:gdLst/>
            <a:ahLst/>
            <a:rect l="l" t="t" r="r" b="b"/>
            <a:pathLst>
              <a:path w="1008063" h="957263">
                <a:moveTo>
                  <a:pt x="1" y="365641"/>
                </a:moveTo>
                <a:lnTo>
                  <a:pt x="385048" y="365644"/>
                </a:lnTo>
                <a:lnTo>
                  <a:pt x="504032" y="0"/>
                </a:lnTo>
                <a:lnTo>
                  <a:pt x="623015" y="365644"/>
                </a:lnTo>
                <a:lnTo>
                  <a:pt x="1008062" y="365641"/>
                </a:lnTo>
                <a:lnTo>
                  <a:pt x="696551" y="591619"/>
                </a:lnTo>
                <a:lnTo>
                  <a:pt x="815539" y="957261"/>
                </a:lnTo>
                <a:lnTo>
                  <a:pt x="504032" y="731279"/>
                </a:lnTo>
                <a:lnTo>
                  <a:pt x="192524" y="957261"/>
                </a:lnTo>
                <a:lnTo>
                  <a:pt x="311512" y="591619"/>
                </a:lnTo>
                <a:lnTo>
                  <a:pt x="1" y="365641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6"/>
          <p:cNvSpPr/>
          <p:nvPr/>
        </p:nvSpPr>
        <p:spPr>
          <a:xfrm>
            <a:off x="-1758960" y="4286160"/>
            <a:ext cx="360360" cy="343080"/>
          </a:xfrm>
          <a:custGeom>
            <a:avLst/>
            <a:gdLst/>
            <a:ahLst/>
            <a:rect l="l" t="t" r="r" b="b"/>
            <a:pathLst>
              <a:path w="360362" h="342900">
                <a:moveTo>
                  <a:pt x="0" y="130976"/>
                </a:moveTo>
                <a:lnTo>
                  <a:pt x="137647" y="130977"/>
                </a:lnTo>
                <a:lnTo>
                  <a:pt x="180181" y="0"/>
                </a:lnTo>
                <a:lnTo>
                  <a:pt x="222715" y="130977"/>
                </a:lnTo>
                <a:lnTo>
                  <a:pt x="360362" y="130976"/>
                </a:lnTo>
                <a:lnTo>
                  <a:pt x="249003" y="211923"/>
                </a:lnTo>
                <a:lnTo>
                  <a:pt x="291539" y="342899"/>
                </a:lnTo>
                <a:lnTo>
                  <a:pt x="180181" y="261950"/>
                </a:lnTo>
                <a:lnTo>
                  <a:pt x="68823" y="342899"/>
                </a:lnTo>
                <a:lnTo>
                  <a:pt x="111359" y="211923"/>
                </a:lnTo>
                <a:lnTo>
                  <a:pt x="0" y="130976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7"/>
          <p:cNvSpPr/>
          <p:nvPr/>
        </p:nvSpPr>
        <p:spPr>
          <a:xfrm>
            <a:off x="-1542960" y="3360600"/>
            <a:ext cx="1008000" cy="957240"/>
          </a:xfrm>
          <a:custGeom>
            <a:avLst/>
            <a:gdLst/>
            <a:ahLst/>
            <a:rect l="l" t="t" r="r" b="b"/>
            <a:pathLst>
              <a:path w="1008062" h="957262">
                <a:moveTo>
                  <a:pt x="1" y="365641"/>
                </a:moveTo>
                <a:lnTo>
                  <a:pt x="385048" y="365643"/>
                </a:lnTo>
                <a:lnTo>
                  <a:pt x="504031" y="0"/>
                </a:lnTo>
                <a:lnTo>
                  <a:pt x="623014" y="365643"/>
                </a:lnTo>
                <a:lnTo>
                  <a:pt x="1008061" y="365641"/>
                </a:lnTo>
                <a:lnTo>
                  <a:pt x="696550" y="591618"/>
                </a:lnTo>
                <a:lnTo>
                  <a:pt x="815539" y="957260"/>
                </a:lnTo>
                <a:lnTo>
                  <a:pt x="504031" y="731278"/>
                </a:lnTo>
                <a:lnTo>
                  <a:pt x="192523" y="957260"/>
                </a:lnTo>
                <a:lnTo>
                  <a:pt x="311512" y="591618"/>
                </a:lnTo>
                <a:lnTo>
                  <a:pt x="1" y="365641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8"/>
          <p:cNvSpPr/>
          <p:nvPr/>
        </p:nvSpPr>
        <p:spPr>
          <a:xfrm>
            <a:off x="-1903320" y="3784680"/>
            <a:ext cx="431640" cy="411120"/>
          </a:xfrm>
          <a:custGeom>
            <a:avLst/>
            <a:gdLst/>
            <a:ahLst/>
            <a:rect l="l" t="t" r="r" b="b"/>
            <a:pathLst>
              <a:path w="431800" h="411163">
                <a:moveTo>
                  <a:pt x="0" y="157050"/>
                </a:moveTo>
                <a:lnTo>
                  <a:pt x="164934" y="157051"/>
                </a:lnTo>
                <a:lnTo>
                  <a:pt x="215900" y="0"/>
                </a:lnTo>
                <a:lnTo>
                  <a:pt x="266866" y="157051"/>
                </a:lnTo>
                <a:lnTo>
                  <a:pt x="431800" y="157050"/>
                </a:lnTo>
                <a:lnTo>
                  <a:pt x="298365" y="254112"/>
                </a:lnTo>
                <a:lnTo>
                  <a:pt x="349333" y="411162"/>
                </a:lnTo>
                <a:lnTo>
                  <a:pt x="215900" y="314098"/>
                </a:lnTo>
                <a:lnTo>
                  <a:pt x="82467" y="411162"/>
                </a:lnTo>
                <a:lnTo>
                  <a:pt x="133435" y="254112"/>
                </a:lnTo>
                <a:lnTo>
                  <a:pt x="0" y="15705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9"/>
          <p:cNvSpPr/>
          <p:nvPr/>
        </p:nvSpPr>
        <p:spPr>
          <a:xfrm>
            <a:off x="-1614600" y="0"/>
            <a:ext cx="1008000" cy="957240"/>
          </a:xfrm>
          <a:custGeom>
            <a:avLst/>
            <a:gdLst/>
            <a:ahLst/>
            <a:rect l="l" t="t" r="r" b="b"/>
            <a:pathLst>
              <a:path w="1008063" h="957263">
                <a:moveTo>
                  <a:pt x="1" y="365641"/>
                </a:moveTo>
                <a:lnTo>
                  <a:pt x="385048" y="365644"/>
                </a:lnTo>
                <a:lnTo>
                  <a:pt x="504032" y="0"/>
                </a:lnTo>
                <a:lnTo>
                  <a:pt x="623015" y="365644"/>
                </a:lnTo>
                <a:lnTo>
                  <a:pt x="1008062" y="365641"/>
                </a:lnTo>
                <a:lnTo>
                  <a:pt x="696551" y="591619"/>
                </a:lnTo>
                <a:lnTo>
                  <a:pt x="815539" y="957261"/>
                </a:lnTo>
                <a:lnTo>
                  <a:pt x="504032" y="731279"/>
                </a:lnTo>
                <a:lnTo>
                  <a:pt x="192524" y="957261"/>
                </a:lnTo>
                <a:lnTo>
                  <a:pt x="311512" y="591619"/>
                </a:lnTo>
                <a:lnTo>
                  <a:pt x="1" y="365641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0"/>
          <p:cNvSpPr/>
          <p:nvPr/>
        </p:nvSpPr>
        <p:spPr>
          <a:xfrm>
            <a:off x="-1039680" y="3144960"/>
            <a:ext cx="576000" cy="547560"/>
          </a:xfrm>
          <a:custGeom>
            <a:avLst/>
            <a:gdLst/>
            <a:ahLst/>
            <a:rect l="l" t="t" r="r" b="b"/>
            <a:pathLst>
              <a:path w="576263" h="547687">
                <a:moveTo>
                  <a:pt x="1" y="209197"/>
                </a:moveTo>
                <a:lnTo>
                  <a:pt x="220114" y="209199"/>
                </a:lnTo>
                <a:lnTo>
                  <a:pt x="288132" y="0"/>
                </a:lnTo>
                <a:lnTo>
                  <a:pt x="356149" y="209199"/>
                </a:lnTo>
                <a:lnTo>
                  <a:pt x="576262" y="209197"/>
                </a:lnTo>
                <a:lnTo>
                  <a:pt x="398186" y="338488"/>
                </a:lnTo>
                <a:lnTo>
                  <a:pt x="466206" y="547686"/>
                </a:lnTo>
                <a:lnTo>
                  <a:pt x="288132" y="418393"/>
                </a:lnTo>
                <a:lnTo>
                  <a:pt x="110057" y="547686"/>
                </a:lnTo>
                <a:lnTo>
                  <a:pt x="178077" y="338488"/>
                </a:lnTo>
                <a:lnTo>
                  <a:pt x="1" y="209197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1"/>
          <p:cNvSpPr/>
          <p:nvPr/>
        </p:nvSpPr>
        <p:spPr>
          <a:xfrm>
            <a:off x="-571680" y="5713560"/>
            <a:ext cx="571680" cy="547560"/>
          </a:xfrm>
          <a:custGeom>
            <a:avLst/>
            <a:gdLst/>
            <a:ahLst/>
            <a:rect l="l" t="t" r="r" b="b"/>
            <a:pathLst>
              <a:path w="571500" h="547687">
                <a:moveTo>
                  <a:pt x="1" y="209197"/>
                </a:moveTo>
                <a:lnTo>
                  <a:pt x="218295" y="209199"/>
                </a:lnTo>
                <a:lnTo>
                  <a:pt x="285750" y="0"/>
                </a:lnTo>
                <a:lnTo>
                  <a:pt x="353205" y="209199"/>
                </a:lnTo>
                <a:lnTo>
                  <a:pt x="571499" y="209197"/>
                </a:lnTo>
                <a:lnTo>
                  <a:pt x="394895" y="338488"/>
                </a:lnTo>
                <a:lnTo>
                  <a:pt x="462353" y="547686"/>
                </a:lnTo>
                <a:lnTo>
                  <a:pt x="285750" y="418393"/>
                </a:lnTo>
                <a:lnTo>
                  <a:pt x="109147" y="547686"/>
                </a:lnTo>
                <a:lnTo>
                  <a:pt x="176605" y="338488"/>
                </a:lnTo>
                <a:lnTo>
                  <a:pt x="1" y="209197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2"/>
          <p:cNvSpPr/>
          <p:nvPr/>
        </p:nvSpPr>
        <p:spPr>
          <a:xfrm rot="19930800">
            <a:off x="-1974600" y="5160960"/>
            <a:ext cx="1592280" cy="1652760"/>
          </a:xfrm>
          <a:custGeom>
            <a:avLst/>
            <a:gdLst/>
            <a:ahLst/>
            <a:rect l="l" t="t" r="r" b="b"/>
            <a:pathLst>
              <a:path w="1592262" h="1652587">
                <a:moveTo>
                  <a:pt x="2" y="631230"/>
                </a:moveTo>
                <a:lnTo>
                  <a:pt x="608193" y="631235"/>
                </a:lnTo>
                <a:lnTo>
                  <a:pt x="796131" y="0"/>
                </a:lnTo>
                <a:lnTo>
                  <a:pt x="984069" y="631235"/>
                </a:lnTo>
                <a:lnTo>
                  <a:pt x="1592260" y="631230"/>
                </a:lnTo>
                <a:lnTo>
                  <a:pt x="1100221" y="1021351"/>
                </a:lnTo>
                <a:lnTo>
                  <a:pt x="1288166" y="1652583"/>
                </a:lnTo>
                <a:lnTo>
                  <a:pt x="796131" y="1262455"/>
                </a:lnTo>
                <a:lnTo>
                  <a:pt x="304096" y="1652583"/>
                </a:lnTo>
                <a:lnTo>
                  <a:pt x="492041" y="1021351"/>
                </a:lnTo>
                <a:lnTo>
                  <a:pt x="2" y="63123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3"/>
          <p:cNvSpPr/>
          <p:nvPr/>
        </p:nvSpPr>
        <p:spPr>
          <a:xfrm>
            <a:off x="828720" y="6673680"/>
            <a:ext cx="576360" cy="547920"/>
          </a:xfrm>
          <a:custGeom>
            <a:avLst/>
            <a:gdLst/>
            <a:ahLst/>
            <a:rect l="l" t="t" r="r" b="b"/>
            <a:pathLst>
              <a:path w="576263" h="547688">
                <a:moveTo>
                  <a:pt x="1" y="209198"/>
                </a:moveTo>
                <a:lnTo>
                  <a:pt x="220114" y="209199"/>
                </a:lnTo>
                <a:lnTo>
                  <a:pt x="288132" y="0"/>
                </a:lnTo>
                <a:lnTo>
                  <a:pt x="356149" y="209199"/>
                </a:lnTo>
                <a:lnTo>
                  <a:pt x="576262" y="209198"/>
                </a:lnTo>
                <a:lnTo>
                  <a:pt x="398186" y="338488"/>
                </a:lnTo>
                <a:lnTo>
                  <a:pt x="466206" y="547687"/>
                </a:lnTo>
                <a:lnTo>
                  <a:pt x="288132" y="418394"/>
                </a:lnTo>
                <a:lnTo>
                  <a:pt x="110057" y="547687"/>
                </a:lnTo>
                <a:lnTo>
                  <a:pt x="178077" y="338488"/>
                </a:lnTo>
                <a:lnTo>
                  <a:pt x="1" y="209198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4"/>
          <p:cNvSpPr/>
          <p:nvPr/>
        </p:nvSpPr>
        <p:spPr>
          <a:xfrm rot="19608000">
            <a:off x="10333080" y="1704960"/>
            <a:ext cx="1008000" cy="957240"/>
          </a:xfrm>
          <a:custGeom>
            <a:avLst/>
            <a:gdLst/>
            <a:ahLst/>
            <a:rect l="l" t="t" r="r" b="b"/>
            <a:pathLst>
              <a:path w="1008062" h="957263">
                <a:moveTo>
                  <a:pt x="1" y="365641"/>
                </a:moveTo>
                <a:lnTo>
                  <a:pt x="385048" y="365644"/>
                </a:lnTo>
                <a:lnTo>
                  <a:pt x="504031" y="0"/>
                </a:lnTo>
                <a:lnTo>
                  <a:pt x="623014" y="365644"/>
                </a:lnTo>
                <a:lnTo>
                  <a:pt x="1008061" y="365641"/>
                </a:lnTo>
                <a:lnTo>
                  <a:pt x="696550" y="591619"/>
                </a:lnTo>
                <a:lnTo>
                  <a:pt x="815539" y="957261"/>
                </a:lnTo>
                <a:lnTo>
                  <a:pt x="504031" y="731279"/>
                </a:lnTo>
                <a:lnTo>
                  <a:pt x="192523" y="957261"/>
                </a:lnTo>
                <a:lnTo>
                  <a:pt x="311512" y="591619"/>
                </a:lnTo>
                <a:lnTo>
                  <a:pt x="1" y="365641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5"/>
          <p:cNvSpPr/>
          <p:nvPr/>
        </p:nvSpPr>
        <p:spPr>
          <a:xfrm rot="20061000">
            <a:off x="10296360" y="4439880"/>
            <a:ext cx="576360" cy="547560"/>
          </a:xfrm>
          <a:custGeom>
            <a:avLst/>
            <a:gdLst/>
            <a:ahLst/>
            <a:rect l="l" t="t" r="r" b="b"/>
            <a:pathLst>
              <a:path w="576263" h="547687">
                <a:moveTo>
                  <a:pt x="1" y="209197"/>
                </a:moveTo>
                <a:lnTo>
                  <a:pt x="220114" y="209199"/>
                </a:lnTo>
                <a:lnTo>
                  <a:pt x="288132" y="0"/>
                </a:lnTo>
                <a:lnTo>
                  <a:pt x="356149" y="209199"/>
                </a:lnTo>
                <a:lnTo>
                  <a:pt x="576262" y="209197"/>
                </a:lnTo>
                <a:lnTo>
                  <a:pt x="398186" y="338488"/>
                </a:lnTo>
                <a:lnTo>
                  <a:pt x="466206" y="547686"/>
                </a:lnTo>
                <a:lnTo>
                  <a:pt x="288132" y="418393"/>
                </a:lnTo>
                <a:lnTo>
                  <a:pt x="110057" y="547686"/>
                </a:lnTo>
                <a:lnTo>
                  <a:pt x="178077" y="338488"/>
                </a:lnTo>
                <a:lnTo>
                  <a:pt x="1" y="209197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6"/>
          <p:cNvSpPr/>
          <p:nvPr/>
        </p:nvSpPr>
        <p:spPr>
          <a:xfrm rot="736800">
            <a:off x="9288000" y="2208240"/>
            <a:ext cx="1189080" cy="1028520"/>
          </a:xfrm>
          <a:custGeom>
            <a:avLst/>
            <a:gdLst/>
            <a:ahLst/>
            <a:rect l="l" t="t" r="r" b="b"/>
            <a:pathLst>
              <a:path w="1189037" h="1028700">
                <a:moveTo>
                  <a:pt x="1" y="392927"/>
                </a:moveTo>
                <a:lnTo>
                  <a:pt x="454174" y="392930"/>
                </a:lnTo>
                <a:lnTo>
                  <a:pt x="594519" y="0"/>
                </a:lnTo>
                <a:lnTo>
                  <a:pt x="734863" y="392930"/>
                </a:lnTo>
                <a:lnTo>
                  <a:pt x="1189036" y="392927"/>
                </a:lnTo>
                <a:lnTo>
                  <a:pt x="821600" y="635769"/>
                </a:lnTo>
                <a:lnTo>
                  <a:pt x="961950" y="1028697"/>
                </a:lnTo>
                <a:lnTo>
                  <a:pt x="594519" y="785851"/>
                </a:lnTo>
                <a:lnTo>
                  <a:pt x="227087" y="1028697"/>
                </a:lnTo>
                <a:lnTo>
                  <a:pt x="367437" y="635769"/>
                </a:lnTo>
                <a:lnTo>
                  <a:pt x="1" y="392927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7"/>
          <p:cNvSpPr/>
          <p:nvPr/>
        </p:nvSpPr>
        <p:spPr>
          <a:xfrm>
            <a:off x="10080720" y="4497480"/>
            <a:ext cx="288720" cy="274680"/>
          </a:xfrm>
          <a:custGeom>
            <a:avLst/>
            <a:gdLst/>
            <a:ahLst/>
            <a:rect l="l" t="t" r="r" b="b"/>
            <a:pathLst>
              <a:path w="288925" h="274637">
                <a:moveTo>
                  <a:pt x="0" y="104902"/>
                </a:moveTo>
                <a:lnTo>
                  <a:pt x="110360" y="104902"/>
                </a:lnTo>
                <a:lnTo>
                  <a:pt x="144463" y="0"/>
                </a:lnTo>
                <a:lnTo>
                  <a:pt x="178565" y="104902"/>
                </a:lnTo>
                <a:lnTo>
                  <a:pt x="288925" y="104902"/>
                </a:lnTo>
                <a:lnTo>
                  <a:pt x="199641" y="169734"/>
                </a:lnTo>
                <a:lnTo>
                  <a:pt x="233745" y="274636"/>
                </a:lnTo>
                <a:lnTo>
                  <a:pt x="144463" y="209803"/>
                </a:lnTo>
                <a:lnTo>
                  <a:pt x="55180" y="274636"/>
                </a:lnTo>
                <a:lnTo>
                  <a:pt x="89284" y="169734"/>
                </a:lnTo>
                <a:lnTo>
                  <a:pt x="0" y="104902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8"/>
          <p:cNvSpPr/>
          <p:nvPr/>
        </p:nvSpPr>
        <p:spPr>
          <a:xfrm>
            <a:off x="9577440" y="4070520"/>
            <a:ext cx="360360" cy="342720"/>
          </a:xfrm>
          <a:custGeom>
            <a:avLst/>
            <a:gdLst/>
            <a:ahLst/>
            <a:rect l="l" t="t" r="r" b="b"/>
            <a:pathLst>
              <a:path w="360362" h="342900">
                <a:moveTo>
                  <a:pt x="0" y="130976"/>
                </a:moveTo>
                <a:lnTo>
                  <a:pt x="137647" y="130977"/>
                </a:lnTo>
                <a:lnTo>
                  <a:pt x="180181" y="0"/>
                </a:lnTo>
                <a:lnTo>
                  <a:pt x="222715" y="130977"/>
                </a:lnTo>
                <a:lnTo>
                  <a:pt x="360362" y="130976"/>
                </a:lnTo>
                <a:lnTo>
                  <a:pt x="249003" y="211923"/>
                </a:lnTo>
                <a:lnTo>
                  <a:pt x="291539" y="342899"/>
                </a:lnTo>
                <a:lnTo>
                  <a:pt x="180181" y="261950"/>
                </a:lnTo>
                <a:lnTo>
                  <a:pt x="68823" y="342899"/>
                </a:lnTo>
                <a:lnTo>
                  <a:pt x="111359" y="211923"/>
                </a:lnTo>
                <a:lnTo>
                  <a:pt x="0" y="130976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9"/>
          <p:cNvSpPr/>
          <p:nvPr/>
        </p:nvSpPr>
        <p:spPr>
          <a:xfrm>
            <a:off x="9793440" y="3144960"/>
            <a:ext cx="1008000" cy="957240"/>
          </a:xfrm>
          <a:custGeom>
            <a:avLst/>
            <a:gdLst/>
            <a:ahLst/>
            <a:rect l="l" t="t" r="r" b="b"/>
            <a:pathLst>
              <a:path w="1008062" h="957262">
                <a:moveTo>
                  <a:pt x="1" y="365641"/>
                </a:moveTo>
                <a:lnTo>
                  <a:pt x="385048" y="365643"/>
                </a:lnTo>
                <a:lnTo>
                  <a:pt x="504031" y="0"/>
                </a:lnTo>
                <a:lnTo>
                  <a:pt x="623014" y="365643"/>
                </a:lnTo>
                <a:lnTo>
                  <a:pt x="1008061" y="365641"/>
                </a:lnTo>
                <a:lnTo>
                  <a:pt x="696550" y="591618"/>
                </a:lnTo>
                <a:lnTo>
                  <a:pt x="815539" y="957260"/>
                </a:lnTo>
                <a:lnTo>
                  <a:pt x="504031" y="731278"/>
                </a:lnTo>
                <a:lnTo>
                  <a:pt x="192523" y="957260"/>
                </a:lnTo>
                <a:lnTo>
                  <a:pt x="311512" y="591618"/>
                </a:lnTo>
                <a:lnTo>
                  <a:pt x="1" y="365641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20"/>
          <p:cNvSpPr/>
          <p:nvPr/>
        </p:nvSpPr>
        <p:spPr>
          <a:xfrm>
            <a:off x="9433080" y="3568680"/>
            <a:ext cx="431640" cy="411120"/>
          </a:xfrm>
          <a:custGeom>
            <a:avLst/>
            <a:gdLst/>
            <a:ahLst/>
            <a:rect l="l" t="t" r="r" b="b"/>
            <a:pathLst>
              <a:path w="431800" h="411163">
                <a:moveTo>
                  <a:pt x="0" y="157050"/>
                </a:moveTo>
                <a:lnTo>
                  <a:pt x="164934" y="157051"/>
                </a:lnTo>
                <a:lnTo>
                  <a:pt x="215900" y="0"/>
                </a:lnTo>
                <a:lnTo>
                  <a:pt x="266866" y="157051"/>
                </a:lnTo>
                <a:lnTo>
                  <a:pt x="431800" y="157050"/>
                </a:lnTo>
                <a:lnTo>
                  <a:pt x="298365" y="254112"/>
                </a:lnTo>
                <a:lnTo>
                  <a:pt x="349333" y="411162"/>
                </a:lnTo>
                <a:lnTo>
                  <a:pt x="215900" y="314098"/>
                </a:lnTo>
                <a:lnTo>
                  <a:pt x="82467" y="411162"/>
                </a:lnTo>
                <a:lnTo>
                  <a:pt x="133435" y="254112"/>
                </a:lnTo>
                <a:lnTo>
                  <a:pt x="0" y="15705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21"/>
          <p:cNvSpPr/>
          <p:nvPr/>
        </p:nvSpPr>
        <p:spPr>
          <a:xfrm>
            <a:off x="9721800" y="-210960"/>
            <a:ext cx="1008000" cy="952200"/>
          </a:xfrm>
          <a:custGeom>
            <a:avLst/>
            <a:gdLst/>
            <a:ahLst/>
            <a:rect l="l" t="t" r="r" b="b"/>
            <a:pathLst>
              <a:path w="1008063" h="952501">
                <a:moveTo>
                  <a:pt x="1" y="363822"/>
                </a:moveTo>
                <a:lnTo>
                  <a:pt x="385048" y="363825"/>
                </a:lnTo>
                <a:lnTo>
                  <a:pt x="504032" y="0"/>
                </a:lnTo>
                <a:lnTo>
                  <a:pt x="623015" y="363825"/>
                </a:lnTo>
                <a:lnTo>
                  <a:pt x="1008062" y="363822"/>
                </a:lnTo>
                <a:lnTo>
                  <a:pt x="696551" y="588676"/>
                </a:lnTo>
                <a:lnTo>
                  <a:pt x="815539" y="952499"/>
                </a:lnTo>
                <a:lnTo>
                  <a:pt x="504032" y="727641"/>
                </a:lnTo>
                <a:lnTo>
                  <a:pt x="192524" y="952499"/>
                </a:lnTo>
                <a:lnTo>
                  <a:pt x="311512" y="588676"/>
                </a:lnTo>
                <a:lnTo>
                  <a:pt x="1" y="363822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22"/>
          <p:cNvSpPr/>
          <p:nvPr/>
        </p:nvSpPr>
        <p:spPr>
          <a:xfrm>
            <a:off x="10296360" y="2928960"/>
            <a:ext cx="576360" cy="547560"/>
          </a:xfrm>
          <a:custGeom>
            <a:avLst/>
            <a:gdLst/>
            <a:ahLst/>
            <a:rect l="l" t="t" r="r" b="b"/>
            <a:pathLst>
              <a:path w="576263" h="547687">
                <a:moveTo>
                  <a:pt x="1" y="209197"/>
                </a:moveTo>
                <a:lnTo>
                  <a:pt x="220114" y="209199"/>
                </a:lnTo>
                <a:lnTo>
                  <a:pt x="288132" y="0"/>
                </a:lnTo>
                <a:lnTo>
                  <a:pt x="356149" y="209199"/>
                </a:lnTo>
                <a:lnTo>
                  <a:pt x="576262" y="209197"/>
                </a:lnTo>
                <a:lnTo>
                  <a:pt x="398186" y="338488"/>
                </a:lnTo>
                <a:lnTo>
                  <a:pt x="466206" y="547686"/>
                </a:lnTo>
                <a:lnTo>
                  <a:pt x="288132" y="418393"/>
                </a:lnTo>
                <a:lnTo>
                  <a:pt x="110057" y="547686"/>
                </a:lnTo>
                <a:lnTo>
                  <a:pt x="178077" y="338488"/>
                </a:lnTo>
                <a:lnTo>
                  <a:pt x="1" y="209197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23"/>
          <p:cNvSpPr/>
          <p:nvPr/>
        </p:nvSpPr>
        <p:spPr>
          <a:xfrm>
            <a:off x="10836360" y="5881680"/>
            <a:ext cx="1008000" cy="957240"/>
          </a:xfrm>
          <a:custGeom>
            <a:avLst/>
            <a:gdLst/>
            <a:ahLst/>
            <a:rect l="l" t="t" r="r" b="b"/>
            <a:pathLst>
              <a:path w="1008063" h="957262">
                <a:moveTo>
                  <a:pt x="1" y="365641"/>
                </a:moveTo>
                <a:lnTo>
                  <a:pt x="385048" y="365643"/>
                </a:lnTo>
                <a:lnTo>
                  <a:pt x="504032" y="0"/>
                </a:lnTo>
                <a:lnTo>
                  <a:pt x="623015" y="365643"/>
                </a:lnTo>
                <a:lnTo>
                  <a:pt x="1008062" y="365641"/>
                </a:lnTo>
                <a:lnTo>
                  <a:pt x="696551" y="591618"/>
                </a:lnTo>
                <a:lnTo>
                  <a:pt x="815539" y="957260"/>
                </a:lnTo>
                <a:lnTo>
                  <a:pt x="504032" y="731278"/>
                </a:lnTo>
                <a:lnTo>
                  <a:pt x="192524" y="957260"/>
                </a:lnTo>
                <a:lnTo>
                  <a:pt x="311512" y="591618"/>
                </a:lnTo>
                <a:lnTo>
                  <a:pt x="1" y="365641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24"/>
          <p:cNvSpPr/>
          <p:nvPr/>
        </p:nvSpPr>
        <p:spPr>
          <a:xfrm>
            <a:off x="10764720" y="5497560"/>
            <a:ext cx="576360" cy="547560"/>
          </a:xfrm>
          <a:custGeom>
            <a:avLst/>
            <a:gdLst/>
            <a:ahLst/>
            <a:rect l="l" t="t" r="r" b="b"/>
            <a:pathLst>
              <a:path w="576262" h="547687">
                <a:moveTo>
                  <a:pt x="1" y="209197"/>
                </a:moveTo>
                <a:lnTo>
                  <a:pt x="220114" y="209199"/>
                </a:lnTo>
                <a:lnTo>
                  <a:pt x="288131" y="0"/>
                </a:lnTo>
                <a:lnTo>
                  <a:pt x="356148" y="209199"/>
                </a:lnTo>
                <a:lnTo>
                  <a:pt x="576261" y="209197"/>
                </a:lnTo>
                <a:lnTo>
                  <a:pt x="398185" y="338488"/>
                </a:lnTo>
                <a:lnTo>
                  <a:pt x="466205" y="547686"/>
                </a:lnTo>
                <a:lnTo>
                  <a:pt x="288131" y="418393"/>
                </a:lnTo>
                <a:lnTo>
                  <a:pt x="110057" y="547686"/>
                </a:lnTo>
                <a:lnTo>
                  <a:pt x="178077" y="338488"/>
                </a:lnTo>
                <a:lnTo>
                  <a:pt x="1" y="209197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25"/>
          <p:cNvSpPr/>
          <p:nvPr/>
        </p:nvSpPr>
        <p:spPr>
          <a:xfrm rot="19930800">
            <a:off x="9361080" y="4944600"/>
            <a:ext cx="1592280" cy="1652760"/>
          </a:xfrm>
          <a:custGeom>
            <a:avLst/>
            <a:gdLst/>
            <a:ahLst/>
            <a:rect l="l" t="t" r="r" b="b"/>
            <a:pathLst>
              <a:path w="1592262" h="1652587">
                <a:moveTo>
                  <a:pt x="2" y="631230"/>
                </a:moveTo>
                <a:lnTo>
                  <a:pt x="608193" y="631235"/>
                </a:lnTo>
                <a:lnTo>
                  <a:pt x="796131" y="0"/>
                </a:lnTo>
                <a:lnTo>
                  <a:pt x="984069" y="631235"/>
                </a:lnTo>
                <a:lnTo>
                  <a:pt x="1592260" y="631230"/>
                </a:lnTo>
                <a:lnTo>
                  <a:pt x="1100221" y="1021351"/>
                </a:lnTo>
                <a:lnTo>
                  <a:pt x="1288166" y="1652583"/>
                </a:lnTo>
                <a:lnTo>
                  <a:pt x="796131" y="1262455"/>
                </a:lnTo>
                <a:lnTo>
                  <a:pt x="304096" y="1652583"/>
                </a:lnTo>
                <a:lnTo>
                  <a:pt x="492041" y="1021351"/>
                </a:lnTo>
                <a:lnTo>
                  <a:pt x="2" y="63123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26"/>
          <p:cNvSpPr/>
          <p:nvPr/>
        </p:nvSpPr>
        <p:spPr>
          <a:xfrm rot="2650200">
            <a:off x="10980360" y="8375400"/>
            <a:ext cx="576360" cy="547560"/>
          </a:xfrm>
          <a:custGeom>
            <a:avLst/>
            <a:gdLst/>
            <a:ahLst/>
            <a:rect l="l" t="t" r="r" b="b"/>
            <a:pathLst>
              <a:path w="576262" h="547688">
                <a:moveTo>
                  <a:pt x="1" y="209198"/>
                </a:moveTo>
                <a:lnTo>
                  <a:pt x="220114" y="209199"/>
                </a:lnTo>
                <a:lnTo>
                  <a:pt x="288131" y="0"/>
                </a:lnTo>
                <a:lnTo>
                  <a:pt x="356148" y="209199"/>
                </a:lnTo>
                <a:lnTo>
                  <a:pt x="576261" y="209198"/>
                </a:lnTo>
                <a:lnTo>
                  <a:pt x="398185" y="338488"/>
                </a:lnTo>
                <a:lnTo>
                  <a:pt x="466205" y="547687"/>
                </a:lnTo>
                <a:lnTo>
                  <a:pt x="288131" y="418394"/>
                </a:lnTo>
                <a:lnTo>
                  <a:pt x="110057" y="547687"/>
                </a:lnTo>
                <a:lnTo>
                  <a:pt x="178077" y="338488"/>
                </a:lnTo>
                <a:lnTo>
                  <a:pt x="1" y="209198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7"/>
          <p:cNvSpPr/>
          <p:nvPr/>
        </p:nvSpPr>
        <p:spPr>
          <a:xfrm rot="20061000">
            <a:off x="7308360" y="6528960"/>
            <a:ext cx="576360" cy="547920"/>
          </a:xfrm>
          <a:custGeom>
            <a:avLst/>
            <a:gdLst/>
            <a:ahLst/>
            <a:rect l="l" t="t" r="r" b="b"/>
            <a:pathLst>
              <a:path w="576263" h="547687">
                <a:moveTo>
                  <a:pt x="1" y="209197"/>
                </a:moveTo>
                <a:lnTo>
                  <a:pt x="220114" y="209199"/>
                </a:lnTo>
                <a:lnTo>
                  <a:pt x="288132" y="0"/>
                </a:lnTo>
                <a:lnTo>
                  <a:pt x="356149" y="209199"/>
                </a:lnTo>
                <a:lnTo>
                  <a:pt x="576262" y="209197"/>
                </a:lnTo>
                <a:lnTo>
                  <a:pt x="398186" y="338488"/>
                </a:lnTo>
                <a:lnTo>
                  <a:pt x="466206" y="547686"/>
                </a:lnTo>
                <a:lnTo>
                  <a:pt x="288132" y="418393"/>
                </a:lnTo>
                <a:lnTo>
                  <a:pt x="110057" y="547686"/>
                </a:lnTo>
                <a:lnTo>
                  <a:pt x="178077" y="338488"/>
                </a:lnTo>
                <a:lnTo>
                  <a:pt x="1" y="209197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8"/>
          <p:cNvSpPr/>
          <p:nvPr/>
        </p:nvSpPr>
        <p:spPr>
          <a:xfrm>
            <a:off x="6948360" y="6956280"/>
            <a:ext cx="289080" cy="274680"/>
          </a:xfrm>
          <a:custGeom>
            <a:avLst/>
            <a:gdLst/>
            <a:ahLst/>
            <a:rect l="l" t="t" r="r" b="b"/>
            <a:pathLst>
              <a:path w="288925" h="274638">
                <a:moveTo>
                  <a:pt x="0" y="104902"/>
                </a:moveTo>
                <a:lnTo>
                  <a:pt x="110360" y="104903"/>
                </a:lnTo>
                <a:lnTo>
                  <a:pt x="144463" y="0"/>
                </a:lnTo>
                <a:lnTo>
                  <a:pt x="178565" y="104903"/>
                </a:lnTo>
                <a:lnTo>
                  <a:pt x="288925" y="104902"/>
                </a:lnTo>
                <a:lnTo>
                  <a:pt x="199641" y="169735"/>
                </a:lnTo>
                <a:lnTo>
                  <a:pt x="233745" y="274637"/>
                </a:lnTo>
                <a:lnTo>
                  <a:pt x="144463" y="209803"/>
                </a:lnTo>
                <a:lnTo>
                  <a:pt x="55180" y="274637"/>
                </a:lnTo>
                <a:lnTo>
                  <a:pt x="89284" y="169735"/>
                </a:lnTo>
                <a:lnTo>
                  <a:pt x="0" y="104902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29"/>
          <p:cNvSpPr/>
          <p:nvPr/>
        </p:nvSpPr>
        <p:spPr>
          <a:xfrm>
            <a:off x="6445080" y="6529320"/>
            <a:ext cx="360360" cy="343080"/>
          </a:xfrm>
          <a:custGeom>
            <a:avLst/>
            <a:gdLst/>
            <a:ahLst/>
            <a:rect l="l" t="t" r="r" b="b"/>
            <a:pathLst>
              <a:path w="360363" h="342900">
                <a:moveTo>
                  <a:pt x="0" y="130976"/>
                </a:moveTo>
                <a:lnTo>
                  <a:pt x="137647" y="130977"/>
                </a:lnTo>
                <a:lnTo>
                  <a:pt x="180182" y="0"/>
                </a:lnTo>
                <a:lnTo>
                  <a:pt x="222716" y="130977"/>
                </a:lnTo>
                <a:lnTo>
                  <a:pt x="360363" y="130976"/>
                </a:lnTo>
                <a:lnTo>
                  <a:pt x="249003" y="211923"/>
                </a:lnTo>
                <a:lnTo>
                  <a:pt x="291540" y="342899"/>
                </a:lnTo>
                <a:lnTo>
                  <a:pt x="180182" y="261950"/>
                </a:lnTo>
                <a:lnTo>
                  <a:pt x="68823" y="342899"/>
                </a:lnTo>
                <a:lnTo>
                  <a:pt x="111360" y="211923"/>
                </a:lnTo>
                <a:lnTo>
                  <a:pt x="0" y="130976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30"/>
          <p:cNvSpPr/>
          <p:nvPr/>
        </p:nvSpPr>
        <p:spPr>
          <a:xfrm>
            <a:off x="6300720" y="6027840"/>
            <a:ext cx="432000" cy="411120"/>
          </a:xfrm>
          <a:custGeom>
            <a:avLst/>
            <a:gdLst/>
            <a:ahLst/>
            <a:rect l="l" t="t" r="r" b="b"/>
            <a:pathLst>
              <a:path w="431800" h="411162">
                <a:moveTo>
                  <a:pt x="0" y="157050"/>
                </a:moveTo>
                <a:lnTo>
                  <a:pt x="164934" y="157051"/>
                </a:lnTo>
                <a:lnTo>
                  <a:pt x="215900" y="0"/>
                </a:lnTo>
                <a:lnTo>
                  <a:pt x="266866" y="157051"/>
                </a:lnTo>
                <a:lnTo>
                  <a:pt x="431800" y="157050"/>
                </a:lnTo>
                <a:lnTo>
                  <a:pt x="298365" y="254111"/>
                </a:lnTo>
                <a:lnTo>
                  <a:pt x="349333" y="411161"/>
                </a:lnTo>
                <a:lnTo>
                  <a:pt x="215900" y="314098"/>
                </a:lnTo>
                <a:lnTo>
                  <a:pt x="82467" y="411161"/>
                </a:lnTo>
                <a:lnTo>
                  <a:pt x="133435" y="254111"/>
                </a:lnTo>
                <a:lnTo>
                  <a:pt x="0" y="15705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31"/>
          <p:cNvSpPr/>
          <p:nvPr/>
        </p:nvSpPr>
        <p:spPr>
          <a:xfrm>
            <a:off x="8101080" y="6745320"/>
            <a:ext cx="1044360" cy="992160"/>
          </a:xfrm>
          <a:custGeom>
            <a:avLst/>
            <a:gdLst/>
            <a:ahLst/>
            <a:rect l="l" t="t" r="r" b="b"/>
            <a:pathLst>
              <a:path w="1044575" h="992187">
                <a:moveTo>
                  <a:pt x="1" y="378981"/>
                </a:moveTo>
                <a:lnTo>
                  <a:pt x="398994" y="378983"/>
                </a:lnTo>
                <a:lnTo>
                  <a:pt x="522288" y="0"/>
                </a:lnTo>
                <a:lnTo>
                  <a:pt x="645581" y="378983"/>
                </a:lnTo>
                <a:lnTo>
                  <a:pt x="1044574" y="378981"/>
                </a:lnTo>
                <a:lnTo>
                  <a:pt x="721780" y="613203"/>
                </a:lnTo>
                <a:lnTo>
                  <a:pt x="845078" y="992184"/>
                </a:lnTo>
                <a:lnTo>
                  <a:pt x="522288" y="757958"/>
                </a:lnTo>
                <a:lnTo>
                  <a:pt x="199497" y="992184"/>
                </a:lnTo>
                <a:lnTo>
                  <a:pt x="322795" y="613203"/>
                </a:lnTo>
                <a:lnTo>
                  <a:pt x="1" y="378981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32"/>
          <p:cNvSpPr/>
          <p:nvPr/>
        </p:nvSpPr>
        <p:spPr>
          <a:xfrm>
            <a:off x="4789440" y="6168960"/>
            <a:ext cx="576360" cy="547920"/>
          </a:xfrm>
          <a:custGeom>
            <a:avLst/>
            <a:gdLst/>
            <a:ahLst/>
            <a:rect l="l" t="t" r="r" b="b"/>
            <a:pathLst>
              <a:path w="576262" h="547688">
                <a:moveTo>
                  <a:pt x="1" y="209198"/>
                </a:moveTo>
                <a:lnTo>
                  <a:pt x="220114" y="209199"/>
                </a:lnTo>
                <a:lnTo>
                  <a:pt x="288131" y="0"/>
                </a:lnTo>
                <a:lnTo>
                  <a:pt x="356148" y="209199"/>
                </a:lnTo>
                <a:lnTo>
                  <a:pt x="576261" y="209198"/>
                </a:lnTo>
                <a:lnTo>
                  <a:pt x="398185" y="338488"/>
                </a:lnTo>
                <a:lnTo>
                  <a:pt x="466205" y="547687"/>
                </a:lnTo>
                <a:lnTo>
                  <a:pt x="288131" y="418394"/>
                </a:lnTo>
                <a:lnTo>
                  <a:pt x="110057" y="547687"/>
                </a:lnTo>
                <a:lnTo>
                  <a:pt x="178077" y="338488"/>
                </a:lnTo>
                <a:lnTo>
                  <a:pt x="1" y="209198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33"/>
          <p:cNvSpPr/>
          <p:nvPr/>
        </p:nvSpPr>
        <p:spPr>
          <a:xfrm>
            <a:off x="4282920" y="6140520"/>
            <a:ext cx="289080" cy="274680"/>
          </a:xfrm>
          <a:custGeom>
            <a:avLst/>
            <a:gdLst/>
            <a:ahLst/>
            <a:rect l="l" t="t" r="r" b="b"/>
            <a:pathLst>
              <a:path w="288925" h="274638">
                <a:moveTo>
                  <a:pt x="0" y="104902"/>
                </a:moveTo>
                <a:lnTo>
                  <a:pt x="110360" y="104903"/>
                </a:lnTo>
                <a:lnTo>
                  <a:pt x="144463" y="0"/>
                </a:lnTo>
                <a:lnTo>
                  <a:pt x="178565" y="104903"/>
                </a:lnTo>
                <a:lnTo>
                  <a:pt x="288925" y="104902"/>
                </a:lnTo>
                <a:lnTo>
                  <a:pt x="199641" y="169735"/>
                </a:lnTo>
                <a:lnTo>
                  <a:pt x="233745" y="274637"/>
                </a:lnTo>
                <a:lnTo>
                  <a:pt x="144463" y="209803"/>
                </a:lnTo>
                <a:lnTo>
                  <a:pt x="55180" y="274637"/>
                </a:lnTo>
                <a:lnTo>
                  <a:pt x="89284" y="169735"/>
                </a:lnTo>
                <a:lnTo>
                  <a:pt x="0" y="104902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34"/>
          <p:cNvSpPr/>
          <p:nvPr/>
        </p:nvSpPr>
        <p:spPr>
          <a:xfrm rot="18352200">
            <a:off x="1614600" y="6317640"/>
            <a:ext cx="1592280" cy="1652400"/>
          </a:xfrm>
          <a:custGeom>
            <a:avLst/>
            <a:gdLst/>
            <a:ahLst/>
            <a:rect l="l" t="t" r="r" b="b"/>
            <a:pathLst>
              <a:path w="1592262" h="1652588">
                <a:moveTo>
                  <a:pt x="2" y="631231"/>
                </a:moveTo>
                <a:lnTo>
                  <a:pt x="608193" y="631235"/>
                </a:lnTo>
                <a:lnTo>
                  <a:pt x="796131" y="0"/>
                </a:lnTo>
                <a:lnTo>
                  <a:pt x="984069" y="631235"/>
                </a:lnTo>
                <a:lnTo>
                  <a:pt x="1592260" y="631231"/>
                </a:lnTo>
                <a:lnTo>
                  <a:pt x="1100221" y="1021351"/>
                </a:lnTo>
                <a:lnTo>
                  <a:pt x="1288166" y="1652584"/>
                </a:lnTo>
                <a:lnTo>
                  <a:pt x="796131" y="1262456"/>
                </a:lnTo>
                <a:lnTo>
                  <a:pt x="304096" y="1652584"/>
                </a:lnTo>
                <a:lnTo>
                  <a:pt x="492041" y="1021351"/>
                </a:lnTo>
                <a:lnTo>
                  <a:pt x="2" y="631231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35"/>
          <p:cNvSpPr/>
          <p:nvPr/>
        </p:nvSpPr>
        <p:spPr>
          <a:xfrm>
            <a:off x="-3127320" y="11282400"/>
            <a:ext cx="1044360" cy="992160"/>
          </a:xfrm>
          <a:custGeom>
            <a:avLst/>
            <a:gdLst/>
            <a:ahLst/>
            <a:rect l="l" t="t" r="r" b="b"/>
            <a:pathLst>
              <a:path w="1044575" h="992187">
                <a:moveTo>
                  <a:pt x="1" y="378981"/>
                </a:moveTo>
                <a:lnTo>
                  <a:pt x="398994" y="378983"/>
                </a:lnTo>
                <a:lnTo>
                  <a:pt x="522288" y="0"/>
                </a:lnTo>
                <a:lnTo>
                  <a:pt x="645581" y="378983"/>
                </a:lnTo>
                <a:lnTo>
                  <a:pt x="1044574" y="378981"/>
                </a:lnTo>
                <a:lnTo>
                  <a:pt x="721780" y="613203"/>
                </a:lnTo>
                <a:lnTo>
                  <a:pt x="845078" y="992184"/>
                </a:lnTo>
                <a:lnTo>
                  <a:pt x="522288" y="757958"/>
                </a:lnTo>
                <a:lnTo>
                  <a:pt x="199497" y="992184"/>
                </a:lnTo>
                <a:lnTo>
                  <a:pt x="322795" y="613203"/>
                </a:lnTo>
                <a:lnTo>
                  <a:pt x="1" y="378981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36"/>
          <p:cNvSpPr/>
          <p:nvPr/>
        </p:nvSpPr>
        <p:spPr>
          <a:xfrm rot="18269400">
            <a:off x="-392400" y="-2388600"/>
            <a:ext cx="1004760" cy="952560"/>
          </a:xfrm>
          <a:custGeom>
            <a:avLst/>
            <a:gdLst/>
            <a:ahLst/>
            <a:rect l="l" t="t" r="r" b="b"/>
            <a:pathLst>
              <a:path w="1004888" h="952501">
                <a:moveTo>
                  <a:pt x="1" y="363822"/>
                </a:moveTo>
                <a:lnTo>
                  <a:pt x="383835" y="363825"/>
                </a:lnTo>
                <a:lnTo>
                  <a:pt x="502444" y="0"/>
                </a:lnTo>
                <a:lnTo>
                  <a:pt x="621053" y="363825"/>
                </a:lnTo>
                <a:lnTo>
                  <a:pt x="1004887" y="363822"/>
                </a:lnTo>
                <a:lnTo>
                  <a:pt x="694357" y="588676"/>
                </a:lnTo>
                <a:lnTo>
                  <a:pt x="812971" y="952499"/>
                </a:lnTo>
                <a:lnTo>
                  <a:pt x="502444" y="727641"/>
                </a:lnTo>
                <a:lnTo>
                  <a:pt x="191917" y="952499"/>
                </a:lnTo>
                <a:lnTo>
                  <a:pt x="310531" y="588676"/>
                </a:lnTo>
                <a:lnTo>
                  <a:pt x="1" y="363822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37"/>
          <p:cNvSpPr/>
          <p:nvPr/>
        </p:nvSpPr>
        <p:spPr>
          <a:xfrm rot="20061000">
            <a:off x="-2226960" y="-91800"/>
            <a:ext cx="576360" cy="542880"/>
          </a:xfrm>
          <a:custGeom>
            <a:avLst/>
            <a:gdLst/>
            <a:ahLst/>
            <a:rect l="l" t="t" r="r" b="b"/>
            <a:pathLst>
              <a:path w="576263" h="542925">
                <a:moveTo>
                  <a:pt x="1" y="207378"/>
                </a:moveTo>
                <a:lnTo>
                  <a:pt x="220114" y="207380"/>
                </a:lnTo>
                <a:lnTo>
                  <a:pt x="288132" y="0"/>
                </a:lnTo>
                <a:lnTo>
                  <a:pt x="356149" y="207380"/>
                </a:lnTo>
                <a:lnTo>
                  <a:pt x="576262" y="207378"/>
                </a:lnTo>
                <a:lnTo>
                  <a:pt x="398186" y="335545"/>
                </a:lnTo>
                <a:lnTo>
                  <a:pt x="466206" y="542924"/>
                </a:lnTo>
                <a:lnTo>
                  <a:pt x="288132" y="414755"/>
                </a:lnTo>
                <a:lnTo>
                  <a:pt x="110057" y="542924"/>
                </a:lnTo>
                <a:lnTo>
                  <a:pt x="178077" y="335545"/>
                </a:lnTo>
                <a:lnTo>
                  <a:pt x="1" y="207378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38"/>
          <p:cNvSpPr/>
          <p:nvPr/>
        </p:nvSpPr>
        <p:spPr>
          <a:xfrm rot="21004200">
            <a:off x="-1579680" y="-1889280"/>
            <a:ext cx="1189080" cy="1028880"/>
          </a:xfrm>
          <a:custGeom>
            <a:avLst/>
            <a:gdLst/>
            <a:ahLst/>
            <a:rect l="l" t="t" r="r" b="b"/>
            <a:pathLst>
              <a:path w="1189038" h="1028700">
                <a:moveTo>
                  <a:pt x="1" y="392927"/>
                </a:moveTo>
                <a:lnTo>
                  <a:pt x="454175" y="392930"/>
                </a:lnTo>
                <a:lnTo>
                  <a:pt x="594519" y="0"/>
                </a:lnTo>
                <a:lnTo>
                  <a:pt x="734863" y="392930"/>
                </a:lnTo>
                <a:lnTo>
                  <a:pt x="1189037" y="392927"/>
                </a:lnTo>
                <a:lnTo>
                  <a:pt x="821601" y="635769"/>
                </a:lnTo>
                <a:lnTo>
                  <a:pt x="961951" y="1028697"/>
                </a:lnTo>
                <a:lnTo>
                  <a:pt x="594519" y="785851"/>
                </a:lnTo>
                <a:lnTo>
                  <a:pt x="227087" y="1028697"/>
                </a:lnTo>
                <a:lnTo>
                  <a:pt x="367437" y="635769"/>
                </a:lnTo>
                <a:lnTo>
                  <a:pt x="1" y="392927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39"/>
          <p:cNvSpPr/>
          <p:nvPr/>
        </p:nvSpPr>
        <p:spPr>
          <a:xfrm>
            <a:off x="-2443320" y="-34920"/>
            <a:ext cx="289080" cy="270000"/>
          </a:xfrm>
          <a:custGeom>
            <a:avLst/>
            <a:gdLst/>
            <a:ahLst/>
            <a:rect l="l" t="t" r="r" b="b"/>
            <a:pathLst>
              <a:path w="288925" h="269875">
                <a:moveTo>
                  <a:pt x="0" y="103083"/>
                </a:moveTo>
                <a:lnTo>
                  <a:pt x="110360" y="103084"/>
                </a:lnTo>
                <a:lnTo>
                  <a:pt x="144463" y="0"/>
                </a:lnTo>
                <a:lnTo>
                  <a:pt x="178565" y="103084"/>
                </a:lnTo>
                <a:lnTo>
                  <a:pt x="288925" y="103083"/>
                </a:lnTo>
                <a:lnTo>
                  <a:pt x="199641" y="166791"/>
                </a:lnTo>
                <a:lnTo>
                  <a:pt x="233745" y="269874"/>
                </a:lnTo>
                <a:lnTo>
                  <a:pt x="144463" y="206165"/>
                </a:lnTo>
                <a:lnTo>
                  <a:pt x="55180" y="269874"/>
                </a:lnTo>
                <a:lnTo>
                  <a:pt x="89284" y="166791"/>
                </a:lnTo>
                <a:lnTo>
                  <a:pt x="0" y="103083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40"/>
          <p:cNvSpPr/>
          <p:nvPr/>
        </p:nvSpPr>
        <p:spPr>
          <a:xfrm rot="20260800">
            <a:off x="-2263320" y="-2467080"/>
            <a:ext cx="1008000" cy="957240"/>
          </a:xfrm>
          <a:custGeom>
            <a:avLst/>
            <a:gdLst/>
            <a:ahLst/>
            <a:rect l="l" t="t" r="r" b="b"/>
            <a:pathLst>
              <a:path w="1008062" h="957262">
                <a:moveTo>
                  <a:pt x="1" y="365641"/>
                </a:moveTo>
                <a:lnTo>
                  <a:pt x="385048" y="365643"/>
                </a:lnTo>
                <a:lnTo>
                  <a:pt x="504031" y="0"/>
                </a:lnTo>
                <a:lnTo>
                  <a:pt x="623014" y="365643"/>
                </a:lnTo>
                <a:lnTo>
                  <a:pt x="1008061" y="365641"/>
                </a:lnTo>
                <a:lnTo>
                  <a:pt x="696550" y="591618"/>
                </a:lnTo>
                <a:lnTo>
                  <a:pt x="815539" y="957260"/>
                </a:lnTo>
                <a:lnTo>
                  <a:pt x="504031" y="731278"/>
                </a:lnTo>
                <a:lnTo>
                  <a:pt x="192523" y="957260"/>
                </a:lnTo>
                <a:lnTo>
                  <a:pt x="311512" y="591618"/>
                </a:lnTo>
                <a:lnTo>
                  <a:pt x="1" y="365641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1"/>
          <p:cNvSpPr/>
          <p:nvPr/>
        </p:nvSpPr>
        <p:spPr>
          <a:xfrm>
            <a:off x="-932040" y="-952560"/>
            <a:ext cx="1003320" cy="952560"/>
          </a:xfrm>
          <a:custGeom>
            <a:avLst/>
            <a:gdLst/>
            <a:ahLst/>
            <a:rect l="l" t="t" r="r" b="b"/>
            <a:pathLst>
              <a:path w="1003301" h="952500">
                <a:moveTo>
                  <a:pt x="1" y="363822"/>
                </a:moveTo>
                <a:lnTo>
                  <a:pt x="383229" y="363824"/>
                </a:lnTo>
                <a:lnTo>
                  <a:pt x="501651" y="0"/>
                </a:lnTo>
                <a:lnTo>
                  <a:pt x="620072" y="363824"/>
                </a:lnTo>
                <a:lnTo>
                  <a:pt x="1003300" y="363822"/>
                </a:lnTo>
                <a:lnTo>
                  <a:pt x="693261" y="588675"/>
                </a:lnTo>
                <a:lnTo>
                  <a:pt x="811687" y="952498"/>
                </a:lnTo>
                <a:lnTo>
                  <a:pt x="501651" y="727640"/>
                </a:lnTo>
                <a:lnTo>
                  <a:pt x="191614" y="952498"/>
                </a:lnTo>
                <a:lnTo>
                  <a:pt x="310040" y="588675"/>
                </a:lnTo>
                <a:lnTo>
                  <a:pt x="1" y="363822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42"/>
          <p:cNvSpPr/>
          <p:nvPr/>
        </p:nvSpPr>
        <p:spPr>
          <a:xfrm>
            <a:off x="-1292400" y="-528480"/>
            <a:ext cx="432000" cy="411120"/>
          </a:xfrm>
          <a:custGeom>
            <a:avLst/>
            <a:gdLst/>
            <a:ahLst/>
            <a:rect l="l" t="t" r="r" b="b"/>
            <a:pathLst>
              <a:path w="431800" h="411163">
                <a:moveTo>
                  <a:pt x="0" y="157050"/>
                </a:moveTo>
                <a:lnTo>
                  <a:pt x="164934" y="157051"/>
                </a:lnTo>
                <a:lnTo>
                  <a:pt x="215900" y="0"/>
                </a:lnTo>
                <a:lnTo>
                  <a:pt x="266866" y="157051"/>
                </a:lnTo>
                <a:lnTo>
                  <a:pt x="431800" y="157050"/>
                </a:lnTo>
                <a:lnTo>
                  <a:pt x="298365" y="254112"/>
                </a:lnTo>
                <a:lnTo>
                  <a:pt x="349333" y="411162"/>
                </a:lnTo>
                <a:lnTo>
                  <a:pt x="215900" y="314098"/>
                </a:lnTo>
                <a:lnTo>
                  <a:pt x="82467" y="411162"/>
                </a:lnTo>
                <a:lnTo>
                  <a:pt x="133435" y="254112"/>
                </a:lnTo>
                <a:lnTo>
                  <a:pt x="0" y="15705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43"/>
          <p:cNvSpPr/>
          <p:nvPr/>
        </p:nvSpPr>
        <p:spPr>
          <a:xfrm rot="20260800">
            <a:off x="-2190240" y="-3882960"/>
            <a:ext cx="1008000" cy="957240"/>
          </a:xfrm>
          <a:custGeom>
            <a:avLst/>
            <a:gdLst/>
            <a:ahLst/>
            <a:rect l="l" t="t" r="r" b="b"/>
            <a:pathLst>
              <a:path w="1008062" h="957262">
                <a:moveTo>
                  <a:pt x="1" y="365641"/>
                </a:moveTo>
                <a:lnTo>
                  <a:pt x="385048" y="365643"/>
                </a:lnTo>
                <a:lnTo>
                  <a:pt x="504031" y="0"/>
                </a:lnTo>
                <a:lnTo>
                  <a:pt x="623014" y="365643"/>
                </a:lnTo>
                <a:lnTo>
                  <a:pt x="1008061" y="365641"/>
                </a:lnTo>
                <a:lnTo>
                  <a:pt x="696550" y="591618"/>
                </a:lnTo>
                <a:lnTo>
                  <a:pt x="815539" y="957260"/>
                </a:lnTo>
                <a:lnTo>
                  <a:pt x="504031" y="731278"/>
                </a:lnTo>
                <a:lnTo>
                  <a:pt x="192523" y="957260"/>
                </a:lnTo>
                <a:lnTo>
                  <a:pt x="311512" y="591618"/>
                </a:lnTo>
                <a:lnTo>
                  <a:pt x="1" y="365641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44"/>
          <p:cNvSpPr/>
          <p:nvPr/>
        </p:nvSpPr>
        <p:spPr>
          <a:xfrm rot="20256000">
            <a:off x="-428400" y="-1168200"/>
            <a:ext cx="571680" cy="547920"/>
          </a:xfrm>
          <a:custGeom>
            <a:avLst/>
            <a:gdLst/>
            <a:ahLst/>
            <a:rect l="l" t="t" r="r" b="b"/>
            <a:pathLst>
              <a:path w="571500" h="547687">
                <a:moveTo>
                  <a:pt x="1" y="209197"/>
                </a:moveTo>
                <a:lnTo>
                  <a:pt x="218295" y="209199"/>
                </a:lnTo>
                <a:lnTo>
                  <a:pt x="285750" y="0"/>
                </a:lnTo>
                <a:lnTo>
                  <a:pt x="353205" y="209199"/>
                </a:lnTo>
                <a:lnTo>
                  <a:pt x="571499" y="209197"/>
                </a:lnTo>
                <a:lnTo>
                  <a:pt x="394895" y="338488"/>
                </a:lnTo>
                <a:lnTo>
                  <a:pt x="462353" y="547686"/>
                </a:lnTo>
                <a:lnTo>
                  <a:pt x="285750" y="418393"/>
                </a:lnTo>
                <a:lnTo>
                  <a:pt x="109147" y="547686"/>
                </a:lnTo>
                <a:lnTo>
                  <a:pt x="176605" y="338488"/>
                </a:lnTo>
                <a:lnTo>
                  <a:pt x="1" y="209197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45"/>
          <p:cNvSpPr/>
          <p:nvPr/>
        </p:nvSpPr>
        <p:spPr>
          <a:xfrm rot="14564400">
            <a:off x="6166440" y="-3288960"/>
            <a:ext cx="1008360" cy="957240"/>
          </a:xfrm>
          <a:custGeom>
            <a:avLst/>
            <a:gdLst/>
            <a:ahLst/>
            <a:rect l="l" t="t" r="r" b="b"/>
            <a:pathLst>
              <a:path w="1008062" h="957262">
                <a:moveTo>
                  <a:pt x="1" y="365641"/>
                </a:moveTo>
                <a:lnTo>
                  <a:pt x="385048" y="365643"/>
                </a:lnTo>
                <a:lnTo>
                  <a:pt x="504031" y="0"/>
                </a:lnTo>
                <a:lnTo>
                  <a:pt x="623014" y="365643"/>
                </a:lnTo>
                <a:lnTo>
                  <a:pt x="1008061" y="365641"/>
                </a:lnTo>
                <a:lnTo>
                  <a:pt x="696550" y="591618"/>
                </a:lnTo>
                <a:lnTo>
                  <a:pt x="815539" y="957260"/>
                </a:lnTo>
                <a:lnTo>
                  <a:pt x="504031" y="731278"/>
                </a:lnTo>
                <a:lnTo>
                  <a:pt x="192523" y="957260"/>
                </a:lnTo>
                <a:lnTo>
                  <a:pt x="311512" y="591618"/>
                </a:lnTo>
                <a:lnTo>
                  <a:pt x="1" y="365641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46"/>
          <p:cNvSpPr/>
          <p:nvPr/>
        </p:nvSpPr>
        <p:spPr>
          <a:xfrm rot="15012600">
            <a:off x="6133680" y="-556920"/>
            <a:ext cx="569880" cy="547560"/>
          </a:xfrm>
          <a:custGeom>
            <a:avLst/>
            <a:gdLst/>
            <a:ahLst/>
            <a:rect l="l" t="t" r="r" b="b"/>
            <a:pathLst>
              <a:path w="569913" h="547687">
                <a:moveTo>
                  <a:pt x="1" y="209197"/>
                </a:moveTo>
                <a:lnTo>
                  <a:pt x="217689" y="209199"/>
                </a:lnTo>
                <a:lnTo>
                  <a:pt x="284957" y="0"/>
                </a:lnTo>
                <a:lnTo>
                  <a:pt x="352224" y="209199"/>
                </a:lnTo>
                <a:lnTo>
                  <a:pt x="569912" y="209197"/>
                </a:lnTo>
                <a:lnTo>
                  <a:pt x="393798" y="338488"/>
                </a:lnTo>
                <a:lnTo>
                  <a:pt x="461069" y="547686"/>
                </a:lnTo>
                <a:lnTo>
                  <a:pt x="284957" y="418393"/>
                </a:lnTo>
                <a:lnTo>
                  <a:pt x="108844" y="547686"/>
                </a:lnTo>
                <a:lnTo>
                  <a:pt x="176115" y="338488"/>
                </a:lnTo>
                <a:lnTo>
                  <a:pt x="1" y="209197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7"/>
          <p:cNvSpPr/>
          <p:nvPr/>
        </p:nvSpPr>
        <p:spPr>
          <a:xfrm rot="17285400">
            <a:off x="5123520" y="-2785680"/>
            <a:ext cx="1189080" cy="1028880"/>
          </a:xfrm>
          <a:custGeom>
            <a:avLst/>
            <a:gdLst/>
            <a:ahLst/>
            <a:rect l="l" t="t" r="r" b="b"/>
            <a:pathLst>
              <a:path w="1189038" h="1028700">
                <a:moveTo>
                  <a:pt x="1" y="392927"/>
                </a:moveTo>
                <a:lnTo>
                  <a:pt x="454175" y="392930"/>
                </a:lnTo>
                <a:lnTo>
                  <a:pt x="594519" y="0"/>
                </a:lnTo>
                <a:lnTo>
                  <a:pt x="734863" y="392930"/>
                </a:lnTo>
                <a:lnTo>
                  <a:pt x="1189037" y="392927"/>
                </a:lnTo>
                <a:lnTo>
                  <a:pt x="821601" y="635769"/>
                </a:lnTo>
                <a:lnTo>
                  <a:pt x="961951" y="1028697"/>
                </a:lnTo>
                <a:lnTo>
                  <a:pt x="594519" y="785851"/>
                </a:lnTo>
                <a:lnTo>
                  <a:pt x="227087" y="1028697"/>
                </a:lnTo>
                <a:lnTo>
                  <a:pt x="367437" y="635769"/>
                </a:lnTo>
                <a:lnTo>
                  <a:pt x="1" y="392927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48"/>
          <p:cNvSpPr/>
          <p:nvPr/>
        </p:nvSpPr>
        <p:spPr>
          <a:xfrm rot="16608000">
            <a:off x="5913360" y="-496080"/>
            <a:ext cx="289080" cy="274680"/>
          </a:xfrm>
          <a:custGeom>
            <a:avLst/>
            <a:gdLst/>
            <a:ahLst/>
            <a:rect l="l" t="t" r="r" b="b"/>
            <a:pathLst>
              <a:path w="288925" h="274638">
                <a:moveTo>
                  <a:pt x="0" y="104902"/>
                </a:moveTo>
                <a:lnTo>
                  <a:pt x="110360" y="104903"/>
                </a:lnTo>
                <a:lnTo>
                  <a:pt x="144463" y="0"/>
                </a:lnTo>
                <a:lnTo>
                  <a:pt x="178565" y="104903"/>
                </a:lnTo>
                <a:lnTo>
                  <a:pt x="288925" y="104902"/>
                </a:lnTo>
                <a:lnTo>
                  <a:pt x="199641" y="169735"/>
                </a:lnTo>
                <a:lnTo>
                  <a:pt x="233745" y="274637"/>
                </a:lnTo>
                <a:lnTo>
                  <a:pt x="144463" y="209803"/>
                </a:lnTo>
                <a:lnTo>
                  <a:pt x="55180" y="274637"/>
                </a:lnTo>
                <a:lnTo>
                  <a:pt x="89284" y="169735"/>
                </a:lnTo>
                <a:lnTo>
                  <a:pt x="0" y="104902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49"/>
          <p:cNvSpPr/>
          <p:nvPr/>
        </p:nvSpPr>
        <p:spPr>
          <a:xfrm rot="16550400">
            <a:off x="5411520" y="-926640"/>
            <a:ext cx="360360" cy="344520"/>
          </a:xfrm>
          <a:custGeom>
            <a:avLst/>
            <a:gdLst/>
            <a:ahLst/>
            <a:rect l="l" t="t" r="r" b="b"/>
            <a:pathLst>
              <a:path w="360363" h="344488">
                <a:moveTo>
                  <a:pt x="0" y="131582"/>
                </a:moveTo>
                <a:lnTo>
                  <a:pt x="137647" y="131583"/>
                </a:lnTo>
                <a:lnTo>
                  <a:pt x="180182" y="0"/>
                </a:lnTo>
                <a:lnTo>
                  <a:pt x="222716" y="131583"/>
                </a:lnTo>
                <a:lnTo>
                  <a:pt x="360363" y="131582"/>
                </a:lnTo>
                <a:lnTo>
                  <a:pt x="249003" y="212904"/>
                </a:lnTo>
                <a:lnTo>
                  <a:pt x="291540" y="344487"/>
                </a:lnTo>
                <a:lnTo>
                  <a:pt x="180182" y="263164"/>
                </a:lnTo>
                <a:lnTo>
                  <a:pt x="68823" y="344487"/>
                </a:lnTo>
                <a:lnTo>
                  <a:pt x="111360" y="212904"/>
                </a:lnTo>
                <a:lnTo>
                  <a:pt x="0" y="131582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50"/>
          <p:cNvSpPr/>
          <p:nvPr/>
        </p:nvSpPr>
        <p:spPr>
          <a:xfrm rot="16555800">
            <a:off x="5627160" y="-1848960"/>
            <a:ext cx="1008000" cy="957240"/>
          </a:xfrm>
          <a:custGeom>
            <a:avLst/>
            <a:gdLst/>
            <a:ahLst/>
            <a:rect l="l" t="t" r="r" b="b"/>
            <a:pathLst>
              <a:path w="1008063" h="957262">
                <a:moveTo>
                  <a:pt x="1" y="365641"/>
                </a:moveTo>
                <a:lnTo>
                  <a:pt x="385048" y="365643"/>
                </a:lnTo>
                <a:lnTo>
                  <a:pt x="504032" y="0"/>
                </a:lnTo>
                <a:lnTo>
                  <a:pt x="623015" y="365643"/>
                </a:lnTo>
                <a:lnTo>
                  <a:pt x="1008062" y="365641"/>
                </a:lnTo>
                <a:lnTo>
                  <a:pt x="696551" y="591618"/>
                </a:lnTo>
                <a:lnTo>
                  <a:pt x="815539" y="957260"/>
                </a:lnTo>
                <a:lnTo>
                  <a:pt x="504032" y="731278"/>
                </a:lnTo>
                <a:lnTo>
                  <a:pt x="192524" y="957260"/>
                </a:lnTo>
                <a:lnTo>
                  <a:pt x="311512" y="591618"/>
                </a:lnTo>
                <a:lnTo>
                  <a:pt x="1" y="365641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51"/>
          <p:cNvSpPr/>
          <p:nvPr/>
        </p:nvSpPr>
        <p:spPr>
          <a:xfrm rot="16590000">
            <a:off x="5266440" y="-1428120"/>
            <a:ext cx="431640" cy="411120"/>
          </a:xfrm>
          <a:custGeom>
            <a:avLst/>
            <a:gdLst/>
            <a:ahLst/>
            <a:rect l="l" t="t" r="r" b="b"/>
            <a:pathLst>
              <a:path w="431800" h="411163">
                <a:moveTo>
                  <a:pt x="0" y="157050"/>
                </a:moveTo>
                <a:lnTo>
                  <a:pt x="164934" y="157051"/>
                </a:lnTo>
                <a:lnTo>
                  <a:pt x="215900" y="0"/>
                </a:lnTo>
                <a:lnTo>
                  <a:pt x="266866" y="157051"/>
                </a:lnTo>
                <a:lnTo>
                  <a:pt x="431800" y="157050"/>
                </a:lnTo>
                <a:lnTo>
                  <a:pt x="298365" y="254112"/>
                </a:lnTo>
                <a:lnTo>
                  <a:pt x="349333" y="411162"/>
                </a:lnTo>
                <a:lnTo>
                  <a:pt x="215900" y="314098"/>
                </a:lnTo>
                <a:lnTo>
                  <a:pt x="82467" y="411162"/>
                </a:lnTo>
                <a:lnTo>
                  <a:pt x="133435" y="254112"/>
                </a:lnTo>
                <a:lnTo>
                  <a:pt x="0" y="15705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52"/>
          <p:cNvSpPr/>
          <p:nvPr/>
        </p:nvSpPr>
        <p:spPr>
          <a:xfrm rot="16551600">
            <a:off x="6129360" y="-2065680"/>
            <a:ext cx="576360" cy="549000"/>
          </a:xfrm>
          <a:custGeom>
            <a:avLst/>
            <a:gdLst/>
            <a:ahLst/>
            <a:rect l="l" t="t" r="r" b="b"/>
            <a:pathLst>
              <a:path w="576262" h="547687">
                <a:moveTo>
                  <a:pt x="1" y="209197"/>
                </a:moveTo>
                <a:lnTo>
                  <a:pt x="220114" y="209199"/>
                </a:lnTo>
                <a:lnTo>
                  <a:pt x="288131" y="0"/>
                </a:lnTo>
                <a:lnTo>
                  <a:pt x="356148" y="209199"/>
                </a:lnTo>
                <a:lnTo>
                  <a:pt x="576261" y="209197"/>
                </a:lnTo>
                <a:lnTo>
                  <a:pt x="398185" y="338488"/>
                </a:lnTo>
                <a:lnTo>
                  <a:pt x="466205" y="547686"/>
                </a:lnTo>
                <a:lnTo>
                  <a:pt x="288131" y="418393"/>
                </a:lnTo>
                <a:lnTo>
                  <a:pt x="110057" y="547686"/>
                </a:lnTo>
                <a:lnTo>
                  <a:pt x="178077" y="338488"/>
                </a:lnTo>
                <a:lnTo>
                  <a:pt x="1" y="209197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53"/>
          <p:cNvSpPr/>
          <p:nvPr/>
        </p:nvSpPr>
        <p:spPr>
          <a:xfrm rot="2655000">
            <a:off x="755640" y="11677320"/>
            <a:ext cx="1008000" cy="957240"/>
          </a:xfrm>
          <a:custGeom>
            <a:avLst/>
            <a:gdLst/>
            <a:ahLst/>
            <a:rect l="l" t="t" r="r" b="b"/>
            <a:pathLst>
              <a:path w="1008063" h="957263">
                <a:moveTo>
                  <a:pt x="1" y="365641"/>
                </a:moveTo>
                <a:lnTo>
                  <a:pt x="385048" y="365644"/>
                </a:lnTo>
                <a:lnTo>
                  <a:pt x="504032" y="0"/>
                </a:lnTo>
                <a:lnTo>
                  <a:pt x="623015" y="365644"/>
                </a:lnTo>
                <a:lnTo>
                  <a:pt x="1008062" y="365641"/>
                </a:lnTo>
                <a:lnTo>
                  <a:pt x="696551" y="591619"/>
                </a:lnTo>
                <a:lnTo>
                  <a:pt x="815539" y="957261"/>
                </a:lnTo>
                <a:lnTo>
                  <a:pt x="504032" y="731279"/>
                </a:lnTo>
                <a:lnTo>
                  <a:pt x="192524" y="957261"/>
                </a:lnTo>
                <a:lnTo>
                  <a:pt x="311512" y="591619"/>
                </a:lnTo>
                <a:lnTo>
                  <a:pt x="1" y="365641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54"/>
          <p:cNvSpPr/>
          <p:nvPr/>
        </p:nvSpPr>
        <p:spPr>
          <a:xfrm rot="2625000">
            <a:off x="5076360" y="10553760"/>
            <a:ext cx="432000" cy="411120"/>
          </a:xfrm>
          <a:custGeom>
            <a:avLst/>
            <a:gdLst/>
            <a:ahLst/>
            <a:rect l="l" t="t" r="r" b="b"/>
            <a:pathLst>
              <a:path w="431800" h="411163">
                <a:moveTo>
                  <a:pt x="0" y="157050"/>
                </a:moveTo>
                <a:lnTo>
                  <a:pt x="164934" y="157051"/>
                </a:lnTo>
                <a:lnTo>
                  <a:pt x="215900" y="0"/>
                </a:lnTo>
                <a:lnTo>
                  <a:pt x="266866" y="157051"/>
                </a:lnTo>
                <a:lnTo>
                  <a:pt x="431800" y="157050"/>
                </a:lnTo>
                <a:lnTo>
                  <a:pt x="298365" y="254112"/>
                </a:lnTo>
                <a:lnTo>
                  <a:pt x="349333" y="411162"/>
                </a:lnTo>
                <a:lnTo>
                  <a:pt x="215900" y="314098"/>
                </a:lnTo>
                <a:lnTo>
                  <a:pt x="82467" y="411162"/>
                </a:lnTo>
                <a:lnTo>
                  <a:pt x="133435" y="254112"/>
                </a:lnTo>
                <a:lnTo>
                  <a:pt x="0" y="15705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55"/>
          <p:cNvSpPr/>
          <p:nvPr/>
        </p:nvSpPr>
        <p:spPr>
          <a:xfrm rot="21004200">
            <a:off x="2413080" y="-1884240"/>
            <a:ext cx="1189080" cy="1027080"/>
          </a:xfrm>
          <a:custGeom>
            <a:avLst/>
            <a:gdLst/>
            <a:ahLst/>
            <a:rect l="l" t="t" r="r" b="b"/>
            <a:pathLst>
              <a:path w="1189038" h="1027113">
                <a:moveTo>
                  <a:pt x="1" y="392321"/>
                </a:moveTo>
                <a:lnTo>
                  <a:pt x="454175" y="392324"/>
                </a:lnTo>
                <a:lnTo>
                  <a:pt x="594519" y="0"/>
                </a:lnTo>
                <a:lnTo>
                  <a:pt x="734863" y="392324"/>
                </a:lnTo>
                <a:lnTo>
                  <a:pt x="1189037" y="392321"/>
                </a:lnTo>
                <a:lnTo>
                  <a:pt x="821601" y="634788"/>
                </a:lnTo>
                <a:lnTo>
                  <a:pt x="961951" y="1027110"/>
                </a:lnTo>
                <a:lnTo>
                  <a:pt x="594519" y="784639"/>
                </a:lnTo>
                <a:lnTo>
                  <a:pt x="227087" y="1027110"/>
                </a:lnTo>
                <a:lnTo>
                  <a:pt x="367437" y="634788"/>
                </a:lnTo>
                <a:lnTo>
                  <a:pt x="1" y="392321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56"/>
          <p:cNvSpPr/>
          <p:nvPr/>
        </p:nvSpPr>
        <p:spPr>
          <a:xfrm>
            <a:off x="1046160" y="-461880"/>
            <a:ext cx="360360" cy="342720"/>
          </a:xfrm>
          <a:custGeom>
            <a:avLst/>
            <a:gdLst/>
            <a:ahLst/>
            <a:rect l="l" t="t" r="r" b="b"/>
            <a:pathLst>
              <a:path w="360362" h="342900">
                <a:moveTo>
                  <a:pt x="0" y="130976"/>
                </a:moveTo>
                <a:lnTo>
                  <a:pt x="137647" y="130977"/>
                </a:lnTo>
                <a:lnTo>
                  <a:pt x="180181" y="0"/>
                </a:lnTo>
                <a:lnTo>
                  <a:pt x="222715" y="130977"/>
                </a:lnTo>
                <a:lnTo>
                  <a:pt x="360362" y="130976"/>
                </a:lnTo>
                <a:lnTo>
                  <a:pt x="249003" y="211923"/>
                </a:lnTo>
                <a:lnTo>
                  <a:pt x="291539" y="342899"/>
                </a:lnTo>
                <a:lnTo>
                  <a:pt x="180181" y="261950"/>
                </a:lnTo>
                <a:lnTo>
                  <a:pt x="68823" y="342899"/>
                </a:lnTo>
                <a:lnTo>
                  <a:pt x="111359" y="211923"/>
                </a:lnTo>
                <a:lnTo>
                  <a:pt x="0" y="130976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57"/>
          <p:cNvSpPr/>
          <p:nvPr/>
        </p:nvSpPr>
        <p:spPr>
          <a:xfrm>
            <a:off x="3060720" y="-949320"/>
            <a:ext cx="1008000" cy="949320"/>
          </a:xfrm>
          <a:custGeom>
            <a:avLst/>
            <a:gdLst/>
            <a:ahLst/>
            <a:rect l="l" t="t" r="r" b="b"/>
            <a:pathLst>
              <a:path w="1008063" h="949325">
                <a:moveTo>
                  <a:pt x="1" y="362609"/>
                </a:moveTo>
                <a:lnTo>
                  <a:pt x="385048" y="362612"/>
                </a:lnTo>
                <a:lnTo>
                  <a:pt x="504032" y="0"/>
                </a:lnTo>
                <a:lnTo>
                  <a:pt x="623015" y="362612"/>
                </a:lnTo>
                <a:lnTo>
                  <a:pt x="1008062" y="362609"/>
                </a:lnTo>
                <a:lnTo>
                  <a:pt x="696551" y="586713"/>
                </a:lnTo>
                <a:lnTo>
                  <a:pt x="815539" y="949323"/>
                </a:lnTo>
                <a:lnTo>
                  <a:pt x="504032" y="725215"/>
                </a:lnTo>
                <a:lnTo>
                  <a:pt x="192524" y="949323"/>
                </a:lnTo>
                <a:lnTo>
                  <a:pt x="311512" y="586713"/>
                </a:lnTo>
                <a:lnTo>
                  <a:pt x="1" y="362609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58"/>
          <p:cNvSpPr/>
          <p:nvPr/>
        </p:nvSpPr>
        <p:spPr>
          <a:xfrm>
            <a:off x="2700360" y="-525600"/>
            <a:ext cx="431640" cy="408240"/>
          </a:xfrm>
          <a:custGeom>
            <a:avLst/>
            <a:gdLst/>
            <a:ahLst/>
            <a:rect l="l" t="t" r="r" b="b"/>
            <a:pathLst>
              <a:path w="431800" h="407988">
                <a:moveTo>
                  <a:pt x="0" y="155837"/>
                </a:moveTo>
                <a:lnTo>
                  <a:pt x="164934" y="155838"/>
                </a:lnTo>
                <a:lnTo>
                  <a:pt x="215900" y="0"/>
                </a:lnTo>
                <a:lnTo>
                  <a:pt x="266866" y="155838"/>
                </a:lnTo>
                <a:lnTo>
                  <a:pt x="431800" y="155837"/>
                </a:lnTo>
                <a:lnTo>
                  <a:pt x="298365" y="252149"/>
                </a:lnTo>
                <a:lnTo>
                  <a:pt x="349333" y="407987"/>
                </a:lnTo>
                <a:lnTo>
                  <a:pt x="215900" y="311673"/>
                </a:lnTo>
                <a:lnTo>
                  <a:pt x="82467" y="407987"/>
                </a:lnTo>
                <a:lnTo>
                  <a:pt x="133435" y="252149"/>
                </a:lnTo>
                <a:lnTo>
                  <a:pt x="0" y="155837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59"/>
          <p:cNvSpPr/>
          <p:nvPr/>
        </p:nvSpPr>
        <p:spPr>
          <a:xfrm>
            <a:off x="3564000" y="-1168560"/>
            <a:ext cx="576360" cy="551160"/>
          </a:xfrm>
          <a:custGeom>
            <a:avLst/>
            <a:gdLst/>
            <a:ahLst/>
            <a:rect l="l" t="t" r="r" b="b"/>
            <a:pathLst>
              <a:path w="576262" h="550862">
                <a:moveTo>
                  <a:pt x="1" y="210410"/>
                </a:moveTo>
                <a:lnTo>
                  <a:pt x="220114" y="210412"/>
                </a:lnTo>
                <a:lnTo>
                  <a:pt x="288131" y="0"/>
                </a:lnTo>
                <a:lnTo>
                  <a:pt x="356148" y="210412"/>
                </a:lnTo>
                <a:lnTo>
                  <a:pt x="576261" y="210410"/>
                </a:lnTo>
                <a:lnTo>
                  <a:pt x="398185" y="340450"/>
                </a:lnTo>
                <a:lnTo>
                  <a:pt x="466205" y="550861"/>
                </a:lnTo>
                <a:lnTo>
                  <a:pt x="288131" y="420818"/>
                </a:lnTo>
                <a:lnTo>
                  <a:pt x="110057" y="550861"/>
                </a:lnTo>
                <a:lnTo>
                  <a:pt x="178077" y="340450"/>
                </a:lnTo>
                <a:lnTo>
                  <a:pt x="1" y="21041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60"/>
          <p:cNvSpPr/>
          <p:nvPr/>
        </p:nvSpPr>
        <p:spPr>
          <a:xfrm rot="19608000">
            <a:off x="11197800" y="-4262400"/>
            <a:ext cx="2340000" cy="2220840"/>
          </a:xfrm>
          <a:custGeom>
            <a:avLst/>
            <a:gdLst/>
            <a:ahLst/>
            <a:rect l="l" t="t" r="r" b="b"/>
            <a:pathLst>
              <a:path w="2339975" h="2220913">
                <a:moveTo>
                  <a:pt x="2" y="848311"/>
                </a:moveTo>
                <a:lnTo>
                  <a:pt x="893796" y="848317"/>
                </a:lnTo>
                <a:lnTo>
                  <a:pt x="1169988" y="0"/>
                </a:lnTo>
                <a:lnTo>
                  <a:pt x="1446179" y="848317"/>
                </a:lnTo>
                <a:lnTo>
                  <a:pt x="2339973" y="848311"/>
                </a:lnTo>
                <a:lnTo>
                  <a:pt x="1616875" y="1372594"/>
                </a:lnTo>
                <a:lnTo>
                  <a:pt x="1893078" y="2220907"/>
                </a:lnTo>
                <a:lnTo>
                  <a:pt x="1169988" y="1696615"/>
                </a:lnTo>
                <a:lnTo>
                  <a:pt x="446897" y="2220907"/>
                </a:lnTo>
                <a:lnTo>
                  <a:pt x="723100" y="1372594"/>
                </a:lnTo>
                <a:lnTo>
                  <a:pt x="2" y="848311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61"/>
          <p:cNvSpPr/>
          <p:nvPr/>
        </p:nvSpPr>
        <p:spPr>
          <a:xfrm rot="736800">
            <a:off x="10439280" y="-1932120"/>
            <a:ext cx="2130480" cy="1838520"/>
          </a:xfrm>
          <a:custGeom>
            <a:avLst/>
            <a:gdLst/>
            <a:ahLst/>
            <a:rect l="l" t="t" r="r" b="b"/>
            <a:pathLst>
              <a:path w="2130425" h="1838325">
                <a:moveTo>
                  <a:pt x="2" y="702176"/>
                </a:moveTo>
                <a:lnTo>
                  <a:pt x="813754" y="702181"/>
                </a:lnTo>
                <a:lnTo>
                  <a:pt x="1065213" y="0"/>
                </a:lnTo>
                <a:lnTo>
                  <a:pt x="1316671" y="702181"/>
                </a:lnTo>
                <a:lnTo>
                  <a:pt x="2130423" y="702176"/>
                </a:lnTo>
                <a:lnTo>
                  <a:pt x="1472080" y="1136143"/>
                </a:lnTo>
                <a:lnTo>
                  <a:pt x="1723549" y="1838320"/>
                </a:lnTo>
                <a:lnTo>
                  <a:pt x="1065213" y="1404346"/>
                </a:lnTo>
                <a:lnTo>
                  <a:pt x="406876" y="1838320"/>
                </a:lnTo>
                <a:lnTo>
                  <a:pt x="658345" y="1136143"/>
                </a:lnTo>
                <a:lnTo>
                  <a:pt x="2" y="702176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62"/>
          <p:cNvSpPr/>
          <p:nvPr/>
        </p:nvSpPr>
        <p:spPr>
          <a:xfrm>
            <a:off x="9145440" y="-4987800"/>
            <a:ext cx="2436840" cy="2314440"/>
          </a:xfrm>
          <a:custGeom>
            <a:avLst/>
            <a:gdLst/>
            <a:ahLst/>
            <a:rect l="l" t="t" r="r" b="b"/>
            <a:pathLst>
              <a:path w="2436812" h="2314575">
                <a:moveTo>
                  <a:pt x="3" y="884087"/>
                </a:moveTo>
                <a:lnTo>
                  <a:pt x="930784" y="884093"/>
                </a:lnTo>
                <a:lnTo>
                  <a:pt x="1218406" y="0"/>
                </a:lnTo>
                <a:lnTo>
                  <a:pt x="1506028" y="884093"/>
                </a:lnTo>
                <a:lnTo>
                  <a:pt x="2436809" y="884087"/>
                </a:lnTo>
                <a:lnTo>
                  <a:pt x="1683787" y="1430480"/>
                </a:lnTo>
                <a:lnTo>
                  <a:pt x="1971421" y="2314569"/>
                </a:lnTo>
                <a:lnTo>
                  <a:pt x="1218406" y="1768166"/>
                </a:lnTo>
                <a:lnTo>
                  <a:pt x="465391" y="2314569"/>
                </a:lnTo>
                <a:lnTo>
                  <a:pt x="753025" y="1430480"/>
                </a:lnTo>
                <a:lnTo>
                  <a:pt x="3" y="884087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63"/>
          <p:cNvSpPr/>
          <p:nvPr/>
        </p:nvSpPr>
        <p:spPr>
          <a:xfrm rot="20061000">
            <a:off x="934560" y="7800480"/>
            <a:ext cx="576360" cy="547920"/>
          </a:xfrm>
          <a:custGeom>
            <a:avLst/>
            <a:gdLst/>
            <a:ahLst/>
            <a:rect l="l" t="t" r="r" b="b"/>
            <a:pathLst>
              <a:path w="576262" h="547688">
                <a:moveTo>
                  <a:pt x="1" y="209198"/>
                </a:moveTo>
                <a:lnTo>
                  <a:pt x="220114" y="209199"/>
                </a:lnTo>
                <a:lnTo>
                  <a:pt x="288131" y="0"/>
                </a:lnTo>
                <a:lnTo>
                  <a:pt x="356148" y="209199"/>
                </a:lnTo>
                <a:lnTo>
                  <a:pt x="576261" y="209198"/>
                </a:lnTo>
                <a:lnTo>
                  <a:pt x="398185" y="338488"/>
                </a:lnTo>
                <a:lnTo>
                  <a:pt x="466205" y="547687"/>
                </a:lnTo>
                <a:lnTo>
                  <a:pt x="288131" y="418394"/>
                </a:lnTo>
                <a:lnTo>
                  <a:pt x="110057" y="547687"/>
                </a:lnTo>
                <a:lnTo>
                  <a:pt x="178077" y="338488"/>
                </a:lnTo>
                <a:lnTo>
                  <a:pt x="1" y="209198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64"/>
          <p:cNvSpPr/>
          <p:nvPr/>
        </p:nvSpPr>
        <p:spPr>
          <a:xfrm rot="18352200">
            <a:off x="-3565080" y="7041960"/>
            <a:ext cx="1592280" cy="1652400"/>
          </a:xfrm>
          <a:custGeom>
            <a:avLst/>
            <a:gdLst/>
            <a:ahLst/>
            <a:rect l="l" t="t" r="r" b="b"/>
            <a:pathLst>
              <a:path w="1592262" h="1652588">
                <a:moveTo>
                  <a:pt x="2" y="631231"/>
                </a:moveTo>
                <a:lnTo>
                  <a:pt x="608193" y="631235"/>
                </a:lnTo>
                <a:lnTo>
                  <a:pt x="796131" y="0"/>
                </a:lnTo>
                <a:lnTo>
                  <a:pt x="984069" y="631235"/>
                </a:lnTo>
                <a:lnTo>
                  <a:pt x="1592260" y="631231"/>
                </a:lnTo>
                <a:lnTo>
                  <a:pt x="1100221" y="1021351"/>
                </a:lnTo>
                <a:lnTo>
                  <a:pt x="1288166" y="1652584"/>
                </a:lnTo>
                <a:lnTo>
                  <a:pt x="796131" y="1262456"/>
                </a:lnTo>
                <a:lnTo>
                  <a:pt x="304096" y="1652584"/>
                </a:lnTo>
                <a:lnTo>
                  <a:pt x="492041" y="1021351"/>
                </a:lnTo>
                <a:lnTo>
                  <a:pt x="2" y="631231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65"/>
          <p:cNvSpPr/>
          <p:nvPr/>
        </p:nvSpPr>
        <p:spPr>
          <a:xfrm>
            <a:off x="-4387680" y="7800840"/>
            <a:ext cx="1044360" cy="992160"/>
          </a:xfrm>
          <a:custGeom>
            <a:avLst/>
            <a:gdLst/>
            <a:ahLst/>
            <a:rect l="l" t="t" r="r" b="b"/>
            <a:pathLst>
              <a:path w="1044575" h="992188">
                <a:moveTo>
                  <a:pt x="1" y="378981"/>
                </a:moveTo>
                <a:lnTo>
                  <a:pt x="398994" y="378984"/>
                </a:lnTo>
                <a:lnTo>
                  <a:pt x="522288" y="0"/>
                </a:lnTo>
                <a:lnTo>
                  <a:pt x="645581" y="378984"/>
                </a:lnTo>
                <a:lnTo>
                  <a:pt x="1044574" y="378981"/>
                </a:lnTo>
                <a:lnTo>
                  <a:pt x="721780" y="613203"/>
                </a:lnTo>
                <a:lnTo>
                  <a:pt x="845078" y="992185"/>
                </a:lnTo>
                <a:lnTo>
                  <a:pt x="522288" y="757959"/>
                </a:lnTo>
                <a:lnTo>
                  <a:pt x="199497" y="992185"/>
                </a:lnTo>
                <a:lnTo>
                  <a:pt x="322795" y="613203"/>
                </a:lnTo>
                <a:lnTo>
                  <a:pt x="1" y="378981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66"/>
          <p:cNvSpPr/>
          <p:nvPr/>
        </p:nvSpPr>
        <p:spPr>
          <a:xfrm rot="19608000">
            <a:off x="0" y="9661680"/>
            <a:ext cx="1008000" cy="957240"/>
          </a:xfrm>
          <a:custGeom>
            <a:avLst/>
            <a:gdLst/>
            <a:ahLst/>
            <a:rect l="l" t="t" r="r" b="b"/>
            <a:pathLst>
              <a:path w="1008063" h="957263">
                <a:moveTo>
                  <a:pt x="1" y="365641"/>
                </a:moveTo>
                <a:lnTo>
                  <a:pt x="385048" y="365644"/>
                </a:lnTo>
                <a:lnTo>
                  <a:pt x="504032" y="0"/>
                </a:lnTo>
                <a:lnTo>
                  <a:pt x="623015" y="365644"/>
                </a:lnTo>
                <a:lnTo>
                  <a:pt x="1008062" y="365641"/>
                </a:lnTo>
                <a:lnTo>
                  <a:pt x="696551" y="591619"/>
                </a:lnTo>
                <a:lnTo>
                  <a:pt x="815539" y="957261"/>
                </a:lnTo>
                <a:lnTo>
                  <a:pt x="504032" y="731279"/>
                </a:lnTo>
                <a:lnTo>
                  <a:pt x="192524" y="957261"/>
                </a:lnTo>
                <a:lnTo>
                  <a:pt x="311512" y="591619"/>
                </a:lnTo>
                <a:lnTo>
                  <a:pt x="1" y="365641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67"/>
          <p:cNvSpPr/>
          <p:nvPr/>
        </p:nvSpPr>
        <p:spPr>
          <a:xfrm>
            <a:off x="-2516040" y="8737560"/>
            <a:ext cx="1008000" cy="957240"/>
          </a:xfrm>
          <a:custGeom>
            <a:avLst/>
            <a:gdLst/>
            <a:ahLst/>
            <a:rect l="l" t="t" r="r" b="b"/>
            <a:pathLst>
              <a:path w="1008063" h="957263">
                <a:moveTo>
                  <a:pt x="1" y="365641"/>
                </a:moveTo>
                <a:lnTo>
                  <a:pt x="385048" y="365644"/>
                </a:lnTo>
                <a:lnTo>
                  <a:pt x="504032" y="0"/>
                </a:lnTo>
                <a:lnTo>
                  <a:pt x="623015" y="365644"/>
                </a:lnTo>
                <a:lnTo>
                  <a:pt x="1008062" y="365641"/>
                </a:lnTo>
                <a:lnTo>
                  <a:pt x="696551" y="591619"/>
                </a:lnTo>
                <a:lnTo>
                  <a:pt x="815539" y="957261"/>
                </a:lnTo>
                <a:lnTo>
                  <a:pt x="504032" y="731279"/>
                </a:lnTo>
                <a:lnTo>
                  <a:pt x="192524" y="957261"/>
                </a:lnTo>
                <a:lnTo>
                  <a:pt x="311512" y="591619"/>
                </a:lnTo>
                <a:lnTo>
                  <a:pt x="1" y="365641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68"/>
          <p:cNvSpPr/>
          <p:nvPr/>
        </p:nvSpPr>
        <p:spPr>
          <a:xfrm>
            <a:off x="-4387680" y="10177560"/>
            <a:ext cx="1008000" cy="957240"/>
          </a:xfrm>
          <a:custGeom>
            <a:avLst/>
            <a:gdLst/>
            <a:ahLst/>
            <a:rect l="l" t="t" r="r" b="b"/>
            <a:pathLst>
              <a:path w="1008062" h="957262">
                <a:moveTo>
                  <a:pt x="1" y="365641"/>
                </a:moveTo>
                <a:lnTo>
                  <a:pt x="385048" y="365643"/>
                </a:lnTo>
                <a:lnTo>
                  <a:pt x="504031" y="0"/>
                </a:lnTo>
                <a:lnTo>
                  <a:pt x="623014" y="365643"/>
                </a:lnTo>
                <a:lnTo>
                  <a:pt x="1008061" y="365641"/>
                </a:lnTo>
                <a:lnTo>
                  <a:pt x="696550" y="591618"/>
                </a:lnTo>
                <a:lnTo>
                  <a:pt x="815539" y="957260"/>
                </a:lnTo>
                <a:lnTo>
                  <a:pt x="504031" y="731278"/>
                </a:lnTo>
                <a:lnTo>
                  <a:pt x="192523" y="957260"/>
                </a:lnTo>
                <a:lnTo>
                  <a:pt x="311512" y="591618"/>
                </a:lnTo>
                <a:lnTo>
                  <a:pt x="1" y="365641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69"/>
          <p:cNvSpPr/>
          <p:nvPr/>
        </p:nvSpPr>
        <p:spPr>
          <a:xfrm>
            <a:off x="-1003320" y="8040600"/>
            <a:ext cx="1003320" cy="957240"/>
          </a:xfrm>
          <a:custGeom>
            <a:avLst/>
            <a:gdLst/>
            <a:ahLst/>
            <a:rect l="l" t="t" r="r" b="b"/>
            <a:pathLst>
              <a:path w="1003300" h="957262">
                <a:moveTo>
                  <a:pt x="1" y="365641"/>
                </a:moveTo>
                <a:lnTo>
                  <a:pt x="383229" y="365643"/>
                </a:lnTo>
                <a:lnTo>
                  <a:pt x="501650" y="0"/>
                </a:lnTo>
                <a:lnTo>
                  <a:pt x="620071" y="365643"/>
                </a:lnTo>
                <a:lnTo>
                  <a:pt x="1003299" y="365641"/>
                </a:lnTo>
                <a:lnTo>
                  <a:pt x="693260" y="591618"/>
                </a:lnTo>
                <a:lnTo>
                  <a:pt x="811686" y="957260"/>
                </a:lnTo>
                <a:lnTo>
                  <a:pt x="501650" y="731278"/>
                </a:lnTo>
                <a:lnTo>
                  <a:pt x="191614" y="957260"/>
                </a:lnTo>
                <a:lnTo>
                  <a:pt x="310040" y="591618"/>
                </a:lnTo>
                <a:lnTo>
                  <a:pt x="1" y="365641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70"/>
          <p:cNvSpPr/>
          <p:nvPr/>
        </p:nvSpPr>
        <p:spPr>
          <a:xfrm>
            <a:off x="-428760" y="11185560"/>
            <a:ext cx="571680" cy="547560"/>
          </a:xfrm>
          <a:custGeom>
            <a:avLst/>
            <a:gdLst/>
            <a:ahLst/>
            <a:rect l="l" t="t" r="r" b="b"/>
            <a:pathLst>
              <a:path w="571500" h="547688">
                <a:moveTo>
                  <a:pt x="1" y="209198"/>
                </a:moveTo>
                <a:lnTo>
                  <a:pt x="218295" y="209199"/>
                </a:lnTo>
                <a:lnTo>
                  <a:pt x="285750" y="0"/>
                </a:lnTo>
                <a:lnTo>
                  <a:pt x="353205" y="209199"/>
                </a:lnTo>
                <a:lnTo>
                  <a:pt x="571499" y="209198"/>
                </a:lnTo>
                <a:lnTo>
                  <a:pt x="394895" y="338488"/>
                </a:lnTo>
                <a:lnTo>
                  <a:pt x="462353" y="547687"/>
                </a:lnTo>
                <a:lnTo>
                  <a:pt x="285750" y="418394"/>
                </a:lnTo>
                <a:lnTo>
                  <a:pt x="109147" y="547687"/>
                </a:lnTo>
                <a:lnTo>
                  <a:pt x="176605" y="338488"/>
                </a:lnTo>
                <a:lnTo>
                  <a:pt x="1" y="209198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71"/>
          <p:cNvSpPr/>
          <p:nvPr/>
        </p:nvSpPr>
        <p:spPr>
          <a:xfrm rot="18717600">
            <a:off x="1941840" y="-5509440"/>
            <a:ext cx="576360" cy="546120"/>
          </a:xfrm>
          <a:custGeom>
            <a:avLst/>
            <a:gdLst/>
            <a:ahLst/>
            <a:rect l="l" t="t" r="r" b="b"/>
            <a:pathLst>
              <a:path w="576262" h="547687">
                <a:moveTo>
                  <a:pt x="1" y="209197"/>
                </a:moveTo>
                <a:lnTo>
                  <a:pt x="220114" y="209199"/>
                </a:lnTo>
                <a:lnTo>
                  <a:pt x="288131" y="0"/>
                </a:lnTo>
                <a:lnTo>
                  <a:pt x="356148" y="209199"/>
                </a:lnTo>
                <a:lnTo>
                  <a:pt x="576261" y="209197"/>
                </a:lnTo>
                <a:lnTo>
                  <a:pt x="398185" y="338488"/>
                </a:lnTo>
                <a:lnTo>
                  <a:pt x="466205" y="547686"/>
                </a:lnTo>
                <a:lnTo>
                  <a:pt x="288131" y="418393"/>
                </a:lnTo>
                <a:lnTo>
                  <a:pt x="110057" y="547686"/>
                </a:lnTo>
                <a:lnTo>
                  <a:pt x="178077" y="338488"/>
                </a:lnTo>
                <a:lnTo>
                  <a:pt x="1" y="209197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72"/>
          <p:cNvSpPr/>
          <p:nvPr/>
        </p:nvSpPr>
        <p:spPr>
          <a:xfrm rot="20269800">
            <a:off x="1582200" y="-5087520"/>
            <a:ext cx="289080" cy="274680"/>
          </a:xfrm>
          <a:custGeom>
            <a:avLst/>
            <a:gdLst/>
            <a:ahLst/>
            <a:rect l="l" t="t" r="r" b="b"/>
            <a:pathLst>
              <a:path w="288925" h="274638">
                <a:moveTo>
                  <a:pt x="0" y="104902"/>
                </a:moveTo>
                <a:lnTo>
                  <a:pt x="110360" y="104903"/>
                </a:lnTo>
                <a:lnTo>
                  <a:pt x="144463" y="0"/>
                </a:lnTo>
                <a:lnTo>
                  <a:pt x="178565" y="104903"/>
                </a:lnTo>
                <a:lnTo>
                  <a:pt x="288925" y="104902"/>
                </a:lnTo>
                <a:lnTo>
                  <a:pt x="199641" y="169735"/>
                </a:lnTo>
                <a:lnTo>
                  <a:pt x="233745" y="274637"/>
                </a:lnTo>
                <a:lnTo>
                  <a:pt x="144463" y="209803"/>
                </a:lnTo>
                <a:lnTo>
                  <a:pt x="55180" y="274637"/>
                </a:lnTo>
                <a:lnTo>
                  <a:pt x="89284" y="169735"/>
                </a:lnTo>
                <a:lnTo>
                  <a:pt x="0" y="104902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73"/>
          <p:cNvSpPr/>
          <p:nvPr/>
        </p:nvSpPr>
        <p:spPr>
          <a:xfrm rot="20247600">
            <a:off x="1079280" y="-5509800"/>
            <a:ext cx="360360" cy="338040"/>
          </a:xfrm>
          <a:custGeom>
            <a:avLst/>
            <a:gdLst/>
            <a:ahLst/>
            <a:rect l="l" t="t" r="r" b="b"/>
            <a:pathLst>
              <a:path w="360363" h="338138">
                <a:moveTo>
                  <a:pt x="0" y="129157"/>
                </a:moveTo>
                <a:lnTo>
                  <a:pt x="137647" y="129158"/>
                </a:lnTo>
                <a:lnTo>
                  <a:pt x="180182" y="0"/>
                </a:lnTo>
                <a:lnTo>
                  <a:pt x="222716" y="129158"/>
                </a:lnTo>
                <a:lnTo>
                  <a:pt x="360363" y="129157"/>
                </a:lnTo>
                <a:lnTo>
                  <a:pt x="249003" y="208980"/>
                </a:lnTo>
                <a:lnTo>
                  <a:pt x="291540" y="338137"/>
                </a:lnTo>
                <a:lnTo>
                  <a:pt x="180182" y="258313"/>
                </a:lnTo>
                <a:lnTo>
                  <a:pt x="68823" y="338137"/>
                </a:lnTo>
                <a:lnTo>
                  <a:pt x="111360" y="208980"/>
                </a:lnTo>
                <a:lnTo>
                  <a:pt x="0" y="129157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74"/>
          <p:cNvSpPr/>
          <p:nvPr/>
        </p:nvSpPr>
        <p:spPr>
          <a:xfrm rot="20252400">
            <a:off x="934920" y="-6016680"/>
            <a:ext cx="432000" cy="415800"/>
          </a:xfrm>
          <a:custGeom>
            <a:avLst/>
            <a:gdLst/>
            <a:ahLst/>
            <a:rect l="l" t="t" r="r" b="b"/>
            <a:pathLst>
              <a:path w="431800" h="415925">
                <a:moveTo>
                  <a:pt x="0" y="158869"/>
                </a:moveTo>
                <a:lnTo>
                  <a:pt x="164934" y="158870"/>
                </a:lnTo>
                <a:lnTo>
                  <a:pt x="215900" y="0"/>
                </a:lnTo>
                <a:lnTo>
                  <a:pt x="266866" y="158870"/>
                </a:lnTo>
                <a:lnTo>
                  <a:pt x="431800" y="158869"/>
                </a:lnTo>
                <a:lnTo>
                  <a:pt x="298365" y="257055"/>
                </a:lnTo>
                <a:lnTo>
                  <a:pt x="349333" y="415924"/>
                </a:lnTo>
                <a:lnTo>
                  <a:pt x="215900" y="317736"/>
                </a:lnTo>
                <a:lnTo>
                  <a:pt x="82467" y="415924"/>
                </a:lnTo>
                <a:lnTo>
                  <a:pt x="133435" y="257055"/>
                </a:lnTo>
                <a:lnTo>
                  <a:pt x="0" y="158869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75"/>
          <p:cNvSpPr/>
          <p:nvPr/>
        </p:nvSpPr>
        <p:spPr>
          <a:xfrm rot="20256000">
            <a:off x="-571680" y="-5874840"/>
            <a:ext cx="571680" cy="547560"/>
          </a:xfrm>
          <a:custGeom>
            <a:avLst/>
            <a:gdLst/>
            <a:ahLst/>
            <a:rect l="l" t="t" r="r" b="b"/>
            <a:pathLst>
              <a:path w="571500" h="547688">
                <a:moveTo>
                  <a:pt x="1" y="209198"/>
                </a:moveTo>
                <a:lnTo>
                  <a:pt x="218295" y="209199"/>
                </a:lnTo>
                <a:lnTo>
                  <a:pt x="285750" y="0"/>
                </a:lnTo>
                <a:lnTo>
                  <a:pt x="353205" y="209199"/>
                </a:lnTo>
                <a:lnTo>
                  <a:pt x="571499" y="209198"/>
                </a:lnTo>
                <a:lnTo>
                  <a:pt x="394895" y="338488"/>
                </a:lnTo>
                <a:lnTo>
                  <a:pt x="462353" y="547687"/>
                </a:lnTo>
                <a:lnTo>
                  <a:pt x="285750" y="418394"/>
                </a:lnTo>
                <a:lnTo>
                  <a:pt x="109147" y="547687"/>
                </a:lnTo>
                <a:lnTo>
                  <a:pt x="176605" y="338488"/>
                </a:lnTo>
                <a:lnTo>
                  <a:pt x="1" y="209198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76"/>
          <p:cNvSpPr/>
          <p:nvPr/>
        </p:nvSpPr>
        <p:spPr>
          <a:xfrm>
            <a:off x="-1077840" y="-5904000"/>
            <a:ext cx="288720" cy="274680"/>
          </a:xfrm>
          <a:custGeom>
            <a:avLst/>
            <a:gdLst/>
            <a:ahLst/>
            <a:rect l="l" t="t" r="r" b="b"/>
            <a:pathLst>
              <a:path w="288925" h="274638">
                <a:moveTo>
                  <a:pt x="0" y="104902"/>
                </a:moveTo>
                <a:lnTo>
                  <a:pt x="110360" y="104903"/>
                </a:lnTo>
                <a:lnTo>
                  <a:pt x="144463" y="0"/>
                </a:lnTo>
                <a:lnTo>
                  <a:pt x="178565" y="104903"/>
                </a:lnTo>
                <a:lnTo>
                  <a:pt x="288925" y="104902"/>
                </a:lnTo>
                <a:lnTo>
                  <a:pt x="199641" y="169735"/>
                </a:lnTo>
                <a:lnTo>
                  <a:pt x="233745" y="274637"/>
                </a:lnTo>
                <a:lnTo>
                  <a:pt x="144463" y="209803"/>
                </a:lnTo>
                <a:lnTo>
                  <a:pt x="55180" y="274637"/>
                </a:lnTo>
                <a:lnTo>
                  <a:pt x="89284" y="169735"/>
                </a:lnTo>
                <a:lnTo>
                  <a:pt x="0" y="104902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77"/>
          <p:cNvSpPr/>
          <p:nvPr/>
        </p:nvSpPr>
        <p:spPr>
          <a:xfrm>
            <a:off x="-1220760" y="-5083200"/>
            <a:ext cx="360360" cy="343080"/>
          </a:xfrm>
          <a:custGeom>
            <a:avLst/>
            <a:gdLst/>
            <a:ahLst/>
            <a:rect l="l" t="t" r="r" b="b"/>
            <a:pathLst>
              <a:path w="360363" h="342900">
                <a:moveTo>
                  <a:pt x="0" y="130976"/>
                </a:moveTo>
                <a:lnTo>
                  <a:pt x="137647" y="130977"/>
                </a:lnTo>
                <a:lnTo>
                  <a:pt x="180182" y="0"/>
                </a:lnTo>
                <a:lnTo>
                  <a:pt x="222716" y="130977"/>
                </a:lnTo>
                <a:lnTo>
                  <a:pt x="360363" y="130976"/>
                </a:lnTo>
                <a:lnTo>
                  <a:pt x="249003" y="211923"/>
                </a:lnTo>
                <a:lnTo>
                  <a:pt x="291540" y="342899"/>
                </a:lnTo>
                <a:lnTo>
                  <a:pt x="180182" y="261950"/>
                </a:lnTo>
                <a:lnTo>
                  <a:pt x="68823" y="342899"/>
                </a:lnTo>
                <a:lnTo>
                  <a:pt x="111360" y="211923"/>
                </a:lnTo>
                <a:lnTo>
                  <a:pt x="0" y="130976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78"/>
          <p:cNvSpPr/>
          <p:nvPr/>
        </p:nvSpPr>
        <p:spPr>
          <a:xfrm rot="20256000">
            <a:off x="-284040" y="-4374720"/>
            <a:ext cx="571320" cy="547560"/>
          </a:xfrm>
          <a:custGeom>
            <a:avLst/>
            <a:gdLst/>
            <a:ahLst/>
            <a:rect l="l" t="t" r="r" b="b"/>
            <a:pathLst>
              <a:path w="571501" h="547687">
                <a:moveTo>
                  <a:pt x="1" y="209197"/>
                </a:moveTo>
                <a:lnTo>
                  <a:pt x="218295" y="209199"/>
                </a:lnTo>
                <a:lnTo>
                  <a:pt x="285751" y="0"/>
                </a:lnTo>
                <a:lnTo>
                  <a:pt x="353206" y="209199"/>
                </a:lnTo>
                <a:lnTo>
                  <a:pt x="571500" y="209197"/>
                </a:lnTo>
                <a:lnTo>
                  <a:pt x="394896" y="338488"/>
                </a:lnTo>
                <a:lnTo>
                  <a:pt x="462354" y="547686"/>
                </a:lnTo>
                <a:lnTo>
                  <a:pt x="285751" y="418393"/>
                </a:lnTo>
                <a:lnTo>
                  <a:pt x="109147" y="547686"/>
                </a:lnTo>
                <a:lnTo>
                  <a:pt x="176605" y="338488"/>
                </a:lnTo>
                <a:lnTo>
                  <a:pt x="1" y="209197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79"/>
          <p:cNvSpPr/>
          <p:nvPr/>
        </p:nvSpPr>
        <p:spPr>
          <a:xfrm rot="18352200">
            <a:off x="-4968360" y="-6636960"/>
            <a:ext cx="1592280" cy="1652400"/>
          </a:xfrm>
          <a:custGeom>
            <a:avLst/>
            <a:gdLst/>
            <a:ahLst/>
            <a:rect l="l" t="t" r="r" b="b"/>
            <a:pathLst>
              <a:path w="1592262" h="1652588">
                <a:moveTo>
                  <a:pt x="2" y="631231"/>
                </a:moveTo>
                <a:lnTo>
                  <a:pt x="608193" y="631235"/>
                </a:lnTo>
                <a:lnTo>
                  <a:pt x="796131" y="0"/>
                </a:lnTo>
                <a:lnTo>
                  <a:pt x="984069" y="631235"/>
                </a:lnTo>
                <a:lnTo>
                  <a:pt x="1592260" y="631231"/>
                </a:lnTo>
                <a:lnTo>
                  <a:pt x="1100221" y="1021351"/>
                </a:lnTo>
                <a:lnTo>
                  <a:pt x="1288166" y="1652584"/>
                </a:lnTo>
                <a:lnTo>
                  <a:pt x="796131" y="1262456"/>
                </a:lnTo>
                <a:lnTo>
                  <a:pt x="304096" y="1652584"/>
                </a:lnTo>
                <a:lnTo>
                  <a:pt x="492041" y="1021351"/>
                </a:lnTo>
                <a:lnTo>
                  <a:pt x="2" y="631231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80"/>
          <p:cNvSpPr/>
          <p:nvPr/>
        </p:nvSpPr>
        <p:spPr>
          <a:xfrm rot="20262000">
            <a:off x="-3379320" y="-5514480"/>
            <a:ext cx="1044360" cy="992160"/>
          </a:xfrm>
          <a:custGeom>
            <a:avLst/>
            <a:gdLst/>
            <a:ahLst/>
            <a:rect l="l" t="t" r="r" b="b"/>
            <a:pathLst>
              <a:path w="1044575" h="992187">
                <a:moveTo>
                  <a:pt x="1" y="378981"/>
                </a:moveTo>
                <a:lnTo>
                  <a:pt x="398994" y="378983"/>
                </a:lnTo>
                <a:lnTo>
                  <a:pt x="522288" y="0"/>
                </a:lnTo>
                <a:lnTo>
                  <a:pt x="645581" y="378983"/>
                </a:lnTo>
                <a:lnTo>
                  <a:pt x="1044574" y="378981"/>
                </a:lnTo>
                <a:lnTo>
                  <a:pt x="721780" y="613203"/>
                </a:lnTo>
                <a:lnTo>
                  <a:pt x="845078" y="992184"/>
                </a:lnTo>
                <a:lnTo>
                  <a:pt x="522288" y="757958"/>
                </a:lnTo>
                <a:lnTo>
                  <a:pt x="199497" y="992184"/>
                </a:lnTo>
                <a:lnTo>
                  <a:pt x="322795" y="613203"/>
                </a:lnTo>
                <a:lnTo>
                  <a:pt x="1" y="378981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81"/>
          <p:cNvSpPr/>
          <p:nvPr/>
        </p:nvSpPr>
        <p:spPr>
          <a:xfrm rot="18269400">
            <a:off x="-1080" y="-3930840"/>
            <a:ext cx="1006560" cy="957240"/>
          </a:xfrm>
          <a:custGeom>
            <a:avLst/>
            <a:gdLst/>
            <a:ahLst/>
            <a:rect l="l" t="t" r="r" b="b"/>
            <a:pathLst>
              <a:path w="1008062" h="957262">
                <a:moveTo>
                  <a:pt x="1" y="365641"/>
                </a:moveTo>
                <a:lnTo>
                  <a:pt x="385048" y="365643"/>
                </a:lnTo>
                <a:lnTo>
                  <a:pt x="504031" y="0"/>
                </a:lnTo>
                <a:lnTo>
                  <a:pt x="623014" y="365643"/>
                </a:lnTo>
                <a:lnTo>
                  <a:pt x="1008061" y="365641"/>
                </a:lnTo>
                <a:lnTo>
                  <a:pt x="696550" y="591618"/>
                </a:lnTo>
                <a:lnTo>
                  <a:pt x="815539" y="957260"/>
                </a:lnTo>
                <a:lnTo>
                  <a:pt x="504031" y="731278"/>
                </a:lnTo>
                <a:lnTo>
                  <a:pt x="192523" y="957260"/>
                </a:lnTo>
                <a:lnTo>
                  <a:pt x="311512" y="591618"/>
                </a:lnTo>
                <a:lnTo>
                  <a:pt x="1" y="365641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82"/>
          <p:cNvSpPr/>
          <p:nvPr/>
        </p:nvSpPr>
        <p:spPr>
          <a:xfrm>
            <a:off x="-1508040" y="-4578480"/>
            <a:ext cx="1008000" cy="957240"/>
          </a:xfrm>
          <a:custGeom>
            <a:avLst/>
            <a:gdLst/>
            <a:ahLst/>
            <a:rect l="l" t="t" r="r" b="b"/>
            <a:pathLst>
              <a:path w="1008062" h="957262">
                <a:moveTo>
                  <a:pt x="1" y="365641"/>
                </a:moveTo>
                <a:lnTo>
                  <a:pt x="385048" y="365643"/>
                </a:lnTo>
                <a:lnTo>
                  <a:pt x="504031" y="0"/>
                </a:lnTo>
                <a:lnTo>
                  <a:pt x="623014" y="365643"/>
                </a:lnTo>
                <a:lnTo>
                  <a:pt x="1008061" y="365641"/>
                </a:lnTo>
                <a:lnTo>
                  <a:pt x="696550" y="591618"/>
                </a:lnTo>
                <a:lnTo>
                  <a:pt x="815539" y="957260"/>
                </a:lnTo>
                <a:lnTo>
                  <a:pt x="504031" y="731278"/>
                </a:lnTo>
                <a:lnTo>
                  <a:pt x="192523" y="957260"/>
                </a:lnTo>
                <a:lnTo>
                  <a:pt x="311512" y="591618"/>
                </a:lnTo>
                <a:lnTo>
                  <a:pt x="1" y="365641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83"/>
          <p:cNvSpPr/>
          <p:nvPr/>
        </p:nvSpPr>
        <p:spPr>
          <a:xfrm rot="20260800">
            <a:off x="-3379320" y="-3138480"/>
            <a:ext cx="1008000" cy="957240"/>
          </a:xfrm>
          <a:custGeom>
            <a:avLst/>
            <a:gdLst/>
            <a:ahLst/>
            <a:rect l="l" t="t" r="r" b="b"/>
            <a:pathLst>
              <a:path w="1008063" h="957263">
                <a:moveTo>
                  <a:pt x="1" y="365641"/>
                </a:moveTo>
                <a:lnTo>
                  <a:pt x="385048" y="365644"/>
                </a:lnTo>
                <a:lnTo>
                  <a:pt x="504032" y="0"/>
                </a:lnTo>
                <a:lnTo>
                  <a:pt x="623015" y="365644"/>
                </a:lnTo>
                <a:lnTo>
                  <a:pt x="1008062" y="365641"/>
                </a:lnTo>
                <a:lnTo>
                  <a:pt x="696551" y="591619"/>
                </a:lnTo>
                <a:lnTo>
                  <a:pt x="815539" y="957261"/>
                </a:lnTo>
                <a:lnTo>
                  <a:pt x="504032" y="731279"/>
                </a:lnTo>
                <a:lnTo>
                  <a:pt x="192524" y="957261"/>
                </a:lnTo>
                <a:lnTo>
                  <a:pt x="311512" y="591619"/>
                </a:lnTo>
                <a:lnTo>
                  <a:pt x="1" y="365641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84"/>
          <p:cNvSpPr/>
          <p:nvPr/>
        </p:nvSpPr>
        <p:spPr>
          <a:xfrm rot="20260800">
            <a:off x="4212720" y="-5452920"/>
            <a:ext cx="1008360" cy="957240"/>
          </a:xfrm>
          <a:custGeom>
            <a:avLst/>
            <a:gdLst/>
            <a:ahLst/>
            <a:rect l="l" t="t" r="r" b="b"/>
            <a:pathLst>
              <a:path w="1008063" h="957263">
                <a:moveTo>
                  <a:pt x="1" y="365641"/>
                </a:moveTo>
                <a:lnTo>
                  <a:pt x="385048" y="365644"/>
                </a:lnTo>
                <a:lnTo>
                  <a:pt x="504032" y="0"/>
                </a:lnTo>
                <a:lnTo>
                  <a:pt x="623015" y="365644"/>
                </a:lnTo>
                <a:lnTo>
                  <a:pt x="1008062" y="365641"/>
                </a:lnTo>
                <a:lnTo>
                  <a:pt x="696551" y="591619"/>
                </a:lnTo>
                <a:lnTo>
                  <a:pt x="815539" y="957261"/>
                </a:lnTo>
                <a:lnTo>
                  <a:pt x="504032" y="731279"/>
                </a:lnTo>
                <a:lnTo>
                  <a:pt x="192524" y="957261"/>
                </a:lnTo>
                <a:lnTo>
                  <a:pt x="311512" y="591619"/>
                </a:lnTo>
                <a:lnTo>
                  <a:pt x="1" y="365641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85"/>
          <p:cNvSpPr/>
          <p:nvPr/>
        </p:nvSpPr>
        <p:spPr>
          <a:xfrm rot="20256000">
            <a:off x="574200" y="-2127240"/>
            <a:ext cx="576360" cy="544680"/>
          </a:xfrm>
          <a:custGeom>
            <a:avLst/>
            <a:gdLst/>
            <a:ahLst/>
            <a:rect l="l" t="t" r="r" b="b"/>
            <a:pathLst>
              <a:path w="576263" h="544512">
                <a:moveTo>
                  <a:pt x="1" y="207985"/>
                </a:moveTo>
                <a:lnTo>
                  <a:pt x="220114" y="207986"/>
                </a:lnTo>
                <a:lnTo>
                  <a:pt x="288132" y="0"/>
                </a:lnTo>
                <a:lnTo>
                  <a:pt x="356149" y="207986"/>
                </a:lnTo>
                <a:lnTo>
                  <a:pt x="576262" y="207985"/>
                </a:lnTo>
                <a:lnTo>
                  <a:pt x="398186" y="336526"/>
                </a:lnTo>
                <a:lnTo>
                  <a:pt x="466206" y="544511"/>
                </a:lnTo>
                <a:lnTo>
                  <a:pt x="288132" y="415967"/>
                </a:lnTo>
                <a:lnTo>
                  <a:pt x="110057" y="544511"/>
                </a:lnTo>
                <a:lnTo>
                  <a:pt x="178077" y="336526"/>
                </a:lnTo>
                <a:lnTo>
                  <a:pt x="1" y="207985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86"/>
          <p:cNvSpPr/>
          <p:nvPr/>
        </p:nvSpPr>
        <p:spPr>
          <a:xfrm rot="20061000">
            <a:off x="15804720" y="-3927600"/>
            <a:ext cx="576360" cy="552600"/>
          </a:xfrm>
          <a:custGeom>
            <a:avLst/>
            <a:gdLst/>
            <a:ahLst/>
            <a:rect l="l" t="t" r="r" b="b"/>
            <a:pathLst>
              <a:path w="576263" h="552450">
                <a:moveTo>
                  <a:pt x="1" y="211017"/>
                </a:moveTo>
                <a:lnTo>
                  <a:pt x="220114" y="211018"/>
                </a:lnTo>
                <a:lnTo>
                  <a:pt x="288132" y="0"/>
                </a:lnTo>
                <a:lnTo>
                  <a:pt x="356149" y="211018"/>
                </a:lnTo>
                <a:lnTo>
                  <a:pt x="576262" y="211017"/>
                </a:lnTo>
                <a:lnTo>
                  <a:pt x="398186" y="341431"/>
                </a:lnTo>
                <a:lnTo>
                  <a:pt x="466206" y="552449"/>
                </a:lnTo>
                <a:lnTo>
                  <a:pt x="288132" y="422031"/>
                </a:lnTo>
                <a:lnTo>
                  <a:pt x="110057" y="552449"/>
                </a:lnTo>
                <a:lnTo>
                  <a:pt x="178077" y="341431"/>
                </a:lnTo>
                <a:lnTo>
                  <a:pt x="1" y="211017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87"/>
          <p:cNvSpPr/>
          <p:nvPr/>
        </p:nvSpPr>
        <p:spPr>
          <a:xfrm>
            <a:off x="15444720" y="-3500280"/>
            <a:ext cx="289080" cy="277560"/>
          </a:xfrm>
          <a:custGeom>
            <a:avLst/>
            <a:gdLst/>
            <a:ahLst/>
            <a:rect l="l" t="t" r="r" b="b"/>
            <a:pathLst>
              <a:path w="288925" h="277813">
                <a:moveTo>
                  <a:pt x="0" y="106115"/>
                </a:moveTo>
                <a:lnTo>
                  <a:pt x="110360" y="106116"/>
                </a:lnTo>
                <a:lnTo>
                  <a:pt x="144463" y="0"/>
                </a:lnTo>
                <a:lnTo>
                  <a:pt x="178565" y="106116"/>
                </a:lnTo>
                <a:lnTo>
                  <a:pt x="288925" y="106115"/>
                </a:lnTo>
                <a:lnTo>
                  <a:pt x="199641" y="171697"/>
                </a:lnTo>
                <a:lnTo>
                  <a:pt x="233745" y="277812"/>
                </a:lnTo>
                <a:lnTo>
                  <a:pt x="144463" y="212229"/>
                </a:lnTo>
                <a:lnTo>
                  <a:pt x="55180" y="277812"/>
                </a:lnTo>
                <a:lnTo>
                  <a:pt x="89284" y="171697"/>
                </a:lnTo>
                <a:lnTo>
                  <a:pt x="0" y="106115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8"/>
          <p:cNvSpPr/>
          <p:nvPr/>
        </p:nvSpPr>
        <p:spPr>
          <a:xfrm>
            <a:off x="14941440" y="-3927600"/>
            <a:ext cx="360360" cy="343080"/>
          </a:xfrm>
          <a:custGeom>
            <a:avLst/>
            <a:gdLst/>
            <a:ahLst/>
            <a:rect l="l" t="t" r="r" b="b"/>
            <a:pathLst>
              <a:path w="360363" h="342900">
                <a:moveTo>
                  <a:pt x="0" y="130976"/>
                </a:moveTo>
                <a:lnTo>
                  <a:pt x="137647" y="130977"/>
                </a:lnTo>
                <a:lnTo>
                  <a:pt x="180182" y="0"/>
                </a:lnTo>
                <a:lnTo>
                  <a:pt x="222716" y="130977"/>
                </a:lnTo>
                <a:lnTo>
                  <a:pt x="360363" y="130976"/>
                </a:lnTo>
                <a:lnTo>
                  <a:pt x="249003" y="211923"/>
                </a:lnTo>
                <a:lnTo>
                  <a:pt x="291540" y="342899"/>
                </a:lnTo>
                <a:lnTo>
                  <a:pt x="180182" y="261950"/>
                </a:lnTo>
                <a:lnTo>
                  <a:pt x="68823" y="342899"/>
                </a:lnTo>
                <a:lnTo>
                  <a:pt x="111360" y="211923"/>
                </a:lnTo>
                <a:lnTo>
                  <a:pt x="0" y="130976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89"/>
          <p:cNvSpPr/>
          <p:nvPr/>
        </p:nvSpPr>
        <p:spPr>
          <a:xfrm>
            <a:off x="14797080" y="-4425840"/>
            <a:ext cx="431640" cy="407880"/>
          </a:xfrm>
          <a:custGeom>
            <a:avLst/>
            <a:gdLst/>
            <a:ahLst/>
            <a:rect l="l" t="t" r="r" b="b"/>
            <a:pathLst>
              <a:path w="431800" h="407987">
                <a:moveTo>
                  <a:pt x="0" y="155837"/>
                </a:moveTo>
                <a:lnTo>
                  <a:pt x="164934" y="155838"/>
                </a:lnTo>
                <a:lnTo>
                  <a:pt x="215900" y="0"/>
                </a:lnTo>
                <a:lnTo>
                  <a:pt x="266866" y="155838"/>
                </a:lnTo>
                <a:lnTo>
                  <a:pt x="431800" y="155837"/>
                </a:lnTo>
                <a:lnTo>
                  <a:pt x="298365" y="252149"/>
                </a:lnTo>
                <a:lnTo>
                  <a:pt x="349333" y="407986"/>
                </a:lnTo>
                <a:lnTo>
                  <a:pt x="215900" y="311672"/>
                </a:lnTo>
                <a:lnTo>
                  <a:pt x="82467" y="407986"/>
                </a:lnTo>
                <a:lnTo>
                  <a:pt x="133435" y="252149"/>
                </a:lnTo>
                <a:lnTo>
                  <a:pt x="0" y="155837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90"/>
          <p:cNvSpPr/>
          <p:nvPr/>
        </p:nvSpPr>
        <p:spPr>
          <a:xfrm>
            <a:off x="13285800" y="-4284720"/>
            <a:ext cx="576360" cy="544680"/>
          </a:xfrm>
          <a:custGeom>
            <a:avLst/>
            <a:gdLst/>
            <a:ahLst/>
            <a:rect l="l" t="t" r="r" b="b"/>
            <a:pathLst>
              <a:path w="576262" h="544513">
                <a:moveTo>
                  <a:pt x="1" y="207985"/>
                </a:moveTo>
                <a:lnTo>
                  <a:pt x="220114" y="207986"/>
                </a:lnTo>
                <a:lnTo>
                  <a:pt x="288131" y="0"/>
                </a:lnTo>
                <a:lnTo>
                  <a:pt x="356148" y="207986"/>
                </a:lnTo>
                <a:lnTo>
                  <a:pt x="576261" y="207985"/>
                </a:lnTo>
                <a:lnTo>
                  <a:pt x="398185" y="336526"/>
                </a:lnTo>
                <a:lnTo>
                  <a:pt x="466205" y="544512"/>
                </a:lnTo>
                <a:lnTo>
                  <a:pt x="288131" y="415968"/>
                </a:lnTo>
                <a:lnTo>
                  <a:pt x="110057" y="544512"/>
                </a:lnTo>
                <a:lnTo>
                  <a:pt x="178077" y="336526"/>
                </a:lnTo>
                <a:lnTo>
                  <a:pt x="1" y="207985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91"/>
          <p:cNvSpPr/>
          <p:nvPr/>
        </p:nvSpPr>
        <p:spPr>
          <a:xfrm>
            <a:off x="12779280" y="-4311720"/>
            <a:ext cx="289080" cy="270000"/>
          </a:xfrm>
          <a:custGeom>
            <a:avLst/>
            <a:gdLst/>
            <a:ahLst/>
            <a:rect l="l" t="t" r="r" b="b"/>
            <a:pathLst>
              <a:path w="288925" h="269875">
                <a:moveTo>
                  <a:pt x="0" y="103083"/>
                </a:moveTo>
                <a:lnTo>
                  <a:pt x="110360" y="103084"/>
                </a:lnTo>
                <a:lnTo>
                  <a:pt x="144463" y="0"/>
                </a:lnTo>
                <a:lnTo>
                  <a:pt x="178565" y="103084"/>
                </a:lnTo>
                <a:lnTo>
                  <a:pt x="288925" y="103083"/>
                </a:lnTo>
                <a:lnTo>
                  <a:pt x="199641" y="166791"/>
                </a:lnTo>
                <a:lnTo>
                  <a:pt x="233745" y="269874"/>
                </a:lnTo>
                <a:lnTo>
                  <a:pt x="144463" y="206165"/>
                </a:lnTo>
                <a:lnTo>
                  <a:pt x="55180" y="269874"/>
                </a:lnTo>
                <a:lnTo>
                  <a:pt x="89284" y="166791"/>
                </a:lnTo>
                <a:lnTo>
                  <a:pt x="0" y="103083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92"/>
          <p:cNvSpPr/>
          <p:nvPr/>
        </p:nvSpPr>
        <p:spPr>
          <a:xfrm>
            <a:off x="13068360" y="673200"/>
            <a:ext cx="360360" cy="342720"/>
          </a:xfrm>
          <a:custGeom>
            <a:avLst/>
            <a:gdLst/>
            <a:ahLst/>
            <a:rect l="l" t="t" r="r" b="b"/>
            <a:pathLst>
              <a:path w="360363" h="342900">
                <a:moveTo>
                  <a:pt x="0" y="130976"/>
                </a:moveTo>
                <a:lnTo>
                  <a:pt x="137647" y="130977"/>
                </a:lnTo>
                <a:lnTo>
                  <a:pt x="180182" y="0"/>
                </a:lnTo>
                <a:lnTo>
                  <a:pt x="222716" y="130977"/>
                </a:lnTo>
                <a:lnTo>
                  <a:pt x="360363" y="130976"/>
                </a:lnTo>
                <a:lnTo>
                  <a:pt x="249003" y="211923"/>
                </a:lnTo>
                <a:lnTo>
                  <a:pt x="291540" y="342899"/>
                </a:lnTo>
                <a:lnTo>
                  <a:pt x="180182" y="261950"/>
                </a:lnTo>
                <a:lnTo>
                  <a:pt x="68823" y="342899"/>
                </a:lnTo>
                <a:lnTo>
                  <a:pt x="111360" y="211923"/>
                </a:lnTo>
                <a:lnTo>
                  <a:pt x="0" y="130976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93"/>
          <p:cNvSpPr/>
          <p:nvPr/>
        </p:nvSpPr>
        <p:spPr>
          <a:xfrm>
            <a:off x="13463640" y="-3311640"/>
            <a:ext cx="576360" cy="542880"/>
          </a:xfrm>
          <a:custGeom>
            <a:avLst/>
            <a:gdLst/>
            <a:ahLst/>
            <a:rect l="l" t="t" r="r" b="b"/>
            <a:pathLst>
              <a:path w="576262" h="542925">
                <a:moveTo>
                  <a:pt x="1" y="207378"/>
                </a:moveTo>
                <a:lnTo>
                  <a:pt x="220114" y="207380"/>
                </a:lnTo>
                <a:lnTo>
                  <a:pt x="288131" y="0"/>
                </a:lnTo>
                <a:lnTo>
                  <a:pt x="356148" y="207380"/>
                </a:lnTo>
                <a:lnTo>
                  <a:pt x="576261" y="207378"/>
                </a:lnTo>
                <a:lnTo>
                  <a:pt x="398185" y="335545"/>
                </a:lnTo>
                <a:lnTo>
                  <a:pt x="466205" y="542924"/>
                </a:lnTo>
                <a:lnTo>
                  <a:pt x="288131" y="414755"/>
                </a:lnTo>
                <a:lnTo>
                  <a:pt x="110057" y="542924"/>
                </a:lnTo>
                <a:lnTo>
                  <a:pt x="178077" y="335545"/>
                </a:lnTo>
                <a:lnTo>
                  <a:pt x="1" y="207378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94"/>
          <p:cNvSpPr/>
          <p:nvPr/>
        </p:nvSpPr>
        <p:spPr>
          <a:xfrm rot="18352200">
            <a:off x="11733840" y="-512280"/>
            <a:ext cx="1584360" cy="1649520"/>
          </a:xfrm>
          <a:custGeom>
            <a:avLst/>
            <a:gdLst/>
            <a:ahLst/>
            <a:rect l="l" t="t" r="r" b="b"/>
            <a:pathLst>
              <a:path w="1584325" h="1651000">
                <a:moveTo>
                  <a:pt x="2" y="630624"/>
                </a:moveTo>
                <a:lnTo>
                  <a:pt x="605162" y="630629"/>
                </a:lnTo>
                <a:lnTo>
                  <a:pt x="792163" y="0"/>
                </a:lnTo>
                <a:lnTo>
                  <a:pt x="979163" y="630629"/>
                </a:lnTo>
                <a:lnTo>
                  <a:pt x="1584323" y="630624"/>
                </a:lnTo>
                <a:lnTo>
                  <a:pt x="1094736" y="1020370"/>
                </a:lnTo>
                <a:lnTo>
                  <a:pt x="1281745" y="1650996"/>
                </a:lnTo>
                <a:lnTo>
                  <a:pt x="792163" y="1261243"/>
                </a:lnTo>
                <a:lnTo>
                  <a:pt x="302580" y="1650996"/>
                </a:lnTo>
                <a:lnTo>
                  <a:pt x="489589" y="1020370"/>
                </a:lnTo>
                <a:lnTo>
                  <a:pt x="2" y="630624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95"/>
          <p:cNvSpPr/>
          <p:nvPr/>
        </p:nvSpPr>
        <p:spPr>
          <a:xfrm>
            <a:off x="10909440" y="241200"/>
            <a:ext cx="1044360" cy="992160"/>
          </a:xfrm>
          <a:custGeom>
            <a:avLst/>
            <a:gdLst/>
            <a:ahLst/>
            <a:rect l="l" t="t" r="r" b="b"/>
            <a:pathLst>
              <a:path w="1044575" h="992188">
                <a:moveTo>
                  <a:pt x="1" y="378981"/>
                </a:moveTo>
                <a:lnTo>
                  <a:pt x="398994" y="378984"/>
                </a:lnTo>
                <a:lnTo>
                  <a:pt x="522288" y="0"/>
                </a:lnTo>
                <a:lnTo>
                  <a:pt x="645581" y="378984"/>
                </a:lnTo>
                <a:lnTo>
                  <a:pt x="1044574" y="378981"/>
                </a:lnTo>
                <a:lnTo>
                  <a:pt x="721780" y="613203"/>
                </a:lnTo>
                <a:lnTo>
                  <a:pt x="845078" y="992185"/>
                </a:lnTo>
                <a:lnTo>
                  <a:pt x="522288" y="757959"/>
                </a:lnTo>
                <a:lnTo>
                  <a:pt x="199497" y="992185"/>
                </a:lnTo>
                <a:lnTo>
                  <a:pt x="322795" y="613203"/>
                </a:lnTo>
                <a:lnTo>
                  <a:pt x="1" y="378981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96"/>
          <p:cNvSpPr/>
          <p:nvPr/>
        </p:nvSpPr>
        <p:spPr>
          <a:xfrm rot="19608000">
            <a:off x="13860000" y="-2342880"/>
            <a:ext cx="1008000" cy="957240"/>
          </a:xfrm>
          <a:custGeom>
            <a:avLst/>
            <a:gdLst/>
            <a:ahLst/>
            <a:rect l="l" t="t" r="r" b="b"/>
            <a:pathLst>
              <a:path w="1008062" h="957262">
                <a:moveTo>
                  <a:pt x="1" y="365641"/>
                </a:moveTo>
                <a:lnTo>
                  <a:pt x="385048" y="365643"/>
                </a:lnTo>
                <a:lnTo>
                  <a:pt x="504031" y="0"/>
                </a:lnTo>
                <a:lnTo>
                  <a:pt x="623014" y="365643"/>
                </a:lnTo>
                <a:lnTo>
                  <a:pt x="1008061" y="365641"/>
                </a:lnTo>
                <a:lnTo>
                  <a:pt x="696550" y="591618"/>
                </a:lnTo>
                <a:lnTo>
                  <a:pt x="815539" y="957260"/>
                </a:lnTo>
                <a:lnTo>
                  <a:pt x="504031" y="731278"/>
                </a:lnTo>
                <a:lnTo>
                  <a:pt x="192523" y="957260"/>
                </a:lnTo>
                <a:lnTo>
                  <a:pt x="311512" y="591618"/>
                </a:lnTo>
                <a:lnTo>
                  <a:pt x="1" y="365641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97"/>
          <p:cNvSpPr/>
          <p:nvPr/>
        </p:nvSpPr>
        <p:spPr>
          <a:xfrm>
            <a:off x="12781080" y="1177920"/>
            <a:ext cx="1008000" cy="957240"/>
          </a:xfrm>
          <a:custGeom>
            <a:avLst/>
            <a:gdLst/>
            <a:ahLst/>
            <a:rect l="l" t="t" r="r" b="b"/>
            <a:pathLst>
              <a:path w="1008062" h="957263">
                <a:moveTo>
                  <a:pt x="1" y="365641"/>
                </a:moveTo>
                <a:lnTo>
                  <a:pt x="385048" y="365644"/>
                </a:lnTo>
                <a:lnTo>
                  <a:pt x="504031" y="0"/>
                </a:lnTo>
                <a:lnTo>
                  <a:pt x="623014" y="365644"/>
                </a:lnTo>
                <a:lnTo>
                  <a:pt x="1008061" y="365641"/>
                </a:lnTo>
                <a:lnTo>
                  <a:pt x="696550" y="591619"/>
                </a:lnTo>
                <a:lnTo>
                  <a:pt x="815539" y="957261"/>
                </a:lnTo>
                <a:lnTo>
                  <a:pt x="504031" y="731279"/>
                </a:lnTo>
                <a:lnTo>
                  <a:pt x="192523" y="957261"/>
                </a:lnTo>
                <a:lnTo>
                  <a:pt x="311512" y="591619"/>
                </a:lnTo>
                <a:lnTo>
                  <a:pt x="1" y="365641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98"/>
          <p:cNvSpPr/>
          <p:nvPr/>
        </p:nvSpPr>
        <p:spPr>
          <a:xfrm>
            <a:off x="10909440" y="2617920"/>
            <a:ext cx="1008000" cy="957240"/>
          </a:xfrm>
          <a:custGeom>
            <a:avLst/>
            <a:gdLst/>
            <a:ahLst/>
            <a:rect l="l" t="t" r="r" b="b"/>
            <a:pathLst>
              <a:path w="1008063" h="957262">
                <a:moveTo>
                  <a:pt x="1" y="365641"/>
                </a:moveTo>
                <a:lnTo>
                  <a:pt x="385048" y="365643"/>
                </a:lnTo>
                <a:lnTo>
                  <a:pt x="504032" y="0"/>
                </a:lnTo>
                <a:lnTo>
                  <a:pt x="623015" y="365643"/>
                </a:lnTo>
                <a:lnTo>
                  <a:pt x="1008062" y="365641"/>
                </a:lnTo>
                <a:lnTo>
                  <a:pt x="696551" y="591618"/>
                </a:lnTo>
                <a:lnTo>
                  <a:pt x="815539" y="957260"/>
                </a:lnTo>
                <a:lnTo>
                  <a:pt x="504032" y="731278"/>
                </a:lnTo>
                <a:lnTo>
                  <a:pt x="192524" y="957260"/>
                </a:lnTo>
                <a:lnTo>
                  <a:pt x="311512" y="591618"/>
                </a:lnTo>
                <a:lnTo>
                  <a:pt x="1" y="365641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99"/>
          <p:cNvSpPr/>
          <p:nvPr/>
        </p:nvSpPr>
        <p:spPr>
          <a:xfrm>
            <a:off x="13862160" y="-3687840"/>
            <a:ext cx="1008000" cy="957240"/>
          </a:xfrm>
          <a:custGeom>
            <a:avLst/>
            <a:gdLst/>
            <a:ahLst/>
            <a:rect l="l" t="t" r="r" b="b"/>
            <a:pathLst>
              <a:path w="1008063" h="957263">
                <a:moveTo>
                  <a:pt x="1" y="365641"/>
                </a:moveTo>
                <a:lnTo>
                  <a:pt x="385048" y="365644"/>
                </a:lnTo>
                <a:lnTo>
                  <a:pt x="504032" y="0"/>
                </a:lnTo>
                <a:lnTo>
                  <a:pt x="623015" y="365644"/>
                </a:lnTo>
                <a:lnTo>
                  <a:pt x="1008062" y="365641"/>
                </a:lnTo>
                <a:lnTo>
                  <a:pt x="696551" y="591619"/>
                </a:lnTo>
                <a:lnTo>
                  <a:pt x="815539" y="957261"/>
                </a:lnTo>
                <a:lnTo>
                  <a:pt x="504032" y="731279"/>
                </a:lnTo>
                <a:lnTo>
                  <a:pt x="192524" y="957261"/>
                </a:lnTo>
                <a:lnTo>
                  <a:pt x="311512" y="591619"/>
                </a:lnTo>
                <a:lnTo>
                  <a:pt x="1" y="365641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00"/>
          <p:cNvSpPr/>
          <p:nvPr/>
        </p:nvSpPr>
        <p:spPr>
          <a:xfrm>
            <a:off x="14436720" y="-538200"/>
            <a:ext cx="576360" cy="538200"/>
          </a:xfrm>
          <a:custGeom>
            <a:avLst/>
            <a:gdLst/>
            <a:ahLst/>
            <a:rect l="l" t="t" r="r" b="b"/>
            <a:pathLst>
              <a:path w="576263" h="538163">
                <a:moveTo>
                  <a:pt x="1" y="205559"/>
                </a:moveTo>
                <a:lnTo>
                  <a:pt x="220114" y="205561"/>
                </a:lnTo>
                <a:lnTo>
                  <a:pt x="288132" y="0"/>
                </a:lnTo>
                <a:lnTo>
                  <a:pt x="356149" y="205561"/>
                </a:lnTo>
                <a:lnTo>
                  <a:pt x="576262" y="205559"/>
                </a:lnTo>
                <a:lnTo>
                  <a:pt x="398186" y="332602"/>
                </a:lnTo>
                <a:lnTo>
                  <a:pt x="466206" y="538162"/>
                </a:lnTo>
                <a:lnTo>
                  <a:pt x="288132" y="411117"/>
                </a:lnTo>
                <a:lnTo>
                  <a:pt x="110057" y="538162"/>
                </a:lnTo>
                <a:lnTo>
                  <a:pt x="178077" y="332602"/>
                </a:lnTo>
                <a:lnTo>
                  <a:pt x="1" y="205559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01"/>
          <p:cNvSpPr/>
          <p:nvPr/>
        </p:nvSpPr>
        <p:spPr>
          <a:xfrm rot="19608000">
            <a:off x="13430160" y="4756320"/>
            <a:ext cx="1008000" cy="957240"/>
          </a:xfrm>
          <a:custGeom>
            <a:avLst/>
            <a:gdLst/>
            <a:ahLst/>
            <a:rect l="l" t="t" r="r" b="b"/>
            <a:pathLst>
              <a:path w="1008063" h="957263">
                <a:moveTo>
                  <a:pt x="1" y="365641"/>
                </a:moveTo>
                <a:lnTo>
                  <a:pt x="385048" y="365644"/>
                </a:lnTo>
                <a:lnTo>
                  <a:pt x="504032" y="0"/>
                </a:lnTo>
                <a:lnTo>
                  <a:pt x="623015" y="365644"/>
                </a:lnTo>
                <a:lnTo>
                  <a:pt x="1008062" y="365641"/>
                </a:lnTo>
                <a:lnTo>
                  <a:pt x="696551" y="591619"/>
                </a:lnTo>
                <a:lnTo>
                  <a:pt x="815539" y="957261"/>
                </a:lnTo>
                <a:lnTo>
                  <a:pt x="504032" y="731279"/>
                </a:lnTo>
                <a:lnTo>
                  <a:pt x="192524" y="957261"/>
                </a:lnTo>
                <a:lnTo>
                  <a:pt x="311512" y="591619"/>
                </a:lnTo>
                <a:lnTo>
                  <a:pt x="1" y="365641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02"/>
          <p:cNvSpPr/>
          <p:nvPr/>
        </p:nvSpPr>
        <p:spPr>
          <a:xfrm rot="20061000">
            <a:off x="12204360" y="9408600"/>
            <a:ext cx="576360" cy="547920"/>
          </a:xfrm>
          <a:custGeom>
            <a:avLst/>
            <a:gdLst/>
            <a:ahLst/>
            <a:rect l="l" t="t" r="r" b="b"/>
            <a:pathLst>
              <a:path w="576263" h="547687">
                <a:moveTo>
                  <a:pt x="1" y="209197"/>
                </a:moveTo>
                <a:lnTo>
                  <a:pt x="220114" y="209199"/>
                </a:lnTo>
                <a:lnTo>
                  <a:pt x="288132" y="0"/>
                </a:lnTo>
                <a:lnTo>
                  <a:pt x="356149" y="209199"/>
                </a:lnTo>
                <a:lnTo>
                  <a:pt x="576262" y="209197"/>
                </a:lnTo>
                <a:lnTo>
                  <a:pt x="398186" y="338488"/>
                </a:lnTo>
                <a:lnTo>
                  <a:pt x="466206" y="547686"/>
                </a:lnTo>
                <a:lnTo>
                  <a:pt x="288132" y="418393"/>
                </a:lnTo>
                <a:lnTo>
                  <a:pt x="110057" y="547686"/>
                </a:lnTo>
                <a:lnTo>
                  <a:pt x="178077" y="338488"/>
                </a:lnTo>
                <a:lnTo>
                  <a:pt x="1" y="209197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03"/>
          <p:cNvSpPr/>
          <p:nvPr/>
        </p:nvSpPr>
        <p:spPr>
          <a:xfrm rot="2616600">
            <a:off x="11988360" y="9466200"/>
            <a:ext cx="289080" cy="274680"/>
          </a:xfrm>
          <a:custGeom>
            <a:avLst/>
            <a:gdLst/>
            <a:ahLst/>
            <a:rect l="l" t="t" r="r" b="b"/>
            <a:pathLst>
              <a:path w="288925" h="274637">
                <a:moveTo>
                  <a:pt x="0" y="104902"/>
                </a:moveTo>
                <a:lnTo>
                  <a:pt x="110360" y="104902"/>
                </a:lnTo>
                <a:lnTo>
                  <a:pt x="144463" y="0"/>
                </a:lnTo>
                <a:lnTo>
                  <a:pt x="178565" y="104902"/>
                </a:lnTo>
                <a:lnTo>
                  <a:pt x="288925" y="104902"/>
                </a:lnTo>
                <a:lnTo>
                  <a:pt x="199641" y="169734"/>
                </a:lnTo>
                <a:lnTo>
                  <a:pt x="233745" y="274636"/>
                </a:lnTo>
                <a:lnTo>
                  <a:pt x="144463" y="209803"/>
                </a:lnTo>
                <a:lnTo>
                  <a:pt x="55180" y="274636"/>
                </a:lnTo>
                <a:lnTo>
                  <a:pt x="89284" y="169734"/>
                </a:lnTo>
                <a:lnTo>
                  <a:pt x="0" y="104902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04"/>
          <p:cNvSpPr/>
          <p:nvPr/>
        </p:nvSpPr>
        <p:spPr>
          <a:xfrm>
            <a:off x="12746160" y="4251240"/>
            <a:ext cx="1008000" cy="957240"/>
          </a:xfrm>
          <a:custGeom>
            <a:avLst/>
            <a:gdLst/>
            <a:ahLst/>
            <a:rect l="l" t="t" r="r" b="b"/>
            <a:pathLst>
              <a:path w="1008062" h="957263">
                <a:moveTo>
                  <a:pt x="1" y="365641"/>
                </a:moveTo>
                <a:lnTo>
                  <a:pt x="385048" y="365644"/>
                </a:lnTo>
                <a:lnTo>
                  <a:pt x="504031" y="0"/>
                </a:lnTo>
                <a:lnTo>
                  <a:pt x="623014" y="365644"/>
                </a:lnTo>
                <a:lnTo>
                  <a:pt x="1008061" y="365641"/>
                </a:lnTo>
                <a:lnTo>
                  <a:pt x="696550" y="591619"/>
                </a:lnTo>
                <a:lnTo>
                  <a:pt x="815539" y="957261"/>
                </a:lnTo>
                <a:lnTo>
                  <a:pt x="504031" y="731279"/>
                </a:lnTo>
                <a:lnTo>
                  <a:pt x="192523" y="957261"/>
                </a:lnTo>
                <a:lnTo>
                  <a:pt x="311512" y="591619"/>
                </a:lnTo>
                <a:lnTo>
                  <a:pt x="1" y="365641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105"/>
          <p:cNvSpPr/>
          <p:nvPr/>
        </p:nvSpPr>
        <p:spPr>
          <a:xfrm rot="2619000">
            <a:off x="11485440" y="9038880"/>
            <a:ext cx="360360" cy="342720"/>
          </a:xfrm>
          <a:custGeom>
            <a:avLst/>
            <a:gdLst/>
            <a:ahLst/>
            <a:rect l="l" t="t" r="r" b="b"/>
            <a:pathLst>
              <a:path w="360362" h="342900">
                <a:moveTo>
                  <a:pt x="0" y="130976"/>
                </a:moveTo>
                <a:lnTo>
                  <a:pt x="137647" y="130977"/>
                </a:lnTo>
                <a:lnTo>
                  <a:pt x="180181" y="0"/>
                </a:lnTo>
                <a:lnTo>
                  <a:pt x="222715" y="130977"/>
                </a:lnTo>
                <a:lnTo>
                  <a:pt x="360362" y="130976"/>
                </a:lnTo>
                <a:lnTo>
                  <a:pt x="249003" y="211923"/>
                </a:lnTo>
                <a:lnTo>
                  <a:pt x="291539" y="342899"/>
                </a:lnTo>
                <a:lnTo>
                  <a:pt x="180181" y="261950"/>
                </a:lnTo>
                <a:lnTo>
                  <a:pt x="68823" y="342899"/>
                </a:lnTo>
                <a:lnTo>
                  <a:pt x="111359" y="211923"/>
                </a:lnTo>
                <a:lnTo>
                  <a:pt x="0" y="130976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06"/>
          <p:cNvSpPr/>
          <p:nvPr/>
        </p:nvSpPr>
        <p:spPr>
          <a:xfrm>
            <a:off x="11701440" y="8113680"/>
            <a:ext cx="1008000" cy="957240"/>
          </a:xfrm>
          <a:custGeom>
            <a:avLst/>
            <a:gdLst/>
            <a:ahLst/>
            <a:rect l="l" t="t" r="r" b="b"/>
            <a:pathLst>
              <a:path w="1008062" h="957262">
                <a:moveTo>
                  <a:pt x="1" y="365641"/>
                </a:moveTo>
                <a:lnTo>
                  <a:pt x="385048" y="365643"/>
                </a:lnTo>
                <a:lnTo>
                  <a:pt x="504031" y="0"/>
                </a:lnTo>
                <a:lnTo>
                  <a:pt x="623014" y="365643"/>
                </a:lnTo>
                <a:lnTo>
                  <a:pt x="1008061" y="365641"/>
                </a:lnTo>
                <a:lnTo>
                  <a:pt x="696550" y="591618"/>
                </a:lnTo>
                <a:lnTo>
                  <a:pt x="815539" y="957260"/>
                </a:lnTo>
                <a:lnTo>
                  <a:pt x="504031" y="731278"/>
                </a:lnTo>
                <a:lnTo>
                  <a:pt x="192523" y="957260"/>
                </a:lnTo>
                <a:lnTo>
                  <a:pt x="311512" y="591618"/>
                </a:lnTo>
                <a:lnTo>
                  <a:pt x="1" y="365641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07"/>
          <p:cNvSpPr/>
          <p:nvPr/>
        </p:nvSpPr>
        <p:spPr>
          <a:xfrm rot="2625000">
            <a:off x="11340720" y="8537400"/>
            <a:ext cx="432000" cy="411480"/>
          </a:xfrm>
          <a:custGeom>
            <a:avLst/>
            <a:gdLst/>
            <a:ahLst/>
            <a:rect l="l" t="t" r="r" b="b"/>
            <a:pathLst>
              <a:path w="431800" h="411163">
                <a:moveTo>
                  <a:pt x="0" y="157050"/>
                </a:moveTo>
                <a:lnTo>
                  <a:pt x="164934" y="157051"/>
                </a:lnTo>
                <a:lnTo>
                  <a:pt x="215900" y="0"/>
                </a:lnTo>
                <a:lnTo>
                  <a:pt x="266866" y="157051"/>
                </a:lnTo>
                <a:lnTo>
                  <a:pt x="431800" y="157050"/>
                </a:lnTo>
                <a:lnTo>
                  <a:pt x="298365" y="254112"/>
                </a:lnTo>
                <a:lnTo>
                  <a:pt x="349333" y="411162"/>
                </a:lnTo>
                <a:lnTo>
                  <a:pt x="215900" y="314098"/>
                </a:lnTo>
                <a:lnTo>
                  <a:pt x="82467" y="411162"/>
                </a:lnTo>
                <a:lnTo>
                  <a:pt x="133435" y="254112"/>
                </a:lnTo>
                <a:lnTo>
                  <a:pt x="0" y="15705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08"/>
          <p:cNvSpPr/>
          <p:nvPr/>
        </p:nvSpPr>
        <p:spPr>
          <a:xfrm>
            <a:off x="12819240" y="2835360"/>
            <a:ext cx="1008000" cy="957240"/>
          </a:xfrm>
          <a:custGeom>
            <a:avLst/>
            <a:gdLst/>
            <a:ahLst/>
            <a:rect l="l" t="t" r="r" b="b"/>
            <a:pathLst>
              <a:path w="1008062" h="957263">
                <a:moveTo>
                  <a:pt x="1" y="365641"/>
                </a:moveTo>
                <a:lnTo>
                  <a:pt x="385048" y="365644"/>
                </a:lnTo>
                <a:lnTo>
                  <a:pt x="504031" y="0"/>
                </a:lnTo>
                <a:lnTo>
                  <a:pt x="623014" y="365644"/>
                </a:lnTo>
                <a:lnTo>
                  <a:pt x="1008061" y="365641"/>
                </a:lnTo>
                <a:lnTo>
                  <a:pt x="696550" y="591619"/>
                </a:lnTo>
                <a:lnTo>
                  <a:pt x="815539" y="957261"/>
                </a:lnTo>
                <a:lnTo>
                  <a:pt x="504031" y="731279"/>
                </a:lnTo>
                <a:lnTo>
                  <a:pt x="192523" y="957261"/>
                </a:lnTo>
                <a:lnTo>
                  <a:pt x="311512" y="591619"/>
                </a:lnTo>
                <a:lnTo>
                  <a:pt x="1" y="365641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09"/>
          <p:cNvSpPr/>
          <p:nvPr/>
        </p:nvSpPr>
        <p:spPr>
          <a:xfrm>
            <a:off x="12673080" y="10466280"/>
            <a:ext cx="576360" cy="547920"/>
          </a:xfrm>
          <a:custGeom>
            <a:avLst/>
            <a:gdLst/>
            <a:ahLst/>
            <a:rect l="l" t="t" r="r" b="b"/>
            <a:pathLst>
              <a:path w="576262" h="547687">
                <a:moveTo>
                  <a:pt x="1" y="209197"/>
                </a:moveTo>
                <a:lnTo>
                  <a:pt x="220114" y="209199"/>
                </a:lnTo>
                <a:lnTo>
                  <a:pt x="288131" y="0"/>
                </a:lnTo>
                <a:lnTo>
                  <a:pt x="356148" y="209199"/>
                </a:lnTo>
                <a:lnTo>
                  <a:pt x="576261" y="209197"/>
                </a:lnTo>
                <a:lnTo>
                  <a:pt x="398185" y="338488"/>
                </a:lnTo>
                <a:lnTo>
                  <a:pt x="466205" y="547686"/>
                </a:lnTo>
                <a:lnTo>
                  <a:pt x="288131" y="418393"/>
                </a:lnTo>
                <a:lnTo>
                  <a:pt x="110057" y="547686"/>
                </a:lnTo>
                <a:lnTo>
                  <a:pt x="178077" y="338488"/>
                </a:lnTo>
                <a:lnTo>
                  <a:pt x="1" y="209197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10"/>
          <p:cNvSpPr/>
          <p:nvPr/>
        </p:nvSpPr>
        <p:spPr>
          <a:xfrm rot="20061000">
            <a:off x="12206160" y="2738160"/>
            <a:ext cx="576360" cy="547560"/>
          </a:xfrm>
          <a:custGeom>
            <a:avLst/>
            <a:gdLst/>
            <a:ahLst/>
            <a:rect l="l" t="t" r="r" b="b"/>
            <a:pathLst>
              <a:path w="576262" h="547687">
                <a:moveTo>
                  <a:pt x="1" y="209197"/>
                </a:moveTo>
                <a:lnTo>
                  <a:pt x="220114" y="209199"/>
                </a:lnTo>
                <a:lnTo>
                  <a:pt x="288131" y="0"/>
                </a:lnTo>
                <a:lnTo>
                  <a:pt x="356148" y="209199"/>
                </a:lnTo>
                <a:lnTo>
                  <a:pt x="576261" y="209197"/>
                </a:lnTo>
                <a:lnTo>
                  <a:pt x="398185" y="338488"/>
                </a:lnTo>
                <a:lnTo>
                  <a:pt x="466205" y="547686"/>
                </a:lnTo>
                <a:lnTo>
                  <a:pt x="288131" y="418393"/>
                </a:lnTo>
                <a:lnTo>
                  <a:pt x="110057" y="547686"/>
                </a:lnTo>
                <a:lnTo>
                  <a:pt x="178077" y="338488"/>
                </a:lnTo>
                <a:lnTo>
                  <a:pt x="1" y="209197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11"/>
          <p:cNvSpPr/>
          <p:nvPr/>
        </p:nvSpPr>
        <p:spPr>
          <a:xfrm>
            <a:off x="11990520" y="2795760"/>
            <a:ext cx="288720" cy="274320"/>
          </a:xfrm>
          <a:custGeom>
            <a:avLst/>
            <a:gdLst/>
            <a:ahLst/>
            <a:rect l="l" t="t" r="r" b="b"/>
            <a:pathLst>
              <a:path w="288925" h="274637">
                <a:moveTo>
                  <a:pt x="0" y="104902"/>
                </a:moveTo>
                <a:lnTo>
                  <a:pt x="110360" y="104902"/>
                </a:lnTo>
                <a:lnTo>
                  <a:pt x="144463" y="0"/>
                </a:lnTo>
                <a:lnTo>
                  <a:pt x="178565" y="104902"/>
                </a:lnTo>
                <a:lnTo>
                  <a:pt x="288925" y="104902"/>
                </a:lnTo>
                <a:lnTo>
                  <a:pt x="199641" y="169734"/>
                </a:lnTo>
                <a:lnTo>
                  <a:pt x="233745" y="274636"/>
                </a:lnTo>
                <a:lnTo>
                  <a:pt x="144463" y="209803"/>
                </a:lnTo>
                <a:lnTo>
                  <a:pt x="55180" y="274636"/>
                </a:lnTo>
                <a:lnTo>
                  <a:pt x="89284" y="169734"/>
                </a:lnTo>
                <a:lnTo>
                  <a:pt x="0" y="104902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12"/>
          <p:cNvSpPr/>
          <p:nvPr/>
        </p:nvSpPr>
        <p:spPr>
          <a:xfrm>
            <a:off x="11487240" y="2368440"/>
            <a:ext cx="360360" cy="343080"/>
          </a:xfrm>
          <a:custGeom>
            <a:avLst/>
            <a:gdLst/>
            <a:ahLst/>
            <a:rect l="l" t="t" r="r" b="b"/>
            <a:pathLst>
              <a:path w="360363" h="342900">
                <a:moveTo>
                  <a:pt x="0" y="130976"/>
                </a:moveTo>
                <a:lnTo>
                  <a:pt x="137647" y="130977"/>
                </a:lnTo>
                <a:lnTo>
                  <a:pt x="180182" y="0"/>
                </a:lnTo>
                <a:lnTo>
                  <a:pt x="222716" y="130977"/>
                </a:lnTo>
                <a:lnTo>
                  <a:pt x="360363" y="130976"/>
                </a:lnTo>
                <a:lnTo>
                  <a:pt x="249003" y="211923"/>
                </a:lnTo>
                <a:lnTo>
                  <a:pt x="291540" y="342899"/>
                </a:lnTo>
                <a:lnTo>
                  <a:pt x="180182" y="261950"/>
                </a:lnTo>
                <a:lnTo>
                  <a:pt x="68823" y="342899"/>
                </a:lnTo>
                <a:lnTo>
                  <a:pt x="111360" y="211923"/>
                </a:lnTo>
                <a:lnTo>
                  <a:pt x="0" y="130976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13"/>
          <p:cNvSpPr/>
          <p:nvPr/>
        </p:nvSpPr>
        <p:spPr>
          <a:xfrm>
            <a:off x="13141440" y="2301840"/>
            <a:ext cx="431640" cy="411120"/>
          </a:xfrm>
          <a:custGeom>
            <a:avLst/>
            <a:gdLst/>
            <a:ahLst/>
            <a:rect l="l" t="t" r="r" b="b"/>
            <a:pathLst>
              <a:path w="431800" h="411163">
                <a:moveTo>
                  <a:pt x="0" y="157050"/>
                </a:moveTo>
                <a:lnTo>
                  <a:pt x="164934" y="157051"/>
                </a:lnTo>
                <a:lnTo>
                  <a:pt x="215900" y="0"/>
                </a:lnTo>
                <a:lnTo>
                  <a:pt x="266866" y="157051"/>
                </a:lnTo>
                <a:lnTo>
                  <a:pt x="431800" y="157050"/>
                </a:lnTo>
                <a:lnTo>
                  <a:pt x="298365" y="254112"/>
                </a:lnTo>
                <a:lnTo>
                  <a:pt x="349333" y="411162"/>
                </a:lnTo>
                <a:lnTo>
                  <a:pt x="215900" y="314098"/>
                </a:lnTo>
                <a:lnTo>
                  <a:pt x="82467" y="411162"/>
                </a:lnTo>
                <a:lnTo>
                  <a:pt x="133435" y="254112"/>
                </a:lnTo>
                <a:lnTo>
                  <a:pt x="0" y="15705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14"/>
          <p:cNvSpPr/>
          <p:nvPr/>
        </p:nvSpPr>
        <p:spPr>
          <a:xfrm>
            <a:off x="15484320" y="2368440"/>
            <a:ext cx="360360" cy="343080"/>
          </a:xfrm>
          <a:custGeom>
            <a:avLst/>
            <a:gdLst/>
            <a:ahLst/>
            <a:rect l="l" t="t" r="r" b="b"/>
            <a:pathLst>
              <a:path w="360363" h="342900">
                <a:moveTo>
                  <a:pt x="0" y="130976"/>
                </a:moveTo>
                <a:lnTo>
                  <a:pt x="137647" y="130977"/>
                </a:lnTo>
                <a:lnTo>
                  <a:pt x="180182" y="0"/>
                </a:lnTo>
                <a:lnTo>
                  <a:pt x="222716" y="130977"/>
                </a:lnTo>
                <a:lnTo>
                  <a:pt x="360363" y="130976"/>
                </a:lnTo>
                <a:lnTo>
                  <a:pt x="249003" y="211923"/>
                </a:lnTo>
                <a:lnTo>
                  <a:pt x="291540" y="342899"/>
                </a:lnTo>
                <a:lnTo>
                  <a:pt x="180182" y="261950"/>
                </a:lnTo>
                <a:lnTo>
                  <a:pt x="68823" y="342899"/>
                </a:lnTo>
                <a:lnTo>
                  <a:pt x="111360" y="211923"/>
                </a:lnTo>
                <a:lnTo>
                  <a:pt x="0" y="130976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15"/>
          <p:cNvSpPr/>
          <p:nvPr/>
        </p:nvSpPr>
        <p:spPr>
          <a:xfrm rot="1110600">
            <a:off x="3743280" y="11736000"/>
            <a:ext cx="576360" cy="547560"/>
          </a:xfrm>
          <a:custGeom>
            <a:avLst/>
            <a:gdLst/>
            <a:ahLst/>
            <a:rect l="l" t="t" r="r" b="b"/>
            <a:pathLst>
              <a:path w="576263" h="547687">
                <a:moveTo>
                  <a:pt x="1" y="209197"/>
                </a:moveTo>
                <a:lnTo>
                  <a:pt x="220114" y="209199"/>
                </a:lnTo>
                <a:lnTo>
                  <a:pt x="288132" y="0"/>
                </a:lnTo>
                <a:lnTo>
                  <a:pt x="356149" y="209199"/>
                </a:lnTo>
                <a:lnTo>
                  <a:pt x="576262" y="209197"/>
                </a:lnTo>
                <a:lnTo>
                  <a:pt x="398186" y="338488"/>
                </a:lnTo>
                <a:lnTo>
                  <a:pt x="466206" y="547686"/>
                </a:lnTo>
                <a:lnTo>
                  <a:pt x="288132" y="418393"/>
                </a:lnTo>
                <a:lnTo>
                  <a:pt x="110057" y="547686"/>
                </a:lnTo>
                <a:lnTo>
                  <a:pt x="178077" y="338488"/>
                </a:lnTo>
                <a:lnTo>
                  <a:pt x="1" y="209197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16"/>
          <p:cNvSpPr/>
          <p:nvPr/>
        </p:nvSpPr>
        <p:spPr>
          <a:xfrm rot="2616600">
            <a:off x="3526920" y="11793600"/>
            <a:ext cx="289080" cy="274680"/>
          </a:xfrm>
          <a:custGeom>
            <a:avLst/>
            <a:gdLst/>
            <a:ahLst/>
            <a:rect l="l" t="t" r="r" b="b"/>
            <a:pathLst>
              <a:path w="288925" h="274637">
                <a:moveTo>
                  <a:pt x="0" y="104902"/>
                </a:moveTo>
                <a:lnTo>
                  <a:pt x="110360" y="104902"/>
                </a:lnTo>
                <a:lnTo>
                  <a:pt x="144463" y="0"/>
                </a:lnTo>
                <a:lnTo>
                  <a:pt x="178565" y="104902"/>
                </a:lnTo>
                <a:lnTo>
                  <a:pt x="288925" y="104902"/>
                </a:lnTo>
                <a:lnTo>
                  <a:pt x="199641" y="169734"/>
                </a:lnTo>
                <a:lnTo>
                  <a:pt x="233745" y="274636"/>
                </a:lnTo>
                <a:lnTo>
                  <a:pt x="144463" y="209803"/>
                </a:lnTo>
                <a:lnTo>
                  <a:pt x="55180" y="274636"/>
                </a:lnTo>
                <a:lnTo>
                  <a:pt x="89284" y="169734"/>
                </a:lnTo>
                <a:lnTo>
                  <a:pt x="0" y="104902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17"/>
          <p:cNvSpPr/>
          <p:nvPr/>
        </p:nvSpPr>
        <p:spPr>
          <a:xfrm rot="2619000">
            <a:off x="3024360" y="11366280"/>
            <a:ext cx="360360" cy="342720"/>
          </a:xfrm>
          <a:custGeom>
            <a:avLst/>
            <a:gdLst/>
            <a:ahLst/>
            <a:rect l="l" t="t" r="r" b="b"/>
            <a:pathLst>
              <a:path w="360362" h="342900">
                <a:moveTo>
                  <a:pt x="0" y="130976"/>
                </a:moveTo>
                <a:lnTo>
                  <a:pt x="137647" y="130977"/>
                </a:lnTo>
                <a:lnTo>
                  <a:pt x="180181" y="0"/>
                </a:lnTo>
                <a:lnTo>
                  <a:pt x="222715" y="130977"/>
                </a:lnTo>
                <a:lnTo>
                  <a:pt x="360362" y="130976"/>
                </a:lnTo>
                <a:lnTo>
                  <a:pt x="249003" y="211923"/>
                </a:lnTo>
                <a:lnTo>
                  <a:pt x="291539" y="342899"/>
                </a:lnTo>
                <a:lnTo>
                  <a:pt x="180181" y="261950"/>
                </a:lnTo>
                <a:lnTo>
                  <a:pt x="68823" y="342899"/>
                </a:lnTo>
                <a:lnTo>
                  <a:pt x="111359" y="211923"/>
                </a:lnTo>
                <a:lnTo>
                  <a:pt x="0" y="130976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18"/>
          <p:cNvSpPr/>
          <p:nvPr/>
        </p:nvSpPr>
        <p:spPr>
          <a:xfrm rot="2655000">
            <a:off x="3240000" y="10440720"/>
            <a:ext cx="1008000" cy="957240"/>
          </a:xfrm>
          <a:custGeom>
            <a:avLst/>
            <a:gdLst/>
            <a:ahLst/>
            <a:rect l="l" t="t" r="r" b="b"/>
            <a:pathLst>
              <a:path w="1008062" h="957262">
                <a:moveTo>
                  <a:pt x="1" y="365641"/>
                </a:moveTo>
                <a:lnTo>
                  <a:pt x="385048" y="365643"/>
                </a:lnTo>
                <a:lnTo>
                  <a:pt x="504031" y="0"/>
                </a:lnTo>
                <a:lnTo>
                  <a:pt x="623014" y="365643"/>
                </a:lnTo>
                <a:lnTo>
                  <a:pt x="1008061" y="365641"/>
                </a:lnTo>
                <a:lnTo>
                  <a:pt x="696550" y="591618"/>
                </a:lnTo>
                <a:lnTo>
                  <a:pt x="815539" y="957260"/>
                </a:lnTo>
                <a:lnTo>
                  <a:pt x="504031" y="731278"/>
                </a:lnTo>
                <a:lnTo>
                  <a:pt x="192523" y="957260"/>
                </a:lnTo>
                <a:lnTo>
                  <a:pt x="311512" y="591618"/>
                </a:lnTo>
                <a:lnTo>
                  <a:pt x="1" y="365641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19"/>
          <p:cNvSpPr/>
          <p:nvPr/>
        </p:nvSpPr>
        <p:spPr>
          <a:xfrm rot="2650200">
            <a:off x="3742920" y="10224720"/>
            <a:ext cx="576360" cy="547560"/>
          </a:xfrm>
          <a:custGeom>
            <a:avLst/>
            <a:gdLst/>
            <a:ahLst/>
            <a:rect l="l" t="t" r="r" b="b"/>
            <a:pathLst>
              <a:path w="576263" h="547687">
                <a:moveTo>
                  <a:pt x="1" y="209197"/>
                </a:moveTo>
                <a:lnTo>
                  <a:pt x="220114" y="209199"/>
                </a:lnTo>
                <a:lnTo>
                  <a:pt x="288132" y="0"/>
                </a:lnTo>
                <a:lnTo>
                  <a:pt x="356149" y="209199"/>
                </a:lnTo>
                <a:lnTo>
                  <a:pt x="576262" y="209197"/>
                </a:lnTo>
                <a:lnTo>
                  <a:pt x="398186" y="338488"/>
                </a:lnTo>
                <a:lnTo>
                  <a:pt x="466206" y="547686"/>
                </a:lnTo>
                <a:lnTo>
                  <a:pt x="288132" y="418393"/>
                </a:lnTo>
                <a:lnTo>
                  <a:pt x="110057" y="547686"/>
                </a:lnTo>
                <a:lnTo>
                  <a:pt x="178077" y="338488"/>
                </a:lnTo>
                <a:lnTo>
                  <a:pt x="1" y="209197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20"/>
          <p:cNvSpPr/>
          <p:nvPr/>
        </p:nvSpPr>
        <p:spPr>
          <a:xfrm>
            <a:off x="4211640" y="12793680"/>
            <a:ext cx="576360" cy="547560"/>
          </a:xfrm>
          <a:custGeom>
            <a:avLst/>
            <a:gdLst/>
            <a:ahLst/>
            <a:rect l="l" t="t" r="r" b="b"/>
            <a:pathLst>
              <a:path w="576262" h="547687">
                <a:moveTo>
                  <a:pt x="1" y="209197"/>
                </a:moveTo>
                <a:lnTo>
                  <a:pt x="220114" y="209199"/>
                </a:lnTo>
                <a:lnTo>
                  <a:pt x="288131" y="0"/>
                </a:lnTo>
                <a:lnTo>
                  <a:pt x="356148" y="209199"/>
                </a:lnTo>
                <a:lnTo>
                  <a:pt x="576261" y="209197"/>
                </a:lnTo>
                <a:lnTo>
                  <a:pt x="398185" y="338488"/>
                </a:lnTo>
                <a:lnTo>
                  <a:pt x="466205" y="547686"/>
                </a:lnTo>
                <a:lnTo>
                  <a:pt x="288131" y="418393"/>
                </a:lnTo>
                <a:lnTo>
                  <a:pt x="110057" y="547686"/>
                </a:lnTo>
                <a:lnTo>
                  <a:pt x="178077" y="338488"/>
                </a:lnTo>
                <a:lnTo>
                  <a:pt x="1" y="209197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121"/>
          <p:cNvSpPr/>
          <p:nvPr/>
        </p:nvSpPr>
        <p:spPr>
          <a:xfrm rot="2655000">
            <a:off x="6227280" y="8474040"/>
            <a:ext cx="1008360" cy="957240"/>
          </a:xfrm>
          <a:custGeom>
            <a:avLst/>
            <a:gdLst/>
            <a:ahLst/>
            <a:rect l="l" t="t" r="r" b="b"/>
            <a:pathLst>
              <a:path w="1008062" h="957263">
                <a:moveTo>
                  <a:pt x="1" y="365641"/>
                </a:moveTo>
                <a:lnTo>
                  <a:pt x="385048" y="365644"/>
                </a:lnTo>
                <a:lnTo>
                  <a:pt x="504031" y="0"/>
                </a:lnTo>
                <a:lnTo>
                  <a:pt x="623014" y="365644"/>
                </a:lnTo>
                <a:lnTo>
                  <a:pt x="1008061" y="365641"/>
                </a:lnTo>
                <a:lnTo>
                  <a:pt x="696550" y="591619"/>
                </a:lnTo>
                <a:lnTo>
                  <a:pt x="815539" y="957261"/>
                </a:lnTo>
                <a:lnTo>
                  <a:pt x="504031" y="731279"/>
                </a:lnTo>
                <a:lnTo>
                  <a:pt x="192523" y="957261"/>
                </a:lnTo>
                <a:lnTo>
                  <a:pt x="311512" y="591619"/>
                </a:lnTo>
                <a:lnTo>
                  <a:pt x="1" y="365641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22"/>
          <p:cNvSpPr/>
          <p:nvPr/>
        </p:nvSpPr>
        <p:spPr>
          <a:xfrm rot="2655000">
            <a:off x="4356000" y="9913680"/>
            <a:ext cx="1008000" cy="957240"/>
          </a:xfrm>
          <a:custGeom>
            <a:avLst/>
            <a:gdLst/>
            <a:ahLst/>
            <a:rect l="l" t="t" r="r" b="b"/>
            <a:pathLst>
              <a:path w="1008063" h="957262">
                <a:moveTo>
                  <a:pt x="1" y="365641"/>
                </a:moveTo>
                <a:lnTo>
                  <a:pt x="385048" y="365643"/>
                </a:lnTo>
                <a:lnTo>
                  <a:pt x="504032" y="0"/>
                </a:lnTo>
                <a:lnTo>
                  <a:pt x="623015" y="365643"/>
                </a:lnTo>
                <a:lnTo>
                  <a:pt x="1008062" y="365641"/>
                </a:lnTo>
                <a:lnTo>
                  <a:pt x="696551" y="591618"/>
                </a:lnTo>
                <a:lnTo>
                  <a:pt x="815539" y="957260"/>
                </a:lnTo>
                <a:lnTo>
                  <a:pt x="504032" y="731278"/>
                </a:lnTo>
                <a:lnTo>
                  <a:pt x="192524" y="957260"/>
                </a:lnTo>
                <a:lnTo>
                  <a:pt x="311512" y="591618"/>
                </a:lnTo>
                <a:lnTo>
                  <a:pt x="1" y="365641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123"/>
          <p:cNvSpPr/>
          <p:nvPr/>
        </p:nvSpPr>
        <p:spPr>
          <a:xfrm rot="19608000">
            <a:off x="6877080" y="12052440"/>
            <a:ext cx="1008000" cy="957240"/>
          </a:xfrm>
          <a:custGeom>
            <a:avLst/>
            <a:gdLst/>
            <a:ahLst/>
            <a:rect l="l" t="t" r="r" b="b"/>
            <a:pathLst>
              <a:path w="1008063" h="957263">
                <a:moveTo>
                  <a:pt x="1" y="365641"/>
                </a:moveTo>
                <a:lnTo>
                  <a:pt x="385048" y="365644"/>
                </a:lnTo>
                <a:lnTo>
                  <a:pt x="504032" y="0"/>
                </a:lnTo>
                <a:lnTo>
                  <a:pt x="623015" y="365644"/>
                </a:lnTo>
                <a:lnTo>
                  <a:pt x="1008062" y="365641"/>
                </a:lnTo>
                <a:lnTo>
                  <a:pt x="696551" y="591619"/>
                </a:lnTo>
                <a:lnTo>
                  <a:pt x="815539" y="957261"/>
                </a:lnTo>
                <a:lnTo>
                  <a:pt x="504032" y="731279"/>
                </a:lnTo>
                <a:lnTo>
                  <a:pt x="192524" y="957261"/>
                </a:lnTo>
                <a:lnTo>
                  <a:pt x="311512" y="591619"/>
                </a:lnTo>
                <a:lnTo>
                  <a:pt x="1" y="365641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24"/>
          <p:cNvSpPr/>
          <p:nvPr/>
        </p:nvSpPr>
        <p:spPr>
          <a:xfrm rot="2655000">
            <a:off x="6192360" y="11547360"/>
            <a:ext cx="1008360" cy="957240"/>
          </a:xfrm>
          <a:custGeom>
            <a:avLst/>
            <a:gdLst/>
            <a:ahLst/>
            <a:rect l="l" t="t" r="r" b="b"/>
            <a:pathLst>
              <a:path w="1008062" h="957263">
                <a:moveTo>
                  <a:pt x="1" y="365641"/>
                </a:moveTo>
                <a:lnTo>
                  <a:pt x="385048" y="365644"/>
                </a:lnTo>
                <a:lnTo>
                  <a:pt x="504031" y="0"/>
                </a:lnTo>
                <a:lnTo>
                  <a:pt x="623014" y="365644"/>
                </a:lnTo>
                <a:lnTo>
                  <a:pt x="1008061" y="365641"/>
                </a:lnTo>
                <a:lnTo>
                  <a:pt x="696550" y="591619"/>
                </a:lnTo>
                <a:lnTo>
                  <a:pt x="815539" y="957261"/>
                </a:lnTo>
                <a:lnTo>
                  <a:pt x="504031" y="731279"/>
                </a:lnTo>
                <a:lnTo>
                  <a:pt x="192523" y="957261"/>
                </a:lnTo>
                <a:lnTo>
                  <a:pt x="311512" y="591619"/>
                </a:lnTo>
                <a:lnTo>
                  <a:pt x="1" y="365641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125"/>
          <p:cNvSpPr/>
          <p:nvPr/>
        </p:nvSpPr>
        <p:spPr>
          <a:xfrm rot="2655000">
            <a:off x="6265800" y="10131120"/>
            <a:ext cx="1008000" cy="957240"/>
          </a:xfrm>
          <a:custGeom>
            <a:avLst/>
            <a:gdLst/>
            <a:ahLst/>
            <a:rect l="l" t="t" r="r" b="b"/>
            <a:pathLst>
              <a:path w="1008062" h="957263">
                <a:moveTo>
                  <a:pt x="1" y="365641"/>
                </a:moveTo>
                <a:lnTo>
                  <a:pt x="385048" y="365644"/>
                </a:lnTo>
                <a:lnTo>
                  <a:pt x="504031" y="0"/>
                </a:lnTo>
                <a:lnTo>
                  <a:pt x="623014" y="365644"/>
                </a:lnTo>
                <a:lnTo>
                  <a:pt x="1008061" y="365641"/>
                </a:lnTo>
                <a:lnTo>
                  <a:pt x="696550" y="591619"/>
                </a:lnTo>
                <a:lnTo>
                  <a:pt x="815539" y="957261"/>
                </a:lnTo>
                <a:lnTo>
                  <a:pt x="504031" y="731279"/>
                </a:lnTo>
                <a:lnTo>
                  <a:pt x="192523" y="957261"/>
                </a:lnTo>
                <a:lnTo>
                  <a:pt x="311512" y="591619"/>
                </a:lnTo>
                <a:lnTo>
                  <a:pt x="1" y="365641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126"/>
          <p:cNvSpPr/>
          <p:nvPr/>
        </p:nvSpPr>
        <p:spPr>
          <a:xfrm rot="1110600">
            <a:off x="5653080" y="10034280"/>
            <a:ext cx="576360" cy="547560"/>
          </a:xfrm>
          <a:custGeom>
            <a:avLst/>
            <a:gdLst/>
            <a:ahLst/>
            <a:rect l="l" t="t" r="r" b="b"/>
            <a:pathLst>
              <a:path w="576262" h="547687">
                <a:moveTo>
                  <a:pt x="1" y="209197"/>
                </a:moveTo>
                <a:lnTo>
                  <a:pt x="220114" y="209199"/>
                </a:lnTo>
                <a:lnTo>
                  <a:pt x="288131" y="0"/>
                </a:lnTo>
                <a:lnTo>
                  <a:pt x="356148" y="209199"/>
                </a:lnTo>
                <a:lnTo>
                  <a:pt x="576261" y="209197"/>
                </a:lnTo>
                <a:lnTo>
                  <a:pt x="398185" y="338488"/>
                </a:lnTo>
                <a:lnTo>
                  <a:pt x="466205" y="547686"/>
                </a:lnTo>
                <a:lnTo>
                  <a:pt x="288131" y="418393"/>
                </a:lnTo>
                <a:lnTo>
                  <a:pt x="110057" y="547686"/>
                </a:lnTo>
                <a:lnTo>
                  <a:pt x="178077" y="338488"/>
                </a:lnTo>
                <a:lnTo>
                  <a:pt x="1" y="209197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127"/>
          <p:cNvSpPr/>
          <p:nvPr/>
        </p:nvSpPr>
        <p:spPr>
          <a:xfrm rot="2625000">
            <a:off x="6587640" y="9597960"/>
            <a:ext cx="432000" cy="411120"/>
          </a:xfrm>
          <a:custGeom>
            <a:avLst/>
            <a:gdLst/>
            <a:ahLst/>
            <a:rect l="l" t="t" r="r" b="b"/>
            <a:pathLst>
              <a:path w="431800" h="411163">
                <a:moveTo>
                  <a:pt x="0" y="157050"/>
                </a:moveTo>
                <a:lnTo>
                  <a:pt x="164934" y="157051"/>
                </a:lnTo>
                <a:lnTo>
                  <a:pt x="215900" y="0"/>
                </a:lnTo>
                <a:lnTo>
                  <a:pt x="266866" y="157051"/>
                </a:lnTo>
                <a:lnTo>
                  <a:pt x="431800" y="157050"/>
                </a:lnTo>
                <a:lnTo>
                  <a:pt x="298365" y="254112"/>
                </a:lnTo>
                <a:lnTo>
                  <a:pt x="349333" y="411162"/>
                </a:lnTo>
                <a:lnTo>
                  <a:pt x="215900" y="314098"/>
                </a:lnTo>
                <a:lnTo>
                  <a:pt x="82467" y="411162"/>
                </a:lnTo>
                <a:lnTo>
                  <a:pt x="133435" y="254112"/>
                </a:lnTo>
                <a:lnTo>
                  <a:pt x="0" y="15705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28"/>
          <p:cNvSpPr/>
          <p:nvPr/>
        </p:nvSpPr>
        <p:spPr>
          <a:xfrm rot="14564400">
            <a:off x="-4032000" y="1857240"/>
            <a:ext cx="1008000" cy="957240"/>
          </a:xfrm>
          <a:custGeom>
            <a:avLst/>
            <a:gdLst/>
            <a:ahLst/>
            <a:rect l="l" t="t" r="r" b="b"/>
            <a:pathLst>
              <a:path w="1008063" h="957262">
                <a:moveTo>
                  <a:pt x="1" y="365641"/>
                </a:moveTo>
                <a:lnTo>
                  <a:pt x="385048" y="365643"/>
                </a:lnTo>
                <a:lnTo>
                  <a:pt x="504032" y="0"/>
                </a:lnTo>
                <a:lnTo>
                  <a:pt x="623015" y="365643"/>
                </a:lnTo>
                <a:lnTo>
                  <a:pt x="1008062" y="365641"/>
                </a:lnTo>
                <a:lnTo>
                  <a:pt x="696551" y="591618"/>
                </a:lnTo>
                <a:lnTo>
                  <a:pt x="815539" y="957260"/>
                </a:lnTo>
                <a:lnTo>
                  <a:pt x="504032" y="731278"/>
                </a:lnTo>
                <a:lnTo>
                  <a:pt x="192524" y="957260"/>
                </a:lnTo>
                <a:lnTo>
                  <a:pt x="311512" y="591618"/>
                </a:lnTo>
                <a:lnTo>
                  <a:pt x="1" y="365641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29"/>
          <p:cNvSpPr/>
          <p:nvPr/>
        </p:nvSpPr>
        <p:spPr>
          <a:xfrm rot="17285400">
            <a:off x="-5074560" y="2362320"/>
            <a:ext cx="1189080" cy="1027080"/>
          </a:xfrm>
          <a:custGeom>
            <a:avLst/>
            <a:gdLst/>
            <a:ahLst/>
            <a:rect l="l" t="t" r="r" b="b"/>
            <a:pathLst>
              <a:path w="1189037" h="1027112">
                <a:moveTo>
                  <a:pt x="1" y="392321"/>
                </a:moveTo>
                <a:lnTo>
                  <a:pt x="454174" y="392324"/>
                </a:lnTo>
                <a:lnTo>
                  <a:pt x="594519" y="0"/>
                </a:lnTo>
                <a:lnTo>
                  <a:pt x="734863" y="392324"/>
                </a:lnTo>
                <a:lnTo>
                  <a:pt x="1189036" y="392321"/>
                </a:lnTo>
                <a:lnTo>
                  <a:pt x="821600" y="634787"/>
                </a:lnTo>
                <a:lnTo>
                  <a:pt x="961950" y="1027109"/>
                </a:lnTo>
                <a:lnTo>
                  <a:pt x="594519" y="784638"/>
                </a:lnTo>
                <a:lnTo>
                  <a:pt x="227087" y="1027109"/>
                </a:lnTo>
                <a:lnTo>
                  <a:pt x="367437" y="634787"/>
                </a:lnTo>
                <a:lnTo>
                  <a:pt x="1" y="392321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30"/>
          <p:cNvSpPr/>
          <p:nvPr/>
        </p:nvSpPr>
        <p:spPr>
          <a:xfrm rot="15216600">
            <a:off x="-6189840" y="-856440"/>
            <a:ext cx="1619280" cy="1543320"/>
          </a:xfrm>
          <a:custGeom>
            <a:avLst/>
            <a:gdLst/>
            <a:ahLst/>
            <a:rect l="l" t="t" r="r" b="b"/>
            <a:pathLst>
              <a:path w="1619250" h="1543050">
                <a:moveTo>
                  <a:pt x="2" y="589391"/>
                </a:moveTo>
                <a:lnTo>
                  <a:pt x="618502" y="589395"/>
                </a:lnTo>
                <a:lnTo>
                  <a:pt x="809625" y="0"/>
                </a:lnTo>
                <a:lnTo>
                  <a:pt x="1000748" y="589395"/>
                </a:lnTo>
                <a:lnTo>
                  <a:pt x="1619248" y="589391"/>
                </a:lnTo>
                <a:lnTo>
                  <a:pt x="1118869" y="953653"/>
                </a:lnTo>
                <a:lnTo>
                  <a:pt x="1310000" y="1543046"/>
                </a:lnTo>
                <a:lnTo>
                  <a:pt x="809625" y="1178777"/>
                </a:lnTo>
                <a:lnTo>
                  <a:pt x="309250" y="1543046"/>
                </a:lnTo>
                <a:lnTo>
                  <a:pt x="500381" y="953653"/>
                </a:lnTo>
                <a:lnTo>
                  <a:pt x="2" y="589391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31"/>
          <p:cNvSpPr/>
          <p:nvPr/>
        </p:nvSpPr>
        <p:spPr>
          <a:xfrm rot="16550400">
            <a:off x="-4787640" y="4222440"/>
            <a:ext cx="360360" cy="341280"/>
          </a:xfrm>
          <a:custGeom>
            <a:avLst/>
            <a:gdLst/>
            <a:ahLst/>
            <a:rect l="l" t="t" r="r" b="b"/>
            <a:pathLst>
              <a:path w="360363" h="341312">
                <a:moveTo>
                  <a:pt x="0" y="130369"/>
                </a:moveTo>
                <a:lnTo>
                  <a:pt x="137647" y="130370"/>
                </a:lnTo>
                <a:lnTo>
                  <a:pt x="180182" y="0"/>
                </a:lnTo>
                <a:lnTo>
                  <a:pt x="222716" y="130370"/>
                </a:lnTo>
                <a:lnTo>
                  <a:pt x="360363" y="130369"/>
                </a:lnTo>
                <a:lnTo>
                  <a:pt x="249003" y="210942"/>
                </a:lnTo>
                <a:lnTo>
                  <a:pt x="291540" y="341311"/>
                </a:lnTo>
                <a:lnTo>
                  <a:pt x="180182" y="260737"/>
                </a:lnTo>
                <a:lnTo>
                  <a:pt x="68823" y="341311"/>
                </a:lnTo>
                <a:lnTo>
                  <a:pt x="111360" y="210942"/>
                </a:lnTo>
                <a:lnTo>
                  <a:pt x="0" y="130369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32"/>
          <p:cNvSpPr/>
          <p:nvPr/>
        </p:nvSpPr>
        <p:spPr>
          <a:xfrm rot="16590000">
            <a:off x="-4931280" y="3723480"/>
            <a:ext cx="432000" cy="411120"/>
          </a:xfrm>
          <a:custGeom>
            <a:avLst/>
            <a:gdLst/>
            <a:ahLst/>
            <a:rect l="l" t="t" r="r" b="b"/>
            <a:pathLst>
              <a:path w="431800" h="411162">
                <a:moveTo>
                  <a:pt x="0" y="157050"/>
                </a:moveTo>
                <a:lnTo>
                  <a:pt x="164934" y="157051"/>
                </a:lnTo>
                <a:lnTo>
                  <a:pt x="215900" y="0"/>
                </a:lnTo>
                <a:lnTo>
                  <a:pt x="266866" y="157051"/>
                </a:lnTo>
                <a:lnTo>
                  <a:pt x="431800" y="157050"/>
                </a:lnTo>
                <a:lnTo>
                  <a:pt x="298365" y="254111"/>
                </a:lnTo>
                <a:lnTo>
                  <a:pt x="349333" y="411161"/>
                </a:lnTo>
                <a:lnTo>
                  <a:pt x="215900" y="314098"/>
                </a:lnTo>
                <a:lnTo>
                  <a:pt x="82467" y="411161"/>
                </a:lnTo>
                <a:lnTo>
                  <a:pt x="133435" y="254111"/>
                </a:lnTo>
                <a:lnTo>
                  <a:pt x="0" y="15705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33"/>
          <p:cNvSpPr/>
          <p:nvPr/>
        </p:nvSpPr>
        <p:spPr>
          <a:xfrm rot="16551600">
            <a:off x="-4071600" y="3082680"/>
            <a:ext cx="576360" cy="547560"/>
          </a:xfrm>
          <a:custGeom>
            <a:avLst/>
            <a:gdLst/>
            <a:ahLst/>
            <a:rect l="l" t="t" r="r" b="b"/>
            <a:pathLst>
              <a:path w="576262" h="547687">
                <a:moveTo>
                  <a:pt x="1" y="209197"/>
                </a:moveTo>
                <a:lnTo>
                  <a:pt x="220114" y="209199"/>
                </a:lnTo>
                <a:lnTo>
                  <a:pt x="288131" y="0"/>
                </a:lnTo>
                <a:lnTo>
                  <a:pt x="356148" y="209199"/>
                </a:lnTo>
                <a:lnTo>
                  <a:pt x="576261" y="209197"/>
                </a:lnTo>
                <a:lnTo>
                  <a:pt x="398185" y="338488"/>
                </a:lnTo>
                <a:lnTo>
                  <a:pt x="466205" y="547686"/>
                </a:lnTo>
                <a:lnTo>
                  <a:pt x="288131" y="418393"/>
                </a:lnTo>
                <a:lnTo>
                  <a:pt x="110057" y="547686"/>
                </a:lnTo>
                <a:lnTo>
                  <a:pt x="178077" y="338488"/>
                </a:lnTo>
                <a:lnTo>
                  <a:pt x="1" y="209197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134"/>
          <p:cNvSpPr/>
          <p:nvPr/>
        </p:nvSpPr>
        <p:spPr>
          <a:xfrm rot="21004200">
            <a:off x="-4927680" y="1404720"/>
            <a:ext cx="1189080" cy="1028520"/>
          </a:xfrm>
          <a:custGeom>
            <a:avLst/>
            <a:gdLst/>
            <a:ahLst/>
            <a:rect l="l" t="t" r="r" b="b"/>
            <a:pathLst>
              <a:path w="1189037" h="1028700">
                <a:moveTo>
                  <a:pt x="1" y="392927"/>
                </a:moveTo>
                <a:lnTo>
                  <a:pt x="454174" y="392930"/>
                </a:lnTo>
                <a:lnTo>
                  <a:pt x="594519" y="0"/>
                </a:lnTo>
                <a:lnTo>
                  <a:pt x="734863" y="392930"/>
                </a:lnTo>
                <a:lnTo>
                  <a:pt x="1189036" y="392927"/>
                </a:lnTo>
                <a:lnTo>
                  <a:pt x="821600" y="635769"/>
                </a:lnTo>
                <a:lnTo>
                  <a:pt x="961950" y="1028697"/>
                </a:lnTo>
                <a:lnTo>
                  <a:pt x="594519" y="785851"/>
                </a:lnTo>
                <a:lnTo>
                  <a:pt x="227087" y="1028697"/>
                </a:lnTo>
                <a:lnTo>
                  <a:pt x="367437" y="635769"/>
                </a:lnTo>
                <a:lnTo>
                  <a:pt x="1" y="392927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135"/>
          <p:cNvSpPr/>
          <p:nvPr/>
        </p:nvSpPr>
        <p:spPr>
          <a:xfrm>
            <a:off x="-2965320" y="3187800"/>
            <a:ext cx="1008000" cy="957240"/>
          </a:xfrm>
          <a:custGeom>
            <a:avLst/>
            <a:gdLst/>
            <a:ahLst/>
            <a:rect l="l" t="t" r="r" b="b"/>
            <a:pathLst>
              <a:path w="1008062" h="957263">
                <a:moveTo>
                  <a:pt x="1" y="365641"/>
                </a:moveTo>
                <a:lnTo>
                  <a:pt x="385048" y="365644"/>
                </a:lnTo>
                <a:lnTo>
                  <a:pt x="504031" y="0"/>
                </a:lnTo>
                <a:lnTo>
                  <a:pt x="623014" y="365644"/>
                </a:lnTo>
                <a:lnTo>
                  <a:pt x="1008061" y="365641"/>
                </a:lnTo>
                <a:lnTo>
                  <a:pt x="696550" y="591619"/>
                </a:lnTo>
                <a:lnTo>
                  <a:pt x="815539" y="957261"/>
                </a:lnTo>
                <a:lnTo>
                  <a:pt x="504031" y="731279"/>
                </a:lnTo>
                <a:lnTo>
                  <a:pt x="192523" y="957261"/>
                </a:lnTo>
                <a:lnTo>
                  <a:pt x="311512" y="591619"/>
                </a:lnTo>
                <a:lnTo>
                  <a:pt x="1" y="365641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36"/>
          <p:cNvSpPr/>
          <p:nvPr/>
        </p:nvSpPr>
        <p:spPr>
          <a:xfrm>
            <a:off x="-3776760" y="2125800"/>
            <a:ext cx="576360" cy="547560"/>
          </a:xfrm>
          <a:custGeom>
            <a:avLst/>
            <a:gdLst/>
            <a:ahLst/>
            <a:rect l="l" t="t" r="r" b="b"/>
            <a:pathLst>
              <a:path w="576263" h="547687">
                <a:moveTo>
                  <a:pt x="1" y="209197"/>
                </a:moveTo>
                <a:lnTo>
                  <a:pt x="220114" y="209199"/>
                </a:lnTo>
                <a:lnTo>
                  <a:pt x="288132" y="0"/>
                </a:lnTo>
                <a:lnTo>
                  <a:pt x="356149" y="209199"/>
                </a:lnTo>
                <a:lnTo>
                  <a:pt x="576262" y="209197"/>
                </a:lnTo>
                <a:lnTo>
                  <a:pt x="398186" y="338488"/>
                </a:lnTo>
                <a:lnTo>
                  <a:pt x="466206" y="547686"/>
                </a:lnTo>
                <a:lnTo>
                  <a:pt x="288132" y="418393"/>
                </a:lnTo>
                <a:lnTo>
                  <a:pt x="110057" y="547686"/>
                </a:lnTo>
                <a:lnTo>
                  <a:pt x="178077" y="338488"/>
                </a:lnTo>
                <a:lnTo>
                  <a:pt x="1" y="209197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37"/>
          <p:cNvSpPr/>
          <p:nvPr/>
        </p:nvSpPr>
        <p:spPr>
          <a:xfrm rot="20269800">
            <a:off x="-5757480" y="-1788840"/>
            <a:ext cx="289080" cy="274680"/>
          </a:xfrm>
          <a:custGeom>
            <a:avLst/>
            <a:gdLst/>
            <a:ahLst/>
            <a:rect l="l" t="t" r="r" b="b"/>
            <a:pathLst>
              <a:path w="288925" h="274638">
                <a:moveTo>
                  <a:pt x="0" y="104902"/>
                </a:moveTo>
                <a:lnTo>
                  <a:pt x="110360" y="104903"/>
                </a:lnTo>
                <a:lnTo>
                  <a:pt x="144463" y="0"/>
                </a:lnTo>
                <a:lnTo>
                  <a:pt x="178565" y="104903"/>
                </a:lnTo>
                <a:lnTo>
                  <a:pt x="288925" y="104902"/>
                </a:lnTo>
                <a:lnTo>
                  <a:pt x="199641" y="169735"/>
                </a:lnTo>
                <a:lnTo>
                  <a:pt x="233745" y="274637"/>
                </a:lnTo>
                <a:lnTo>
                  <a:pt x="144463" y="209803"/>
                </a:lnTo>
                <a:lnTo>
                  <a:pt x="55180" y="274637"/>
                </a:lnTo>
                <a:lnTo>
                  <a:pt x="89284" y="169735"/>
                </a:lnTo>
                <a:lnTo>
                  <a:pt x="0" y="104902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38"/>
          <p:cNvSpPr/>
          <p:nvPr/>
        </p:nvSpPr>
        <p:spPr>
          <a:xfrm rot="20247600">
            <a:off x="-6261120" y="-2216160"/>
            <a:ext cx="360360" cy="343080"/>
          </a:xfrm>
          <a:custGeom>
            <a:avLst/>
            <a:gdLst/>
            <a:ahLst/>
            <a:rect l="l" t="t" r="r" b="b"/>
            <a:pathLst>
              <a:path w="360362" h="342900">
                <a:moveTo>
                  <a:pt x="0" y="130976"/>
                </a:moveTo>
                <a:lnTo>
                  <a:pt x="137647" y="130977"/>
                </a:lnTo>
                <a:lnTo>
                  <a:pt x="180181" y="0"/>
                </a:lnTo>
                <a:lnTo>
                  <a:pt x="222715" y="130977"/>
                </a:lnTo>
                <a:lnTo>
                  <a:pt x="360362" y="130976"/>
                </a:lnTo>
                <a:lnTo>
                  <a:pt x="249003" y="211923"/>
                </a:lnTo>
                <a:lnTo>
                  <a:pt x="291539" y="342899"/>
                </a:lnTo>
                <a:lnTo>
                  <a:pt x="180181" y="261950"/>
                </a:lnTo>
                <a:lnTo>
                  <a:pt x="68823" y="342899"/>
                </a:lnTo>
                <a:lnTo>
                  <a:pt x="111359" y="211923"/>
                </a:lnTo>
                <a:lnTo>
                  <a:pt x="0" y="130976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39"/>
          <p:cNvSpPr/>
          <p:nvPr/>
        </p:nvSpPr>
        <p:spPr>
          <a:xfrm rot="20252400">
            <a:off x="-6405480" y="-2717280"/>
            <a:ext cx="431640" cy="411120"/>
          </a:xfrm>
          <a:custGeom>
            <a:avLst/>
            <a:gdLst/>
            <a:ahLst/>
            <a:rect l="l" t="t" r="r" b="b"/>
            <a:pathLst>
              <a:path w="431800" h="411162">
                <a:moveTo>
                  <a:pt x="0" y="157050"/>
                </a:moveTo>
                <a:lnTo>
                  <a:pt x="164934" y="157051"/>
                </a:lnTo>
                <a:lnTo>
                  <a:pt x="215900" y="0"/>
                </a:lnTo>
                <a:lnTo>
                  <a:pt x="266866" y="157051"/>
                </a:lnTo>
                <a:lnTo>
                  <a:pt x="431800" y="157050"/>
                </a:lnTo>
                <a:lnTo>
                  <a:pt x="298365" y="254111"/>
                </a:lnTo>
                <a:lnTo>
                  <a:pt x="349333" y="411161"/>
                </a:lnTo>
                <a:lnTo>
                  <a:pt x="215900" y="314098"/>
                </a:lnTo>
                <a:lnTo>
                  <a:pt x="82467" y="411161"/>
                </a:lnTo>
                <a:lnTo>
                  <a:pt x="133435" y="254111"/>
                </a:lnTo>
                <a:lnTo>
                  <a:pt x="0" y="15705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40"/>
          <p:cNvSpPr/>
          <p:nvPr/>
        </p:nvSpPr>
        <p:spPr>
          <a:xfrm rot="20256000">
            <a:off x="-6765840" y="1163160"/>
            <a:ext cx="576000" cy="547920"/>
          </a:xfrm>
          <a:custGeom>
            <a:avLst/>
            <a:gdLst/>
            <a:ahLst/>
            <a:rect l="l" t="t" r="r" b="b"/>
            <a:pathLst>
              <a:path w="576262" h="547687">
                <a:moveTo>
                  <a:pt x="1" y="209197"/>
                </a:moveTo>
                <a:lnTo>
                  <a:pt x="220114" y="209199"/>
                </a:lnTo>
                <a:lnTo>
                  <a:pt x="288131" y="0"/>
                </a:lnTo>
                <a:lnTo>
                  <a:pt x="356148" y="209199"/>
                </a:lnTo>
                <a:lnTo>
                  <a:pt x="576261" y="209197"/>
                </a:lnTo>
                <a:lnTo>
                  <a:pt x="398185" y="338488"/>
                </a:lnTo>
                <a:lnTo>
                  <a:pt x="466205" y="547686"/>
                </a:lnTo>
                <a:lnTo>
                  <a:pt x="288131" y="418393"/>
                </a:lnTo>
                <a:lnTo>
                  <a:pt x="110057" y="547686"/>
                </a:lnTo>
                <a:lnTo>
                  <a:pt x="178077" y="338488"/>
                </a:lnTo>
                <a:lnTo>
                  <a:pt x="1" y="209197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41"/>
          <p:cNvSpPr/>
          <p:nvPr/>
        </p:nvSpPr>
        <p:spPr>
          <a:xfrm>
            <a:off x="5329080" y="-2443320"/>
            <a:ext cx="1008360" cy="957240"/>
          </a:xfrm>
          <a:custGeom>
            <a:avLst/>
            <a:gdLst/>
            <a:ahLst/>
            <a:rect l="l" t="t" r="r" b="b"/>
            <a:pathLst>
              <a:path w="1008062" h="957263">
                <a:moveTo>
                  <a:pt x="1" y="365641"/>
                </a:moveTo>
                <a:lnTo>
                  <a:pt x="385048" y="365644"/>
                </a:lnTo>
                <a:lnTo>
                  <a:pt x="504031" y="0"/>
                </a:lnTo>
                <a:lnTo>
                  <a:pt x="623014" y="365644"/>
                </a:lnTo>
                <a:lnTo>
                  <a:pt x="1008061" y="365641"/>
                </a:lnTo>
                <a:lnTo>
                  <a:pt x="696550" y="591619"/>
                </a:lnTo>
                <a:lnTo>
                  <a:pt x="815539" y="957261"/>
                </a:lnTo>
                <a:lnTo>
                  <a:pt x="504031" y="731279"/>
                </a:lnTo>
                <a:lnTo>
                  <a:pt x="192523" y="957261"/>
                </a:lnTo>
                <a:lnTo>
                  <a:pt x="311512" y="591619"/>
                </a:lnTo>
                <a:lnTo>
                  <a:pt x="1" y="365641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42"/>
          <p:cNvSpPr/>
          <p:nvPr/>
        </p:nvSpPr>
        <p:spPr>
          <a:xfrm rot="19608000">
            <a:off x="7483320" y="-6154200"/>
            <a:ext cx="1764000" cy="1677960"/>
          </a:xfrm>
          <a:custGeom>
            <a:avLst/>
            <a:gdLst/>
            <a:ahLst/>
            <a:rect l="l" t="t" r="r" b="b"/>
            <a:pathLst>
              <a:path w="1763713" h="1677988">
                <a:moveTo>
                  <a:pt x="2" y="640933"/>
                </a:moveTo>
                <a:lnTo>
                  <a:pt x="673682" y="640937"/>
                </a:lnTo>
                <a:lnTo>
                  <a:pt x="881857" y="0"/>
                </a:lnTo>
                <a:lnTo>
                  <a:pt x="1090031" y="640937"/>
                </a:lnTo>
                <a:lnTo>
                  <a:pt x="1763711" y="640933"/>
                </a:lnTo>
                <a:lnTo>
                  <a:pt x="1218690" y="1037049"/>
                </a:lnTo>
                <a:lnTo>
                  <a:pt x="1426873" y="1677984"/>
                </a:lnTo>
                <a:lnTo>
                  <a:pt x="881857" y="1281860"/>
                </a:lnTo>
                <a:lnTo>
                  <a:pt x="336840" y="1677984"/>
                </a:lnTo>
                <a:lnTo>
                  <a:pt x="545023" y="1037049"/>
                </a:lnTo>
                <a:lnTo>
                  <a:pt x="2" y="640933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143"/>
          <p:cNvSpPr/>
          <p:nvPr/>
        </p:nvSpPr>
        <p:spPr>
          <a:xfrm rot="20061000">
            <a:off x="5292360" y="-3327480"/>
            <a:ext cx="576360" cy="544680"/>
          </a:xfrm>
          <a:custGeom>
            <a:avLst/>
            <a:gdLst/>
            <a:ahLst/>
            <a:rect l="l" t="t" r="r" b="b"/>
            <a:pathLst>
              <a:path w="576263" h="544512">
                <a:moveTo>
                  <a:pt x="1" y="207985"/>
                </a:moveTo>
                <a:lnTo>
                  <a:pt x="220114" y="207986"/>
                </a:lnTo>
                <a:lnTo>
                  <a:pt x="288132" y="0"/>
                </a:lnTo>
                <a:lnTo>
                  <a:pt x="356149" y="207986"/>
                </a:lnTo>
                <a:lnTo>
                  <a:pt x="576262" y="207985"/>
                </a:lnTo>
                <a:lnTo>
                  <a:pt x="398186" y="336526"/>
                </a:lnTo>
                <a:lnTo>
                  <a:pt x="466206" y="544511"/>
                </a:lnTo>
                <a:lnTo>
                  <a:pt x="288132" y="415967"/>
                </a:lnTo>
                <a:lnTo>
                  <a:pt x="110057" y="544511"/>
                </a:lnTo>
                <a:lnTo>
                  <a:pt x="178077" y="336526"/>
                </a:lnTo>
                <a:lnTo>
                  <a:pt x="1" y="207985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44"/>
          <p:cNvSpPr/>
          <p:nvPr/>
        </p:nvSpPr>
        <p:spPr>
          <a:xfrm>
            <a:off x="5076720" y="-3270240"/>
            <a:ext cx="289080" cy="274680"/>
          </a:xfrm>
          <a:custGeom>
            <a:avLst/>
            <a:gdLst/>
            <a:ahLst/>
            <a:rect l="l" t="t" r="r" b="b"/>
            <a:pathLst>
              <a:path w="288925" h="274637">
                <a:moveTo>
                  <a:pt x="0" y="104902"/>
                </a:moveTo>
                <a:lnTo>
                  <a:pt x="110360" y="104902"/>
                </a:lnTo>
                <a:lnTo>
                  <a:pt x="144463" y="0"/>
                </a:lnTo>
                <a:lnTo>
                  <a:pt x="178565" y="104902"/>
                </a:lnTo>
                <a:lnTo>
                  <a:pt x="288925" y="104902"/>
                </a:lnTo>
                <a:lnTo>
                  <a:pt x="199641" y="169734"/>
                </a:lnTo>
                <a:lnTo>
                  <a:pt x="233745" y="274636"/>
                </a:lnTo>
                <a:lnTo>
                  <a:pt x="144463" y="209803"/>
                </a:lnTo>
                <a:lnTo>
                  <a:pt x="55180" y="274636"/>
                </a:lnTo>
                <a:lnTo>
                  <a:pt x="89284" y="169734"/>
                </a:lnTo>
                <a:lnTo>
                  <a:pt x="0" y="104902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45"/>
          <p:cNvSpPr/>
          <p:nvPr/>
        </p:nvSpPr>
        <p:spPr>
          <a:xfrm>
            <a:off x="5653080" y="-6211800"/>
            <a:ext cx="1536840" cy="1458720"/>
          </a:xfrm>
          <a:custGeom>
            <a:avLst/>
            <a:gdLst/>
            <a:ahLst/>
            <a:rect l="l" t="t" r="r" b="b"/>
            <a:pathLst>
              <a:path w="1536700" h="1458913">
                <a:moveTo>
                  <a:pt x="2" y="557254"/>
                </a:moveTo>
                <a:lnTo>
                  <a:pt x="586970" y="557258"/>
                </a:lnTo>
                <a:lnTo>
                  <a:pt x="768350" y="0"/>
                </a:lnTo>
                <a:lnTo>
                  <a:pt x="949730" y="557258"/>
                </a:lnTo>
                <a:lnTo>
                  <a:pt x="1536698" y="557254"/>
                </a:lnTo>
                <a:lnTo>
                  <a:pt x="1061828" y="901654"/>
                </a:lnTo>
                <a:lnTo>
                  <a:pt x="1243215" y="1458909"/>
                </a:lnTo>
                <a:lnTo>
                  <a:pt x="768350" y="1114503"/>
                </a:lnTo>
                <a:lnTo>
                  <a:pt x="293485" y="1458909"/>
                </a:lnTo>
                <a:lnTo>
                  <a:pt x="474872" y="901654"/>
                </a:lnTo>
                <a:lnTo>
                  <a:pt x="2" y="557254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146"/>
          <p:cNvSpPr/>
          <p:nvPr/>
        </p:nvSpPr>
        <p:spPr>
          <a:xfrm>
            <a:off x="4573440" y="-3700440"/>
            <a:ext cx="360360" cy="347760"/>
          </a:xfrm>
          <a:custGeom>
            <a:avLst/>
            <a:gdLst/>
            <a:ahLst/>
            <a:rect l="l" t="t" r="r" b="b"/>
            <a:pathLst>
              <a:path w="360362" h="347663">
                <a:moveTo>
                  <a:pt x="0" y="132795"/>
                </a:moveTo>
                <a:lnTo>
                  <a:pt x="137647" y="132796"/>
                </a:lnTo>
                <a:lnTo>
                  <a:pt x="180181" y="0"/>
                </a:lnTo>
                <a:lnTo>
                  <a:pt x="222715" y="132796"/>
                </a:lnTo>
                <a:lnTo>
                  <a:pt x="360362" y="132795"/>
                </a:lnTo>
                <a:lnTo>
                  <a:pt x="249003" y="214867"/>
                </a:lnTo>
                <a:lnTo>
                  <a:pt x="291539" y="347662"/>
                </a:lnTo>
                <a:lnTo>
                  <a:pt x="180181" y="265589"/>
                </a:lnTo>
                <a:lnTo>
                  <a:pt x="68823" y="347662"/>
                </a:lnTo>
                <a:lnTo>
                  <a:pt x="111359" y="214867"/>
                </a:lnTo>
                <a:lnTo>
                  <a:pt x="0" y="132795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47"/>
          <p:cNvSpPr/>
          <p:nvPr/>
        </p:nvSpPr>
        <p:spPr>
          <a:xfrm>
            <a:off x="4789440" y="-4622760"/>
            <a:ext cx="1008000" cy="954000"/>
          </a:xfrm>
          <a:custGeom>
            <a:avLst/>
            <a:gdLst/>
            <a:ahLst/>
            <a:rect l="l" t="t" r="r" b="b"/>
            <a:pathLst>
              <a:path w="1008062" h="954087">
                <a:moveTo>
                  <a:pt x="1" y="364428"/>
                </a:moveTo>
                <a:lnTo>
                  <a:pt x="385048" y="364430"/>
                </a:lnTo>
                <a:lnTo>
                  <a:pt x="504031" y="0"/>
                </a:lnTo>
                <a:lnTo>
                  <a:pt x="623014" y="364430"/>
                </a:lnTo>
                <a:lnTo>
                  <a:pt x="1008061" y="364428"/>
                </a:lnTo>
                <a:lnTo>
                  <a:pt x="696550" y="589656"/>
                </a:lnTo>
                <a:lnTo>
                  <a:pt x="815539" y="954085"/>
                </a:lnTo>
                <a:lnTo>
                  <a:pt x="504031" y="728853"/>
                </a:lnTo>
                <a:lnTo>
                  <a:pt x="192523" y="954085"/>
                </a:lnTo>
                <a:lnTo>
                  <a:pt x="311512" y="589656"/>
                </a:lnTo>
                <a:lnTo>
                  <a:pt x="1" y="364428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48"/>
          <p:cNvSpPr/>
          <p:nvPr/>
        </p:nvSpPr>
        <p:spPr>
          <a:xfrm>
            <a:off x="4429080" y="-4199040"/>
            <a:ext cx="432000" cy="408240"/>
          </a:xfrm>
          <a:custGeom>
            <a:avLst/>
            <a:gdLst/>
            <a:ahLst/>
            <a:rect l="l" t="t" r="r" b="b"/>
            <a:pathLst>
              <a:path w="431800" h="407988">
                <a:moveTo>
                  <a:pt x="0" y="155837"/>
                </a:moveTo>
                <a:lnTo>
                  <a:pt x="164934" y="155838"/>
                </a:lnTo>
                <a:lnTo>
                  <a:pt x="215900" y="0"/>
                </a:lnTo>
                <a:lnTo>
                  <a:pt x="266866" y="155838"/>
                </a:lnTo>
                <a:lnTo>
                  <a:pt x="431800" y="155837"/>
                </a:lnTo>
                <a:lnTo>
                  <a:pt x="298365" y="252149"/>
                </a:lnTo>
                <a:lnTo>
                  <a:pt x="349333" y="407987"/>
                </a:lnTo>
                <a:lnTo>
                  <a:pt x="215900" y="311673"/>
                </a:lnTo>
                <a:lnTo>
                  <a:pt x="82467" y="407987"/>
                </a:lnTo>
                <a:lnTo>
                  <a:pt x="133435" y="252149"/>
                </a:lnTo>
                <a:lnTo>
                  <a:pt x="0" y="155837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149"/>
          <p:cNvSpPr/>
          <p:nvPr/>
        </p:nvSpPr>
        <p:spPr>
          <a:xfrm>
            <a:off x="5292720" y="-4842000"/>
            <a:ext cx="576360" cy="552600"/>
          </a:xfrm>
          <a:custGeom>
            <a:avLst/>
            <a:gdLst/>
            <a:ahLst/>
            <a:rect l="l" t="t" r="r" b="b"/>
            <a:pathLst>
              <a:path w="576263" h="552450">
                <a:moveTo>
                  <a:pt x="1" y="211017"/>
                </a:moveTo>
                <a:lnTo>
                  <a:pt x="220114" y="211018"/>
                </a:lnTo>
                <a:lnTo>
                  <a:pt x="288132" y="0"/>
                </a:lnTo>
                <a:lnTo>
                  <a:pt x="356149" y="211018"/>
                </a:lnTo>
                <a:lnTo>
                  <a:pt x="576262" y="211017"/>
                </a:lnTo>
                <a:lnTo>
                  <a:pt x="398186" y="341431"/>
                </a:lnTo>
                <a:lnTo>
                  <a:pt x="466206" y="552449"/>
                </a:lnTo>
                <a:lnTo>
                  <a:pt x="288132" y="422031"/>
                </a:lnTo>
                <a:lnTo>
                  <a:pt x="110057" y="552449"/>
                </a:lnTo>
                <a:lnTo>
                  <a:pt x="178077" y="341431"/>
                </a:lnTo>
                <a:lnTo>
                  <a:pt x="1" y="211017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150"/>
          <p:cNvSpPr/>
          <p:nvPr/>
        </p:nvSpPr>
        <p:spPr>
          <a:xfrm rot="20061000">
            <a:off x="11412000" y="-6159600"/>
            <a:ext cx="576360" cy="552600"/>
          </a:xfrm>
          <a:custGeom>
            <a:avLst/>
            <a:gdLst/>
            <a:ahLst/>
            <a:rect l="l" t="t" r="r" b="b"/>
            <a:pathLst>
              <a:path w="576262" h="552450">
                <a:moveTo>
                  <a:pt x="1" y="211017"/>
                </a:moveTo>
                <a:lnTo>
                  <a:pt x="220114" y="211018"/>
                </a:lnTo>
                <a:lnTo>
                  <a:pt x="288131" y="0"/>
                </a:lnTo>
                <a:lnTo>
                  <a:pt x="356148" y="211018"/>
                </a:lnTo>
                <a:lnTo>
                  <a:pt x="576261" y="211017"/>
                </a:lnTo>
                <a:lnTo>
                  <a:pt x="398185" y="341431"/>
                </a:lnTo>
                <a:lnTo>
                  <a:pt x="466205" y="552449"/>
                </a:lnTo>
                <a:lnTo>
                  <a:pt x="288131" y="422031"/>
                </a:lnTo>
                <a:lnTo>
                  <a:pt x="110057" y="552449"/>
                </a:lnTo>
                <a:lnTo>
                  <a:pt x="178077" y="341431"/>
                </a:lnTo>
                <a:lnTo>
                  <a:pt x="1" y="211017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151"/>
          <p:cNvSpPr/>
          <p:nvPr/>
        </p:nvSpPr>
        <p:spPr>
          <a:xfrm>
            <a:off x="11052000" y="-5727600"/>
            <a:ext cx="289080" cy="274680"/>
          </a:xfrm>
          <a:custGeom>
            <a:avLst/>
            <a:gdLst/>
            <a:ahLst/>
            <a:rect l="l" t="t" r="r" b="b"/>
            <a:pathLst>
              <a:path w="288925" h="274637">
                <a:moveTo>
                  <a:pt x="0" y="104902"/>
                </a:moveTo>
                <a:lnTo>
                  <a:pt x="110360" y="104902"/>
                </a:lnTo>
                <a:lnTo>
                  <a:pt x="144463" y="0"/>
                </a:lnTo>
                <a:lnTo>
                  <a:pt x="178565" y="104902"/>
                </a:lnTo>
                <a:lnTo>
                  <a:pt x="288925" y="104902"/>
                </a:lnTo>
                <a:lnTo>
                  <a:pt x="199641" y="169734"/>
                </a:lnTo>
                <a:lnTo>
                  <a:pt x="233745" y="274636"/>
                </a:lnTo>
                <a:lnTo>
                  <a:pt x="144463" y="209803"/>
                </a:lnTo>
                <a:lnTo>
                  <a:pt x="55180" y="274636"/>
                </a:lnTo>
                <a:lnTo>
                  <a:pt x="89284" y="169734"/>
                </a:lnTo>
                <a:lnTo>
                  <a:pt x="0" y="104902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152"/>
          <p:cNvSpPr/>
          <p:nvPr/>
        </p:nvSpPr>
        <p:spPr>
          <a:xfrm>
            <a:off x="10549080" y="-6159600"/>
            <a:ext cx="360360" cy="346320"/>
          </a:xfrm>
          <a:custGeom>
            <a:avLst/>
            <a:gdLst/>
            <a:ahLst/>
            <a:rect l="l" t="t" r="r" b="b"/>
            <a:pathLst>
              <a:path w="360362" h="346075">
                <a:moveTo>
                  <a:pt x="0" y="132189"/>
                </a:moveTo>
                <a:lnTo>
                  <a:pt x="137647" y="132189"/>
                </a:lnTo>
                <a:lnTo>
                  <a:pt x="180181" y="0"/>
                </a:lnTo>
                <a:lnTo>
                  <a:pt x="222715" y="132189"/>
                </a:lnTo>
                <a:lnTo>
                  <a:pt x="360362" y="132189"/>
                </a:lnTo>
                <a:lnTo>
                  <a:pt x="249003" y="213885"/>
                </a:lnTo>
                <a:lnTo>
                  <a:pt x="291539" y="346074"/>
                </a:lnTo>
                <a:lnTo>
                  <a:pt x="180181" y="264376"/>
                </a:lnTo>
                <a:lnTo>
                  <a:pt x="68823" y="346074"/>
                </a:lnTo>
                <a:lnTo>
                  <a:pt x="111359" y="213885"/>
                </a:lnTo>
                <a:lnTo>
                  <a:pt x="0" y="132189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153"/>
          <p:cNvSpPr/>
          <p:nvPr/>
        </p:nvSpPr>
        <p:spPr>
          <a:xfrm>
            <a:off x="10404360" y="-6656400"/>
            <a:ext cx="432000" cy="406440"/>
          </a:xfrm>
          <a:custGeom>
            <a:avLst/>
            <a:gdLst/>
            <a:ahLst/>
            <a:rect l="l" t="t" r="r" b="b"/>
            <a:pathLst>
              <a:path w="431800" h="406400">
                <a:moveTo>
                  <a:pt x="0" y="155231"/>
                </a:moveTo>
                <a:lnTo>
                  <a:pt x="164934" y="155232"/>
                </a:lnTo>
                <a:lnTo>
                  <a:pt x="215900" y="0"/>
                </a:lnTo>
                <a:lnTo>
                  <a:pt x="266866" y="155232"/>
                </a:lnTo>
                <a:lnTo>
                  <a:pt x="431800" y="155231"/>
                </a:lnTo>
                <a:lnTo>
                  <a:pt x="298365" y="251168"/>
                </a:lnTo>
                <a:lnTo>
                  <a:pt x="349333" y="406399"/>
                </a:lnTo>
                <a:lnTo>
                  <a:pt x="215900" y="310460"/>
                </a:lnTo>
                <a:lnTo>
                  <a:pt x="82467" y="406399"/>
                </a:lnTo>
                <a:lnTo>
                  <a:pt x="133435" y="251168"/>
                </a:lnTo>
                <a:lnTo>
                  <a:pt x="0" y="155231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54"/>
          <p:cNvSpPr/>
          <p:nvPr/>
        </p:nvSpPr>
        <p:spPr>
          <a:xfrm>
            <a:off x="8893080" y="-6516720"/>
            <a:ext cx="576360" cy="544680"/>
          </a:xfrm>
          <a:custGeom>
            <a:avLst/>
            <a:gdLst/>
            <a:ahLst/>
            <a:rect l="l" t="t" r="r" b="b"/>
            <a:pathLst>
              <a:path w="576263" h="544513">
                <a:moveTo>
                  <a:pt x="1" y="207985"/>
                </a:moveTo>
                <a:lnTo>
                  <a:pt x="220114" y="207986"/>
                </a:lnTo>
                <a:lnTo>
                  <a:pt x="288132" y="0"/>
                </a:lnTo>
                <a:lnTo>
                  <a:pt x="356149" y="207986"/>
                </a:lnTo>
                <a:lnTo>
                  <a:pt x="576262" y="207985"/>
                </a:lnTo>
                <a:lnTo>
                  <a:pt x="398186" y="336526"/>
                </a:lnTo>
                <a:lnTo>
                  <a:pt x="466206" y="544512"/>
                </a:lnTo>
                <a:lnTo>
                  <a:pt x="288132" y="415968"/>
                </a:lnTo>
                <a:lnTo>
                  <a:pt x="110057" y="544512"/>
                </a:lnTo>
                <a:lnTo>
                  <a:pt x="178077" y="336526"/>
                </a:lnTo>
                <a:lnTo>
                  <a:pt x="1" y="207985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55"/>
          <p:cNvSpPr/>
          <p:nvPr/>
        </p:nvSpPr>
        <p:spPr>
          <a:xfrm>
            <a:off x="8386920" y="-6545160"/>
            <a:ext cx="288720" cy="271440"/>
          </a:xfrm>
          <a:custGeom>
            <a:avLst/>
            <a:gdLst/>
            <a:ahLst/>
            <a:rect l="l" t="t" r="r" b="b"/>
            <a:pathLst>
              <a:path w="288925" h="271463">
                <a:moveTo>
                  <a:pt x="0" y="103689"/>
                </a:moveTo>
                <a:lnTo>
                  <a:pt x="110360" y="103690"/>
                </a:lnTo>
                <a:lnTo>
                  <a:pt x="144463" y="0"/>
                </a:lnTo>
                <a:lnTo>
                  <a:pt x="178565" y="103690"/>
                </a:lnTo>
                <a:lnTo>
                  <a:pt x="288925" y="103689"/>
                </a:lnTo>
                <a:lnTo>
                  <a:pt x="199641" y="167773"/>
                </a:lnTo>
                <a:lnTo>
                  <a:pt x="233745" y="271462"/>
                </a:lnTo>
                <a:lnTo>
                  <a:pt x="144463" y="207378"/>
                </a:lnTo>
                <a:lnTo>
                  <a:pt x="55180" y="271462"/>
                </a:lnTo>
                <a:lnTo>
                  <a:pt x="89284" y="167773"/>
                </a:lnTo>
                <a:lnTo>
                  <a:pt x="0" y="103689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56"/>
          <p:cNvSpPr/>
          <p:nvPr/>
        </p:nvSpPr>
        <p:spPr>
          <a:xfrm>
            <a:off x="9070920" y="-5543640"/>
            <a:ext cx="576360" cy="542880"/>
          </a:xfrm>
          <a:custGeom>
            <a:avLst/>
            <a:gdLst/>
            <a:ahLst/>
            <a:rect l="l" t="t" r="r" b="b"/>
            <a:pathLst>
              <a:path w="576263" h="542925">
                <a:moveTo>
                  <a:pt x="1" y="207378"/>
                </a:moveTo>
                <a:lnTo>
                  <a:pt x="220114" y="207380"/>
                </a:lnTo>
                <a:lnTo>
                  <a:pt x="288132" y="0"/>
                </a:lnTo>
                <a:lnTo>
                  <a:pt x="356149" y="207380"/>
                </a:lnTo>
                <a:lnTo>
                  <a:pt x="576262" y="207378"/>
                </a:lnTo>
                <a:lnTo>
                  <a:pt x="398186" y="335545"/>
                </a:lnTo>
                <a:lnTo>
                  <a:pt x="466206" y="542924"/>
                </a:lnTo>
                <a:lnTo>
                  <a:pt x="288132" y="414755"/>
                </a:lnTo>
                <a:lnTo>
                  <a:pt x="110057" y="542924"/>
                </a:lnTo>
                <a:lnTo>
                  <a:pt x="178077" y="335545"/>
                </a:lnTo>
                <a:lnTo>
                  <a:pt x="1" y="207378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157"/>
          <p:cNvSpPr/>
          <p:nvPr/>
        </p:nvSpPr>
        <p:spPr>
          <a:xfrm rot="19608000">
            <a:off x="9467640" y="-4571640"/>
            <a:ext cx="1008000" cy="954000"/>
          </a:xfrm>
          <a:custGeom>
            <a:avLst/>
            <a:gdLst/>
            <a:ahLst/>
            <a:rect l="l" t="t" r="r" b="b"/>
            <a:pathLst>
              <a:path w="1008063" h="954087">
                <a:moveTo>
                  <a:pt x="1" y="364428"/>
                </a:moveTo>
                <a:lnTo>
                  <a:pt x="385048" y="364430"/>
                </a:lnTo>
                <a:lnTo>
                  <a:pt x="504032" y="0"/>
                </a:lnTo>
                <a:lnTo>
                  <a:pt x="623015" y="364430"/>
                </a:lnTo>
                <a:lnTo>
                  <a:pt x="1008062" y="364428"/>
                </a:lnTo>
                <a:lnTo>
                  <a:pt x="696551" y="589656"/>
                </a:lnTo>
                <a:lnTo>
                  <a:pt x="815539" y="954085"/>
                </a:lnTo>
                <a:lnTo>
                  <a:pt x="504032" y="728853"/>
                </a:lnTo>
                <a:lnTo>
                  <a:pt x="192524" y="954085"/>
                </a:lnTo>
                <a:lnTo>
                  <a:pt x="311512" y="589656"/>
                </a:lnTo>
                <a:lnTo>
                  <a:pt x="1" y="364428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158"/>
          <p:cNvSpPr/>
          <p:nvPr/>
        </p:nvSpPr>
        <p:spPr>
          <a:xfrm>
            <a:off x="9469440" y="-5919840"/>
            <a:ext cx="1008000" cy="957240"/>
          </a:xfrm>
          <a:custGeom>
            <a:avLst/>
            <a:gdLst/>
            <a:ahLst/>
            <a:rect l="l" t="t" r="r" b="b"/>
            <a:pathLst>
              <a:path w="1008062" h="957263">
                <a:moveTo>
                  <a:pt x="1" y="365641"/>
                </a:moveTo>
                <a:lnTo>
                  <a:pt x="385048" y="365644"/>
                </a:lnTo>
                <a:lnTo>
                  <a:pt x="504031" y="0"/>
                </a:lnTo>
                <a:lnTo>
                  <a:pt x="623014" y="365644"/>
                </a:lnTo>
                <a:lnTo>
                  <a:pt x="1008061" y="365641"/>
                </a:lnTo>
                <a:lnTo>
                  <a:pt x="696550" y="591619"/>
                </a:lnTo>
                <a:lnTo>
                  <a:pt x="815539" y="957261"/>
                </a:lnTo>
                <a:lnTo>
                  <a:pt x="504031" y="731279"/>
                </a:lnTo>
                <a:lnTo>
                  <a:pt x="192523" y="957261"/>
                </a:lnTo>
                <a:lnTo>
                  <a:pt x="311512" y="591619"/>
                </a:lnTo>
                <a:lnTo>
                  <a:pt x="1" y="365641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159"/>
          <p:cNvGrpSpPr/>
          <p:nvPr/>
        </p:nvGrpSpPr>
        <p:grpSpPr>
          <a:xfrm>
            <a:off x="-5505480" y="-4989960"/>
            <a:ext cx="18286200" cy="15574320"/>
            <a:chOff x="-5505480" y="-4989960"/>
            <a:chExt cx="18286200" cy="15574320"/>
          </a:xfrm>
        </p:grpSpPr>
        <p:sp>
          <p:nvSpPr>
            <p:cNvPr id="199" name="AutoShape 160"/>
            <p:cNvSpPr/>
            <p:nvPr/>
          </p:nvSpPr>
          <p:spPr>
            <a:xfrm rot="736800">
              <a:off x="-2191320" y="2426040"/>
              <a:ext cx="1188720" cy="10285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18" y="3827"/>
                  </a:lnTo>
                  <a:lnTo>
                    <a:pt x="5007" y="0"/>
                  </a:lnTo>
                  <a:lnTo>
                    <a:pt x="6182" y="3827"/>
                  </a:lnTo>
                  <a:lnTo>
                    <a:pt x="10000" y="3827"/>
                  </a:lnTo>
                  <a:lnTo>
                    <a:pt x="6916" y="6173"/>
                  </a:lnTo>
                  <a:lnTo>
                    <a:pt x="8091" y="10000"/>
                  </a:lnTo>
                  <a:lnTo>
                    <a:pt x="5007" y="7639"/>
                  </a:lnTo>
                  <a:lnTo>
                    <a:pt x="1909" y="10000"/>
                  </a:lnTo>
                  <a:lnTo>
                    <a:pt x="3084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utoShape 161"/>
            <p:cNvSpPr/>
            <p:nvPr/>
          </p:nvSpPr>
          <p:spPr>
            <a:xfrm>
              <a:off x="-501120" y="6098400"/>
              <a:ext cx="1007640" cy="9572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14"/>
                  </a:moveTo>
                  <a:lnTo>
                    <a:pt x="3827" y="3814"/>
                  </a:lnTo>
                  <a:lnTo>
                    <a:pt x="5008" y="0"/>
                  </a:lnTo>
                  <a:lnTo>
                    <a:pt x="6173" y="3814"/>
                  </a:lnTo>
                  <a:lnTo>
                    <a:pt x="10000" y="3814"/>
                  </a:lnTo>
                  <a:lnTo>
                    <a:pt x="6913" y="6186"/>
                  </a:lnTo>
                  <a:lnTo>
                    <a:pt x="8094" y="10000"/>
                  </a:lnTo>
                  <a:lnTo>
                    <a:pt x="5008" y="7645"/>
                  </a:lnTo>
                  <a:lnTo>
                    <a:pt x="1906" y="10000"/>
                  </a:lnTo>
                  <a:lnTo>
                    <a:pt x="3087" y="6186"/>
                  </a:lnTo>
                  <a:lnTo>
                    <a:pt x="0" y="381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AutoShape 162"/>
            <p:cNvSpPr/>
            <p:nvPr/>
          </p:nvSpPr>
          <p:spPr>
            <a:xfrm>
              <a:off x="9649800" y="1202400"/>
              <a:ext cx="1007640" cy="9572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14"/>
                  </a:moveTo>
                  <a:lnTo>
                    <a:pt x="3827" y="3814"/>
                  </a:lnTo>
                  <a:lnTo>
                    <a:pt x="5008" y="0"/>
                  </a:lnTo>
                  <a:lnTo>
                    <a:pt x="6173" y="3814"/>
                  </a:lnTo>
                  <a:lnTo>
                    <a:pt x="10000" y="3814"/>
                  </a:lnTo>
                  <a:lnTo>
                    <a:pt x="6913" y="6186"/>
                  </a:lnTo>
                  <a:lnTo>
                    <a:pt x="8094" y="10000"/>
                  </a:lnTo>
                  <a:lnTo>
                    <a:pt x="5008" y="7645"/>
                  </a:lnTo>
                  <a:lnTo>
                    <a:pt x="1906" y="10000"/>
                  </a:lnTo>
                  <a:lnTo>
                    <a:pt x="3087" y="6186"/>
                  </a:lnTo>
                  <a:lnTo>
                    <a:pt x="0" y="381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AutoShape 163"/>
            <p:cNvSpPr/>
            <p:nvPr/>
          </p:nvSpPr>
          <p:spPr>
            <a:xfrm rot="19930800">
              <a:off x="8533800" y="6890400"/>
              <a:ext cx="2018520" cy="20948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18"/>
                  </a:moveTo>
                  <a:lnTo>
                    <a:pt x="3821" y="3818"/>
                  </a:lnTo>
                  <a:lnTo>
                    <a:pt x="5000" y="0"/>
                  </a:lnTo>
                  <a:lnTo>
                    <a:pt x="6179" y="3818"/>
                  </a:lnTo>
                  <a:lnTo>
                    <a:pt x="10000" y="3818"/>
                  </a:lnTo>
                  <a:lnTo>
                    <a:pt x="6910" y="6182"/>
                  </a:lnTo>
                  <a:lnTo>
                    <a:pt x="8090" y="10000"/>
                  </a:lnTo>
                  <a:lnTo>
                    <a:pt x="5000" y="7636"/>
                  </a:lnTo>
                  <a:lnTo>
                    <a:pt x="1910" y="10000"/>
                  </a:lnTo>
                  <a:lnTo>
                    <a:pt x="3090" y="6182"/>
                  </a:lnTo>
                  <a:lnTo>
                    <a:pt x="0" y="381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AutoShape 164"/>
            <p:cNvSpPr/>
            <p:nvPr/>
          </p:nvSpPr>
          <p:spPr>
            <a:xfrm>
              <a:off x="4142520" y="6961680"/>
              <a:ext cx="360000" cy="3427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43"/>
                  </a:moveTo>
                  <a:lnTo>
                    <a:pt x="3833" y="3843"/>
                  </a:lnTo>
                  <a:lnTo>
                    <a:pt x="5022" y="0"/>
                  </a:lnTo>
                  <a:lnTo>
                    <a:pt x="6167" y="3843"/>
                  </a:lnTo>
                  <a:lnTo>
                    <a:pt x="10000" y="3843"/>
                  </a:lnTo>
                  <a:lnTo>
                    <a:pt x="6916" y="6157"/>
                  </a:lnTo>
                  <a:lnTo>
                    <a:pt x="8106" y="10000"/>
                  </a:lnTo>
                  <a:lnTo>
                    <a:pt x="5022" y="7639"/>
                  </a:lnTo>
                  <a:lnTo>
                    <a:pt x="1894" y="10000"/>
                  </a:lnTo>
                  <a:lnTo>
                    <a:pt x="3084" y="6157"/>
                  </a:lnTo>
                  <a:lnTo>
                    <a:pt x="0" y="3843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165"/>
            <p:cNvSpPr/>
            <p:nvPr/>
          </p:nvSpPr>
          <p:spPr>
            <a:xfrm>
              <a:off x="4969440" y="7141320"/>
              <a:ext cx="575640" cy="5472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6"/>
                  </a:moveTo>
                  <a:lnTo>
                    <a:pt x="3829" y="3826"/>
                  </a:lnTo>
                  <a:lnTo>
                    <a:pt x="5014" y="0"/>
                  </a:lnTo>
                  <a:lnTo>
                    <a:pt x="6171" y="3826"/>
                  </a:lnTo>
                  <a:lnTo>
                    <a:pt x="10000" y="3826"/>
                  </a:lnTo>
                  <a:lnTo>
                    <a:pt x="6915" y="6174"/>
                  </a:lnTo>
                  <a:lnTo>
                    <a:pt x="8099" y="10000"/>
                  </a:lnTo>
                  <a:lnTo>
                    <a:pt x="5014" y="7652"/>
                  </a:lnTo>
                  <a:lnTo>
                    <a:pt x="1901" y="10000"/>
                  </a:lnTo>
                  <a:lnTo>
                    <a:pt x="3085" y="6174"/>
                  </a:lnTo>
                  <a:lnTo>
                    <a:pt x="0" y="3826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166"/>
            <p:cNvSpPr/>
            <p:nvPr/>
          </p:nvSpPr>
          <p:spPr>
            <a:xfrm>
              <a:off x="-2946600" y="-463320"/>
              <a:ext cx="360000" cy="3427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43"/>
                  </a:moveTo>
                  <a:lnTo>
                    <a:pt x="3833" y="3843"/>
                  </a:lnTo>
                  <a:lnTo>
                    <a:pt x="5022" y="0"/>
                  </a:lnTo>
                  <a:lnTo>
                    <a:pt x="6167" y="3843"/>
                  </a:lnTo>
                  <a:lnTo>
                    <a:pt x="10000" y="3843"/>
                  </a:lnTo>
                  <a:lnTo>
                    <a:pt x="6916" y="6157"/>
                  </a:lnTo>
                  <a:lnTo>
                    <a:pt x="8106" y="10000"/>
                  </a:lnTo>
                  <a:lnTo>
                    <a:pt x="5022" y="7639"/>
                  </a:lnTo>
                  <a:lnTo>
                    <a:pt x="1894" y="10000"/>
                  </a:lnTo>
                  <a:lnTo>
                    <a:pt x="3084" y="6157"/>
                  </a:lnTo>
                  <a:lnTo>
                    <a:pt x="0" y="3843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167"/>
            <p:cNvSpPr/>
            <p:nvPr/>
          </p:nvSpPr>
          <p:spPr>
            <a:xfrm rot="15216600">
              <a:off x="1150560" y="-4154400"/>
              <a:ext cx="1624680" cy="15426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17"/>
                  </a:moveTo>
                  <a:lnTo>
                    <a:pt x="3818" y="3817"/>
                  </a:lnTo>
                  <a:lnTo>
                    <a:pt x="5000" y="0"/>
                  </a:lnTo>
                  <a:lnTo>
                    <a:pt x="6182" y="3817"/>
                  </a:lnTo>
                  <a:lnTo>
                    <a:pt x="10000" y="3817"/>
                  </a:lnTo>
                  <a:lnTo>
                    <a:pt x="6914" y="6183"/>
                  </a:lnTo>
                  <a:lnTo>
                    <a:pt x="8086" y="10000"/>
                  </a:lnTo>
                  <a:lnTo>
                    <a:pt x="5000" y="7644"/>
                  </a:lnTo>
                  <a:lnTo>
                    <a:pt x="1914" y="10000"/>
                  </a:lnTo>
                  <a:lnTo>
                    <a:pt x="3086" y="6183"/>
                  </a:lnTo>
                  <a:lnTo>
                    <a:pt x="0" y="3817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168"/>
            <p:cNvSpPr/>
            <p:nvPr/>
          </p:nvSpPr>
          <p:spPr>
            <a:xfrm rot="16555800">
              <a:off x="2582640" y="-4874040"/>
              <a:ext cx="1620000" cy="15390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5"/>
                  </a:moveTo>
                  <a:lnTo>
                    <a:pt x="3820" y="3825"/>
                  </a:lnTo>
                  <a:lnTo>
                    <a:pt x="5005" y="0"/>
                  </a:lnTo>
                  <a:lnTo>
                    <a:pt x="6180" y="3825"/>
                  </a:lnTo>
                  <a:lnTo>
                    <a:pt x="10000" y="3825"/>
                  </a:lnTo>
                  <a:lnTo>
                    <a:pt x="6905" y="6175"/>
                  </a:lnTo>
                  <a:lnTo>
                    <a:pt x="8090" y="10000"/>
                  </a:lnTo>
                  <a:lnTo>
                    <a:pt x="5005" y="7639"/>
                  </a:lnTo>
                  <a:lnTo>
                    <a:pt x="1910" y="10000"/>
                  </a:lnTo>
                  <a:lnTo>
                    <a:pt x="3095" y="6175"/>
                  </a:lnTo>
                  <a:lnTo>
                    <a:pt x="0" y="3825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169"/>
            <p:cNvSpPr/>
            <p:nvPr/>
          </p:nvSpPr>
          <p:spPr>
            <a:xfrm rot="19608000">
              <a:off x="5366160" y="8113680"/>
              <a:ext cx="1007640" cy="9568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14"/>
                  </a:moveTo>
                  <a:lnTo>
                    <a:pt x="3827" y="3814"/>
                  </a:lnTo>
                  <a:lnTo>
                    <a:pt x="5008" y="0"/>
                  </a:lnTo>
                  <a:lnTo>
                    <a:pt x="6173" y="3814"/>
                  </a:lnTo>
                  <a:lnTo>
                    <a:pt x="10000" y="3814"/>
                  </a:lnTo>
                  <a:lnTo>
                    <a:pt x="6913" y="6186"/>
                  </a:lnTo>
                  <a:lnTo>
                    <a:pt x="8094" y="10000"/>
                  </a:lnTo>
                  <a:lnTo>
                    <a:pt x="5008" y="7645"/>
                  </a:lnTo>
                  <a:lnTo>
                    <a:pt x="1906" y="10000"/>
                  </a:lnTo>
                  <a:lnTo>
                    <a:pt x="3087" y="6186"/>
                  </a:lnTo>
                  <a:lnTo>
                    <a:pt x="0" y="381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AutoShape 170"/>
            <p:cNvSpPr/>
            <p:nvPr/>
          </p:nvSpPr>
          <p:spPr>
            <a:xfrm>
              <a:off x="3855240" y="7466760"/>
              <a:ext cx="1007640" cy="9568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14"/>
                  </a:moveTo>
                  <a:lnTo>
                    <a:pt x="3827" y="3814"/>
                  </a:lnTo>
                  <a:lnTo>
                    <a:pt x="5008" y="0"/>
                  </a:lnTo>
                  <a:lnTo>
                    <a:pt x="6173" y="3814"/>
                  </a:lnTo>
                  <a:lnTo>
                    <a:pt x="10000" y="3814"/>
                  </a:lnTo>
                  <a:lnTo>
                    <a:pt x="6913" y="6186"/>
                  </a:lnTo>
                  <a:lnTo>
                    <a:pt x="8094" y="10000"/>
                  </a:lnTo>
                  <a:lnTo>
                    <a:pt x="5008" y="7645"/>
                  </a:lnTo>
                  <a:lnTo>
                    <a:pt x="1906" y="10000"/>
                  </a:lnTo>
                  <a:lnTo>
                    <a:pt x="3087" y="6186"/>
                  </a:lnTo>
                  <a:lnTo>
                    <a:pt x="0" y="381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171"/>
            <p:cNvSpPr/>
            <p:nvPr/>
          </p:nvSpPr>
          <p:spPr>
            <a:xfrm>
              <a:off x="5367600" y="6770160"/>
              <a:ext cx="1008000" cy="9568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14"/>
                  </a:moveTo>
                  <a:lnTo>
                    <a:pt x="3827" y="3814"/>
                  </a:lnTo>
                  <a:lnTo>
                    <a:pt x="5008" y="0"/>
                  </a:lnTo>
                  <a:lnTo>
                    <a:pt x="6173" y="3814"/>
                  </a:lnTo>
                  <a:lnTo>
                    <a:pt x="10000" y="3814"/>
                  </a:lnTo>
                  <a:lnTo>
                    <a:pt x="6913" y="6186"/>
                  </a:lnTo>
                  <a:lnTo>
                    <a:pt x="8094" y="10000"/>
                  </a:lnTo>
                  <a:lnTo>
                    <a:pt x="5008" y="7645"/>
                  </a:lnTo>
                  <a:lnTo>
                    <a:pt x="1906" y="10000"/>
                  </a:lnTo>
                  <a:lnTo>
                    <a:pt x="3087" y="6186"/>
                  </a:lnTo>
                  <a:lnTo>
                    <a:pt x="0" y="381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AutoShape 172"/>
            <p:cNvSpPr/>
            <p:nvPr/>
          </p:nvSpPr>
          <p:spPr>
            <a:xfrm rot="2650200">
              <a:off x="5942160" y="9913320"/>
              <a:ext cx="576000" cy="5475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6"/>
                  </a:moveTo>
                  <a:lnTo>
                    <a:pt x="3829" y="3826"/>
                  </a:lnTo>
                  <a:lnTo>
                    <a:pt x="5014" y="0"/>
                  </a:lnTo>
                  <a:lnTo>
                    <a:pt x="6171" y="3826"/>
                  </a:lnTo>
                  <a:lnTo>
                    <a:pt x="10000" y="3826"/>
                  </a:lnTo>
                  <a:lnTo>
                    <a:pt x="6915" y="6174"/>
                  </a:lnTo>
                  <a:lnTo>
                    <a:pt x="8099" y="10000"/>
                  </a:lnTo>
                  <a:lnTo>
                    <a:pt x="5014" y="7652"/>
                  </a:lnTo>
                  <a:lnTo>
                    <a:pt x="1901" y="10000"/>
                  </a:lnTo>
                  <a:lnTo>
                    <a:pt x="3085" y="6174"/>
                  </a:lnTo>
                  <a:lnTo>
                    <a:pt x="0" y="3826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AutoShape 173"/>
            <p:cNvSpPr/>
            <p:nvPr/>
          </p:nvSpPr>
          <p:spPr>
            <a:xfrm rot="20260800">
              <a:off x="-859680" y="-3259800"/>
              <a:ext cx="1007640" cy="9568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14"/>
                  </a:moveTo>
                  <a:lnTo>
                    <a:pt x="3827" y="3814"/>
                  </a:lnTo>
                  <a:lnTo>
                    <a:pt x="5008" y="0"/>
                  </a:lnTo>
                  <a:lnTo>
                    <a:pt x="6173" y="3814"/>
                  </a:lnTo>
                  <a:lnTo>
                    <a:pt x="10000" y="3814"/>
                  </a:lnTo>
                  <a:lnTo>
                    <a:pt x="6913" y="6186"/>
                  </a:lnTo>
                  <a:lnTo>
                    <a:pt x="8094" y="10000"/>
                  </a:lnTo>
                  <a:lnTo>
                    <a:pt x="5008" y="7645"/>
                  </a:lnTo>
                  <a:lnTo>
                    <a:pt x="1906" y="10000"/>
                  </a:lnTo>
                  <a:lnTo>
                    <a:pt x="3087" y="6186"/>
                  </a:lnTo>
                  <a:lnTo>
                    <a:pt x="0" y="381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174"/>
            <p:cNvSpPr/>
            <p:nvPr/>
          </p:nvSpPr>
          <p:spPr>
            <a:xfrm>
              <a:off x="7238880" y="-1964520"/>
              <a:ext cx="1007640" cy="9568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14"/>
                  </a:moveTo>
                  <a:lnTo>
                    <a:pt x="3827" y="3814"/>
                  </a:lnTo>
                  <a:lnTo>
                    <a:pt x="5008" y="0"/>
                  </a:lnTo>
                  <a:lnTo>
                    <a:pt x="6173" y="3814"/>
                  </a:lnTo>
                  <a:lnTo>
                    <a:pt x="10000" y="3814"/>
                  </a:lnTo>
                  <a:lnTo>
                    <a:pt x="6913" y="6186"/>
                  </a:lnTo>
                  <a:lnTo>
                    <a:pt x="8094" y="10000"/>
                  </a:lnTo>
                  <a:lnTo>
                    <a:pt x="5008" y="7645"/>
                  </a:lnTo>
                  <a:lnTo>
                    <a:pt x="1906" y="10000"/>
                  </a:lnTo>
                  <a:lnTo>
                    <a:pt x="3087" y="6186"/>
                  </a:lnTo>
                  <a:lnTo>
                    <a:pt x="0" y="381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utoShape 175"/>
            <p:cNvSpPr/>
            <p:nvPr/>
          </p:nvSpPr>
          <p:spPr>
            <a:xfrm rot="20061000">
              <a:off x="9686160" y="-1099800"/>
              <a:ext cx="576000" cy="5472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6"/>
                  </a:moveTo>
                  <a:lnTo>
                    <a:pt x="3829" y="3826"/>
                  </a:lnTo>
                  <a:lnTo>
                    <a:pt x="5014" y="0"/>
                  </a:lnTo>
                  <a:lnTo>
                    <a:pt x="6171" y="3826"/>
                  </a:lnTo>
                  <a:lnTo>
                    <a:pt x="10000" y="3826"/>
                  </a:lnTo>
                  <a:lnTo>
                    <a:pt x="6915" y="6174"/>
                  </a:lnTo>
                  <a:lnTo>
                    <a:pt x="8099" y="10000"/>
                  </a:lnTo>
                  <a:lnTo>
                    <a:pt x="5014" y="7652"/>
                  </a:lnTo>
                  <a:lnTo>
                    <a:pt x="1901" y="10000"/>
                  </a:lnTo>
                  <a:lnTo>
                    <a:pt x="3085" y="6174"/>
                  </a:lnTo>
                  <a:lnTo>
                    <a:pt x="0" y="3826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AutoShape 176"/>
            <p:cNvSpPr/>
            <p:nvPr/>
          </p:nvSpPr>
          <p:spPr>
            <a:xfrm>
              <a:off x="9470520" y="-1042560"/>
              <a:ext cx="288360" cy="2743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15"/>
                  </a:moveTo>
                  <a:lnTo>
                    <a:pt x="3846" y="3815"/>
                  </a:lnTo>
                  <a:lnTo>
                    <a:pt x="5000" y="0"/>
                  </a:lnTo>
                  <a:lnTo>
                    <a:pt x="6154" y="3815"/>
                  </a:lnTo>
                  <a:lnTo>
                    <a:pt x="10000" y="3815"/>
                  </a:lnTo>
                  <a:lnTo>
                    <a:pt x="6923" y="6185"/>
                  </a:lnTo>
                  <a:lnTo>
                    <a:pt x="8077" y="10000"/>
                  </a:lnTo>
                  <a:lnTo>
                    <a:pt x="5000" y="7630"/>
                  </a:lnTo>
                  <a:lnTo>
                    <a:pt x="1923" y="10000"/>
                  </a:lnTo>
                  <a:lnTo>
                    <a:pt x="3077" y="6185"/>
                  </a:lnTo>
                  <a:lnTo>
                    <a:pt x="0" y="3815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AutoShape 177"/>
            <p:cNvSpPr/>
            <p:nvPr/>
          </p:nvSpPr>
          <p:spPr>
            <a:xfrm>
              <a:off x="8967240" y="-1469160"/>
              <a:ext cx="360000" cy="3423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43"/>
                  </a:moveTo>
                  <a:lnTo>
                    <a:pt x="3833" y="3843"/>
                  </a:lnTo>
                  <a:lnTo>
                    <a:pt x="5022" y="0"/>
                  </a:lnTo>
                  <a:lnTo>
                    <a:pt x="6167" y="3843"/>
                  </a:lnTo>
                  <a:lnTo>
                    <a:pt x="10000" y="3843"/>
                  </a:lnTo>
                  <a:lnTo>
                    <a:pt x="6916" y="6157"/>
                  </a:lnTo>
                  <a:lnTo>
                    <a:pt x="8106" y="10000"/>
                  </a:lnTo>
                  <a:lnTo>
                    <a:pt x="5022" y="7639"/>
                  </a:lnTo>
                  <a:lnTo>
                    <a:pt x="1894" y="10000"/>
                  </a:lnTo>
                  <a:lnTo>
                    <a:pt x="3084" y="6157"/>
                  </a:lnTo>
                  <a:lnTo>
                    <a:pt x="0" y="3843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AutoShape 178"/>
            <p:cNvSpPr/>
            <p:nvPr/>
          </p:nvSpPr>
          <p:spPr>
            <a:xfrm>
              <a:off x="9182880" y="-2394720"/>
              <a:ext cx="1008000" cy="9568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14"/>
                  </a:moveTo>
                  <a:lnTo>
                    <a:pt x="3827" y="3814"/>
                  </a:lnTo>
                  <a:lnTo>
                    <a:pt x="5008" y="0"/>
                  </a:lnTo>
                  <a:lnTo>
                    <a:pt x="6173" y="3814"/>
                  </a:lnTo>
                  <a:lnTo>
                    <a:pt x="10000" y="3814"/>
                  </a:lnTo>
                  <a:lnTo>
                    <a:pt x="6913" y="6186"/>
                  </a:lnTo>
                  <a:lnTo>
                    <a:pt x="8094" y="10000"/>
                  </a:lnTo>
                  <a:lnTo>
                    <a:pt x="5008" y="7645"/>
                  </a:lnTo>
                  <a:lnTo>
                    <a:pt x="1906" y="10000"/>
                  </a:lnTo>
                  <a:lnTo>
                    <a:pt x="3087" y="6186"/>
                  </a:lnTo>
                  <a:lnTo>
                    <a:pt x="0" y="381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AutoShape 179"/>
            <p:cNvSpPr/>
            <p:nvPr/>
          </p:nvSpPr>
          <p:spPr>
            <a:xfrm>
              <a:off x="8822520" y="-1971000"/>
              <a:ext cx="431640" cy="410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2"/>
                  </a:moveTo>
                  <a:lnTo>
                    <a:pt x="3824" y="3822"/>
                  </a:lnTo>
                  <a:lnTo>
                    <a:pt x="5000" y="0"/>
                  </a:lnTo>
                  <a:lnTo>
                    <a:pt x="6176" y="3822"/>
                  </a:lnTo>
                  <a:lnTo>
                    <a:pt x="10000" y="3822"/>
                  </a:lnTo>
                  <a:lnTo>
                    <a:pt x="6912" y="6178"/>
                  </a:lnTo>
                  <a:lnTo>
                    <a:pt x="8088" y="10000"/>
                  </a:lnTo>
                  <a:lnTo>
                    <a:pt x="5000" y="7645"/>
                  </a:lnTo>
                  <a:lnTo>
                    <a:pt x="1912" y="10000"/>
                  </a:lnTo>
                  <a:lnTo>
                    <a:pt x="3088" y="6178"/>
                  </a:lnTo>
                  <a:lnTo>
                    <a:pt x="0" y="3822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AutoShape 180"/>
            <p:cNvSpPr/>
            <p:nvPr/>
          </p:nvSpPr>
          <p:spPr>
            <a:xfrm>
              <a:off x="9686160" y="-2610360"/>
              <a:ext cx="576000" cy="5472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6"/>
                  </a:moveTo>
                  <a:lnTo>
                    <a:pt x="3829" y="3826"/>
                  </a:lnTo>
                  <a:lnTo>
                    <a:pt x="5014" y="0"/>
                  </a:lnTo>
                  <a:lnTo>
                    <a:pt x="6171" y="3826"/>
                  </a:lnTo>
                  <a:lnTo>
                    <a:pt x="10000" y="3826"/>
                  </a:lnTo>
                  <a:lnTo>
                    <a:pt x="6915" y="6174"/>
                  </a:lnTo>
                  <a:lnTo>
                    <a:pt x="8099" y="10000"/>
                  </a:lnTo>
                  <a:lnTo>
                    <a:pt x="5014" y="7652"/>
                  </a:lnTo>
                  <a:lnTo>
                    <a:pt x="1901" y="10000"/>
                  </a:lnTo>
                  <a:lnTo>
                    <a:pt x="3085" y="6174"/>
                  </a:lnTo>
                  <a:lnTo>
                    <a:pt x="0" y="3826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AutoShape 181"/>
            <p:cNvSpPr/>
            <p:nvPr/>
          </p:nvSpPr>
          <p:spPr>
            <a:xfrm>
              <a:off x="577800" y="8228160"/>
              <a:ext cx="288360" cy="2743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15"/>
                  </a:moveTo>
                  <a:lnTo>
                    <a:pt x="3846" y="3815"/>
                  </a:lnTo>
                  <a:lnTo>
                    <a:pt x="5000" y="0"/>
                  </a:lnTo>
                  <a:lnTo>
                    <a:pt x="6154" y="3815"/>
                  </a:lnTo>
                  <a:lnTo>
                    <a:pt x="10000" y="3815"/>
                  </a:lnTo>
                  <a:lnTo>
                    <a:pt x="6923" y="6185"/>
                  </a:lnTo>
                  <a:lnTo>
                    <a:pt x="8077" y="10000"/>
                  </a:lnTo>
                  <a:lnTo>
                    <a:pt x="5000" y="7630"/>
                  </a:lnTo>
                  <a:lnTo>
                    <a:pt x="1923" y="10000"/>
                  </a:lnTo>
                  <a:lnTo>
                    <a:pt x="3077" y="6185"/>
                  </a:lnTo>
                  <a:lnTo>
                    <a:pt x="0" y="3815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AutoShape 182"/>
            <p:cNvSpPr/>
            <p:nvPr/>
          </p:nvSpPr>
          <p:spPr>
            <a:xfrm>
              <a:off x="74880" y="7801560"/>
              <a:ext cx="360000" cy="3427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43"/>
                  </a:moveTo>
                  <a:lnTo>
                    <a:pt x="3833" y="3843"/>
                  </a:lnTo>
                  <a:lnTo>
                    <a:pt x="5022" y="0"/>
                  </a:lnTo>
                  <a:lnTo>
                    <a:pt x="6167" y="3843"/>
                  </a:lnTo>
                  <a:lnTo>
                    <a:pt x="10000" y="3843"/>
                  </a:lnTo>
                  <a:lnTo>
                    <a:pt x="6916" y="6157"/>
                  </a:lnTo>
                  <a:lnTo>
                    <a:pt x="8106" y="10000"/>
                  </a:lnTo>
                  <a:lnTo>
                    <a:pt x="5022" y="7639"/>
                  </a:lnTo>
                  <a:lnTo>
                    <a:pt x="1894" y="10000"/>
                  </a:lnTo>
                  <a:lnTo>
                    <a:pt x="3084" y="6157"/>
                  </a:lnTo>
                  <a:lnTo>
                    <a:pt x="0" y="3843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AutoShape 183"/>
            <p:cNvSpPr/>
            <p:nvPr/>
          </p:nvSpPr>
          <p:spPr>
            <a:xfrm>
              <a:off x="-69120" y="7300080"/>
              <a:ext cx="431280" cy="410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2"/>
                  </a:moveTo>
                  <a:lnTo>
                    <a:pt x="3824" y="3822"/>
                  </a:lnTo>
                  <a:lnTo>
                    <a:pt x="5000" y="0"/>
                  </a:lnTo>
                  <a:lnTo>
                    <a:pt x="6176" y="3822"/>
                  </a:lnTo>
                  <a:lnTo>
                    <a:pt x="10000" y="3822"/>
                  </a:lnTo>
                  <a:lnTo>
                    <a:pt x="6912" y="6178"/>
                  </a:lnTo>
                  <a:lnTo>
                    <a:pt x="8088" y="10000"/>
                  </a:lnTo>
                  <a:lnTo>
                    <a:pt x="5000" y="7645"/>
                  </a:lnTo>
                  <a:lnTo>
                    <a:pt x="1912" y="10000"/>
                  </a:lnTo>
                  <a:lnTo>
                    <a:pt x="3088" y="6178"/>
                  </a:lnTo>
                  <a:lnTo>
                    <a:pt x="0" y="3822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AutoShape 184"/>
            <p:cNvSpPr/>
            <p:nvPr/>
          </p:nvSpPr>
          <p:spPr>
            <a:xfrm>
              <a:off x="-1580040" y="7441200"/>
              <a:ext cx="575640" cy="5472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6"/>
                  </a:moveTo>
                  <a:lnTo>
                    <a:pt x="3829" y="3826"/>
                  </a:lnTo>
                  <a:lnTo>
                    <a:pt x="5014" y="0"/>
                  </a:lnTo>
                  <a:lnTo>
                    <a:pt x="6171" y="3826"/>
                  </a:lnTo>
                  <a:lnTo>
                    <a:pt x="10000" y="3826"/>
                  </a:lnTo>
                  <a:lnTo>
                    <a:pt x="6915" y="6174"/>
                  </a:lnTo>
                  <a:lnTo>
                    <a:pt x="8099" y="10000"/>
                  </a:lnTo>
                  <a:lnTo>
                    <a:pt x="5014" y="7652"/>
                  </a:lnTo>
                  <a:lnTo>
                    <a:pt x="1901" y="10000"/>
                  </a:lnTo>
                  <a:lnTo>
                    <a:pt x="3085" y="6174"/>
                  </a:lnTo>
                  <a:lnTo>
                    <a:pt x="0" y="3826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AutoShape 185"/>
            <p:cNvSpPr/>
            <p:nvPr/>
          </p:nvSpPr>
          <p:spPr>
            <a:xfrm>
              <a:off x="-2086560" y="7412760"/>
              <a:ext cx="288720" cy="2743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15"/>
                  </a:moveTo>
                  <a:lnTo>
                    <a:pt x="3846" y="3815"/>
                  </a:lnTo>
                  <a:lnTo>
                    <a:pt x="5000" y="0"/>
                  </a:lnTo>
                  <a:lnTo>
                    <a:pt x="6154" y="3815"/>
                  </a:lnTo>
                  <a:lnTo>
                    <a:pt x="10000" y="3815"/>
                  </a:lnTo>
                  <a:lnTo>
                    <a:pt x="6923" y="6185"/>
                  </a:lnTo>
                  <a:lnTo>
                    <a:pt x="8077" y="10000"/>
                  </a:lnTo>
                  <a:lnTo>
                    <a:pt x="5000" y="7630"/>
                  </a:lnTo>
                  <a:lnTo>
                    <a:pt x="1923" y="10000"/>
                  </a:lnTo>
                  <a:lnTo>
                    <a:pt x="3077" y="6185"/>
                  </a:lnTo>
                  <a:lnTo>
                    <a:pt x="0" y="3815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AutoShape 186"/>
            <p:cNvSpPr/>
            <p:nvPr/>
          </p:nvSpPr>
          <p:spPr>
            <a:xfrm>
              <a:off x="-2229480" y="8233200"/>
              <a:ext cx="360000" cy="3423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43"/>
                  </a:moveTo>
                  <a:lnTo>
                    <a:pt x="3833" y="3843"/>
                  </a:lnTo>
                  <a:lnTo>
                    <a:pt x="5022" y="0"/>
                  </a:lnTo>
                  <a:lnTo>
                    <a:pt x="6167" y="3843"/>
                  </a:lnTo>
                  <a:lnTo>
                    <a:pt x="10000" y="3843"/>
                  </a:lnTo>
                  <a:lnTo>
                    <a:pt x="6916" y="6157"/>
                  </a:lnTo>
                  <a:lnTo>
                    <a:pt x="8106" y="10000"/>
                  </a:lnTo>
                  <a:lnTo>
                    <a:pt x="5022" y="7639"/>
                  </a:lnTo>
                  <a:lnTo>
                    <a:pt x="1894" y="10000"/>
                  </a:lnTo>
                  <a:lnTo>
                    <a:pt x="3084" y="6157"/>
                  </a:lnTo>
                  <a:lnTo>
                    <a:pt x="0" y="3843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AutoShape 187"/>
            <p:cNvSpPr/>
            <p:nvPr/>
          </p:nvSpPr>
          <p:spPr>
            <a:xfrm>
              <a:off x="-1402200" y="8412480"/>
              <a:ext cx="575640" cy="5472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6"/>
                  </a:moveTo>
                  <a:lnTo>
                    <a:pt x="3829" y="3826"/>
                  </a:lnTo>
                  <a:lnTo>
                    <a:pt x="5014" y="0"/>
                  </a:lnTo>
                  <a:lnTo>
                    <a:pt x="6171" y="3826"/>
                  </a:lnTo>
                  <a:lnTo>
                    <a:pt x="10000" y="3826"/>
                  </a:lnTo>
                  <a:lnTo>
                    <a:pt x="6915" y="6174"/>
                  </a:lnTo>
                  <a:lnTo>
                    <a:pt x="8099" y="10000"/>
                  </a:lnTo>
                  <a:lnTo>
                    <a:pt x="5014" y="7652"/>
                  </a:lnTo>
                  <a:lnTo>
                    <a:pt x="1901" y="10000"/>
                  </a:lnTo>
                  <a:lnTo>
                    <a:pt x="3085" y="6174"/>
                  </a:lnTo>
                  <a:lnTo>
                    <a:pt x="0" y="3826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AutoShape 188"/>
            <p:cNvSpPr/>
            <p:nvPr/>
          </p:nvSpPr>
          <p:spPr>
            <a:xfrm rot="736800">
              <a:off x="11053800" y="7177680"/>
              <a:ext cx="1188720" cy="10285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18" y="3827"/>
                  </a:lnTo>
                  <a:lnTo>
                    <a:pt x="5007" y="0"/>
                  </a:lnTo>
                  <a:lnTo>
                    <a:pt x="6182" y="3827"/>
                  </a:lnTo>
                  <a:lnTo>
                    <a:pt x="10000" y="3827"/>
                  </a:lnTo>
                  <a:lnTo>
                    <a:pt x="6916" y="6173"/>
                  </a:lnTo>
                  <a:lnTo>
                    <a:pt x="8091" y="10000"/>
                  </a:lnTo>
                  <a:lnTo>
                    <a:pt x="5007" y="7639"/>
                  </a:lnTo>
                  <a:lnTo>
                    <a:pt x="1909" y="10000"/>
                  </a:lnTo>
                  <a:lnTo>
                    <a:pt x="3084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AutoShape 189"/>
            <p:cNvSpPr/>
            <p:nvPr/>
          </p:nvSpPr>
          <p:spPr>
            <a:xfrm>
              <a:off x="12205080" y="7898400"/>
              <a:ext cx="575640" cy="5472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6"/>
                  </a:moveTo>
                  <a:lnTo>
                    <a:pt x="3829" y="3826"/>
                  </a:lnTo>
                  <a:lnTo>
                    <a:pt x="5014" y="0"/>
                  </a:lnTo>
                  <a:lnTo>
                    <a:pt x="6171" y="3826"/>
                  </a:lnTo>
                  <a:lnTo>
                    <a:pt x="10000" y="3826"/>
                  </a:lnTo>
                  <a:lnTo>
                    <a:pt x="6915" y="6174"/>
                  </a:lnTo>
                  <a:lnTo>
                    <a:pt x="8099" y="10000"/>
                  </a:lnTo>
                  <a:lnTo>
                    <a:pt x="5014" y="7652"/>
                  </a:lnTo>
                  <a:lnTo>
                    <a:pt x="1901" y="10000"/>
                  </a:lnTo>
                  <a:lnTo>
                    <a:pt x="3085" y="6174"/>
                  </a:lnTo>
                  <a:lnTo>
                    <a:pt x="0" y="3826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AutoShape 190"/>
            <p:cNvSpPr/>
            <p:nvPr/>
          </p:nvSpPr>
          <p:spPr>
            <a:xfrm rot="663000">
              <a:off x="3782160" y="9001080"/>
              <a:ext cx="1007640" cy="9568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14"/>
                  </a:moveTo>
                  <a:lnTo>
                    <a:pt x="3827" y="3814"/>
                  </a:lnTo>
                  <a:lnTo>
                    <a:pt x="5008" y="0"/>
                  </a:lnTo>
                  <a:lnTo>
                    <a:pt x="6173" y="3814"/>
                  </a:lnTo>
                  <a:lnTo>
                    <a:pt x="10000" y="3814"/>
                  </a:lnTo>
                  <a:lnTo>
                    <a:pt x="6913" y="6186"/>
                  </a:lnTo>
                  <a:lnTo>
                    <a:pt x="8094" y="10000"/>
                  </a:lnTo>
                  <a:lnTo>
                    <a:pt x="5008" y="7645"/>
                  </a:lnTo>
                  <a:lnTo>
                    <a:pt x="1906" y="10000"/>
                  </a:lnTo>
                  <a:lnTo>
                    <a:pt x="3087" y="6186"/>
                  </a:lnTo>
                  <a:lnTo>
                    <a:pt x="0" y="381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AutoShape 191"/>
            <p:cNvSpPr/>
            <p:nvPr/>
          </p:nvSpPr>
          <p:spPr>
            <a:xfrm rot="2655000">
              <a:off x="3097800" y="8496720"/>
              <a:ext cx="1007640" cy="9568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14"/>
                  </a:moveTo>
                  <a:lnTo>
                    <a:pt x="3827" y="3814"/>
                  </a:lnTo>
                  <a:lnTo>
                    <a:pt x="5008" y="0"/>
                  </a:lnTo>
                  <a:lnTo>
                    <a:pt x="6173" y="3814"/>
                  </a:lnTo>
                  <a:lnTo>
                    <a:pt x="10000" y="3814"/>
                  </a:lnTo>
                  <a:lnTo>
                    <a:pt x="6913" y="6186"/>
                  </a:lnTo>
                  <a:lnTo>
                    <a:pt x="8094" y="10000"/>
                  </a:lnTo>
                  <a:lnTo>
                    <a:pt x="5008" y="7645"/>
                  </a:lnTo>
                  <a:lnTo>
                    <a:pt x="1906" y="10000"/>
                  </a:lnTo>
                  <a:lnTo>
                    <a:pt x="3087" y="6186"/>
                  </a:lnTo>
                  <a:lnTo>
                    <a:pt x="0" y="381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AutoShape 192"/>
            <p:cNvSpPr/>
            <p:nvPr/>
          </p:nvSpPr>
          <p:spPr>
            <a:xfrm rot="2616600">
              <a:off x="5438880" y="10091520"/>
              <a:ext cx="288360" cy="2743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15"/>
                  </a:moveTo>
                  <a:lnTo>
                    <a:pt x="3846" y="3815"/>
                  </a:lnTo>
                  <a:lnTo>
                    <a:pt x="5000" y="0"/>
                  </a:lnTo>
                  <a:lnTo>
                    <a:pt x="6154" y="3815"/>
                  </a:lnTo>
                  <a:lnTo>
                    <a:pt x="10000" y="3815"/>
                  </a:lnTo>
                  <a:lnTo>
                    <a:pt x="6923" y="6185"/>
                  </a:lnTo>
                  <a:lnTo>
                    <a:pt x="8077" y="10000"/>
                  </a:lnTo>
                  <a:lnTo>
                    <a:pt x="5000" y="7630"/>
                  </a:lnTo>
                  <a:lnTo>
                    <a:pt x="1923" y="10000"/>
                  </a:lnTo>
                  <a:lnTo>
                    <a:pt x="3077" y="6185"/>
                  </a:lnTo>
                  <a:lnTo>
                    <a:pt x="0" y="3815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AutoShape 193"/>
            <p:cNvSpPr/>
            <p:nvPr/>
          </p:nvSpPr>
          <p:spPr>
            <a:xfrm rot="2619000">
              <a:off x="4935960" y="9664200"/>
              <a:ext cx="360000" cy="3427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43"/>
                  </a:moveTo>
                  <a:lnTo>
                    <a:pt x="3833" y="3843"/>
                  </a:lnTo>
                  <a:lnTo>
                    <a:pt x="5022" y="0"/>
                  </a:lnTo>
                  <a:lnTo>
                    <a:pt x="6167" y="3843"/>
                  </a:lnTo>
                  <a:lnTo>
                    <a:pt x="10000" y="3843"/>
                  </a:lnTo>
                  <a:lnTo>
                    <a:pt x="6916" y="6157"/>
                  </a:lnTo>
                  <a:lnTo>
                    <a:pt x="8106" y="10000"/>
                  </a:lnTo>
                  <a:lnTo>
                    <a:pt x="5022" y="7639"/>
                  </a:lnTo>
                  <a:lnTo>
                    <a:pt x="1894" y="10000"/>
                  </a:lnTo>
                  <a:lnTo>
                    <a:pt x="3084" y="6157"/>
                  </a:lnTo>
                  <a:lnTo>
                    <a:pt x="0" y="3843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AutoShape 194"/>
            <p:cNvSpPr/>
            <p:nvPr/>
          </p:nvSpPr>
          <p:spPr>
            <a:xfrm rot="16555800">
              <a:off x="-4582800" y="3292920"/>
              <a:ext cx="1007640" cy="9568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14"/>
                  </a:moveTo>
                  <a:lnTo>
                    <a:pt x="3827" y="3814"/>
                  </a:lnTo>
                  <a:lnTo>
                    <a:pt x="5008" y="0"/>
                  </a:lnTo>
                  <a:lnTo>
                    <a:pt x="6173" y="3814"/>
                  </a:lnTo>
                  <a:lnTo>
                    <a:pt x="10000" y="3814"/>
                  </a:lnTo>
                  <a:lnTo>
                    <a:pt x="6913" y="6186"/>
                  </a:lnTo>
                  <a:lnTo>
                    <a:pt x="8094" y="10000"/>
                  </a:lnTo>
                  <a:lnTo>
                    <a:pt x="5008" y="7645"/>
                  </a:lnTo>
                  <a:lnTo>
                    <a:pt x="1906" y="10000"/>
                  </a:lnTo>
                  <a:lnTo>
                    <a:pt x="3087" y="6186"/>
                  </a:lnTo>
                  <a:lnTo>
                    <a:pt x="0" y="381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AutoShape 195"/>
            <p:cNvSpPr/>
            <p:nvPr/>
          </p:nvSpPr>
          <p:spPr>
            <a:xfrm rot="16555800">
              <a:off x="-4759560" y="-1584360"/>
              <a:ext cx="1620360" cy="15393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5"/>
                  </a:moveTo>
                  <a:lnTo>
                    <a:pt x="3820" y="3825"/>
                  </a:lnTo>
                  <a:lnTo>
                    <a:pt x="5005" y="0"/>
                  </a:lnTo>
                  <a:lnTo>
                    <a:pt x="6180" y="3825"/>
                  </a:lnTo>
                  <a:lnTo>
                    <a:pt x="10000" y="3825"/>
                  </a:lnTo>
                  <a:lnTo>
                    <a:pt x="6905" y="6175"/>
                  </a:lnTo>
                  <a:lnTo>
                    <a:pt x="8090" y="10000"/>
                  </a:lnTo>
                  <a:lnTo>
                    <a:pt x="5005" y="7639"/>
                  </a:lnTo>
                  <a:lnTo>
                    <a:pt x="1910" y="10000"/>
                  </a:lnTo>
                  <a:lnTo>
                    <a:pt x="3095" y="6175"/>
                  </a:lnTo>
                  <a:lnTo>
                    <a:pt x="0" y="3825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AutoShape 196"/>
            <p:cNvSpPr/>
            <p:nvPr/>
          </p:nvSpPr>
          <p:spPr>
            <a:xfrm rot="18717600">
              <a:off x="-5397120" y="-2224440"/>
              <a:ext cx="576000" cy="5472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6"/>
                  </a:moveTo>
                  <a:lnTo>
                    <a:pt x="3829" y="3826"/>
                  </a:lnTo>
                  <a:lnTo>
                    <a:pt x="5014" y="0"/>
                  </a:lnTo>
                  <a:lnTo>
                    <a:pt x="6171" y="3826"/>
                  </a:lnTo>
                  <a:lnTo>
                    <a:pt x="10000" y="3826"/>
                  </a:lnTo>
                  <a:lnTo>
                    <a:pt x="6915" y="6174"/>
                  </a:lnTo>
                  <a:lnTo>
                    <a:pt x="8099" y="10000"/>
                  </a:lnTo>
                  <a:lnTo>
                    <a:pt x="5014" y="7652"/>
                  </a:lnTo>
                  <a:lnTo>
                    <a:pt x="1901" y="10000"/>
                  </a:lnTo>
                  <a:lnTo>
                    <a:pt x="3085" y="6174"/>
                  </a:lnTo>
                  <a:lnTo>
                    <a:pt x="0" y="3826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AutoShape 197"/>
            <p:cNvSpPr/>
            <p:nvPr/>
          </p:nvSpPr>
          <p:spPr>
            <a:xfrm rot="736800">
              <a:off x="7016760" y="-4411800"/>
              <a:ext cx="2129760" cy="1842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16"/>
                  </a:moveTo>
                  <a:lnTo>
                    <a:pt x="3823" y="3816"/>
                  </a:lnTo>
                  <a:lnTo>
                    <a:pt x="5000" y="0"/>
                  </a:lnTo>
                  <a:lnTo>
                    <a:pt x="6177" y="3816"/>
                  </a:lnTo>
                  <a:lnTo>
                    <a:pt x="10000" y="3816"/>
                  </a:lnTo>
                  <a:lnTo>
                    <a:pt x="6908" y="6184"/>
                  </a:lnTo>
                  <a:lnTo>
                    <a:pt x="8092" y="10000"/>
                  </a:lnTo>
                  <a:lnTo>
                    <a:pt x="5000" y="7640"/>
                  </a:lnTo>
                  <a:lnTo>
                    <a:pt x="1908" y="10000"/>
                  </a:lnTo>
                  <a:lnTo>
                    <a:pt x="3092" y="6184"/>
                  </a:lnTo>
                  <a:lnTo>
                    <a:pt x="0" y="3816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AutoShape 198"/>
            <p:cNvSpPr/>
            <p:nvPr/>
          </p:nvSpPr>
          <p:spPr>
            <a:xfrm>
              <a:off x="10044720" y="-2775600"/>
              <a:ext cx="576000" cy="5475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6"/>
                  </a:moveTo>
                  <a:lnTo>
                    <a:pt x="3829" y="3826"/>
                  </a:lnTo>
                  <a:lnTo>
                    <a:pt x="5014" y="0"/>
                  </a:lnTo>
                  <a:lnTo>
                    <a:pt x="6171" y="3826"/>
                  </a:lnTo>
                  <a:lnTo>
                    <a:pt x="10000" y="3826"/>
                  </a:lnTo>
                  <a:lnTo>
                    <a:pt x="6915" y="6174"/>
                  </a:lnTo>
                  <a:lnTo>
                    <a:pt x="8099" y="10000"/>
                  </a:lnTo>
                  <a:lnTo>
                    <a:pt x="5014" y="7652"/>
                  </a:lnTo>
                  <a:lnTo>
                    <a:pt x="1901" y="10000"/>
                  </a:lnTo>
                  <a:lnTo>
                    <a:pt x="3085" y="6174"/>
                  </a:lnTo>
                  <a:lnTo>
                    <a:pt x="0" y="3826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AutoShape 199"/>
          <p:cNvSpPr/>
          <p:nvPr/>
        </p:nvSpPr>
        <p:spPr>
          <a:xfrm rot="2650200">
            <a:off x="8424360" y="9455040"/>
            <a:ext cx="576360" cy="547920"/>
          </a:xfrm>
          <a:custGeom>
            <a:avLst/>
            <a:gdLst/>
            <a:ahLst/>
            <a:rect l="l" t="t" r="r" b="b"/>
            <a:pathLst>
              <a:path w="576262" h="547688">
                <a:moveTo>
                  <a:pt x="1" y="209198"/>
                </a:moveTo>
                <a:lnTo>
                  <a:pt x="220114" y="209199"/>
                </a:lnTo>
                <a:lnTo>
                  <a:pt x="288131" y="0"/>
                </a:lnTo>
                <a:lnTo>
                  <a:pt x="356148" y="209199"/>
                </a:lnTo>
                <a:lnTo>
                  <a:pt x="576261" y="209198"/>
                </a:lnTo>
                <a:lnTo>
                  <a:pt x="398185" y="338488"/>
                </a:lnTo>
                <a:lnTo>
                  <a:pt x="466205" y="547687"/>
                </a:lnTo>
                <a:lnTo>
                  <a:pt x="288131" y="418394"/>
                </a:lnTo>
                <a:lnTo>
                  <a:pt x="110057" y="547687"/>
                </a:lnTo>
                <a:lnTo>
                  <a:pt x="178077" y="338488"/>
                </a:lnTo>
                <a:lnTo>
                  <a:pt x="1" y="209198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200"/>
          <p:cNvSpPr/>
          <p:nvPr/>
        </p:nvSpPr>
        <p:spPr>
          <a:xfrm rot="20061000">
            <a:off x="7597800" y="7824600"/>
            <a:ext cx="576360" cy="547560"/>
          </a:xfrm>
          <a:custGeom>
            <a:avLst/>
            <a:gdLst/>
            <a:ahLst/>
            <a:rect l="l" t="t" r="r" b="b"/>
            <a:pathLst>
              <a:path w="576263" h="547687">
                <a:moveTo>
                  <a:pt x="1" y="209197"/>
                </a:moveTo>
                <a:lnTo>
                  <a:pt x="220114" y="209199"/>
                </a:lnTo>
                <a:lnTo>
                  <a:pt x="288132" y="0"/>
                </a:lnTo>
                <a:lnTo>
                  <a:pt x="356149" y="209199"/>
                </a:lnTo>
                <a:lnTo>
                  <a:pt x="576262" y="209197"/>
                </a:lnTo>
                <a:lnTo>
                  <a:pt x="398186" y="338488"/>
                </a:lnTo>
                <a:lnTo>
                  <a:pt x="466206" y="547686"/>
                </a:lnTo>
                <a:lnTo>
                  <a:pt x="288132" y="418393"/>
                </a:lnTo>
                <a:lnTo>
                  <a:pt x="110057" y="547686"/>
                </a:lnTo>
                <a:lnTo>
                  <a:pt x="178077" y="338488"/>
                </a:lnTo>
                <a:lnTo>
                  <a:pt x="1" y="209197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201"/>
          <p:cNvSpPr/>
          <p:nvPr/>
        </p:nvSpPr>
        <p:spPr>
          <a:xfrm rot="2616600">
            <a:off x="7381440" y="7881840"/>
            <a:ext cx="289080" cy="274680"/>
          </a:xfrm>
          <a:custGeom>
            <a:avLst/>
            <a:gdLst/>
            <a:ahLst/>
            <a:rect l="l" t="t" r="r" b="b"/>
            <a:pathLst>
              <a:path w="288925" h="274637">
                <a:moveTo>
                  <a:pt x="0" y="104902"/>
                </a:moveTo>
                <a:lnTo>
                  <a:pt x="110360" y="104902"/>
                </a:lnTo>
                <a:lnTo>
                  <a:pt x="144463" y="0"/>
                </a:lnTo>
                <a:lnTo>
                  <a:pt x="178565" y="104902"/>
                </a:lnTo>
                <a:lnTo>
                  <a:pt x="288925" y="104902"/>
                </a:lnTo>
                <a:lnTo>
                  <a:pt x="199641" y="169734"/>
                </a:lnTo>
                <a:lnTo>
                  <a:pt x="233745" y="274636"/>
                </a:lnTo>
                <a:lnTo>
                  <a:pt x="144463" y="209803"/>
                </a:lnTo>
                <a:lnTo>
                  <a:pt x="55180" y="274636"/>
                </a:lnTo>
                <a:lnTo>
                  <a:pt x="89284" y="169734"/>
                </a:lnTo>
                <a:lnTo>
                  <a:pt x="0" y="104902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202"/>
          <p:cNvSpPr/>
          <p:nvPr/>
        </p:nvSpPr>
        <p:spPr>
          <a:xfrm rot="2619000">
            <a:off x="8929800" y="10118520"/>
            <a:ext cx="360360" cy="342720"/>
          </a:xfrm>
          <a:custGeom>
            <a:avLst/>
            <a:gdLst/>
            <a:ahLst/>
            <a:rect l="l" t="t" r="r" b="b"/>
            <a:pathLst>
              <a:path w="360362" h="342900">
                <a:moveTo>
                  <a:pt x="0" y="130976"/>
                </a:moveTo>
                <a:lnTo>
                  <a:pt x="137647" y="130977"/>
                </a:lnTo>
                <a:lnTo>
                  <a:pt x="180181" y="0"/>
                </a:lnTo>
                <a:lnTo>
                  <a:pt x="222715" y="130977"/>
                </a:lnTo>
                <a:lnTo>
                  <a:pt x="360362" y="130976"/>
                </a:lnTo>
                <a:lnTo>
                  <a:pt x="249003" y="211923"/>
                </a:lnTo>
                <a:lnTo>
                  <a:pt x="291539" y="342899"/>
                </a:lnTo>
                <a:lnTo>
                  <a:pt x="180181" y="261950"/>
                </a:lnTo>
                <a:lnTo>
                  <a:pt x="68823" y="342899"/>
                </a:lnTo>
                <a:lnTo>
                  <a:pt x="111359" y="211923"/>
                </a:lnTo>
                <a:lnTo>
                  <a:pt x="0" y="130976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203"/>
          <p:cNvSpPr/>
          <p:nvPr/>
        </p:nvSpPr>
        <p:spPr>
          <a:xfrm>
            <a:off x="9145440" y="9193320"/>
            <a:ext cx="1008360" cy="957240"/>
          </a:xfrm>
          <a:custGeom>
            <a:avLst/>
            <a:gdLst/>
            <a:ahLst/>
            <a:rect l="l" t="t" r="r" b="b"/>
            <a:pathLst>
              <a:path w="1008062" h="957262">
                <a:moveTo>
                  <a:pt x="1" y="365641"/>
                </a:moveTo>
                <a:lnTo>
                  <a:pt x="385048" y="365643"/>
                </a:lnTo>
                <a:lnTo>
                  <a:pt x="504031" y="0"/>
                </a:lnTo>
                <a:lnTo>
                  <a:pt x="623014" y="365643"/>
                </a:lnTo>
                <a:lnTo>
                  <a:pt x="1008061" y="365641"/>
                </a:lnTo>
                <a:lnTo>
                  <a:pt x="696550" y="591618"/>
                </a:lnTo>
                <a:lnTo>
                  <a:pt x="815539" y="957260"/>
                </a:lnTo>
                <a:lnTo>
                  <a:pt x="504031" y="731278"/>
                </a:lnTo>
                <a:lnTo>
                  <a:pt x="192523" y="957260"/>
                </a:lnTo>
                <a:lnTo>
                  <a:pt x="311512" y="591618"/>
                </a:lnTo>
                <a:lnTo>
                  <a:pt x="1" y="365641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204"/>
          <p:cNvSpPr/>
          <p:nvPr/>
        </p:nvSpPr>
        <p:spPr>
          <a:xfrm rot="2625000">
            <a:off x="8784720" y="9617040"/>
            <a:ext cx="432000" cy="411120"/>
          </a:xfrm>
          <a:custGeom>
            <a:avLst/>
            <a:gdLst/>
            <a:ahLst/>
            <a:rect l="l" t="t" r="r" b="b"/>
            <a:pathLst>
              <a:path w="431800" h="411163">
                <a:moveTo>
                  <a:pt x="0" y="157050"/>
                </a:moveTo>
                <a:lnTo>
                  <a:pt x="164934" y="157051"/>
                </a:lnTo>
                <a:lnTo>
                  <a:pt x="215900" y="0"/>
                </a:lnTo>
                <a:lnTo>
                  <a:pt x="266866" y="157051"/>
                </a:lnTo>
                <a:lnTo>
                  <a:pt x="431800" y="157050"/>
                </a:lnTo>
                <a:lnTo>
                  <a:pt x="298365" y="254112"/>
                </a:lnTo>
                <a:lnTo>
                  <a:pt x="349333" y="411162"/>
                </a:lnTo>
                <a:lnTo>
                  <a:pt x="215900" y="314098"/>
                </a:lnTo>
                <a:lnTo>
                  <a:pt x="82467" y="411162"/>
                </a:lnTo>
                <a:lnTo>
                  <a:pt x="133435" y="254112"/>
                </a:lnTo>
                <a:lnTo>
                  <a:pt x="0" y="15705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205"/>
          <p:cNvSpPr/>
          <p:nvPr/>
        </p:nvSpPr>
        <p:spPr>
          <a:xfrm>
            <a:off x="9648720" y="8977320"/>
            <a:ext cx="576360" cy="547560"/>
          </a:xfrm>
          <a:custGeom>
            <a:avLst/>
            <a:gdLst/>
            <a:ahLst/>
            <a:rect l="l" t="t" r="r" b="b"/>
            <a:pathLst>
              <a:path w="576263" h="547687">
                <a:moveTo>
                  <a:pt x="1" y="209197"/>
                </a:moveTo>
                <a:lnTo>
                  <a:pt x="220114" y="209199"/>
                </a:lnTo>
                <a:lnTo>
                  <a:pt x="288132" y="0"/>
                </a:lnTo>
                <a:lnTo>
                  <a:pt x="356149" y="209199"/>
                </a:lnTo>
                <a:lnTo>
                  <a:pt x="576262" y="209197"/>
                </a:lnTo>
                <a:lnTo>
                  <a:pt x="398186" y="338488"/>
                </a:lnTo>
                <a:lnTo>
                  <a:pt x="466206" y="547686"/>
                </a:lnTo>
                <a:lnTo>
                  <a:pt x="288132" y="418393"/>
                </a:lnTo>
                <a:lnTo>
                  <a:pt x="110057" y="547686"/>
                </a:lnTo>
                <a:lnTo>
                  <a:pt x="178077" y="338488"/>
                </a:lnTo>
                <a:lnTo>
                  <a:pt x="1" y="209197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206"/>
          <p:cNvSpPr/>
          <p:nvPr/>
        </p:nvSpPr>
        <p:spPr>
          <a:xfrm>
            <a:off x="8066160" y="8881920"/>
            <a:ext cx="576360" cy="547920"/>
          </a:xfrm>
          <a:custGeom>
            <a:avLst/>
            <a:gdLst/>
            <a:ahLst/>
            <a:rect l="l" t="t" r="r" b="b"/>
            <a:pathLst>
              <a:path w="576262" h="547687">
                <a:moveTo>
                  <a:pt x="1" y="209197"/>
                </a:moveTo>
                <a:lnTo>
                  <a:pt x="220114" y="209199"/>
                </a:lnTo>
                <a:lnTo>
                  <a:pt x="288131" y="0"/>
                </a:lnTo>
                <a:lnTo>
                  <a:pt x="356148" y="209199"/>
                </a:lnTo>
                <a:lnTo>
                  <a:pt x="576261" y="209197"/>
                </a:lnTo>
                <a:lnTo>
                  <a:pt x="398185" y="338488"/>
                </a:lnTo>
                <a:lnTo>
                  <a:pt x="466205" y="547686"/>
                </a:lnTo>
                <a:lnTo>
                  <a:pt x="288131" y="418393"/>
                </a:lnTo>
                <a:lnTo>
                  <a:pt x="110057" y="547686"/>
                </a:lnTo>
                <a:lnTo>
                  <a:pt x="178077" y="338488"/>
                </a:lnTo>
                <a:lnTo>
                  <a:pt x="1" y="209197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207"/>
          <p:cNvSpPr/>
          <p:nvPr/>
        </p:nvSpPr>
        <p:spPr>
          <a:xfrm>
            <a:off x="973080" y="2550960"/>
            <a:ext cx="7197840" cy="540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208"/>
          <p:cNvSpPr/>
          <p:nvPr/>
        </p:nvSpPr>
        <p:spPr>
          <a:xfrm>
            <a:off x="3205080" y="2281320"/>
            <a:ext cx="2735280" cy="1079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解放军进行曲.wma" descr=""/>
          <p:cNvPicPr/>
          <p:nvPr/>
        </p:nvPicPr>
        <p:blipFill>
          <a:blip r:embed="rId1"/>
          <a:stretch/>
        </p:blipFill>
        <p:spPr>
          <a:xfrm>
            <a:off x="4537080" y="61326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49" name="矩形 1"/>
          <p:cNvSpPr/>
          <p:nvPr/>
        </p:nvSpPr>
        <p:spPr>
          <a:xfrm>
            <a:off x="1645200" y="136440"/>
            <a:ext cx="628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从未停止的解放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完整版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2"/>
          <p:cNvSpPr/>
          <p:nvPr/>
        </p:nvSpPr>
        <p:spPr>
          <a:xfrm>
            <a:off x="206280" y="535932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" dur="3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" dur="3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" dur="2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" dur="2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" dur="3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" dur="2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" dur="3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" dur="2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" dur="2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" dur="2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" dur="2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9" dur="2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" dur="2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" dur="2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" dur="2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2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" dur="2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" dur="2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1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" dur="2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5" dur="2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1" dur="2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7" dur="2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" dur="2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9" dur="2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5" dur="5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1" dur="5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7" dur="2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3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9" dur="5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5" dur="2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1" dur="5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7" dur="2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3" dur="2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9" dur="5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5" dur="2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1" dur="2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7" dur="2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3" dur="2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9" dur="2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5" dur="2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1" dur="2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7" dur="2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3" dur="2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9" dur="2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2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5" dur="2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1" dur="2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2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7" dur="2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2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3" dur="2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9" dur="2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5" dur="2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2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" dur="2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7" dur="2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2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3" dur="2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9" dur="2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5" dur="2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1" dur="2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7" dur="2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3" dur="2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9" dur="5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5" dur="2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1" dur="5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7" dur="2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3" dur="5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9" dur="2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5" dur="5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1" dur="5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7" dur="2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3" dur="2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9" dur="2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5" dur="2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1" dur="2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7" dur="2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2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3" dur="2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2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9" dur="2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2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5" dur="2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2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2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1" dur="2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7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3" dur="2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9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5" dur="2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2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1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7" dur="2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2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2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3" dur="2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2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9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5" dur="2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2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2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2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1" dur="2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2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2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2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7" dur="2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2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2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2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3" dur="3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3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3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3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3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9" dur="3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3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3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3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3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5" dur="2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2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2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2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1" dur="3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3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3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3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3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7" dur="2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2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2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2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3" dur="2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2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2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2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9" dur="3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3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3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3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3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5" dur="3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3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3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3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3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1" dur="2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2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2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2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7" dur="2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2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2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2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3" dur="2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2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2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2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9" dur="3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3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3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3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3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5" dur="2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2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2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2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0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1" dur="2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2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2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2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6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7" dur="2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2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2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3" dur="2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2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2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2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8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9" dur="2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2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2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2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5" dur="2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2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2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2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1" dur="2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2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2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2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7" dur="20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20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20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20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3" dur="2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2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2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2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8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9" dur="2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2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2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2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5" dur="2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2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2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2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1" dur="2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2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2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2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7" dur="2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2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2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2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3" dur="2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2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2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2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9" dur="2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2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2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2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5" dur="2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2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2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2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0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1" dur="2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2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2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2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7" dur="2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2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2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2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3" dur="2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2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2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2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9" dur="2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2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2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2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5" dur="2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2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2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2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1" dur="20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20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20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20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6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7" dur="2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2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2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2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2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3" dur="2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2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2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2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9" dur="2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2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2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2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5" dur="2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2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2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2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1" dur="2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2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2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2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6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7" dur="2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2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2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2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2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3" dur="2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2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2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2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8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9" dur="2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2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2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2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4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5" dur="2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2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2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2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0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1" dur="2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2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2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2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6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7" dur="2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2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2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2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2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3" dur="2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2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2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2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8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9" dur="2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2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2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2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4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5" dur="2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2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2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2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0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1" dur="2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2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2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2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6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7" dur="2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2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2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2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2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3" dur="2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2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2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2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8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9" dur="2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2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2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2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5" dur="2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2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2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2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0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1" dur="2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2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2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2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6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7" dur="2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2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2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2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2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3" dur="20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20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20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20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8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9" dur="20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20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20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20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4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5" dur="2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2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2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2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1" dur="2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2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2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2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7" dur="2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2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2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2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2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3" dur="2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2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2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2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8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9" dur="2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2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2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2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4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5" dur="2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2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2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2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0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1" dur="2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2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2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2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6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7" dur="20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20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20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20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3" dur="20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20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20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20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8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9" dur="2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2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2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2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4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5" dur="2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2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2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2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0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1" dur="20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20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20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20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6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7" dur="2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2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2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2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2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3" dur="2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2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2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2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00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1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01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1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0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1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0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1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01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1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01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2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02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2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02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2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0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2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02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2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0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3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03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3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0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3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03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3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03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3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03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4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04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4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04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4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04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4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04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4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04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5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05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5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05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5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05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5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05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5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05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6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06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6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06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6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06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6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06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6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06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7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07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7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07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7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07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7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07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7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07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8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08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8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08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8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08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8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08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8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08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09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09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09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09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09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0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0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0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0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0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0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0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0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0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0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1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1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1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2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2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2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2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2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2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2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2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2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2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3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3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3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3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3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3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3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3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3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4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4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4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4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4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4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4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4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4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4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5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5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5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5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5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5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5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5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5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6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6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6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6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6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6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6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6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6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7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7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7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7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7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7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7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7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8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8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8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8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8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8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8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8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8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8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9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9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9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9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9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9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9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9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9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9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0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20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0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20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0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20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0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20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0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20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1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21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1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21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1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21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1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21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1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21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2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22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2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22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2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22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2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22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2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22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3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23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3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23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3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23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3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23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3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23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4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24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4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24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4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24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4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2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4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24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5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25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5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25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5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25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5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2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5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25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6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26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6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26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6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26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6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26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6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26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7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27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7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27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7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27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7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27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7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27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8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28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8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28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8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28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8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28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8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28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9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29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9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29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9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2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9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29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9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29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0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30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0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30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0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30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0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30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0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30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1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31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1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3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1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31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1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31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1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31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2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32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2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32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2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32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2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32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2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32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3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33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3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33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3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33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3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33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38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9" dur="4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4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4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4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4" nodeType="with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4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2"/>
          <p:cNvSpPr/>
          <p:nvPr/>
        </p:nvSpPr>
        <p:spPr>
          <a:xfrm>
            <a:off x="0" y="0"/>
            <a:ext cx="9145440" cy="5713560"/>
          </a:xfrm>
          <a:prstGeom prst="rect">
            <a:avLst/>
          </a:prstGeom>
          <a:gradFill rotWithShape="0">
            <a:gsLst>
              <a:gs pos="0">
                <a:srgbClr val="ff3399">
                  <a:alpha val="95294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3"/>
          <p:cNvSpPr/>
          <p:nvPr/>
        </p:nvSpPr>
        <p:spPr>
          <a:xfrm>
            <a:off x="0" y="0"/>
            <a:ext cx="9145440" cy="5713560"/>
          </a:xfrm>
          <a:prstGeom prst="rect">
            <a:avLst/>
          </a:prstGeom>
          <a:gradFill rotWithShape="0">
            <a:gsLst>
              <a:gs pos="0">
                <a:srgbClr val="ea0000">
                  <a:alpha val="70196"/>
                </a:srgbClr>
              </a:gs>
              <a:gs pos="100000">
                <a:srgbClr val="ff3399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AutoShape 4"/>
          <p:cNvSpPr/>
          <p:nvPr/>
        </p:nvSpPr>
        <p:spPr>
          <a:xfrm>
            <a:off x="0" y="112680"/>
            <a:ext cx="8569440" cy="56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0" name="Group 5"/>
          <p:cNvGrpSpPr/>
          <p:nvPr/>
        </p:nvGrpSpPr>
        <p:grpSpPr>
          <a:xfrm>
            <a:off x="-103320" y="-19080"/>
            <a:ext cx="9428040" cy="5812560"/>
            <a:chOff x="-103320" y="-19080"/>
            <a:chExt cx="9428040" cy="5812560"/>
          </a:xfrm>
        </p:grpSpPr>
        <p:sp>
          <p:nvSpPr>
            <p:cNvPr id="611" name="未知"/>
            <p:cNvSpPr/>
            <p:nvPr/>
          </p:nvSpPr>
          <p:spPr>
            <a:xfrm>
              <a:off x="-49680" y="25560"/>
              <a:ext cx="9333360" cy="5719320"/>
            </a:xfrm>
            <a:custGeom>
              <a:avLst/>
              <a:gdLst/>
              <a:ahLst/>
              <a:rect l="l" t="t" r="r" b="b"/>
              <a:pathLst>
                <a:path w="5921" h="3966">
                  <a:moveTo>
                    <a:pt x="5917" y="3966"/>
                  </a:moveTo>
                  <a:lnTo>
                    <a:pt x="5921" y="0"/>
                  </a:lnTo>
                  <a:lnTo>
                    <a:pt x="0" y="0"/>
                  </a:lnTo>
                  <a:lnTo>
                    <a:pt x="0" y="3966"/>
                  </a:lnTo>
                  <a:lnTo>
                    <a:pt x="5917" y="3966"/>
                  </a:lnTo>
                  <a:close/>
                </a:path>
              </a:pathLst>
            </a:custGeom>
            <a:solidFill>
              <a:srgbClr val="f916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AutoShape 7"/>
            <p:cNvSpPr/>
            <p:nvPr/>
          </p:nvSpPr>
          <p:spPr>
            <a:xfrm>
              <a:off x="-103320" y="-19080"/>
              <a:ext cx="9428040" cy="58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未知"/>
            <p:cNvSpPr/>
            <p:nvPr/>
          </p:nvSpPr>
          <p:spPr>
            <a:xfrm>
              <a:off x="2648520" y="264960"/>
              <a:ext cx="396720" cy="398160"/>
            </a:xfrm>
            <a:custGeom>
              <a:avLst/>
              <a:gdLst/>
              <a:ahLst/>
              <a:rect l="l" t="t" r="r" b="b"/>
              <a:pathLst>
                <a:path w="253" h="275">
                  <a:moveTo>
                    <a:pt x="155" y="0"/>
                  </a:moveTo>
                  <a:lnTo>
                    <a:pt x="158" y="105"/>
                  </a:lnTo>
                  <a:lnTo>
                    <a:pt x="253" y="134"/>
                  </a:lnTo>
                  <a:lnTo>
                    <a:pt x="162" y="171"/>
                  </a:lnTo>
                  <a:lnTo>
                    <a:pt x="165" y="275"/>
                  </a:lnTo>
                  <a:lnTo>
                    <a:pt x="102" y="196"/>
                  </a:lnTo>
                  <a:lnTo>
                    <a:pt x="8" y="228"/>
                  </a:lnTo>
                  <a:lnTo>
                    <a:pt x="60" y="142"/>
                  </a:lnTo>
                  <a:lnTo>
                    <a:pt x="0" y="58"/>
                  </a:lnTo>
                  <a:lnTo>
                    <a:pt x="95" y="83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fcf2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未知"/>
            <p:cNvSpPr/>
            <p:nvPr/>
          </p:nvSpPr>
          <p:spPr>
            <a:xfrm>
              <a:off x="3209760" y="808560"/>
              <a:ext cx="405720" cy="390960"/>
            </a:xfrm>
            <a:custGeom>
              <a:avLst/>
              <a:gdLst/>
              <a:ahLst/>
              <a:rect l="l" t="t" r="r" b="b"/>
              <a:pathLst>
                <a:path w="258" h="272">
                  <a:moveTo>
                    <a:pt x="84" y="0"/>
                  </a:moveTo>
                  <a:lnTo>
                    <a:pt x="150" y="79"/>
                  </a:lnTo>
                  <a:lnTo>
                    <a:pt x="241" y="40"/>
                  </a:lnTo>
                  <a:lnTo>
                    <a:pt x="193" y="130"/>
                  </a:lnTo>
                  <a:lnTo>
                    <a:pt x="258" y="206"/>
                  </a:lnTo>
                  <a:lnTo>
                    <a:pt x="161" y="189"/>
                  </a:lnTo>
                  <a:lnTo>
                    <a:pt x="105" y="272"/>
                  </a:lnTo>
                  <a:lnTo>
                    <a:pt x="95" y="170"/>
                  </a:lnTo>
                  <a:lnTo>
                    <a:pt x="0" y="145"/>
                  </a:lnTo>
                  <a:lnTo>
                    <a:pt x="91" y="105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fcf2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未知"/>
            <p:cNvSpPr/>
            <p:nvPr/>
          </p:nvSpPr>
          <p:spPr>
            <a:xfrm>
              <a:off x="3187800" y="1664280"/>
              <a:ext cx="412200" cy="380880"/>
            </a:xfrm>
            <a:custGeom>
              <a:avLst/>
              <a:gdLst/>
              <a:ahLst/>
              <a:rect l="l" t="t" r="r" b="b"/>
              <a:pathLst>
                <a:path w="261" h="264">
                  <a:moveTo>
                    <a:pt x="126" y="0"/>
                  </a:moveTo>
                  <a:lnTo>
                    <a:pt x="164" y="93"/>
                  </a:lnTo>
                  <a:lnTo>
                    <a:pt x="261" y="89"/>
                  </a:lnTo>
                  <a:lnTo>
                    <a:pt x="187" y="155"/>
                  </a:lnTo>
                  <a:lnTo>
                    <a:pt x="224" y="252"/>
                  </a:lnTo>
                  <a:lnTo>
                    <a:pt x="139" y="199"/>
                  </a:lnTo>
                  <a:lnTo>
                    <a:pt x="57" y="264"/>
                  </a:lnTo>
                  <a:lnTo>
                    <a:pt x="80" y="165"/>
                  </a:lnTo>
                  <a:lnTo>
                    <a:pt x="0" y="109"/>
                  </a:lnTo>
                  <a:lnTo>
                    <a:pt x="100" y="98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fcf2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未知"/>
            <p:cNvSpPr/>
            <p:nvPr/>
          </p:nvSpPr>
          <p:spPr>
            <a:xfrm>
              <a:off x="2575800" y="2273760"/>
              <a:ext cx="412920" cy="380880"/>
            </a:xfrm>
            <a:custGeom>
              <a:avLst/>
              <a:gdLst/>
              <a:ahLst/>
              <a:rect l="l" t="t" r="r" b="b"/>
              <a:pathLst>
                <a:path w="262" h="262">
                  <a:moveTo>
                    <a:pt x="38" y="11"/>
                  </a:moveTo>
                  <a:lnTo>
                    <a:pt x="125" y="63"/>
                  </a:lnTo>
                  <a:lnTo>
                    <a:pt x="203" y="0"/>
                  </a:lnTo>
                  <a:lnTo>
                    <a:pt x="179" y="99"/>
                  </a:lnTo>
                  <a:lnTo>
                    <a:pt x="262" y="155"/>
                  </a:lnTo>
                  <a:lnTo>
                    <a:pt x="165" y="163"/>
                  </a:lnTo>
                  <a:lnTo>
                    <a:pt x="137" y="262"/>
                  </a:lnTo>
                  <a:lnTo>
                    <a:pt x="98" y="170"/>
                  </a:lnTo>
                  <a:lnTo>
                    <a:pt x="0" y="175"/>
                  </a:lnTo>
                  <a:lnTo>
                    <a:pt x="79" y="107"/>
                  </a:lnTo>
                  <a:lnTo>
                    <a:pt x="38" y="11"/>
                  </a:lnTo>
                  <a:close/>
                </a:path>
              </a:pathLst>
            </a:custGeom>
            <a:solidFill>
              <a:srgbClr val="fcf2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未知"/>
            <p:cNvSpPr/>
            <p:nvPr/>
          </p:nvSpPr>
          <p:spPr>
            <a:xfrm>
              <a:off x="442080" y="489600"/>
              <a:ext cx="1632600" cy="1482840"/>
            </a:xfrm>
            <a:custGeom>
              <a:avLst/>
              <a:gdLst/>
              <a:ahLst/>
              <a:rect l="l" t="t" r="r" b="b"/>
              <a:pathLst>
                <a:path w="1034" h="1025">
                  <a:moveTo>
                    <a:pt x="515" y="0"/>
                  </a:moveTo>
                  <a:lnTo>
                    <a:pt x="646" y="386"/>
                  </a:lnTo>
                  <a:lnTo>
                    <a:pt x="1034" y="394"/>
                  </a:lnTo>
                  <a:lnTo>
                    <a:pt x="722" y="636"/>
                  </a:lnTo>
                  <a:lnTo>
                    <a:pt x="836" y="1025"/>
                  </a:lnTo>
                  <a:lnTo>
                    <a:pt x="515" y="792"/>
                  </a:lnTo>
                  <a:lnTo>
                    <a:pt x="194" y="1025"/>
                  </a:lnTo>
                  <a:lnTo>
                    <a:pt x="308" y="636"/>
                  </a:lnTo>
                  <a:lnTo>
                    <a:pt x="0" y="394"/>
                  </a:lnTo>
                  <a:lnTo>
                    <a:pt x="388" y="386"/>
                  </a:lnTo>
                  <a:lnTo>
                    <a:pt x="515" y="0"/>
                  </a:lnTo>
                  <a:close/>
                </a:path>
              </a:pathLst>
            </a:custGeom>
            <a:solidFill>
              <a:srgbClr val="fcf2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8" name="WordArt 13"/>
          <p:cNvSpPr txBox="1"/>
          <p:nvPr/>
        </p:nvSpPr>
        <p:spPr>
          <a:xfrm>
            <a:off x="1476360" y="4189320"/>
            <a:ext cx="6157800" cy="90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ffa9"/>
                    </a:gs>
                    <a:gs pos="50000">
                      <a:srgbClr val="ffff00"/>
                    </a:gs>
                    <a:gs pos="100000">
                      <a:srgbClr val="ffffa9"/>
                    </a:gs>
                  </a:gsLst>
                  <a:lin ang="13500000"/>
                </a:gradFill>
                <a:latin typeface="宋体"/>
              </a:rPr>
              <a:t>谨以此片献祝祖国母亲六十华诞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ffa9"/>
                  </a:gs>
                  <a:gs pos="50000">
                    <a:srgbClr val="ffff00"/>
                  </a:gs>
                  <a:gs pos="100000">
                    <a:srgbClr val="ffffa9"/>
                  </a:gs>
                </a:gsLst>
                <a:lin ang="135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2240" dur="indefinite" restart="never" nodeType="tmRoot">
          <p:childTnLst>
            <p:seq>
              <p:cTn id="2241" dur="indefinite" nodeType="mainSeq">
                <p:childTnLst>
                  <p:par>
                    <p:cTn id="2242" fill="hold">
                      <p:stCondLst>
                        <p:cond delay="0"/>
                      </p:stCondLst>
                      <p:childTnLst>
                        <p:par>
                          <p:cTn id="2243" fill="hold">
                            <p:stCondLst>
                              <p:cond delay="0"/>
                            </p:stCondLst>
                            <p:childTnLst>
                              <p:par>
                                <p:cTn id="22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6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0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68000" y="156960"/>
            <a:ext cx="82090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07640" y="1056960"/>
            <a:ext cx="892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cc3300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3300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7"/>
          <p:cNvSpPr/>
          <p:nvPr/>
        </p:nvSpPr>
        <p:spPr>
          <a:xfrm>
            <a:off x="7288200" y="277920"/>
            <a:ext cx="138924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2"/>
          <p:cNvGrpSpPr/>
          <p:nvPr/>
        </p:nvGrpSpPr>
        <p:grpSpPr>
          <a:xfrm>
            <a:off x="-677880" y="3540240"/>
            <a:ext cx="6475320" cy="1439640"/>
            <a:chOff x="-677880" y="3540240"/>
            <a:chExt cx="6475320" cy="1439640"/>
          </a:xfrm>
        </p:grpSpPr>
        <p:sp>
          <p:nvSpPr>
            <p:cNvPr id="252" name="AutoShape 3"/>
            <p:cNvSpPr/>
            <p:nvPr/>
          </p:nvSpPr>
          <p:spPr>
            <a:xfrm>
              <a:off x="-677880" y="3719160"/>
              <a:ext cx="6473880" cy="107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4"/>
            <p:cNvSpPr/>
            <p:nvPr/>
          </p:nvSpPr>
          <p:spPr>
            <a:xfrm>
              <a:off x="-676440" y="3540240"/>
              <a:ext cx="6473880" cy="143964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Group 5"/>
          <p:cNvGrpSpPr/>
          <p:nvPr/>
        </p:nvGrpSpPr>
        <p:grpSpPr>
          <a:xfrm>
            <a:off x="4319640" y="2857680"/>
            <a:ext cx="3744360" cy="2915640"/>
            <a:chOff x="4319640" y="2857680"/>
            <a:chExt cx="3744360" cy="2915640"/>
          </a:xfrm>
        </p:grpSpPr>
        <p:grpSp>
          <p:nvGrpSpPr>
            <p:cNvPr id="255" name="WordArt 6"/>
            <p:cNvGrpSpPr/>
            <p:nvPr/>
          </p:nvGrpSpPr>
          <p:grpSpPr>
            <a:xfrm>
              <a:off x="4319640" y="2857680"/>
              <a:ext cx="2158920" cy="2915640"/>
              <a:chOff x="4319640" y="2857680"/>
              <a:chExt cx="2158920" cy="2915640"/>
            </a:xfrm>
          </p:grpSpPr>
          <p:pic>
            <p:nvPicPr>
              <p:cNvPr id="256" name="WordArt 6" descr=""/>
              <p:cNvPicPr/>
              <p:nvPr/>
            </p:nvPicPr>
            <p:blipFill>
              <a:blip r:embed="rId1"/>
              <a:stretch/>
            </p:blipFill>
            <p:spPr>
              <a:xfrm>
                <a:off x="4321800" y="2859120"/>
                <a:ext cx="2156400" cy="2913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7" name=""/>
              <p:cNvSpPr/>
              <p:nvPr/>
            </p:nvSpPr>
            <p:spPr>
              <a:xfrm>
                <a:off x="4319640" y="2857680"/>
                <a:ext cx="2158920" cy="29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宋体"/>
                  </a:rPr>
                  <a:t>解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WordArt 7"/>
            <p:cNvGrpSpPr/>
            <p:nvPr/>
          </p:nvGrpSpPr>
          <p:grpSpPr>
            <a:xfrm>
              <a:off x="5898600" y="2857680"/>
              <a:ext cx="2165400" cy="2915640"/>
              <a:chOff x="5898600" y="2857680"/>
              <a:chExt cx="2165400" cy="2915640"/>
            </a:xfrm>
          </p:grpSpPr>
          <p:pic>
            <p:nvPicPr>
              <p:cNvPr id="259" name="WordArt 7" descr=""/>
              <p:cNvPicPr/>
              <p:nvPr/>
            </p:nvPicPr>
            <p:blipFill>
              <a:blip r:embed="rId2"/>
              <a:stretch/>
            </p:blipFill>
            <p:spPr>
              <a:xfrm>
                <a:off x="5898600" y="2859120"/>
                <a:ext cx="2165400" cy="2913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" name=""/>
              <p:cNvSpPr/>
              <p:nvPr/>
            </p:nvSpPr>
            <p:spPr>
              <a:xfrm>
                <a:off x="5901480" y="2857680"/>
                <a:ext cx="2162160" cy="29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宋体"/>
                  </a:rPr>
                  <a:t>放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61" name="Picture 8" descr="1"/>
          <p:cNvPicPr/>
          <p:nvPr/>
        </p:nvPicPr>
        <p:blipFill>
          <a:blip r:embed="rId3"/>
          <a:srcRect l="0" t="0" r="0" b="49939"/>
          <a:stretch/>
        </p:blipFill>
        <p:spPr>
          <a:xfrm>
            <a:off x="431640" y="-2460600"/>
            <a:ext cx="7958160" cy="528156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9"/>
          <p:cNvSpPr/>
          <p:nvPr/>
        </p:nvSpPr>
        <p:spPr>
          <a:xfrm flipH="1" rot="20400000">
            <a:off x="3600000" y="-1495440"/>
            <a:ext cx="287280" cy="4305240"/>
          </a:xfrm>
          <a:prstGeom prst="rect">
            <a:avLst/>
          </a:prstGeom>
          <a:gradFill rotWithShape="0">
            <a:gsLst>
              <a:gs pos="0">
                <a:srgbClr val="ffffc9"/>
              </a:gs>
              <a:gs pos="100000">
                <a:srgbClr val="ffffff"/>
              </a:gs>
            </a:gsLst>
            <a:lin ang="4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0"/>
          <p:cNvSpPr/>
          <p:nvPr/>
        </p:nvSpPr>
        <p:spPr>
          <a:xfrm flipH="1" rot="19800000">
            <a:off x="3168720" y="-1603440"/>
            <a:ext cx="287280" cy="4594320"/>
          </a:xfrm>
          <a:prstGeom prst="rect">
            <a:avLst/>
          </a:prstGeom>
          <a:gradFill rotWithShape="0">
            <a:gsLst>
              <a:gs pos="0">
                <a:srgbClr val="ffffc9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1"/>
          <p:cNvSpPr/>
          <p:nvPr/>
        </p:nvSpPr>
        <p:spPr>
          <a:xfrm flipH="1" rot="19200000">
            <a:off x="2808000" y="-1495800"/>
            <a:ext cx="287280" cy="4881600"/>
          </a:xfrm>
          <a:prstGeom prst="rect">
            <a:avLst/>
          </a:prstGeom>
          <a:gradFill rotWithShape="0">
            <a:gsLst>
              <a:gs pos="0">
                <a:srgbClr val="ffffc9"/>
              </a:gs>
              <a:gs pos="100000">
                <a:srgbClr val="ffffff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2"/>
          <p:cNvSpPr/>
          <p:nvPr/>
        </p:nvSpPr>
        <p:spPr>
          <a:xfrm flipH="1" rot="18600000">
            <a:off x="2253240" y="-1765800"/>
            <a:ext cx="287280" cy="5573520"/>
          </a:xfrm>
          <a:prstGeom prst="rect">
            <a:avLst/>
          </a:prstGeom>
          <a:gradFill rotWithShape="0">
            <a:gsLst>
              <a:gs pos="0">
                <a:srgbClr val="ffffc9"/>
              </a:gs>
              <a:gs pos="100000">
                <a:srgbClr val="ffffff"/>
              </a:gs>
            </a:gsLst>
            <a:lin ang="2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3"/>
          <p:cNvSpPr/>
          <p:nvPr/>
        </p:nvSpPr>
        <p:spPr>
          <a:xfrm flipH="1" rot="18000000">
            <a:off x="1881720" y="-1649880"/>
            <a:ext cx="287280" cy="5988240"/>
          </a:xfrm>
          <a:prstGeom prst="rect">
            <a:avLst/>
          </a:prstGeom>
          <a:gradFill rotWithShape="0">
            <a:gsLst>
              <a:gs pos="0">
                <a:srgbClr val="ffffc9"/>
              </a:gs>
              <a:gs pos="100000">
                <a:srgbClr val="ffffff"/>
              </a:gs>
            </a:gsLst>
            <a:lin ang="1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4"/>
          <p:cNvSpPr/>
          <p:nvPr/>
        </p:nvSpPr>
        <p:spPr>
          <a:xfrm flipH="1" rot="17400000">
            <a:off x="1980720" y="-795240"/>
            <a:ext cx="287280" cy="5357880"/>
          </a:xfrm>
          <a:prstGeom prst="rect">
            <a:avLst/>
          </a:prstGeom>
          <a:gradFill rotWithShape="0">
            <a:gsLst>
              <a:gs pos="0">
                <a:srgbClr val="ffffc9"/>
              </a:gs>
              <a:gs pos="100000">
                <a:srgbClr val="ffffff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5"/>
          <p:cNvSpPr/>
          <p:nvPr/>
        </p:nvSpPr>
        <p:spPr>
          <a:xfrm flipH="1" rot="16800000">
            <a:off x="1893240" y="-422640"/>
            <a:ext cx="285840" cy="5335560"/>
          </a:xfrm>
          <a:prstGeom prst="rect">
            <a:avLst/>
          </a:prstGeom>
          <a:gradFill rotWithShape="0">
            <a:gsLst>
              <a:gs pos="0">
                <a:srgbClr val="ffffc9"/>
              </a:gs>
              <a:gs pos="100000">
                <a:srgbClr val="ffffff"/>
              </a:gs>
            </a:gsLst>
            <a:lin ang="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6"/>
          <p:cNvSpPr/>
          <p:nvPr/>
        </p:nvSpPr>
        <p:spPr>
          <a:xfrm flipH="1" rot="21000000">
            <a:off x="3998160" y="-1378080"/>
            <a:ext cx="287280" cy="4017960"/>
          </a:xfrm>
          <a:prstGeom prst="rect">
            <a:avLst/>
          </a:prstGeom>
          <a:gradFill rotWithShape="0">
            <a:gsLst>
              <a:gs pos="0">
                <a:srgbClr val="ffffc9"/>
              </a:gs>
              <a:gs pos="100000">
                <a:srgbClr val="ffffff"/>
              </a:gs>
            </a:gsLst>
            <a:lin ang="4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17"/>
          <p:cNvGrpSpPr/>
          <p:nvPr/>
        </p:nvGrpSpPr>
        <p:grpSpPr>
          <a:xfrm>
            <a:off x="4356000" y="-1460520"/>
            <a:ext cx="334800" cy="4173480"/>
            <a:chOff x="4356000" y="-1460520"/>
            <a:chExt cx="334800" cy="4173480"/>
          </a:xfrm>
        </p:grpSpPr>
        <p:sp>
          <p:nvSpPr>
            <p:cNvPr id="271" name="Rectangle 18"/>
            <p:cNvSpPr/>
            <p:nvPr/>
          </p:nvSpPr>
          <p:spPr>
            <a:xfrm>
              <a:off x="4356000" y="-1460520"/>
              <a:ext cx="287280" cy="4162680"/>
            </a:xfrm>
            <a:prstGeom prst="rect">
              <a:avLst/>
            </a:prstGeom>
            <a:gradFill rotWithShape="0">
              <a:gsLst>
                <a:gs pos="0">
                  <a:srgbClr val="ffffc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9"/>
            <p:cNvSpPr/>
            <p:nvPr/>
          </p:nvSpPr>
          <p:spPr>
            <a:xfrm flipH="1">
              <a:off x="4403520" y="-1449360"/>
              <a:ext cx="287280" cy="4162320"/>
            </a:xfrm>
            <a:prstGeom prst="rect">
              <a:avLst/>
            </a:prstGeom>
            <a:gradFill rotWithShape="0">
              <a:gsLst>
                <a:gs pos="0">
                  <a:srgbClr val="ffffc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Rectangle 20"/>
          <p:cNvSpPr/>
          <p:nvPr/>
        </p:nvSpPr>
        <p:spPr>
          <a:xfrm rot="1200000">
            <a:off x="5149440" y="-1495440"/>
            <a:ext cx="287280" cy="4305240"/>
          </a:xfrm>
          <a:prstGeom prst="rect">
            <a:avLst/>
          </a:prstGeom>
          <a:gradFill rotWithShape="0">
            <a:gsLst>
              <a:gs pos="0">
                <a:srgbClr val="ffffc9"/>
              </a:gs>
              <a:gs pos="100000">
                <a:srgbClr val="ffffff"/>
              </a:gs>
            </a:gsLst>
            <a:lin ang="4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1"/>
          <p:cNvSpPr/>
          <p:nvPr/>
        </p:nvSpPr>
        <p:spPr>
          <a:xfrm rot="1800000">
            <a:off x="5581800" y="-1530360"/>
            <a:ext cx="287280" cy="4594320"/>
          </a:xfrm>
          <a:prstGeom prst="rect">
            <a:avLst/>
          </a:prstGeom>
          <a:gradFill rotWithShape="0">
            <a:gsLst>
              <a:gs pos="0">
                <a:srgbClr val="ffffc9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2"/>
          <p:cNvSpPr/>
          <p:nvPr/>
        </p:nvSpPr>
        <p:spPr>
          <a:xfrm rot="2400000">
            <a:off x="5976720" y="-1458720"/>
            <a:ext cx="287280" cy="4881600"/>
          </a:xfrm>
          <a:prstGeom prst="rect">
            <a:avLst/>
          </a:prstGeom>
          <a:gradFill rotWithShape="0">
            <a:gsLst>
              <a:gs pos="0">
                <a:srgbClr val="ffffc9"/>
              </a:gs>
              <a:gs pos="100000">
                <a:srgbClr val="ffffff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23"/>
          <p:cNvSpPr/>
          <p:nvPr/>
        </p:nvSpPr>
        <p:spPr>
          <a:xfrm rot="3000000">
            <a:off x="6500160" y="-1697760"/>
            <a:ext cx="287280" cy="5578560"/>
          </a:xfrm>
          <a:prstGeom prst="rect">
            <a:avLst/>
          </a:prstGeom>
          <a:gradFill rotWithShape="0">
            <a:gsLst>
              <a:gs pos="0">
                <a:srgbClr val="ffffc9"/>
              </a:gs>
              <a:gs pos="100000">
                <a:srgbClr val="ffffff"/>
              </a:gs>
            </a:gsLst>
            <a:lin ang="2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24"/>
          <p:cNvSpPr/>
          <p:nvPr/>
        </p:nvSpPr>
        <p:spPr>
          <a:xfrm rot="3600000">
            <a:off x="6977880" y="-1686240"/>
            <a:ext cx="287280" cy="5991120"/>
          </a:xfrm>
          <a:prstGeom prst="rect">
            <a:avLst/>
          </a:prstGeom>
          <a:gradFill rotWithShape="0">
            <a:gsLst>
              <a:gs pos="0">
                <a:srgbClr val="ffffc9"/>
              </a:gs>
              <a:gs pos="100000">
                <a:srgbClr val="ffffff"/>
              </a:gs>
            </a:gsLst>
            <a:lin ang="1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25"/>
          <p:cNvSpPr/>
          <p:nvPr/>
        </p:nvSpPr>
        <p:spPr>
          <a:xfrm rot="4200000">
            <a:off x="6860160" y="-832320"/>
            <a:ext cx="287280" cy="5362560"/>
          </a:xfrm>
          <a:prstGeom prst="rect">
            <a:avLst/>
          </a:prstGeom>
          <a:gradFill rotWithShape="0">
            <a:gsLst>
              <a:gs pos="0">
                <a:srgbClr val="ffffc9"/>
              </a:gs>
              <a:gs pos="100000">
                <a:srgbClr val="ffffff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6"/>
          <p:cNvSpPr/>
          <p:nvPr/>
        </p:nvSpPr>
        <p:spPr>
          <a:xfrm rot="4800000">
            <a:off x="6907680" y="-461160"/>
            <a:ext cx="287280" cy="5340240"/>
          </a:xfrm>
          <a:prstGeom prst="rect">
            <a:avLst/>
          </a:prstGeom>
          <a:gradFill rotWithShape="0">
            <a:gsLst>
              <a:gs pos="0">
                <a:srgbClr val="ffffc9"/>
              </a:gs>
              <a:gs pos="100000">
                <a:srgbClr val="ffffff"/>
              </a:gs>
            </a:gsLst>
            <a:lin ang="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27"/>
          <p:cNvSpPr/>
          <p:nvPr/>
        </p:nvSpPr>
        <p:spPr>
          <a:xfrm rot="600000">
            <a:off x="4766760" y="-1387440"/>
            <a:ext cx="287640" cy="4017960"/>
          </a:xfrm>
          <a:prstGeom prst="rect">
            <a:avLst/>
          </a:prstGeom>
          <a:gradFill rotWithShape="0">
            <a:gsLst>
              <a:gs pos="0">
                <a:srgbClr val="ffffc9"/>
              </a:gs>
              <a:gs pos="100000">
                <a:srgbClr val="ffffff"/>
              </a:gs>
            </a:gsLst>
            <a:lin ang="4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Group 28"/>
          <p:cNvGrpSpPr/>
          <p:nvPr/>
        </p:nvGrpSpPr>
        <p:grpSpPr>
          <a:xfrm>
            <a:off x="1027080" y="2316240"/>
            <a:ext cx="7197840" cy="1081080"/>
            <a:chOff x="1027080" y="2316240"/>
            <a:chExt cx="7197840" cy="1081080"/>
          </a:xfrm>
        </p:grpSpPr>
        <p:sp>
          <p:nvSpPr>
            <p:cNvPr id="282" name="Oval 29"/>
            <p:cNvSpPr/>
            <p:nvPr/>
          </p:nvSpPr>
          <p:spPr>
            <a:xfrm>
              <a:off x="1027080" y="2586240"/>
              <a:ext cx="7197840" cy="5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30"/>
            <p:cNvSpPr/>
            <p:nvPr/>
          </p:nvSpPr>
          <p:spPr>
            <a:xfrm>
              <a:off x="3257640" y="2316240"/>
              <a:ext cx="2735280" cy="107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31"/>
            <p:cNvSpPr/>
            <p:nvPr/>
          </p:nvSpPr>
          <p:spPr>
            <a:xfrm>
              <a:off x="1027080" y="2586240"/>
              <a:ext cx="7197840" cy="5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32"/>
            <p:cNvSpPr/>
            <p:nvPr/>
          </p:nvSpPr>
          <p:spPr>
            <a:xfrm>
              <a:off x="3257640" y="2316240"/>
              <a:ext cx="2735280" cy="107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33"/>
            <p:cNvSpPr/>
            <p:nvPr/>
          </p:nvSpPr>
          <p:spPr>
            <a:xfrm>
              <a:off x="1027080" y="2587680"/>
              <a:ext cx="7197840" cy="5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34"/>
            <p:cNvSpPr/>
            <p:nvPr/>
          </p:nvSpPr>
          <p:spPr>
            <a:xfrm>
              <a:off x="3259080" y="2317680"/>
              <a:ext cx="2735280" cy="107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Oval 35"/>
          <p:cNvSpPr/>
          <p:nvPr/>
        </p:nvSpPr>
        <p:spPr>
          <a:xfrm>
            <a:off x="-2479680" y="2533680"/>
            <a:ext cx="13892040" cy="539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36"/>
          <p:cNvSpPr/>
          <p:nvPr/>
        </p:nvSpPr>
        <p:spPr>
          <a:xfrm>
            <a:off x="3781440" y="1992240"/>
            <a:ext cx="1511280" cy="1513080"/>
          </a:xfrm>
          <a:custGeom>
            <a:avLst/>
            <a:gdLst/>
            <a:ahLst/>
            <a:rect l="l" t="t" r="r" b="b"/>
            <a:pathLst>
              <a:path w="1511300" h="1512887">
                <a:moveTo>
                  <a:pt x="2" y="577870"/>
                </a:moveTo>
                <a:lnTo>
                  <a:pt x="577268" y="577874"/>
                </a:lnTo>
                <a:lnTo>
                  <a:pt x="755650" y="0"/>
                </a:lnTo>
                <a:lnTo>
                  <a:pt x="934032" y="577874"/>
                </a:lnTo>
                <a:lnTo>
                  <a:pt x="1511298" y="577870"/>
                </a:lnTo>
                <a:lnTo>
                  <a:pt x="1044277" y="935012"/>
                </a:lnTo>
                <a:lnTo>
                  <a:pt x="1222666" y="1512883"/>
                </a:lnTo>
                <a:lnTo>
                  <a:pt x="755650" y="1155735"/>
                </a:lnTo>
                <a:lnTo>
                  <a:pt x="288634" y="1512883"/>
                </a:lnTo>
                <a:lnTo>
                  <a:pt x="467023" y="935012"/>
                </a:lnTo>
                <a:lnTo>
                  <a:pt x="2" y="57787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AutoShape 37"/>
          <p:cNvGrpSpPr/>
          <p:nvPr/>
        </p:nvGrpSpPr>
        <p:grpSpPr>
          <a:xfrm>
            <a:off x="2621160" y="3330360"/>
            <a:ext cx="1062360" cy="1062360"/>
            <a:chOff x="2621160" y="3330360"/>
            <a:chExt cx="1062360" cy="1062360"/>
          </a:xfrm>
        </p:grpSpPr>
        <p:pic>
          <p:nvPicPr>
            <p:cNvPr id="291" name="AutoShape 37" descr=""/>
            <p:cNvPicPr/>
            <p:nvPr/>
          </p:nvPicPr>
          <p:blipFill>
            <a:blip r:embed="rId5"/>
            <a:stretch/>
          </p:blipFill>
          <p:spPr>
            <a:xfrm>
              <a:off x="2719440" y="3528000"/>
              <a:ext cx="768960" cy="76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 rot="2700000">
              <a:off x="2777040" y="3485160"/>
              <a:ext cx="75024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AutoShape 38"/>
          <p:cNvGrpSpPr/>
          <p:nvPr/>
        </p:nvGrpSpPr>
        <p:grpSpPr>
          <a:xfrm>
            <a:off x="3508560" y="4152600"/>
            <a:ext cx="934200" cy="951840"/>
            <a:chOff x="3508560" y="4152600"/>
            <a:chExt cx="934200" cy="951840"/>
          </a:xfrm>
        </p:grpSpPr>
        <p:pic>
          <p:nvPicPr>
            <p:cNvPr id="294" name="AutoShape 38" descr=""/>
            <p:cNvPicPr/>
            <p:nvPr/>
          </p:nvPicPr>
          <p:blipFill>
            <a:blip r:embed="rId6"/>
            <a:stretch/>
          </p:blipFill>
          <p:spPr>
            <a:xfrm>
              <a:off x="3630240" y="4246200"/>
              <a:ext cx="739800" cy="82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 rot="900000">
              <a:off x="3596760" y="4237200"/>
              <a:ext cx="757440" cy="7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AutoShape 39"/>
          <p:cNvGrpSpPr/>
          <p:nvPr/>
        </p:nvGrpSpPr>
        <p:grpSpPr>
          <a:xfrm>
            <a:off x="4654440" y="4146120"/>
            <a:ext cx="932400" cy="950760"/>
            <a:chOff x="4654440" y="4146120"/>
            <a:chExt cx="932400" cy="950760"/>
          </a:xfrm>
        </p:grpSpPr>
        <p:pic>
          <p:nvPicPr>
            <p:cNvPr id="297" name="AutoShape 39" descr=""/>
            <p:cNvPicPr/>
            <p:nvPr/>
          </p:nvPicPr>
          <p:blipFill>
            <a:blip r:embed="rId7"/>
            <a:stretch/>
          </p:blipFill>
          <p:spPr>
            <a:xfrm>
              <a:off x="4730760" y="4241520"/>
              <a:ext cx="732960" cy="82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 rot="20700000">
              <a:off x="4742640" y="4230720"/>
              <a:ext cx="756000" cy="78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AutoShape 40"/>
          <p:cNvGrpSpPr/>
          <p:nvPr/>
        </p:nvGrpSpPr>
        <p:grpSpPr>
          <a:xfrm>
            <a:off x="5355000" y="3314160"/>
            <a:ext cx="1056240" cy="1056600"/>
            <a:chOff x="5355000" y="3314160"/>
            <a:chExt cx="1056240" cy="1056600"/>
          </a:xfrm>
        </p:grpSpPr>
        <p:pic>
          <p:nvPicPr>
            <p:cNvPr id="300" name="AutoShape 40" descr=""/>
            <p:cNvPicPr/>
            <p:nvPr/>
          </p:nvPicPr>
          <p:blipFill>
            <a:blip r:embed="rId8"/>
            <a:stretch/>
          </p:blipFill>
          <p:spPr>
            <a:xfrm>
              <a:off x="5556600" y="3513240"/>
              <a:ext cx="758160" cy="75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 rot="18900000">
              <a:off x="5509800" y="3468240"/>
              <a:ext cx="746280" cy="7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41"/>
          <p:cNvGrpSpPr/>
          <p:nvPr/>
        </p:nvGrpSpPr>
        <p:grpSpPr>
          <a:xfrm>
            <a:off x="2197080" y="623880"/>
            <a:ext cx="4680000" cy="4377960"/>
            <a:chOff x="2197080" y="623880"/>
            <a:chExt cx="4680000" cy="4377960"/>
          </a:xfrm>
        </p:grpSpPr>
        <p:pic>
          <p:nvPicPr>
            <p:cNvPr id="303" name="WordArt 42" descr=""/>
            <p:cNvPicPr/>
            <p:nvPr/>
          </p:nvPicPr>
          <p:blipFill>
            <a:blip r:embed="rId9"/>
            <a:stretch/>
          </p:blipFill>
          <p:spPr>
            <a:xfrm>
              <a:off x="2197080" y="2814840"/>
              <a:ext cx="4680000" cy="218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Rectangle 43"/>
            <p:cNvSpPr/>
            <p:nvPr/>
          </p:nvSpPr>
          <p:spPr>
            <a:xfrm>
              <a:off x="2211120" y="623880"/>
              <a:ext cx="4648320" cy="222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44"/>
          <p:cNvGrpSpPr/>
          <p:nvPr/>
        </p:nvGrpSpPr>
        <p:grpSpPr>
          <a:xfrm>
            <a:off x="2197080" y="623880"/>
            <a:ext cx="4680000" cy="4377960"/>
            <a:chOff x="2197080" y="623880"/>
            <a:chExt cx="4680000" cy="4377960"/>
          </a:xfrm>
        </p:grpSpPr>
        <p:pic>
          <p:nvPicPr>
            <p:cNvPr id="306" name="WordArt 45" descr=""/>
            <p:cNvPicPr/>
            <p:nvPr/>
          </p:nvPicPr>
          <p:blipFill>
            <a:blip r:embed="rId10"/>
            <a:stretch/>
          </p:blipFill>
          <p:spPr>
            <a:xfrm>
              <a:off x="2197080" y="3926520"/>
              <a:ext cx="4680000" cy="107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Rectangle 46"/>
            <p:cNvSpPr/>
            <p:nvPr/>
          </p:nvSpPr>
          <p:spPr>
            <a:xfrm>
              <a:off x="2211120" y="623880"/>
              <a:ext cx="4648320" cy="22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WordArt 47"/>
          <p:cNvSpPr txBox="1"/>
          <p:nvPr/>
        </p:nvSpPr>
        <p:spPr>
          <a:xfrm>
            <a:off x="541440" y="3889440"/>
            <a:ext cx="4032000" cy="7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648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e20000"/>
                    </a:gs>
                    <a:gs pos="100000">
                      <a:srgbClr val="ac0000"/>
                    </a:gs>
                  </a:gsLst>
                  <a:lin ang="5400000"/>
                </a:gradFill>
                <a:latin typeface="宋体"/>
              </a:rPr>
              <a:t>从未停止的</a:t>
            </a:r>
            <a:endParaRPr b="1" lang="en-US" sz="1800" spc="1" strike="noStrike">
              <a:ln w="648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e20000"/>
                  </a:gs>
                  <a:gs pos="100000">
                    <a:srgbClr val="ac0000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309" name="WordArt 48"/>
          <p:cNvSpPr txBox="1"/>
          <p:nvPr/>
        </p:nvSpPr>
        <p:spPr>
          <a:xfrm>
            <a:off x="4788000" y="3343320"/>
            <a:ext cx="280836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648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e20000"/>
                    </a:gs>
                    <a:gs pos="100000">
                      <a:srgbClr val="ac0000"/>
                    </a:gs>
                  </a:gsLst>
                  <a:lin ang="5400000"/>
                </a:gradFill>
                <a:latin typeface="宋体"/>
              </a:rPr>
              <a:t>解放</a:t>
            </a:r>
            <a:endParaRPr b="1" lang="en-US" sz="1800" spc="1" strike="noStrike">
              <a:ln w="648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e20000"/>
                  </a:gs>
                  <a:gs pos="100000">
                    <a:srgbClr val="ac0000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310" name="Picture 49" descr="001"/>
          <p:cNvPicPr/>
          <p:nvPr/>
        </p:nvPicPr>
        <p:blipFill>
          <a:blip r:embed="rId11"/>
          <a:srcRect l="0" t="0" r="0" b="47292"/>
          <a:stretch/>
        </p:blipFill>
        <p:spPr>
          <a:xfrm>
            <a:off x="2305080" y="71280"/>
            <a:ext cx="4321080" cy="174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46" dur="indefinite" restart="never" nodeType="tmRoot">
          <p:childTnLst>
            <p:seq>
              <p:cTn id="1347" dur="indefinite" nodeType="mainSeq">
                <p:childTnLst>
                  <p:par>
                    <p:cTn id="1348" fill="hold">
                      <p:stCondLst>
                        <p:cond delay="0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6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62" nodeType="withEffect" fill="hold" presetClass="entr" presetID="23" presetSubtype="52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8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21600000">
                                      <p:cBhvr>
                                        <p:cTn id="136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70" nodeType="withEffect" fill="hold" presetClass="entr" presetID="23" presetSubtype="52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6" nodeType="withEffect" fill="hold" presetClass="emph" presetID="8">
                                  <p:stCondLst>
                                    <p:cond delay="600"/>
                                  </p:stCondLst>
                                  <p:childTnLst>
                                    <p:animRot by="21600000">
                                      <p:cBhvr>
                                        <p:cTn id="137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78" nodeType="withEffect" fill="hold" presetClass="entr" presetID="23" presetSubtype="52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4" nodeType="withEffect" fill="hold" presetClass="emph" presetID="8">
                                  <p:stCondLst>
                                    <p:cond delay="900"/>
                                  </p:stCondLst>
                                  <p:childTnLst>
                                    <p:animRot by="21600000">
                                      <p:cBhvr>
                                        <p:cTn id="138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86" nodeType="withEffect" fill="hold" presetClass="entr" presetID="23" presetSubtype="52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2" nodeType="withEffect" fill="hold" presetClass="emph" presetID="8">
                                  <p:stCondLst>
                                    <p:cond delay="1200"/>
                                  </p:stCondLst>
                                  <p:childTnLst>
                                    <p:animRot by="21600000">
                                      <p:cBhvr>
                                        <p:cTn id="139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4" fill="hold">
                            <p:stCondLst>
                              <p:cond delay="2200"/>
                            </p:stCondLst>
                            <p:childTnLst>
                              <p:par>
                                <p:cTn id="13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6" fill="hold">
                            <p:stCondLst>
                              <p:cond delay="2700"/>
                            </p:stCondLst>
                            <p:childTnLst>
                              <p:par>
                                <p:cTn id="14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9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fill="hold">
                            <p:stCondLst>
                              <p:cond delay="3700"/>
                            </p:stCondLst>
                            <p:childTnLst>
                              <p:par>
                                <p:cTn id="14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3" dur="1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1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5" dur="1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6" fill="hold">
                            <p:stCondLst>
                              <p:cond delay="3800"/>
                            </p:stCondLst>
                            <p:childTnLst>
                              <p:par>
                                <p:cTn id="14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9" dur="1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1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1" dur="1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2" fill="hold">
                            <p:stCondLst>
                              <p:cond delay="3900"/>
                            </p:stCondLst>
                            <p:childTnLst>
                              <p:par>
                                <p:cTn id="14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5" dur="1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1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7" dur="1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8" fill="hold">
                            <p:stCondLst>
                              <p:cond delay="4000"/>
                            </p:stCondLst>
                            <p:childTnLst>
                              <p:par>
                                <p:cTn id="14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1" dur="1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1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3" dur="1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4" fill="hold">
                            <p:stCondLst>
                              <p:cond delay="4100"/>
                            </p:stCondLst>
                            <p:childTnLst>
                              <p:par>
                                <p:cTn id="14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7" dur="1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1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9" dur="1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0" fill="hold">
                            <p:stCondLst>
                              <p:cond delay="4200"/>
                            </p:stCondLst>
                            <p:childTnLst>
                              <p:par>
                                <p:cTn id="14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3" dur="1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1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5" dur="1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6" fill="hold">
                            <p:stCondLst>
                              <p:cond delay="4300"/>
                            </p:stCondLst>
                            <p:childTnLst>
                              <p:par>
                                <p:cTn id="14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9" dur="1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1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1" dur="1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2" fill="hold">
                            <p:stCondLst>
                              <p:cond delay="4400"/>
                            </p:stCondLst>
                            <p:childTnLst>
                              <p:par>
                                <p:cTn id="14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5" dur="1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1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7" dur="1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8" fill="hold">
                            <p:stCondLst>
                              <p:cond delay="4500"/>
                            </p:stCondLst>
                            <p:childTnLst>
                              <p:par>
                                <p:cTn id="14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1" dur="1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1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3" dur="1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4" fill="hold">
                            <p:stCondLst>
                              <p:cond delay="4600"/>
                            </p:stCondLst>
                            <p:childTnLst>
                              <p:par>
                                <p:cTn id="15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7" dur="1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1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9" dur="1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0" fill="hold">
                            <p:stCondLst>
                              <p:cond delay="4700"/>
                            </p:stCondLst>
                            <p:childTnLst>
                              <p:par>
                                <p:cTn id="15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3" dur="1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1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5" dur="1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6" fill="hold">
                            <p:stCondLst>
                              <p:cond delay="4800"/>
                            </p:stCondLst>
                            <p:childTnLst>
                              <p:par>
                                <p:cTn id="15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9" dur="1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1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1" dur="1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2" fill="hold">
                            <p:stCondLst>
                              <p:cond delay="4900"/>
                            </p:stCondLst>
                            <p:childTnLst>
                              <p:par>
                                <p:cTn id="15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5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7" dur="1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8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1" dur="1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1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3" dur="1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4" fill="hold">
                            <p:stCondLst>
                              <p:cond delay="5100"/>
                            </p:stCondLst>
                            <p:childTnLst>
                              <p:par>
                                <p:cTn id="15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7" dur="1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1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9" dur="1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0" fill="hold">
                            <p:stCondLst>
                              <p:cond delay="5200"/>
                            </p:stCondLst>
                            <p:childTnLst>
                              <p:par>
                                <p:cTn id="15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3" dur="1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1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5" dur="1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6" fill="hold">
                            <p:stCondLst>
                              <p:cond delay="5300"/>
                            </p:stCondLst>
                            <p:childTnLst>
                              <p:par>
                                <p:cTn id="15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9" dur="1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1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1" dur="1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2" fill="hold">
                            <p:stCondLst>
                              <p:cond delay="5400"/>
                            </p:stCondLst>
                            <p:childTnLst>
                              <p:par>
                                <p:cTn id="1553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33333E-006 L -5.55556E-007 -0.06916 E">
                                      <p:cBhvr>
                                        <p:cTn id="1554" dur="500" fill="hold"/>
                                        <p:tgtEl>
                                          <p:spTgt spid="2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5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58" dur="500" fill="hold"/>
                                        <p:tgtEl>
                                          <p:spTgt spid="289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559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60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1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5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66" dur="5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5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8" dur="5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5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1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2" dur="5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3" dur="5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4" dur="5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5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7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8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3" fill="hold">
                            <p:stCondLst>
                              <p:cond delay="5900"/>
                            </p:stCondLst>
                            <p:childTnLst>
                              <p:par>
                                <p:cTn id="15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9" fill="hold">
                            <p:stCondLst>
                              <p:cond delay="6400"/>
                            </p:stCondLst>
                            <p:childTnLst>
                              <p:par>
                                <p:cTn id="159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4" fill="hold">
                            <p:stCondLst>
                              <p:cond delay="6401"/>
                            </p:stCondLst>
                            <p:childTnLst>
                              <p:par>
                                <p:cTn id="1595" nodeType="afterEffect" fill="hold" presetClass="path" presetID="64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5.55556E-007 -2.22222E-006 L -5.55556E-007 -0.14361 E">
                                      <p:cBhvr>
                                        <p:cTn id="1596" dur="5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97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1598" dur="500" fill="hold"/>
                                        <p:tgtEl>
                                          <p:spTgt spid="305"/>
                                        </p:tgtEl>
                                      </p:cBhvr>
                                      <p:to x="70000" y="7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9" fill="hold">
                            <p:stCondLst>
                              <p:cond delay="7901"/>
                            </p:stCondLst>
                            <p:childTnLst>
                              <p:par>
                                <p:cTn id="160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7639 E">
                                      <p:cBhvr>
                                        <p:cTn id="1601" dur="1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7639 E">
                                      <p:cBhvr>
                                        <p:cTn id="1603" dur="1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7639 E">
                                      <p:cBhvr>
                                        <p:cTn id="1605" dur="10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7639 E">
                                      <p:cBhvr>
                                        <p:cTn id="1607" dur="1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0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7639 E">
                                      <p:cBhvr>
                                        <p:cTn id="1609" dur="1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7639 E">
                                      <p:cBhvr>
                                        <p:cTn id="1611" dur="1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7639 E">
                                      <p:cBhvr>
                                        <p:cTn id="1613" dur="10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7639 E">
                                      <p:cBhvr>
                                        <p:cTn id="1615" dur="1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7639 E">
                                      <p:cBhvr>
                                        <p:cTn id="1617" dur="10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7639 E">
                                      <p:cBhvr>
                                        <p:cTn id="1619" dur="10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7639 E">
                                      <p:cBhvr>
                                        <p:cTn id="1621" dur="10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7639 E">
                                      <p:cBhvr>
                                        <p:cTn id="1623" dur="1000" fill="hold"/>
                                        <p:tgtEl>
                                          <p:spTgt spid="2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7639 E">
                                      <p:cBhvr>
                                        <p:cTn id="1625" dur="1000" fill="hold"/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7639 E">
                                      <p:cBhvr>
                                        <p:cTn id="1627" dur="10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7639 E">
                                      <p:cBhvr>
                                        <p:cTn id="1629" dur="1000" fill="hold"/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7639 E">
                                      <p:cBhvr>
                                        <p:cTn id="1631" dur="10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7639 E">
                                      <p:cBhvr>
                                        <p:cTn id="1633" dur="1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7639 E">
                                      <p:cBhvr>
                                        <p:cTn id="1635" dur="1000" fill="hold"/>
                                        <p:tgtEl>
                                          <p:spTgt spid="2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7639 E">
                                      <p:cBhvr>
                                        <p:cTn id="1637" dur="1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7639 E">
                                      <p:cBhvr>
                                        <p:cTn id="1639" dur="1000" fill="hold"/>
                                        <p:tgtEl>
                                          <p:spTgt spid="2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7639 E">
                                      <p:cBhvr>
                                        <p:cTn id="1641" dur="1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7639 E">
                                      <p:cBhvr>
                                        <p:cTn id="1643" dur="10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7639 E">
                                      <p:cBhvr>
                                        <p:cTn id="1645" dur="1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7639 E">
                                      <p:cBhvr>
                                        <p:cTn id="1647" dur="1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7639 E">
                                      <p:cBhvr>
                                        <p:cTn id="1649" dur="1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0.14361 L -5.55556E-007 -0.25694 E">
                                      <p:cBhvr>
                                        <p:cTn id="1651" dur="10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4.44444E-006 L -1.38889E-006 -0.17639 E">
                                      <p:cBhvr>
                                        <p:cTn id="1653" dur="10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4" nodeType="withEffect" fill="hold" presetClass="entr" presetID="16" presetSubtype="2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5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7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0" fill="hold">
                            <p:stCondLst>
                              <p:cond delay="9201"/>
                            </p:stCondLst>
                            <p:childTnLst>
                              <p:par>
                                <p:cTn id="166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63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6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6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6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6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3" fill="hold">
                            <p:stCondLst>
                              <p:cond delay="10201"/>
                            </p:stCondLst>
                            <p:childTnLst>
                              <p:par>
                                <p:cTn id="167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1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3" dur="3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4" nodeType="withEffect" fill="hold" presetClass="entr" presetID="5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6" dur="3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3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8" dur="3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9" dur="3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0" dur="3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1" fill="hold">
                            <p:stCondLst>
                              <p:cond delay="10701"/>
                            </p:stCondLst>
                            <p:childTnLst>
                              <p:par>
                                <p:cTn id="169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93" dur="1000" fill="hold"/>
                                        <p:tgtEl>
                                          <p:spTgt spid="254"/>
                                        </p:tgtEl>
                                      </p:cBhvr>
                                      <p:to x="75000" y="75000"/>
                                    </p:animScale>
                                  </p:childTnLst>
                                </p:cTn>
                              </p:par>
                              <p:par>
                                <p:cTn id="16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5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2"/>
          <p:cNvSpPr/>
          <p:nvPr/>
        </p:nvSpPr>
        <p:spPr>
          <a:xfrm>
            <a:off x="7885080" y="1847880"/>
            <a:ext cx="1189080" cy="1655640"/>
          </a:xfrm>
          <a:prstGeom prst="rect">
            <a:avLst/>
          </a:prstGeom>
          <a:solidFill>
            <a:srgbClr val="e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36360" y="3289320"/>
            <a:ext cx="1189080" cy="2295360"/>
          </a:xfrm>
          <a:prstGeom prst="rect">
            <a:avLst/>
          </a:prstGeom>
          <a:solidFill>
            <a:srgbClr val="e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4"/>
          <p:cNvSpPr/>
          <p:nvPr/>
        </p:nvSpPr>
        <p:spPr>
          <a:xfrm>
            <a:off x="1009800" y="1847880"/>
            <a:ext cx="863280" cy="431640"/>
          </a:xfrm>
          <a:prstGeom prst="rect">
            <a:avLst/>
          </a:prstGeom>
          <a:solidFill>
            <a:srgbClr val="e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Group 5"/>
          <p:cNvGrpSpPr/>
          <p:nvPr/>
        </p:nvGrpSpPr>
        <p:grpSpPr>
          <a:xfrm>
            <a:off x="36360" y="1847880"/>
            <a:ext cx="1189080" cy="1655640"/>
            <a:chOff x="36360" y="1847880"/>
            <a:chExt cx="1189080" cy="1655640"/>
          </a:xfrm>
        </p:grpSpPr>
        <p:sp>
          <p:nvSpPr>
            <p:cNvPr id="315" name="Rectangle 6"/>
            <p:cNvSpPr/>
            <p:nvPr/>
          </p:nvSpPr>
          <p:spPr>
            <a:xfrm>
              <a:off x="36360" y="1847880"/>
              <a:ext cx="1189080" cy="1655640"/>
            </a:xfrm>
            <a:prstGeom prst="rect">
              <a:avLst/>
            </a:prstGeom>
            <a:solidFill>
              <a:srgbClr val="e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WordArt 7"/>
            <p:cNvSpPr txBox="1"/>
            <p:nvPr/>
          </p:nvSpPr>
          <p:spPr>
            <a:xfrm>
              <a:off x="288720" y="1920960"/>
              <a:ext cx="622440" cy="1439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ln w="0">
                    <a:noFill/>
                  </a:ln>
                  <a:solidFill>
                    <a:srgbClr val="ffffff"/>
                  </a:solidFill>
                  <a:latin typeface="宋体"/>
                </a:rPr>
                <a:t>导</a:t>
              </a:r>
              <a:endParaRPr b="1" lang="en-US" sz="2400" spc="-1" strike="noStrike">
                <a:ln w="0">
                  <a:noFill/>
                </a:ln>
                <a:solidFill>
                  <a:srgbClr val="ffffff"/>
                </a:solidFill>
                <a:latin typeface="宋体"/>
                <a:ea typeface="宋体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ln w="0">
                    <a:noFill/>
                  </a:ln>
                  <a:solidFill>
                    <a:srgbClr val="ffffff"/>
                  </a:solidFill>
                  <a:latin typeface="宋体"/>
                </a:rPr>
                <a:t>语</a:t>
              </a:r>
              <a:endParaRPr b="1" lang="en-US" sz="2400" spc="-1" strike="noStrike">
                <a:ln w="0">
                  <a:noFill/>
                </a:ln>
                <a:solidFill>
                  <a:srgbClr val="ffffff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317" name="Group 8"/>
          <p:cNvGrpSpPr/>
          <p:nvPr/>
        </p:nvGrpSpPr>
        <p:grpSpPr>
          <a:xfrm>
            <a:off x="1260360" y="2338560"/>
            <a:ext cx="8029440" cy="1719000"/>
            <a:chOff x="1260360" y="2338560"/>
            <a:chExt cx="8029440" cy="1719000"/>
          </a:xfrm>
        </p:grpSpPr>
        <p:sp>
          <p:nvSpPr>
            <p:cNvPr id="318" name="Text Box 9"/>
            <p:cNvSpPr/>
            <p:nvPr/>
          </p:nvSpPr>
          <p:spPr>
            <a:xfrm>
              <a:off x="1260360" y="2934000"/>
              <a:ext cx="6553080" cy="112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这个词最早出现在英国哲学家培根的书中，意指解除人性的束缚，之后政治学家邓恩将其引申到政治领域，代表从暴君统治中</a:t>
              </a:r>
              <a:r>
                <a:rPr b="1" lang="en-US" sz="26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“</a:t>
              </a:r>
              <a:r>
                <a:rPr b="1" lang="zh-CN" sz="26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解放</a:t>
              </a:r>
              <a:r>
                <a:rPr b="1" lang="en-US" sz="26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”</a:t>
              </a:r>
              <a:r>
                <a:rPr b="1" lang="zh-CN" sz="26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出来。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10"/>
            <p:cNvSpPr/>
            <p:nvPr/>
          </p:nvSpPr>
          <p:spPr>
            <a:xfrm>
              <a:off x="1260360" y="2338560"/>
              <a:ext cx="802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方正粗倩简体"/>
                  <a:ea typeface="方正粗倩简体"/>
                </a:rPr>
                <a:t>1949</a:t>
              </a:r>
              <a:r>
                <a:rPr b="0" lang="zh-CN" sz="2800" spc="-1" strike="noStrike">
                  <a:solidFill>
                    <a:srgbClr val="ffffff"/>
                  </a:solidFill>
                  <a:latin typeface="方正粗倩简体"/>
                  <a:ea typeface="方正粗倩简体"/>
                </a:rPr>
                <a:t>年</a:t>
              </a:r>
              <a:r>
                <a:rPr b="0" lang="zh-CN" sz="2800" spc="-1" strike="noStrike">
                  <a:solidFill>
                    <a:srgbClr val="ffffff"/>
                  </a:solidFill>
                  <a:latin typeface="方正粗倩简体"/>
                  <a:ea typeface="方正粗倩简体"/>
                </a:rPr>
                <a:t>, </a:t>
              </a:r>
              <a:r>
                <a:rPr b="0" lang="zh-CN" sz="2800" spc="-1" strike="noStrike">
                  <a:solidFill>
                    <a:srgbClr val="ffffff"/>
                  </a:solidFill>
                  <a:latin typeface="方正粗倩简体"/>
                  <a:ea typeface="方正粗倩简体"/>
                </a:rPr>
                <a:t>毛泽东和他的中国共产党带来了 </a:t>
              </a:r>
              <a:r>
                <a:rPr b="0" lang="zh-CN" sz="2800" spc="-1" strike="noStrike">
                  <a:solidFill>
                    <a:srgbClr val="ffffff"/>
                  </a:solidFill>
                  <a:latin typeface="Arial Black"/>
                  <a:ea typeface="方正粗倩简体"/>
                </a:rPr>
                <a:t>“</a:t>
              </a:r>
              <a:r>
                <a:rPr b="0" lang="zh-CN" sz="2800" spc="-1" strike="noStrike">
                  <a:solidFill>
                    <a:srgbClr val="ffff99"/>
                  </a:solidFill>
                  <a:latin typeface="方正粗倩简体"/>
                  <a:ea typeface="方正粗倩简体"/>
                </a:rPr>
                <a:t>解放</a:t>
              </a:r>
              <a:r>
                <a:rPr b="0" lang="zh-CN" sz="2800" spc="-1" strike="noStrike">
                  <a:solidFill>
                    <a:srgbClr val="ffffff"/>
                  </a:solidFill>
                  <a:latin typeface="Arial Black"/>
                  <a:ea typeface="方正粗倩简体"/>
                </a:rPr>
                <a:t>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Group 11"/>
          <p:cNvGrpSpPr/>
          <p:nvPr/>
        </p:nvGrpSpPr>
        <p:grpSpPr>
          <a:xfrm>
            <a:off x="1836720" y="3289320"/>
            <a:ext cx="7237440" cy="2295360"/>
            <a:chOff x="1836720" y="3289320"/>
            <a:chExt cx="7237440" cy="2295360"/>
          </a:xfrm>
        </p:grpSpPr>
        <p:sp>
          <p:nvSpPr>
            <p:cNvPr id="321" name="Rectangle 12"/>
            <p:cNvSpPr/>
            <p:nvPr/>
          </p:nvSpPr>
          <p:spPr>
            <a:xfrm>
              <a:off x="1836720" y="5153040"/>
              <a:ext cx="6696000" cy="431640"/>
            </a:xfrm>
            <a:prstGeom prst="rect">
              <a:avLst/>
            </a:prstGeom>
            <a:solidFill>
              <a:srgbClr val="e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13"/>
            <p:cNvSpPr/>
            <p:nvPr/>
          </p:nvSpPr>
          <p:spPr>
            <a:xfrm>
              <a:off x="7885080" y="3289320"/>
              <a:ext cx="1189080" cy="2295360"/>
            </a:xfrm>
            <a:prstGeom prst="rect">
              <a:avLst/>
            </a:prstGeom>
            <a:solidFill>
              <a:srgbClr val="e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Group 14"/>
          <p:cNvGrpSpPr/>
          <p:nvPr/>
        </p:nvGrpSpPr>
        <p:grpSpPr>
          <a:xfrm>
            <a:off x="2052720" y="85680"/>
            <a:ext cx="4859280" cy="969840"/>
            <a:chOff x="2052720" y="85680"/>
            <a:chExt cx="4859280" cy="969840"/>
          </a:xfrm>
        </p:grpSpPr>
        <p:sp>
          <p:nvSpPr>
            <p:cNvPr id="324" name="WordArt 15"/>
            <p:cNvSpPr txBox="1"/>
            <p:nvPr/>
          </p:nvSpPr>
          <p:spPr>
            <a:xfrm>
              <a:off x="5508720" y="85680"/>
              <a:ext cx="1403280" cy="96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6480">
                    <a:solidFill>
                      <a:srgbClr val="ffff00"/>
                    </a:solidFill>
                    <a:miter/>
                  </a:ln>
                  <a:gradFill rotWithShape="0">
                    <a:gsLst>
                      <a:gs pos="0">
                        <a:srgbClr val="e20000"/>
                      </a:gs>
                      <a:gs pos="100000">
                        <a:srgbClr val="ac0000"/>
                      </a:gs>
                    </a:gsLst>
                    <a:lin ang="5400000"/>
                  </a:gradFill>
                  <a:latin typeface="宋体"/>
                </a:rPr>
                <a:t>解放</a:t>
              </a:r>
              <a:endParaRPr b="1" lang="en-US" sz="1800" spc="1" strike="noStrike">
                <a:ln w="648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e20000"/>
                    </a:gs>
                    <a:gs pos="100000">
                      <a:srgbClr val="ac0000"/>
                    </a:gs>
                  </a:gsLst>
                  <a:lin ang="5400000"/>
                </a:gradFill>
                <a:latin typeface="宋体"/>
                <a:ea typeface="宋体"/>
              </a:endParaRPr>
            </a:p>
          </p:txBody>
        </p:sp>
        <p:sp>
          <p:nvSpPr>
            <p:cNvPr id="325" name="WordArt 16"/>
            <p:cNvSpPr txBox="1"/>
            <p:nvPr/>
          </p:nvSpPr>
          <p:spPr>
            <a:xfrm>
              <a:off x="2052720" y="318960"/>
              <a:ext cx="3224160" cy="59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6480">
                    <a:solidFill>
                      <a:srgbClr val="ffff00"/>
                    </a:solidFill>
                    <a:miter/>
                  </a:ln>
                  <a:gradFill rotWithShape="0">
                    <a:gsLst>
                      <a:gs pos="0">
                        <a:srgbClr val="e20000"/>
                      </a:gs>
                      <a:gs pos="100000">
                        <a:srgbClr val="ac0000"/>
                      </a:gs>
                    </a:gsLst>
                    <a:lin ang="5400000"/>
                  </a:gradFill>
                  <a:latin typeface="宋体"/>
                </a:rPr>
                <a:t>从未停止的</a:t>
              </a:r>
              <a:endParaRPr b="1" lang="en-US" sz="1800" spc="1" strike="noStrike">
                <a:ln w="648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e20000"/>
                    </a:gs>
                    <a:gs pos="100000">
                      <a:srgbClr val="ac0000"/>
                    </a:gs>
                  </a:gsLst>
                  <a:lin ang="5400000"/>
                </a:gradFill>
                <a:latin typeface="宋体"/>
                <a:ea typeface="宋体"/>
              </a:endParaRPr>
            </a:p>
          </p:txBody>
        </p:sp>
      </p:grpSp>
    </p:spTree>
  </p:cSld>
  <p:timing>
    <p:tnLst>
      <p:par>
        <p:cTn id="1697" dur="indefinite" restart="never" nodeType="tmRoot">
          <p:childTnLst>
            <p:seq>
              <p:cTn id="1698" dur="indefinite" nodeType="mainSeq">
                <p:childTnLst>
                  <p:par>
                    <p:cTn id="1699" fill="hold">
                      <p:stCondLst>
                        <p:cond delay="0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withEffect" fill="hold" presetClass="exit" presetID="18" presetSubtype="6">
                                  <p:stCondLst>
                                    <p:cond delay="0"/>
                                  </p:stCondLst>
                                  <p:childTnLst>
                                    <p:animEffect filter="strips(downRight)" transition="out">
                                      <p:cBhvr additive="repl">
                                        <p:cTn id="170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4" nodeType="withEffect" fill="hold" presetClass="exit" presetID="18" presetSubtype="6">
                                  <p:stCondLst>
                                    <p:cond delay="100"/>
                                  </p:stCondLst>
                                  <p:childTnLst>
                                    <p:animEffect filter="strips(downRight)" transition="out">
                                      <p:cBhvr additive="repl">
                                        <p:cTn id="170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7" nodeType="withEffect" fill="hold" presetClass="exit" presetID="22" presetSubtype="4">
                                  <p:stCondLst>
                                    <p:cond delay="3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70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0" nodeType="withEffect" fill="hold" presetClass="path" presetID="35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3.05556E-006 4.44444E-006 L -0.86025 -0.00612 E">
                                      <p:cBhvr>
                                        <p:cTn id="1711" dur="5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2" nodeType="withEffect" fill="hold" presetClass="exit" presetID="22" presetSubtype="2">
                                  <p:stCondLst>
                                    <p:cond delay="3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71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5" fill="hold">
                            <p:stCondLst>
                              <p:cond delay="800"/>
                            </p:stCondLst>
                            <p:childTnLst>
                              <p:par>
                                <p:cTn id="1716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17" dur="10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8" dur="10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19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66667E-006 5.55556E-006 L -0.42517 0.31501 E">
                                      <p:cBhvr>
                                        <p:cTn id="1722" dur="1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5" fill="hold">
                            <p:stCondLst>
                              <p:cond delay="1800"/>
                            </p:stCondLst>
                            <p:childTnLst>
                              <p:par>
                                <p:cTn id="1726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91 -0.00611 L -0.00191 -0.23889 E">
                                      <p:cBhvr>
                                        <p:cTn id="1727" dur="5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 rot="5400000">
            <a:off x="4358160" y="-1127880"/>
            <a:ext cx="718920" cy="806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3"/>
          <p:cNvSpPr/>
          <p:nvPr/>
        </p:nvSpPr>
        <p:spPr>
          <a:xfrm rot="2700000">
            <a:off x="360720" y="-1423080"/>
            <a:ext cx="1079640" cy="431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4"/>
          <p:cNvSpPr/>
          <p:nvPr/>
        </p:nvSpPr>
        <p:spPr>
          <a:xfrm>
            <a:off x="685800" y="289080"/>
            <a:ext cx="719280" cy="52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8029440" y="289080"/>
            <a:ext cx="719280" cy="52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6"/>
          <p:cNvSpPr/>
          <p:nvPr/>
        </p:nvSpPr>
        <p:spPr>
          <a:xfrm rot="5400000">
            <a:off x="4358160" y="-3383640"/>
            <a:ext cx="718920" cy="806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7"/>
          <p:cNvSpPr/>
          <p:nvPr/>
        </p:nvSpPr>
        <p:spPr>
          <a:xfrm rot="5400000">
            <a:off x="4321440" y="1165680"/>
            <a:ext cx="719280" cy="799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8"/>
          <p:cNvSpPr/>
          <p:nvPr/>
        </p:nvSpPr>
        <p:spPr>
          <a:xfrm>
            <a:off x="2197080" y="45576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 Black"/>
                <a:ea typeface="PMingLiU"/>
              </a:rPr>
              <a:t>194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9"/>
          <p:cNvSpPr/>
          <p:nvPr/>
        </p:nvSpPr>
        <p:spPr>
          <a:xfrm>
            <a:off x="3781440" y="455760"/>
            <a:ext cx="12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 Black"/>
                <a:ea typeface="PMingLiU"/>
              </a:rPr>
              <a:t>195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0"/>
          <p:cNvSpPr/>
          <p:nvPr/>
        </p:nvSpPr>
        <p:spPr>
          <a:xfrm rot="18900000">
            <a:off x="-1182240" y="623880"/>
            <a:ext cx="4098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粗倩简体"/>
              </a:rPr>
              <a:t>国家的解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11"/>
          <p:cNvSpPr/>
          <p:nvPr/>
        </p:nvSpPr>
        <p:spPr>
          <a:xfrm flipV="1" rot="10800000">
            <a:off x="3420720" y="622800"/>
            <a:ext cx="360360" cy="90360"/>
          </a:xfrm>
          <a:custGeom>
            <a:avLst/>
            <a:gdLst>
              <a:gd name="textAreaLeft" fmla="*/ 0 w 360360"/>
              <a:gd name="textAreaRight" fmla="*/ 360720 w 360360"/>
              <a:gd name="textAreaTop" fmla="*/ 37440 h 90360"/>
              <a:gd name="textAreaBottom" fmla="*/ 52920 h 90360"/>
            </a:gdLst>
            <a:ahLst/>
            <a:rect l="textAreaLeft" t="textAreaTop" r="textAreaRight" b="textAreaBottom"/>
            <a:pathLst>
              <a:path w="21600" h="21600">
                <a:moveTo>
                  <a:pt x="0" y="4459"/>
                </a:moveTo>
                <a:cubicBezTo>
                  <a:pt x="7200" y="-11337"/>
                  <a:pt x="14400" y="20255"/>
                  <a:pt x="21600" y="4459"/>
                </a:cubicBezTo>
                <a:lnTo>
                  <a:pt x="21600" y="17141"/>
                </a:lnTo>
                <a:cubicBezTo>
                  <a:pt x="14400" y="32937"/>
                  <a:pt x="7200" y="1345"/>
                  <a:pt x="0" y="17141"/>
                </a:cubicBez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1320" bIns="-31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12"/>
          <p:cNvSpPr/>
          <p:nvPr/>
        </p:nvSpPr>
        <p:spPr>
          <a:xfrm>
            <a:off x="5076720" y="614520"/>
            <a:ext cx="108000" cy="107640"/>
          </a:xfrm>
          <a:prstGeom prst="ellipse">
            <a:avLst/>
          </a:prstGeom>
          <a:solidFill>
            <a:srgbClr val="333333">
              <a:alpha val="70000"/>
            </a:srgbClr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3"/>
          <p:cNvSpPr/>
          <p:nvPr/>
        </p:nvSpPr>
        <p:spPr>
          <a:xfrm>
            <a:off x="5292720" y="40788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超粗黑_GBK"/>
              </a:rPr>
              <a:t>白色年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4"/>
          <p:cNvSpPr/>
          <p:nvPr/>
        </p:nvSpPr>
        <p:spPr>
          <a:xfrm rot="5400000">
            <a:off x="1412640" y="-5205240"/>
            <a:ext cx="5746680" cy="16125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5"/>
          <p:cNvSpPr/>
          <p:nvPr/>
        </p:nvSpPr>
        <p:spPr>
          <a:xfrm>
            <a:off x="1260360" y="1139760"/>
            <a:ext cx="6121440" cy="33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1949 </a:t>
            </a: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年 </a:t>
            </a: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10 </a:t>
            </a: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月 </a:t>
            </a: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日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国家“解放”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这意味着一个全新时代的来临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群情激昂，满怀热望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6"/>
          <p:cNvSpPr/>
          <p:nvPr/>
        </p:nvSpPr>
        <p:spPr>
          <a:xfrm>
            <a:off x="503280" y="6154560"/>
            <a:ext cx="78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整个国家像一幅摊开的白色宣纸，等待泼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7"/>
          <p:cNvSpPr/>
          <p:nvPr/>
        </p:nvSpPr>
        <p:spPr>
          <a:xfrm>
            <a:off x="1332000" y="-80640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那一刻，国家的解放就意味着每个人的解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8"/>
          <p:cNvSpPr/>
          <p:nvPr/>
        </p:nvSpPr>
        <p:spPr>
          <a:xfrm>
            <a:off x="1260360" y="1139760"/>
            <a:ext cx="6121440" cy="33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1949 </a:t>
            </a: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年 </a:t>
            </a: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10 </a:t>
            </a: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月 </a:t>
            </a: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日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国家“解放”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这意味着一个全新时代的来临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群情激昂，满怀热望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28" dur="indefinite" restart="never" nodeType="tmRoot">
          <p:childTnLst>
            <p:seq>
              <p:cTn id="1729" dur="indefinite" nodeType="mainSeq">
                <p:childTnLst>
                  <p:par>
                    <p:cTn id="1730" fill="hold">
                      <p:stCondLst>
                        <p:cond delay="0"/>
                      </p:stCondLst>
                      <p:childTnLst>
                        <p:par>
                          <p:cTn id="1731" fill="hold">
                            <p:stCondLst>
                              <p:cond delay="0"/>
                            </p:stCondLst>
                            <p:childTnLst>
                              <p:par>
                                <p:cTn id="17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4" dur="3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5" dur="3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6" dur="3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7" fill="hold">
                            <p:stCondLst>
                              <p:cond delay="7500"/>
                            </p:stCondLst>
                            <p:childTnLst>
                              <p:par>
                                <p:cTn id="1738" nodeType="afterEffect" fill="hold" presetClass="exit" presetID="1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2" fill="hold">
                            <p:stCondLst>
                              <p:cond delay="9501"/>
                            </p:stCondLst>
                            <p:childTnLst>
                              <p:par>
                                <p:cTn id="1743" nodeType="afterEffect" fill="hold" presetClass="exit" presetID="16" presetSubtype="37">
                                  <p:stCondLst>
                                    <p:cond delay="0"/>
                                  </p:stCondLst>
                                  <p:childTnLst>
                                    <p:animEffect filter="barn(outVertical)" transition="out">
                                      <p:cBhvr additive="repl">
                                        <p:cTn id="174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6" fill="hold">
                            <p:stCondLst>
                              <p:cond delay="10001"/>
                            </p:stCondLst>
                            <p:childTnLst>
                              <p:par>
                                <p:cTn id="1747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2.77778E-006 8.67362E-019 L 2.77778E-006 0.68028 E">
                                      <p:cBhvr>
                                        <p:cTn id="1748" dur="1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49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3.33333E-006 -8.67362E-019 L 3.33333E-006 -0.83166 E">
                                      <p:cBhvr>
                                        <p:cTn id="1750" dur="1000" fill="hold"/>
                                        <p:tgtEl>
                                          <p:spTgt spid="3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1" fill="hold">
                            <p:stCondLst>
                              <p:cond delay="11001"/>
                            </p:stCondLst>
                            <p:childTnLst>
                              <p:par>
                                <p:cTn id="1752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75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54" dur="250" autoRev="1" fill="hold"/>
                                        <p:tgtEl>
                                          <p:spTgt spid="34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5" fill="hold">
                            <p:stCondLst>
                              <p:cond delay="16251"/>
                            </p:stCondLst>
                            <p:childTnLst>
                              <p:par>
                                <p:cTn id="1756" nodeType="after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90"/>
                                  </p:iterate>
                                  <p:childTnLst>
                                    <p:animClr clrSpc="rgb">
                                      <p:cBhvr>
                                        <p:cTn id="1757" dur="3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758" nodeType="withEffect" fill="hold" presetClass="emph" presetID="4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90"/>
                                  </p:iterate>
                                  <p:childTnLst>
                                    <p:anim calcmode="lin" valueType="num" to="1.10000002384186">
                                      <p:cBhvr additive="repl">
                                        <p:cTn id="1759" dur="3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0" fill="hold">
                            <p:stCondLst>
                              <p:cond delay="18261"/>
                            </p:stCondLst>
                            <p:childTnLst>
                              <p:par>
                                <p:cTn id="1761" nodeType="afterEffect" fill="hold" presetClass="exit" presetID="7" presetSubtype="1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762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3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5" nodeType="withEffect" fill="hold" presetClass="exit" presetID="7" presetSubtype="4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766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7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9" fill="hold">
                            <p:stCondLst>
                              <p:cond delay="20761"/>
                            </p:stCondLst>
                            <p:childTnLst>
                              <p:par>
                                <p:cTn id="1770" nodeType="afterEffect" fill="hold" presetClass="exit" presetID="16" presetSubtype="26">
                                  <p:stCondLst>
                                    <p:cond delay="10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77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3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77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2"/>
          <p:cNvGrpSpPr/>
          <p:nvPr/>
        </p:nvGrpSpPr>
        <p:grpSpPr>
          <a:xfrm>
            <a:off x="4573440" y="625320"/>
            <a:ext cx="4248000" cy="4824360"/>
            <a:chOff x="4573440" y="625320"/>
            <a:chExt cx="4248000" cy="4824360"/>
          </a:xfrm>
        </p:grpSpPr>
        <p:sp>
          <p:nvSpPr>
            <p:cNvPr id="344" name="Rectangle 3"/>
            <p:cNvSpPr/>
            <p:nvPr/>
          </p:nvSpPr>
          <p:spPr>
            <a:xfrm>
              <a:off x="4573440" y="625320"/>
              <a:ext cx="4248000" cy="482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4"/>
            <p:cNvSpPr/>
            <p:nvPr/>
          </p:nvSpPr>
          <p:spPr>
            <a:xfrm>
              <a:off x="4789440" y="985680"/>
              <a:ext cx="3671640" cy="410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5"/>
            <p:cNvSpPr/>
            <p:nvPr/>
          </p:nvSpPr>
          <p:spPr>
            <a:xfrm>
              <a:off x="4789440" y="985680"/>
              <a:ext cx="3671640" cy="410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Group 6"/>
          <p:cNvGrpSpPr/>
          <p:nvPr/>
        </p:nvGrpSpPr>
        <p:grpSpPr>
          <a:xfrm>
            <a:off x="-1023120" y="122400"/>
            <a:ext cx="9844560" cy="6607080"/>
            <a:chOff x="-1023120" y="122400"/>
            <a:chExt cx="9844560" cy="6607080"/>
          </a:xfrm>
        </p:grpSpPr>
        <p:grpSp>
          <p:nvGrpSpPr>
            <p:cNvPr id="348" name="Group 7"/>
            <p:cNvGrpSpPr/>
            <p:nvPr/>
          </p:nvGrpSpPr>
          <p:grpSpPr>
            <a:xfrm>
              <a:off x="4573440" y="632880"/>
              <a:ext cx="4248000" cy="4819680"/>
              <a:chOff x="4573440" y="632880"/>
              <a:chExt cx="4248000" cy="4819680"/>
            </a:xfrm>
          </p:grpSpPr>
          <p:sp>
            <p:nvSpPr>
              <p:cNvPr id="349" name="Rectangle 8"/>
              <p:cNvSpPr/>
              <p:nvPr/>
            </p:nvSpPr>
            <p:spPr>
              <a:xfrm>
                <a:off x="4573440" y="632880"/>
                <a:ext cx="4248000" cy="4819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Rectangle 9"/>
              <p:cNvSpPr/>
              <p:nvPr/>
            </p:nvSpPr>
            <p:spPr>
              <a:xfrm>
                <a:off x="4789440" y="992880"/>
                <a:ext cx="3671640" cy="4101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Rectangle 10"/>
              <p:cNvSpPr/>
              <p:nvPr/>
            </p:nvSpPr>
            <p:spPr>
              <a:xfrm>
                <a:off x="4789440" y="992880"/>
                <a:ext cx="3671640" cy="4101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2" name="AutoShape 11"/>
            <p:cNvSpPr/>
            <p:nvPr/>
          </p:nvSpPr>
          <p:spPr>
            <a:xfrm rot="5400000">
              <a:off x="-48960" y="822240"/>
              <a:ext cx="5322600" cy="3922560"/>
            </a:xfrm>
            <a:prstGeom prst="parallelogram">
              <a:avLst>
                <a:gd name="adj" fmla="val 1281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AutoShape 12"/>
            <p:cNvSpPr/>
            <p:nvPr/>
          </p:nvSpPr>
          <p:spPr>
            <a:xfrm rot="5400000">
              <a:off x="461160" y="1163160"/>
              <a:ext cx="4461120" cy="3384360"/>
            </a:xfrm>
            <a:prstGeom prst="parallelogram">
              <a:avLst>
                <a:gd name="adj" fmla="val 11949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AutoShape 13"/>
            <p:cNvSpPr/>
            <p:nvPr/>
          </p:nvSpPr>
          <p:spPr>
            <a:xfrm rot="5400000">
              <a:off x="461880" y="1127520"/>
              <a:ext cx="4475520" cy="3384360"/>
            </a:xfrm>
            <a:prstGeom prst="parallelogram">
              <a:avLst>
                <a:gd name="adj" fmla="val 1198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14"/>
            <p:cNvSpPr/>
            <p:nvPr/>
          </p:nvSpPr>
          <p:spPr>
            <a:xfrm rot="18900000">
              <a:off x="396360" y="2792880"/>
              <a:ext cx="719280" cy="431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Group 15"/>
          <p:cNvGrpSpPr/>
          <p:nvPr/>
        </p:nvGrpSpPr>
        <p:grpSpPr>
          <a:xfrm>
            <a:off x="1692360" y="2205360"/>
            <a:ext cx="1895760" cy="1231560"/>
            <a:chOff x="1692360" y="2205360"/>
            <a:chExt cx="1895760" cy="1231560"/>
          </a:xfrm>
        </p:grpSpPr>
        <p:sp>
          <p:nvSpPr>
            <p:cNvPr id="357" name="Text Box 16"/>
            <p:cNvSpPr/>
            <p:nvPr/>
          </p:nvSpPr>
          <p:spPr>
            <a:xfrm flipV="1" rot="5400000">
              <a:off x="1463760" y="2433600"/>
              <a:ext cx="91404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ffffff"/>
                  </a:solidFill>
                  <a:latin typeface="Arial Black"/>
                  <a:ea typeface="PMingLiU"/>
                </a:rPr>
                <a:t>1959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Text Box 17"/>
            <p:cNvSpPr/>
            <p:nvPr/>
          </p:nvSpPr>
          <p:spPr>
            <a:xfrm flipH="1" flipV="1" rot="5400000">
              <a:off x="2902320" y="2751120"/>
              <a:ext cx="91404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ffffff"/>
                  </a:solidFill>
                  <a:latin typeface="Arial Black"/>
                  <a:ea typeface="PMingLiU"/>
                </a:rPr>
                <a:t>1949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18"/>
            <p:cNvSpPr/>
            <p:nvPr/>
          </p:nvSpPr>
          <p:spPr>
            <a:xfrm rot="16200000">
              <a:off x="2542680" y="2689200"/>
              <a:ext cx="179280" cy="178920"/>
            </a:xfrm>
            <a:prstGeom prst="ellipse">
              <a:avLst/>
            </a:prstGeom>
            <a:solidFill>
              <a:srgbClr val="f8f8f8">
                <a:alpha val="70000"/>
              </a:srgbClr>
            </a:solidFill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Group 19"/>
          <p:cNvGrpSpPr/>
          <p:nvPr/>
        </p:nvGrpSpPr>
        <p:grpSpPr>
          <a:xfrm>
            <a:off x="4573440" y="625320"/>
            <a:ext cx="4248000" cy="4824360"/>
            <a:chOff x="4573440" y="625320"/>
            <a:chExt cx="4248000" cy="4824360"/>
          </a:xfrm>
        </p:grpSpPr>
        <p:sp>
          <p:nvSpPr>
            <p:cNvPr id="361" name="Rectangle 20"/>
            <p:cNvSpPr/>
            <p:nvPr/>
          </p:nvSpPr>
          <p:spPr>
            <a:xfrm>
              <a:off x="4573440" y="625320"/>
              <a:ext cx="4248000" cy="482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21"/>
            <p:cNvSpPr/>
            <p:nvPr/>
          </p:nvSpPr>
          <p:spPr>
            <a:xfrm>
              <a:off x="4789440" y="985680"/>
              <a:ext cx="3671640" cy="410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22"/>
            <p:cNvSpPr/>
            <p:nvPr/>
          </p:nvSpPr>
          <p:spPr>
            <a:xfrm>
              <a:off x="4789440" y="985680"/>
              <a:ext cx="3671640" cy="41054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381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23"/>
          <p:cNvGrpSpPr/>
          <p:nvPr/>
        </p:nvGrpSpPr>
        <p:grpSpPr>
          <a:xfrm>
            <a:off x="4573440" y="625320"/>
            <a:ext cx="4248000" cy="4824360"/>
            <a:chOff x="4573440" y="625320"/>
            <a:chExt cx="4248000" cy="4824360"/>
          </a:xfrm>
        </p:grpSpPr>
        <p:sp>
          <p:nvSpPr>
            <p:cNvPr id="365" name="Rectangle 24"/>
            <p:cNvSpPr/>
            <p:nvPr/>
          </p:nvSpPr>
          <p:spPr>
            <a:xfrm>
              <a:off x="4573440" y="625320"/>
              <a:ext cx="4248000" cy="482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25"/>
            <p:cNvSpPr/>
            <p:nvPr/>
          </p:nvSpPr>
          <p:spPr>
            <a:xfrm>
              <a:off x="4789440" y="985680"/>
              <a:ext cx="3671640" cy="410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26"/>
            <p:cNvSpPr/>
            <p:nvPr/>
          </p:nvSpPr>
          <p:spPr>
            <a:xfrm>
              <a:off x="4789440" y="985680"/>
              <a:ext cx="3671640" cy="41054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381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Text Box 27"/>
          <p:cNvSpPr/>
          <p:nvPr/>
        </p:nvSpPr>
        <p:spPr>
          <a:xfrm>
            <a:off x="5437440" y="1338120"/>
            <a:ext cx="164268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草檀斋毛泽东字体"/>
              </a:rPr>
              <a:t>国家的解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28"/>
          <p:cNvGrpSpPr/>
          <p:nvPr/>
        </p:nvGrpSpPr>
        <p:grpSpPr>
          <a:xfrm>
            <a:off x="4573440" y="625320"/>
            <a:ext cx="4248000" cy="4824360"/>
            <a:chOff x="4573440" y="625320"/>
            <a:chExt cx="4248000" cy="4824360"/>
          </a:xfrm>
        </p:grpSpPr>
        <p:sp>
          <p:nvSpPr>
            <p:cNvPr id="370" name="Rectangle 29"/>
            <p:cNvSpPr/>
            <p:nvPr/>
          </p:nvSpPr>
          <p:spPr>
            <a:xfrm>
              <a:off x="4573440" y="625320"/>
              <a:ext cx="4248000" cy="482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30"/>
            <p:cNvSpPr/>
            <p:nvPr/>
          </p:nvSpPr>
          <p:spPr>
            <a:xfrm>
              <a:off x="4789440" y="985680"/>
              <a:ext cx="3671640" cy="410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2" name="Rectangle 31"/>
            <p:cNvGrpSpPr/>
            <p:nvPr/>
          </p:nvGrpSpPr>
          <p:grpSpPr>
            <a:xfrm>
              <a:off x="4773600" y="969840"/>
              <a:ext cx="3706560" cy="4138560"/>
              <a:chOff x="4773600" y="969840"/>
              <a:chExt cx="3706560" cy="4138560"/>
            </a:xfrm>
          </p:grpSpPr>
          <p:pic>
            <p:nvPicPr>
              <p:cNvPr id="373" name="Rectangle 31" descr=""/>
              <p:cNvPicPr/>
              <p:nvPr/>
            </p:nvPicPr>
            <p:blipFill>
              <a:blip r:embed="rId3"/>
              <a:stretch/>
            </p:blipFill>
            <p:spPr>
              <a:xfrm>
                <a:off x="4773600" y="969840"/>
                <a:ext cx="3706560" cy="413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4" name="Text Box 33"/>
              <p:cNvSpPr/>
              <p:nvPr/>
            </p:nvSpPr>
            <p:spPr>
              <a:xfrm>
                <a:off x="4789800" y="986400"/>
                <a:ext cx="3672360" cy="410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5" name="Group 32"/>
          <p:cNvGrpSpPr/>
          <p:nvPr/>
        </p:nvGrpSpPr>
        <p:grpSpPr>
          <a:xfrm>
            <a:off x="4573440" y="625320"/>
            <a:ext cx="4248000" cy="4824360"/>
            <a:chOff x="4573440" y="625320"/>
            <a:chExt cx="4248000" cy="4824360"/>
          </a:xfrm>
        </p:grpSpPr>
        <p:sp>
          <p:nvSpPr>
            <p:cNvPr id="376" name="Rectangle 33"/>
            <p:cNvSpPr/>
            <p:nvPr/>
          </p:nvSpPr>
          <p:spPr>
            <a:xfrm>
              <a:off x="4573440" y="625320"/>
              <a:ext cx="4248000" cy="482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34"/>
            <p:cNvSpPr/>
            <p:nvPr/>
          </p:nvSpPr>
          <p:spPr>
            <a:xfrm>
              <a:off x="4789440" y="985680"/>
              <a:ext cx="3671640" cy="410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8" name="Rectangle 35"/>
            <p:cNvGrpSpPr/>
            <p:nvPr/>
          </p:nvGrpSpPr>
          <p:grpSpPr>
            <a:xfrm>
              <a:off x="4773600" y="969840"/>
              <a:ext cx="3706560" cy="4138560"/>
              <a:chOff x="4773600" y="969840"/>
              <a:chExt cx="3706560" cy="4138560"/>
            </a:xfrm>
          </p:grpSpPr>
          <p:pic>
            <p:nvPicPr>
              <p:cNvPr id="379" name="Rectangle 35" descr=""/>
              <p:cNvPicPr/>
              <p:nvPr/>
            </p:nvPicPr>
            <p:blipFill>
              <a:blip r:embed="rId4"/>
              <a:stretch/>
            </p:blipFill>
            <p:spPr>
              <a:xfrm>
                <a:off x="4773600" y="969840"/>
                <a:ext cx="3706560" cy="413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0" name="Text Box 39"/>
              <p:cNvSpPr/>
              <p:nvPr/>
            </p:nvSpPr>
            <p:spPr>
              <a:xfrm>
                <a:off x="4789800" y="986400"/>
                <a:ext cx="3672360" cy="410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1" name="Group 36"/>
          <p:cNvGrpSpPr/>
          <p:nvPr/>
        </p:nvGrpSpPr>
        <p:grpSpPr>
          <a:xfrm>
            <a:off x="4573440" y="625320"/>
            <a:ext cx="4248000" cy="4824360"/>
            <a:chOff x="4573440" y="625320"/>
            <a:chExt cx="4248000" cy="4824360"/>
          </a:xfrm>
        </p:grpSpPr>
        <p:grpSp>
          <p:nvGrpSpPr>
            <p:cNvPr id="382" name="Group 37"/>
            <p:cNvGrpSpPr/>
            <p:nvPr/>
          </p:nvGrpSpPr>
          <p:grpSpPr>
            <a:xfrm>
              <a:off x="4573440" y="625320"/>
              <a:ext cx="4248000" cy="4824360"/>
              <a:chOff x="4573440" y="625320"/>
              <a:chExt cx="4248000" cy="4824360"/>
            </a:xfrm>
          </p:grpSpPr>
          <p:sp>
            <p:nvSpPr>
              <p:cNvPr id="383" name="Rectangle 38"/>
              <p:cNvSpPr/>
              <p:nvPr/>
            </p:nvSpPr>
            <p:spPr>
              <a:xfrm>
                <a:off x="4573440" y="625320"/>
                <a:ext cx="4248000" cy="482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Rectangle 39"/>
              <p:cNvSpPr/>
              <p:nvPr/>
            </p:nvSpPr>
            <p:spPr>
              <a:xfrm>
                <a:off x="4789440" y="985680"/>
                <a:ext cx="3671640" cy="4105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Rectangle 40"/>
              <p:cNvSpPr/>
              <p:nvPr/>
            </p:nvSpPr>
            <p:spPr>
              <a:xfrm>
                <a:off x="4789440" y="985680"/>
                <a:ext cx="3671640" cy="4105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Text Box 41"/>
            <p:cNvSpPr/>
            <p:nvPr/>
          </p:nvSpPr>
          <p:spPr>
            <a:xfrm>
              <a:off x="5429520" y="1344600"/>
              <a:ext cx="1642680" cy="33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ffffff"/>
                  </a:solidFill>
                  <a:latin typeface="Arial"/>
                  <a:ea typeface="草檀斋毛泽东字体"/>
                </a:rPr>
                <a:t>国家的解放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Group 42"/>
          <p:cNvGrpSpPr/>
          <p:nvPr/>
        </p:nvGrpSpPr>
        <p:grpSpPr>
          <a:xfrm>
            <a:off x="543960" y="61560"/>
            <a:ext cx="4029480" cy="5388480"/>
            <a:chOff x="543960" y="61560"/>
            <a:chExt cx="4029480" cy="5388480"/>
          </a:xfrm>
        </p:grpSpPr>
        <p:sp>
          <p:nvSpPr>
            <p:cNvPr id="388" name="AutoShape 43"/>
            <p:cNvSpPr/>
            <p:nvPr/>
          </p:nvSpPr>
          <p:spPr>
            <a:xfrm rot="5400000">
              <a:off x="-51480" y="824760"/>
              <a:ext cx="5327640" cy="3922560"/>
            </a:xfrm>
            <a:prstGeom prst="parallelogram">
              <a:avLst>
                <a:gd name="adj" fmla="val 1282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AutoShape 44"/>
            <p:cNvSpPr/>
            <p:nvPr/>
          </p:nvSpPr>
          <p:spPr>
            <a:xfrm rot="5400000">
              <a:off x="467280" y="1165680"/>
              <a:ext cx="4465440" cy="3384720"/>
            </a:xfrm>
            <a:prstGeom prst="parallelogram">
              <a:avLst>
                <a:gd name="adj" fmla="val 11959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45"/>
            <p:cNvSpPr/>
            <p:nvPr/>
          </p:nvSpPr>
          <p:spPr>
            <a:xfrm rot="19052400">
              <a:off x="612360" y="200160"/>
              <a:ext cx="5763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 Black"/>
                  <a:ea typeface="PMingLiU"/>
                </a:rPr>
                <a:t>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 Black"/>
                  <a:ea typeface="PMingLiU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AutoShape 46"/>
            <p:cNvSpPr/>
            <p:nvPr/>
          </p:nvSpPr>
          <p:spPr>
            <a:xfrm rot="5400000">
              <a:off x="460080" y="1130040"/>
              <a:ext cx="4479840" cy="3384720"/>
            </a:xfrm>
            <a:prstGeom prst="parallelogram">
              <a:avLst>
                <a:gd name="adj" fmla="val 11998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18000" bIns="18000" anchor="t" anchorCtr="1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 </a:t>
              </a: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949</a:t>
              </a: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年</a:t>
              </a: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0</a:t>
              </a: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月</a:t>
              </a: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日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</a:t>
              </a: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中华人民共和国成立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占全人类四分之一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</a:t>
              </a: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中国人从此站立起来了。　　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47"/>
            <p:cNvSpPr/>
            <p:nvPr/>
          </p:nvSpPr>
          <p:spPr>
            <a:xfrm>
              <a:off x="3311640" y="1136880"/>
              <a:ext cx="0" cy="3168720"/>
            </a:xfrm>
            <a:prstGeom prst="line">
              <a:avLst/>
            </a:prstGeom>
            <a:ln w="2232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48"/>
            <p:cNvSpPr/>
            <p:nvPr/>
          </p:nvSpPr>
          <p:spPr>
            <a:xfrm>
              <a:off x="2771640" y="1063800"/>
              <a:ext cx="0" cy="3168720"/>
            </a:xfrm>
            <a:prstGeom prst="line">
              <a:avLst/>
            </a:prstGeom>
            <a:ln w="2232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49"/>
            <p:cNvSpPr/>
            <p:nvPr/>
          </p:nvSpPr>
          <p:spPr>
            <a:xfrm>
              <a:off x="2232000" y="992160"/>
              <a:ext cx="0" cy="3168720"/>
            </a:xfrm>
            <a:prstGeom prst="line">
              <a:avLst/>
            </a:prstGeom>
            <a:ln w="2232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50"/>
            <p:cNvSpPr/>
            <p:nvPr/>
          </p:nvSpPr>
          <p:spPr>
            <a:xfrm>
              <a:off x="1692360" y="920880"/>
              <a:ext cx="0" cy="3168720"/>
            </a:xfrm>
            <a:prstGeom prst="line">
              <a:avLst/>
            </a:prstGeom>
            <a:ln w="2232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ine 51"/>
            <p:cNvSpPr/>
            <p:nvPr/>
          </p:nvSpPr>
          <p:spPr>
            <a:xfrm>
              <a:off x="3851280" y="1281240"/>
              <a:ext cx="0" cy="3168720"/>
            </a:xfrm>
            <a:prstGeom prst="line">
              <a:avLst/>
            </a:prstGeom>
            <a:ln w="2232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Group 52"/>
          <p:cNvGrpSpPr/>
          <p:nvPr/>
        </p:nvGrpSpPr>
        <p:grpSpPr>
          <a:xfrm>
            <a:off x="543960" y="61560"/>
            <a:ext cx="4029480" cy="5388480"/>
            <a:chOff x="543960" y="61560"/>
            <a:chExt cx="4029480" cy="5388480"/>
          </a:xfrm>
        </p:grpSpPr>
        <p:sp>
          <p:nvSpPr>
            <p:cNvPr id="398" name="AutoShape 53"/>
            <p:cNvSpPr/>
            <p:nvPr/>
          </p:nvSpPr>
          <p:spPr>
            <a:xfrm rot="5400000">
              <a:off x="-51480" y="824760"/>
              <a:ext cx="5327640" cy="3922560"/>
            </a:xfrm>
            <a:prstGeom prst="parallelogram">
              <a:avLst>
                <a:gd name="adj" fmla="val 1282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AutoShape 54"/>
            <p:cNvSpPr/>
            <p:nvPr/>
          </p:nvSpPr>
          <p:spPr>
            <a:xfrm rot="5400000">
              <a:off x="467280" y="1165680"/>
              <a:ext cx="4465440" cy="3384720"/>
            </a:xfrm>
            <a:prstGeom prst="parallelogram">
              <a:avLst>
                <a:gd name="adj" fmla="val 11959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55"/>
            <p:cNvSpPr/>
            <p:nvPr/>
          </p:nvSpPr>
          <p:spPr>
            <a:xfrm rot="19052400">
              <a:off x="612360" y="200160"/>
              <a:ext cx="5763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 Black"/>
                  <a:ea typeface="PMingLiU"/>
                </a:rPr>
                <a:t>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 Black"/>
                  <a:ea typeface="PMingLiU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AutoShape 56"/>
            <p:cNvSpPr/>
            <p:nvPr/>
          </p:nvSpPr>
          <p:spPr>
            <a:xfrm rot="5400000">
              <a:off x="460080" y="1130040"/>
              <a:ext cx="4479840" cy="3384720"/>
            </a:xfrm>
            <a:prstGeom prst="parallelogram">
              <a:avLst>
                <a:gd name="adj" fmla="val 11998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18000" bIns="18000" anchor="t" anchorCtr="1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</a:t>
              </a: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自</a:t>
              </a: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949</a:t>
              </a: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年以来，天安门及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</a:t>
              </a: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广场成为国家的政治心脏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</a:t>
              </a: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次大阅兵和各种宏大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庆典都在这里举行。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57"/>
            <p:cNvSpPr/>
            <p:nvPr/>
          </p:nvSpPr>
          <p:spPr>
            <a:xfrm>
              <a:off x="3311640" y="1136880"/>
              <a:ext cx="0" cy="3168720"/>
            </a:xfrm>
            <a:prstGeom prst="line">
              <a:avLst/>
            </a:prstGeom>
            <a:ln w="2232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58"/>
            <p:cNvSpPr/>
            <p:nvPr/>
          </p:nvSpPr>
          <p:spPr>
            <a:xfrm>
              <a:off x="2771640" y="1063800"/>
              <a:ext cx="0" cy="3168720"/>
            </a:xfrm>
            <a:prstGeom prst="line">
              <a:avLst/>
            </a:prstGeom>
            <a:ln w="2232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59"/>
            <p:cNvSpPr/>
            <p:nvPr/>
          </p:nvSpPr>
          <p:spPr>
            <a:xfrm>
              <a:off x="2232000" y="992160"/>
              <a:ext cx="0" cy="3168720"/>
            </a:xfrm>
            <a:prstGeom prst="line">
              <a:avLst/>
            </a:prstGeom>
            <a:ln w="2232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60"/>
            <p:cNvSpPr/>
            <p:nvPr/>
          </p:nvSpPr>
          <p:spPr>
            <a:xfrm>
              <a:off x="1692360" y="920880"/>
              <a:ext cx="0" cy="3168720"/>
            </a:xfrm>
            <a:prstGeom prst="line">
              <a:avLst/>
            </a:prstGeom>
            <a:ln w="2232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Line 61"/>
            <p:cNvSpPr/>
            <p:nvPr/>
          </p:nvSpPr>
          <p:spPr>
            <a:xfrm>
              <a:off x="3851280" y="1281240"/>
              <a:ext cx="0" cy="3168720"/>
            </a:xfrm>
            <a:prstGeom prst="line">
              <a:avLst/>
            </a:prstGeom>
            <a:ln w="2232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Group 62"/>
          <p:cNvGrpSpPr/>
          <p:nvPr/>
        </p:nvGrpSpPr>
        <p:grpSpPr>
          <a:xfrm>
            <a:off x="543960" y="61560"/>
            <a:ext cx="4029480" cy="5388480"/>
            <a:chOff x="543960" y="61560"/>
            <a:chExt cx="4029480" cy="5388480"/>
          </a:xfrm>
        </p:grpSpPr>
        <p:sp>
          <p:nvSpPr>
            <p:cNvPr id="408" name="AutoShape 63"/>
            <p:cNvSpPr/>
            <p:nvPr/>
          </p:nvSpPr>
          <p:spPr>
            <a:xfrm rot="5400000">
              <a:off x="-51480" y="824760"/>
              <a:ext cx="5327640" cy="3922560"/>
            </a:xfrm>
            <a:prstGeom prst="parallelogram">
              <a:avLst>
                <a:gd name="adj" fmla="val 1282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AutoShape 64"/>
            <p:cNvSpPr/>
            <p:nvPr/>
          </p:nvSpPr>
          <p:spPr>
            <a:xfrm rot="5400000">
              <a:off x="467280" y="1165680"/>
              <a:ext cx="4465440" cy="3384720"/>
            </a:xfrm>
            <a:prstGeom prst="parallelogram">
              <a:avLst>
                <a:gd name="adj" fmla="val 11959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Text Box 65"/>
            <p:cNvSpPr/>
            <p:nvPr/>
          </p:nvSpPr>
          <p:spPr>
            <a:xfrm rot="19052400">
              <a:off x="612360" y="200160"/>
              <a:ext cx="5763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 Black"/>
                  <a:ea typeface="PMingLiU"/>
                </a:rPr>
                <a:t>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 Black"/>
                  <a:ea typeface="PMingLiU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AutoShape 66"/>
            <p:cNvSpPr/>
            <p:nvPr/>
          </p:nvSpPr>
          <p:spPr>
            <a:xfrm rot="5400000">
              <a:off x="460080" y="1130040"/>
              <a:ext cx="4479840" cy="3384720"/>
            </a:xfrm>
            <a:prstGeom prst="parallelogram">
              <a:avLst>
                <a:gd name="adj" fmla="val 11998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18000" bIns="18000" anchor="t" anchorCtr="1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</a:t>
              </a: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958</a:t>
              </a: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年，中国第一部国产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轿车在长春第一汽车制造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诞生</a:t>
              </a: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了。“红旗”牌轿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是中国第一部高级轿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67"/>
            <p:cNvSpPr/>
            <p:nvPr/>
          </p:nvSpPr>
          <p:spPr>
            <a:xfrm>
              <a:off x="3311640" y="1136880"/>
              <a:ext cx="0" cy="3168720"/>
            </a:xfrm>
            <a:prstGeom prst="line">
              <a:avLst/>
            </a:prstGeom>
            <a:ln w="2232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68"/>
            <p:cNvSpPr/>
            <p:nvPr/>
          </p:nvSpPr>
          <p:spPr>
            <a:xfrm>
              <a:off x="2771640" y="1063800"/>
              <a:ext cx="0" cy="3168720"/>
            </a:xfrm>
            <a:prstGeom prst="line">
              <a:avLst/>
            </a:prstGeom>
            <a:ln w="2232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69"/>
            <p:cNvSpPr/>
            <p:nvPr/>
          </p:nvSpPr>
          <p:spPr>
            <a:xfrm>
              <a:off x="2232000" y="992160"/>
              <a:ext cx="0" cy="3168720"/>
            </a:xfrm>
            <a:prstGeom prst="line">
              <a:avLst/>
            </a:prstGeom>
            <a:ln w="2232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70"/>
            <p:cNvSpPr/>
            <p:nvPr/>
          </p:nvSpPr>
          <p:spPr>
            <a:xfrm>
              <a:off x="1692360" y="920880"/>
              <a:ext cx="0" cy="3168720"/>
            </a:xfrm>
            <a:prstGeom prst="line">
              <a:avLst/>
            </a:prstGeom>
            <a:ln w="2232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71"/>
            <p:cNvSpPr/>
            <p:nvPr/>
          </p:nvSpPr>
          <p:spPr>
            <a:xfrm>
              <a:off x="3851280" y="1281240"/>
              <a:ext cx="0" cy="3168720"/>
            </a:xfrm>
            <a:prstGeom prst="line">
              <a:avLst/>
            </a:prstGeom>
            <a:ln w="2232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Group 72"/>
          <p:cNvGrpSpPr/>
          <p:nvPr/>
        </p:nvGrpSpPr>
        <p:grpSpPr>
          <a:xfrm>
            <a:off x="543960" y="61560"/>
            <a:ext cx="4029480" cy="5388480"/>
            <a:chOff x="543960" y="61560"/>
            <a:chExt cx="4029480" cy="5388480"/>
          </a:xfrm>
        </p:grpSpPr>
        <p:sp>
          <p:nvSpPr>
            <p:cNvPr id="418" name="AutoShape 73"/>
            <p:cNvSpPr/>
            <p:nvPr/>
          </p:nvSpPr>
          <p:spPr>
            <a:xfrm rot="5400000">
              <a:off x="-51480" y="824760"/>
              <a:ext cx="5327640" cy="3922560"/>
            </a:xfrm>
            <a:prstGeom prst="parallelogram">
              <a:avLst>
                <a:gd name="adj" fmla="val 1282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AutoShape 74"/>
            <p:cNvSpPr/>
            <p:nvPr/>
          </p:nvSpPr>
          <p:spPr>
            <a:xfrm rot="5400000">
              <a:off x="467280" y="1165680"/>
              <a:ext cx="4465440" cy="3384720"/>
            </a:xfrm>
            <a:prstGeom prst="parallelogram">
              <a:avLst>
                <a:gd name="adj" fmla="val 11959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 Box 75"/>
            <p:cNvSpPr/>
            <p:nvPr/>
          </p:nvSpPr>
          <p:spPr>
            <a:xfrm rot="19052400">
              <a:off x="612360" y="200160"/>
              <a:ext cx="5763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 Black"/>
                  <a:ea typeface="PMingLiU"/>
                </a:rPr>
                <a:t>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 Black"/>
                  <a:ea typeface="PMingLiU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AutoShape 76"/>
            <p:cNvSpPr/>
            <p:nvPr/>
          </p:nvSpPr>
          <p:spPr>
            <a:xfrm rot="5400000">
              <a:off x="460080" y="1130040"/>
              <a:ext cx="4479840" cy="3384720"/>
            </a:xfrm>
            <a:prstGeom prst="parallelogram">
              <a:avLst>
                <a:gd name="adj" fmla="val 11998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18000" bIns="18000" anchor="t" anchorCtr="1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</a:t>
              </a: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每家每户把粮食交给公社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砸烂铁锅用来炼钢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吃饭这一私人事件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也成为公共活动之一。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Line 77"/>
            <p:cNvSpPr/>
            <p:nvPr/>
          </p:nvSpPr>
          <p:spPr>
            <a:xfrm>
              <a:off x="3311640" y="1136880"/>
              <a:ext cx="0" cy="3168720"/>
            </a:xfrm>
            <a:prstGeom prst="line">
              <a:avLst/>
            </a:prstGeom>
            <a:ln w="2232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Line 78"/>
            <p:cNvSpPr/>
            <p:nvPr/>
          </p:nvSpPr>
          <p:spPr>
            <a:xfrm>
              <a:off x="2771640" y="1063800"/>
              <a:ext cx="0" cy="3168720"/>
            </a:xfrm>
            <a:prstGeom prst="line">
              <a:avLst/>
            </a:prstGeom>
            <a:ln w="2232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Line 79"/>
            <p:cNvSpPr/>
            <p:nvPr/>
          </p:nvSpPr>
          <p:spPr>
            <a:xfrm>
              <a:off x="2232000" y="992160"/>
              <a:ext cx="0" cy="3168720"/>
            </a:xfrm>
            <a:prstGeom prst="line">
              <a:avLst/>
            </a:prstGeom>
            <a:ln w="2232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Line 80"/>
            <p:cNvSpPr/>
            <p:nvPr/>
          </p:nvSpPr>
          <p:spPr>
            <a:xfrm>
              <a:off x="1692360" y="920880"/>
              <a:ext cx="0" cy="3168720"/>
            </a:xfrm>
            <a:prstGeom prst="line">
              <a:avLst/>
            </a:prstGeom>
            <a:ln w="2232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Line 81"/>
            <p:cNvSpPr/>
            <p:nvPr/>
          </p:nvSpPr>
          <p:spPr>
            <a:xfrm>
              <a:off x="3851280" y="1281240"/>
              <a:ext cx="0" cy="3168720"/>
            </a:xfrm>
            <a:prstGeom prst="line">
              <a:avLst/>
            </a:prstGeom>
            <a:ln w="2232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Text Box 82"/>
          <p:cNvSpPr/>
          <p:nvPr/>
        </p:nvSpPr>
        <p:spPr>
          <a:xfrm rot="2700000">
            <a:off x="-1322280" y="4736520"/>
            <a:ext cx="41036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粗倩简体"/>
              </a:rPr>
              <a:t>白色记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6" dur="indefinite" restart="never" nodeType="tmRoot">
          <p:childTnLst>
            <p:seq>
              <p:cTn id="1777" dur="indefinite" nodeType="mainSeq">
                <p:childTnLst>
                  <p:par>
                    <p:cTn id="1778" fill="hold">
                      <p:stCondLst>
                        <p:cond delay="0"/>
                      </p:stCondLst>
                      <p:childTnLst>
                        <p:par>
                          <p:cTn id="1779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2" dur="10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5,-35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3" dur="10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4" dur="10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5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8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0" fill="hold">
                            <p:stCondLst>
                              <p:cond delay="3001"/>
                            </p:stCondLst>
                            <p:childTnLst>
                              <p:par>
                                <p:cTn id="1791" nodeType="afterEffect" fill="hold" presetClass="exit" presetID="17" presetSubtype="8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2" dur="1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3" dur="1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4" dur="1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5" dur="1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9" fill="hold">
                            <p:stCondLst>
                              <p:cond delay="6001"/>
                            </p:stCondLst>
                            <p:childTnLst>
                              <p:par>
                                <p:cTn id="180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2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3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4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5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6" fill="hold">
                            <p:stCondLst>
                              <p:cond delay="7001"/>
                            </p:stCondLst>
                            <p:childTnLst>
                              <p:par>
                                <p:cTn id="1807" nodeType="afterEffect" fill="hold" presetClass="exit" presetID="17" presetSubtype="8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8" dur="10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9" dur="10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0" dur="10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1" dur="10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3" nodeType="with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5" fill="hold">
                            <p:stCondLst>
                              <p:cond delay="13001"/>
                            </p:stCondLst>
                            <p:childTnLst>
                              <p:par>
                                <p:cTn id="181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8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9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0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1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2" fill="hold">
                            <p:stCondLst>
                              <p:cond delay="14001"/>
                            </p:stCondLst>
                            <p:childTnLst>
                              <p:par>
                                <p:cTn id="1823" nodeType="afterEffect" fill="hold" presetClass="exit" presetID="17" presetSubtype="8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4" dur="10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5" dur="10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6" dur="10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7" dur="10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9" nodeType="with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1" fill="hold">
                            <p:stCondLst>
                              <p:cond delay="20001"/>
                            </p:stCondLst>
                            <p:childTnLst>
                              <p:par>
                                <p:cTn id="183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4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5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6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7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8" fill="hold">
                            <p:stCondLst>
                              <p:cond delay="21001"/>
                            </p:stCondLst>
                            <p:childTnLst>
                              <p:par>
                                <p:cTn id="1839" nodeType="afterEffect" fill="hold" presetClass="exit" presetID="17" presetSubtype="8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40" dur="50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1" dur="50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2" dur="50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3" dur="50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5" nodeType="with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7" fill="hold">
                            <p:stCondLst>
                              <p:cond delay="26501"/>
                            </p:stCondLst>
                            <p:childTnLst>
                              <p:par>
                                <p:cTn id="184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0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1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2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3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8" name="Group 2"/>
          <p:cNvGrpSpPr/>
          <p:nvPr/>
        </p:nvGrpSpPr>
        <p:grpSpPr>
          <a:xfrm>
            <a:off x="-1023120" y="60840"/>
            <a:ext cx="9844560" cy="6668640"/>
            <a:chOff x="-1023120" y="60840"/>
            <a:chExt cx="9844560" cy="6668640"/>
          </a:xfrm>
        </p:grpSpPr>
        <p:grpSp>
          <p:nvGrpSpPr>
            <p:cNvPr id="429" name="Group 3"/>
            <p:cNvGrpSpPr/>
            <p:nvPr/>
          </p:nvGrpSpPr>
          <p:grpSpPr>
            <a:xfrm>
              <a:off x="-1023120" y="122400"/>
              <a:ext cx="9844560" cy="6607080"/>
              <a:chOff x="-1023120" y="122400"/>
              <a:chExt cx="9844560" cy="6607080"/>
            </a:xfrm>
          </p:grpSpPr>
          <p:grpSp>
            <p:nvGrpSpPr>
              <p:cNvPr id="430" name="Group 4"/>
              <p:cNvGrpSpPr/>
              <p:nvPr/>
            </p:nvGrpSpPr>
            <p:grpSpPr>
              <a:xfrm>
                <a:off x="4573440" y="632880"/>
                <a:ext cx="4248000" cy="4819680"/>
                <a:chOff x="4573440" y="632880"/>
                <a:chExt cx="4248000" cy="4819680"/>
              </a:xfrm>
            </p:grpSpPr>
            <p:sp>
              <p:nvSpPr>
                <p:cNvPr id="431" name="Rectangle 5"/>
                <p:cNvSpPr/>
                <p:nvPr/>
              </p:nvSpPr>
              <p:spPr>
                <a:xfrm>
                  <a:off x="4573440" y="632880"/>
                  <a:ext cx="4248000" cy="4819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Rectangle 6"/>
                <p:cNvSpPr/>
                <p:nvPr/>
              </p:nvSpPr>
              <p:spPr>
                <a:xfrm>
                  <a:off x="4789440" y="992880"/>
                  <a:ext cx="3671640" cy="41011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Rectangle 7"/>
                <p:cNvSpPr/>
                <p:nvPr/>
              </p:nvSpPr>
              <p:spPr>
                <a:xfrm>
                  <a:off x="4789440" y="992880"/>
                  <a:ext cx="3671640" cy="41011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4" name="AutoShape 8"/>
              <p:cNvSpPr/>
              <p:nvPr/>
            </p:nvSpPr>
            <p:spPr>
              <a:xfrm rot="5400000">
                <a:off x="-48960" y="822240"/>
                <a:ext cx="5322600" cy="3922560"/>
              </a:xfrm>
              <a:prstGeom prst="parallelogram">
                <a:avLst>
                  <a:gd name="adj" fmla="val 12815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AutoShape 9"/>
              <p:cNvSpPr/>
              <p:nvPr/>
            </p:nvSpPr>
            <p:spPr>
              <a:xfrm rot="5400000">
                <a:off x="461160" y="1163160"/>
                <a:ext cx="4461120" cy="3384360"/>
              </a:xfrm>
              <a:prstGeom prst="parallelogram">
                <a:avLst>
                  <a:gd name="adj" fmla="val 11949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AutoShape 10"/>
              <p:cNvSpPr/>
              <p:nvPr/>
            </p:nvSpPr>
            <p:spPr>
              <a:xfrm rot="5400000">
                <a:off x="461880" y="1127520"/>
                <a:ext cx="4475520" cy="3384360"/>
              </a:xfrm>
              <a:prstGeom prst="parallelogram">
                <a:avLst>
                  <a:gd name="adj" fmla="val 11987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Rectangle 11"/>
              <p:cNvSpPr/>
              <p:nvPr/>
            </p:nvSpPr>
            <p:spPr>
              <a:xfrm rot="18900000">
                <a:off x="396360" y="2792880"/>
                <a:ext cx="719280" cy="4313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8" name="Group 12"/>
            <p:cNvGrpSpPr/>
            <p:nvPr/>
          </p:nvGrpSpPr>
          <p:grpSpPr>
            <a:xfrm>
              <a:off x="4573440" y="625320"/>
              <a:ext cx="4248000" cy="4824000"/>
              <a:chOff x="4573440" y="625320"/>
              <a:chExt cx="4248000" cy="4824000"/>
            </a:xfrm>
          </p:grpSpPr>
          <p:sp>
            <p:nvSpPr>
              <p:cNvPr id="439" name="Rectangle 13"/>
              <p:cNvSpPr/>
              <p:nvPr/>
            </p:nvSpPr>
            <p:spPr>
              <a:xfrm>
                <a:off x="4573440" y="625320"/>
                <a:ext cx="4248000" cy="4824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Rectangle 14"/>
              <p:cNvSpPr/>
              <p:nvPr/>
            </p:nvSpPr>
            <p:spPr>
              <a:xfrm>
                <a:off x="4789440" y="985320"/>
                <a:ext cx="3671640" cy="410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Rectangle 15"/>
              <p:cNvSpPr/>
              <p:nvPr/>
            </p:nvSpPr>
            <p:spPr>
              <a:xfrm>
                <a:off x="4789440" y="985320"/>
                <a:ext cx="3671640" cy="4105080"/>
              </a:xfrm>
              <a:prstGeom prst="rect">
                <a:avLst/>
              </a:prstGeom>
              <a:blipFill rotWithShape="0">
                <a:blip r:embed="rId1"/>
                <a:srcRect/>
                <a:stretch/>
              </a:blipFill>
              <a:ln w="381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Group 16"/>
            <p:cNvGrpSpPr/>
            <p:nvPr/>
          </p:nvGrpSpPr>
          <p:grpSpPr>
            <a:xfrm>
              <a:off x="544320" y="60840"/>
              <a:ext cx="4029120" cy="5388840"/>
              <a:chOff x="544320" y="60840"/>
              <a:chExt cx="4029120" cy="5388840"/>
            </a:xfrm>
          </p:grpSpPr>
          <p:sp>
            <p:nvSpPr>
              <p:cNvPr id="443" name="AutoShape 17"/>
              <p:cNvSpPr/>
              <p:nvPr/>
            </p:nvSpPr>
            <p:spPr>
              <a:xfrm rot="5400000">
                <a:off x="-51480" y="824400"/>
                <a:ext cx="5327280" cy="3922560"/>
              </a:xfrm>
              <a:prstGeom prst="parallelogram">
                <a:avLst>
                  <a:gd name="adj" fmla="val 1282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AutoShape 18"/>
              <p:cNvSpPr/>
              <p:nvPr/>
            </p:nvSpPr>
            <p:spPr>
              <a:xfrm rot="5400000">
                <a:off x="467640" y="1165320"/>
                <a:ext cx="4465080" cy="3384720"/>
              </a:xfrm>
              <a:prstGeom prst="parallelogram">
                <a:avLst>
                  <a:gd name="adj" fmla="val 11958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19"/>
              <p:cNvSpPr/>
              <p:nvPr/>
            </p:nvSpPr>
            <p:spPr>
              <a:xfrm rot="19052400">
                <a:off x="612720" y="199440"/>
                <a:ext cx="57636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 Black"/>
                    <a:ea typeface="PMingLiU"/>
                  </a:rPr>
                  <a:t>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 Black"/>
                    <a:ea typeface="PMingLiU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AutoShape 20"/>
              <p:cNvSpPr/>
              <p:nvPr/>
            </p:nvSpPr>
            <p:spPr>
              <a:xfrm rot="5400000">
                <a:off x="460440" y="1129680"/>
                <a:ext cx="4479480" cy="3384720"/>
              </a:xfrm>
              <a:prstGeom prst="parallelogram">
                <a:avLst>
                  <a:gd name="adj" fmla="val 11997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18000" bIns="18000" anchor="t" anchorCtr="1">
                <a:no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  </a:t>
                </a:r>
                <a:r>
                  <a:rPr b="0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每家每户把粮食交给公社，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砸烂铁锅用来炼钢。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吃饭这一私人事件，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也成为公共活动之一。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Line 21"/>
              <p:cNvSpPr/>
              <p:nvPr/>
            </p:nvSpPr>
            <p:spPr>
              <a:xfrm>
                <a:off x="3311640" y="1136520"/>
                <a:ext cx="0" cy="3168360"/>
              </a:xfrm>
              <a:prstGeom prst="line">
                <a:avLst/>
              </a:prstGeom>
              <a:ln w="2232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Line 22"/>
              <p:cNvSpPr/>
              <p:nvPr/>
            </p:nvSpPr>
            <p:spPr>
              <a:xfrm>
                <a:off x="2771640" y="1063440"/>
                <a:ext cx="0" cy="3168360"/>
              </a:xfrm>
              <a:prstGeom prst="line">
                <a:avLst/>
              </a:prstGeom>
              <a:ln w="2232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Line 23"/>
              <p:cNvSpPr/>
              <p:nvPr/>
            </p:nvSpPr>
            <p:spPr>
              <a:xfrm>
                <a:off x="2232000" y="991800"/>
                <a:ext cx="0" cy="3168360"/>
              </a:xfrm>
              <a:prstGeom prst="line">
                <a:avLst/>
              </a:prstGeom>
              <a:ln w="2232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Line 24"/>
              <p:cNvSpPr/>
              <p:nvPr/>
            </p:nvSpPr>
            <p:spPr>
              <a:xfrm>
                <a:off x="1692360" y="920520"/>
                <a:ext cx="0" cy="3168360"/>
              </a:xfrm>
              <a:prstGeom prst="line">
                <a:avLst/>
              </a:prstGeom>
              <a:ln w="2232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Line 25"/>
              <p:cNvSpPr/>
              <p:nvPr/>
            </p:nvSpPr>
            <p:spPr>
              <a:xfrm>
                <a:off x="3851280" y="1280880"/>
                <a:ext cx="0" cy="3168360"/>
              </a:xfrm>
              <a:prstGeom prst="line">
                <a:avLst/>
              </a:prstGeom>
              <a:ln w="2232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2" name="Text Box 26"/>
            <p:cNvSpPr/>
            <p:nvPr/>
          </p:nvSpPr>
          <p:spPr>
            <a:xfrm rot="2700000">
              <a:off x="-1330200" y="4728240"/>
              <a:ext cx="41032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方正粗倩简体"/>
                </a:rPr>
                <a:t>白色记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Oval 27"/>
          <p:cNvSpPr/>
          <p:nvPr/>
        </p:nvSpPr>
        <p:spPr>
          <a:xfrm>
            <a:off x="396720" y="-1314360"/>
            <a:ext cx="8317080" cy="8312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2d2d2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社会主义好伴奏版.wma" descr=""/>
          <p:cNvPicPr/>
          <p:nvPr/>
        </p:nvPicPr>
        <p:blipFill>
          <a:blip r:embed="rId2"/>
          <a:stretch/>
        </p:blipFill>
        <p:spPr>
          <a:xfrm>
            <a:off x="4419720" y="61326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54" dur="indefinite" restart="never" nodeType="tmRoot">
          <p:childTnLst>
            <p:seq>
              <p:cTn id="1855" dur="indefinite" nodeType="mainSeq">
                <p:childTnLst>
                  <p:par>
                    <p:cTn id="1856" fill="hold">
                      <p:stCondLst>
                        <p:cond delay="0"/>
                      </p:stCondLst>
                      <p:childTnLst>
                        <p:par>
                          <p:cTn id="1857" fill="hold">
                            <p:stCondLst>
                              <p:cond delay="0"/>
                            </p:stCondLst>
                            <p:childTnLst>
                              <p:par>
                                <p:cTn id="1858" nodeType="withEffect" fill="hold" presetClass="exit" presetID="23" presetSubtype="28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59" dur="30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0" dur="30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3" dur="3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5" nodeType="with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66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67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9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7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72" dur="3000" fill="hold"/>
                                        <p:tgtEl>
                                          <p:spTgt spid="453"/>
                                        </p:tgtEl>
                                      </p:cBhvr>
                                      <p:to x="2000000" y="2000000"/>
                                    </p:animScale>
                                  </p:childTnLst>
                                </p:cTn>
                              </p:par>
                              <p:par>
                                <p:cTn id="187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15.0)">
                                      <p:cBhvr>
                                        <p:cTn id="1874" dur="1" fill="hold"/>
                                        <p:tgtEl>
                                          <p:spTgt spid="4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未知"/>
          <p:cNvSpPr/>
          <p:nvPr/>
        </p:nvSpPr>
        <p:spPr>
          <a:xfrm>
            <a:off x="2833560" y="654120"/>
            <a:ext cx="6392880" cy="5121360"/>
          </a:xfrm>
          <a:custGeom>
            <a:avLst/>
            <a:gdLst/>
            <a:ahLst/>
            <a:rect l="l" t="t" r="r" b="b"/>
            <a:pathLst>
              <a:path w="4027" h="3226">
                <a:moveTo>
                  <a:pt x="0" y="3"/>
                </a:moveTo>
                <a:lnTo>
                  <a:pt x="4027" y="0"/>
                </a:lnTo>
                <a:lnTo>
                  <a:pt x="4027" y="3226"/>
                </a:lnTo>
                <a:lnTo>
                  <a:pt x="1668" y="3226"/>
                </a:lnTo>
                <a:lnTo>
                  <a:pt x="0" y="329"/>
                </a:lnTo>
                <a:lnTo>
                  <a:pt x="0" y="3"/>
                </a:lnTo>
                <a:close/>
              </a:path>
            </a:pathLst>
          </a:custGeom>
          <a:gradFill rotWithShape="0">
            <a:gsLst>
              <a:gs pos="0">
                <a:srgbClr val="d1d1d1">
                  <a:alpha val="60000"/>
                </a:srgbClr>
              </a:gs>
              <a:gs pos="100000">
                <a:srgbClr val="c0c0c0">
                  <a:alpha val="8000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3"/>
          <p:cNvSpPr/>
          <p:nvPr/>
        </p:nvSpPr>
        <p:spPr>
          <a:xfrm flipH="1" rot="19800000">
            <a:off x="4244040" y="2486880"/>
            <a:ext cx="358920" cy="3618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4"/>
          <p:cNvSpPr/>
          <p:nvPr/>
        </p:nvSpPr>
        <p:spPr>
          <a:xfrm>
            <a:off x="2476440" y="663480"/>
            <a:ext cx="360360" cy="71928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5"/>
          <p:cNvSpPr/>
          <p:nvPr/>
        </p:nvSpPr>
        <p:spPr>
          <a:xfrm flipH="1" rot="19800000">
            <a:off x="2963880" y="1130040"/>
            <a:ext cx="358920" cy="189072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6"/>
          <p:cNvSpPr/>
          <p:nvPr/>
        </p:nvSpPr>
        <p:spPr>
          <a:xfrm rot="19800000">
            <a:off x="1902960" y="872640"/>
            <a:ext cx="360360" cy="56988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7"/>
          <p:cNvSpPr/>
          <p:nvPr/>
        </p:nvSpPr>
        <p:spPr>
          <a:xfrm rot="1800000">
            <a:off x="828720" y="-626760"/>
            <a:ext cx="539640" cy="377352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8"/>
          <p:cNvSpPr/>
          <p:nvPr/>
        </p:nvSpPr>
        <p:spPr>
          <a:xfrm rot="5400000">
            <a:off x="2101680" y="-1892160"/>
            <a:ext cx="360360" cy="467496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9"/>
          <p:cNvSpPr/>
          <p:nvPr/>
        </p:nvSpPr>
        <p:spPr>
          <a:xfrm rot="18000000">
            <a:off x="-340560" y="1355760"/>
            <a:ext cx="252072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ffff"/>
                </a:solidFill>
                <a:latin typeface="Arial"/>
                <a:ea typeface="方正粗倩简体"/>
              </a:rPr>
              <a:t>试图解放国力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10"/>
          <p:cNvSpPr/>
          <p:nvPr/>
        </p:nvSpPr>
        <p:spPr>
          <a:xfrm>
            <a:off x="-130320" y="73080"/>
            <a:ext cx="986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c0c0c0"/>
                </a:solidFill>
                <a:latin typeface="Arial Black"/>
                <a:ea typeface="PMingLiU"/>
              </a:rPr>
              <a:t>1959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11"/>
          <p:cNvSpPr/>
          <p:nvPr/>
        </p:nvSpPr>
        <p:spPr>
          <a:xfrm>
            <a:off x="2025720" y="-52560"/>
            <a:ext cx="169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0c0c0"/>
                </a:solidFill>
                <a:latin typeface="Arial"/>
                <a:ea typeface="方正超粗黑_GBK"/>
              </a:rPr>
              <a:t>灰色年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12"/>
          <p:cNvSpPr/>
          <p:nvPr/>
        </p:nvSpPr>
        <p:spPr>
          <a:xfrm>
            <a:off x="622440" y="157320"/>
            <a:ext cx="161640" cy="18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080" bIns="-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13"/>
          <p:cNvSpPr/>
          <p:nvPr/>
        </p:nvSpPr>
        <p:spPr>
          <a:xfrm flipH="1">
            <a:off x="531720" y="73080"/>
            <a:ext cx="990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c0c0c0"/>
                </a:solidFill>
                <a:latin typeface="Arial Black"/>
                <a:ea typeface="PMingLiU"/>
              </a:rPr>
              <a:t>1969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Oval 14"/>
          <p:cNvSpPr/>
          <p:nvPr/>
        </p:nvSpPr>
        <p:spPr>
          <a:xfrm>
            <a:off x="1557360" y="409680"/>
            <a:ext cx="54000" cy="54000"/>
          </a:xfrm>
          <a:prstGeom prst="ellipse">
            <a:avLst/>
          </a:prstGeom>
          <a:solidFill>
            <a:srgbClr val="ffffff">
              <a:alpha val="85000"/>
            </a:srgbClr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15"/>
          <p:cNvSpPr/>
          <p:nvPr/>
        </p:nvSpPr>
        <p:spPr>
          <a:xfrm rot="5400000">
            <a:off x="6777720" y="-1894680"/>
            <a:ext cx="360360" cy="4680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16"/>
          <p:cNvSpPr/>
          <p:nvPr/>
        </p:nvSpPr>
        <p:spPr>
          <a:xfrm rot="1800000">
            <a:off x="-318960" y="2681280"/>
            <a:ext cx="534960" cy="112392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未知"/>
          <p:cNvSpPr/>
          <p:nvPr/>
        </p:nvSpPr>
        <p:spPr>
          <a:xfrm>
            <a:off x="3152880" y="909720"/>
            <a:ext cx="5754600" cy="4610160"/>
          </a:xfrm>
          <a:custGeom>
            <a:avLst/>
            <a:gdLst/>
            <a:ahLst/>
            <a:rect l="l" t="t" r="r" b="b"/>
            <a:pathLst>
              <a:path w="4027" h="3226">
                <a:moveTo>
                  <a:pt x="0" y="3"/>
                </a:moveTo>
                <a:lnTo>
                  <a:pt x="4027" y="0"/>
                </a:lnTo>
                <a:lnTo>
                  <a:pt x="4027" y="3226"/>
                </a:lnTo>
                <a:lnTo>
                  <a:pt x="1668" y="3226"/>
                </a:lnTo>
                <a:lnTo>
                  <a:pt x="6" y="335"/>
                </a:lnTo>
                <a:lnTo>
                  <a:pt x="0" y="3"/>
                </a:lnTo>
                <a:close/>
              </a:path>
            </a:pathLst>
          </a:custGeom>
          <a:blipFill rotWithShape="0">
            <a:blip r:embed="rId1">
              <a:alphaModFix amt="90000"/>
            </a:blip>
            <a:srcRect/>
            <a:stretch/>
          </a:blipFill>
          <a:ln w="12600">
            <a:solidFill>
              <a:srgbClr val="ffff99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18"/>
          <p:cNvSpPr/>
          <p:nvPr/>
        </p:nvSpPr>
        <p:spPr>
          <a:xfrm>
            <a:off x="1628640" y="3328920"/>
            <a:ext cx="223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尽管面临美苏遏制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9"/>
          <p:cNvSpPr/>
          <p:nvPr/>
        </p:nvSpPr>
        <p:spPr>
          <a:xfrm>
            <a:off x="946080" y="4536720"/>
            <a:ext cx="327672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但中国第一颗原子弹仍于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64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爆炸成功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20"/>
          <p:cNvSpPr/>
          <p:nvPr/>
        </p:nvSpPr>
        <p:spPr>
          <a:xfrm>
            <a:off x="1233360" y="3849840"/>
            <a:ext cx="295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内又进入经济困难时期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21"/>
          <p:cNvSpPr/>
          <p:nvPr/>
        </p:nvSpPr>
        <p:spPr>
          <a:xfrm rot="1800000">
            <a:off x="1974600" y="1130400"/>
            <a:ext cx="360360" cy="189072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22"/>
          <p:cNvSpPr/>
          <p:nvPr/>
        </p:nvSpPr>
        <p:spPr>
          <a:xfrm rot="1800000">
            <a:off x="696600" y="2592360"/>
            <a:ext cx="360360" cy="33782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Group 23"/>
          <p:cNvGrpSpPr/>
          <p:nvPr/>
        </p:nvGrpSpPr>
        <p:grpSpPr>
          <a:xfrm>
            <a:off x="2476440" y="663480"/>
            <a:ext cx="3008160" cy="5288400"/>
            <a:chOff x="2476440" y="663480"/>
            <a:chExt cx="3008160" cy="5288400"/>
          </a:xfrm>
        </p:grpSpPr>
        <p:sp>
          <p:nvSpPr>
            <p:cNvPr id="477" name="Rectangle 24"/>
            <p:cNvSpPr/>
            <p:nvPr/>
          </p:nvSpPr>
          <p:spPr>
            <a:xfrm flipH="1" rot="19800000">
              <a:off x="4244040" y="2486880"/>
              <a:ext cx="358920" cy="3618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ctangle 25"/>
            <p:cNvSpPr/>
            <p:nvPr/>
          </p:nvSpPr>
          <p:spPr>
            <a:xfrm>
              <a:off x="2476440" y="663480"/>
              <a:ext cx="360360" cy="719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Rectangle 26"/>
            <p:cNvSpPr/>
            <p:nvPr/>
          </p:nvSpPr>
          <p:spPr>
            <a:xfrm flipH="1" rot="19800000">
              <a:off x="2963160" y="1130040"/>
              <a:ext cx="358560" cy="18907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未知"/>
          <p:cNvSpPr/>
          <p:nvPr/>
        </p:nvSpPr>
        <p:spPr>
          <a:xfrm>
            <a:off x="3152880" y="909720"/>
            <a:ext cx="5754600" cy="4610160"/>
          </a:xfrm>
          <a:custGeom>
            <a:avLst/>
            <a:gdLst/>
            <a:ahLst/>
            <a:rect l="l" t="t" r="r" b="b"/>
            <a:pathLst>
              <a:path w="4027" h="3226">
                <a:moveTo>
                  <a:pt x="0" y="3"/>
                </a:moveTo>
                <a:lnTo>
                  <a:pt x="4027" y="0"/>
                </a:lnTo>
                <a:lnTo>
                  <a:pt x="4027" y="3226"/>
                </a:lnTo>
                <a:lnTo>
                  <a:pt x="1668" y="3226"/>
                </a:lnTo>
                <a:lnTo>
                  <a:pt x="6" y="335"/>
                </a:lnTo>
                <a:lnTo>
                  <a:pt x="0" y="3"/>
                </a:lnTo>
                <a:close/>
              </a:path>
            </a:pathLst>
          </a:custGeom>
          <a:blipFill rotWithShape="0">
            <a:blip r:embed="rId2">
              <a:alphaModFix amt="90000"/>
            </a:blip>
            <a:srcRect/>
            <a:stretch/>
          </a:blipFill>
          <a:ln w="12600">
            <a:solidFill>
              <a:srgbClr val="ffff99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28"/>
          <p:cNvSpPr/>
          <p:nvPr/>
        </p:nvSpPr>
        <p:spPr>
          <a:xfrm>
            <a:off x="2133720" y="2924280"/>
            <a:ext cx="12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没有票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29"/>
          <p:cNvSpPr/>
          <p:nvPr/>
        </p:nvSpPr>
        <p:spPr>
          <a:xfrm>
            <a:off x="1413000" y="3632040"/>
            <a:ext cx="27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物质短缺的计划时代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30"/>
          <p:cNvSpPr/>
          <p:nvPr/>
        </p:nvSpPr>
        <p:spPr>
          <a:xfrm>
            <a:off x="1233360" y="4340160"/>
            <a:ext cx="32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钱也买不到想要的物品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31"/>
          <p:cNvSpPr/>
          <p:nvPr/>
        </p:nvSpPr>
        <p:spPr>
          <a:xfrm>
            <a:off x="620640" y="5048280"/>
            <a:ext cx="41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而今天的消费券则是为了鼓励人们购买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未知"/>
          <p:cNvGrpSpPr/>
          <p:nvPr/>
        </p:nvGrpSpPr>
        <p:grpSpPr>
          <a:xfrm>
            <a:off x="3144960" y="901800"/>
            <a:ext cx="5767200" cy="4620960"/>
            <a:chOff x="3144960" y="901800"/>
            <a:chExt cx="5767200" cy="4620960"/>
          </a:xfrm>
        </p:grpSpPr>
        <p:pic>
          <p:nvPicPr>
            <p:cNvPr id="486" name="未知" descr=""/>
            <p:cNvPicPr/>
            <p:nvPr/>
          </p:nvPicPr>
          <p:blipFill>
            <a:blip r:embed="rId3"/>
            <a:stretch/>
          </p:blipFill>
          <p:spPr>
            <a:xfrm>
              <a:off x="3144960" y="901800"/>
              <a:ext cx="5767200" cy="462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Text Box 34"/>
            <p:cNvSpPr/>
            <p:nvPr/>
          </p:nvSpPr>
          <p:spPr>
            <a:xfrm>
              <a:off x="3152520" y="909360"/>
              <a:ext cx="5754240" cy="46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Text Box 33"/>
          <p:cNvSpPr/>
          <p:nvPr/>
        </p:nvSpPr>
        <p:spPr>
          <a:xfrm>
            <a:off x="2133720" y="2924280"/>
            <a:ext cx="12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6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34"/>
          <p:cNvSpPr/>
          <p:nvPr/>
        </p:nvSpPr>
        <p:spPr>
          <a:xfrm>
            <a:off x="1413000" y="3632040"/>
            <a:ext cx="27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大庆油田开建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35"/>
          <p:cNvSpPr/>
          <p:nvPr/>
        </p:nvSpPr>
        <p:spPr>
          <a:xfrm>
            <a:off x="1054080" y="4340160"/>
            <a:ext cx="32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人开始告别“洋油”时代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36"/>
          <p:cNvSpPr/>
          <p:nvPr/>
        </p:nvSpPr>
        <p:spPr>
          <a:xfrm>
            <a:off x="693720" y="5048280"/>
            <a:ext cx="41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64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，毛泽东号召工业学大庆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37"/>
          <p:cNvSpPr/>
          <p:nvPr/>
        </p:nvSpPr>
        <p:spPr>
          <a:xfrm flipH="1" rot="1800000">
            <a:off x="3034800" y="873000"/>
            <a:ext cx="360360" cy="56952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我们都是共产主义接班人.mp3" descr=""/>
          <p:cNvPicPr/>
          <p:nvPr/>
        </p:nvPicPr>
        <p:blipFill>
          <a:blip r:embed="rId4"/>
          <a:stretch/>
        </p:blipFill>
        <p:spPr>
          <a:xfrm>
            <a:off x="4140360" y="59529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5" dur="indefinite" restart="never" nodeType="tmRoot">
          <p:childTnLst>
            <p:seq>
              <p:cTn id="1876" dur="indefinite" nodeType="mainSeq">
                <p:childTnLst>
                  <p:par>
                    <p:cTn id="1877" fill="hold">
                      <p:stCondLst>
                        <p:cond delay="0"/>
                      </p:stCondLst>
                      <p:childTnLst>
                        <p:par>
                          <p:cTn id="1878" fill="hold">
                            <p:stCondLst>
                              <p:cond delay="0"/>
                            </p:stCondLst>
                            <p:childTnLst>
                              <p:par>
                                <p:cTn id="18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1" dur="3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2" fill="hold">
                            <p:stCondLst>
                              <p:cond delay="300"/>
                            </p:stCondLst>
                            <p:childTnLst>
                              <p:par>
                                <p:cTn id="18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5" dur="3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6" fill="hold">
                            <p:stCondLst>
                              <p:cond delay="600"/>
                            </p:stCondLst>
                            <p:childTnLst>
                              <p:par>
                                <p:cTn id="18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9" dur="3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2" dur="3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3" fill="hold">
                            <p:stCondLst>
                              <p:cond delay="900"/>
                            </p:stCondLst>
                            <p:childTnLst>
                              <p:par>
                                <p:cTn id="18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6" fill="hold">
                            <p:stCondLst>
                              <p:cond delay="901"/>
                            </p:stCondLst>
                            <p:childTnLst>
                              <p:par>
                                <p:cTn id="18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9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0" fill="hold">
                            <p:stCondLst>
                              <p:cond delay="1401"/>
                            </p:stCondLst>
                            <p:childTnLst>
                              <p:par>
                                <p:cTn id="19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3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4" fill="hold">
                            <p:stCondLst>
                              <p:cond delay="1901"/>
                            </p:stCondLst>
                            <p:childTnLst>
                              <p:par>
                                <p:cTn id="190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6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07" dur="250" autoRev="1" fill="hold"/>
                                        <p:tgtEl>
                                          <p:spTgt spid="4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8" fill="hold">
                            <p:stCondLst>
                              <p:cond delay="2401"/>
                            </p:stCondLst>
                            <p:childTnLst>
                              <p:par>
                                <p:cTn id="1909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1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2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4" fill="hold">
                            <p:stCondLst>
                              <p:cond delay="3301"/>
                            </p:stCondLst>
                            <p:childTnLst>
                              <p:par>
                                <p:cTn id="1915" nodeType="afterEffect" fill="hold" presetClass="entr" presetID="47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7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8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9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0" fill="hold">
                            <p:stCondLst>
                              <p:cond delay="5351"/>
                            </p:stCondLst>
                            <p:childTnLst>
                              <p:par>
                                <p:cTn id="1921" nodeType="afterEffect" fill="hold" presetClass="entr" presetID="26">
                                  <p:stCondLst>
                                    <p:cond delay="1000"/>
                                  </p:stCondLst>
                                  <p:iterate type="lt">
                                    <p:tmAbs val="149.7"/>
                                  </p:iterate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29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30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32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3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34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36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7" fill="hold">
                            <p:stCondLst>
                              <p:cond delay="10443"/>
                            </p:stCondLst>
                            <p:childTnLst>
                              <p:par>
                                <p:cTn id="1938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939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1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nimMotion origin="layout" path="M -0.00781 -0.00528 L -0.00781 -0.10611 E">
                                      <p:cBhvr>
                                        <p:cTn id="1942" dur="500" fill="hold"/>
                                        <p:tgtEl>
                                          <p:spTgt spid="4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3" fill="hold">
                            <p:stCondLst>
                              <p:cond delay="11543"/>
                            </p:stCondLst>
                            <p:childTnLst>
                              <p:par>
                                <p:cTn id="1944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945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7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nimMotion origin="layout" path="M -0.004 -0.00194 L -0.004 -0.10278 E">
                                      <p:cBhvr>
                                        <p:cTn id="1948" dur="500" fill="hold"/>
                                        <p:tgtEl>
                                          <p:spTgt spid="4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9" fill="hold">
                            <p:stCondLst>
                              <p:cond delay="12043"/>
                            </p:stCondLst>
                            <p:childTnLst>
                              <p:par>
                                <p:cTn id="1950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951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3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nimMotion origin="layout" path="M 0.00191 0.01834 L 0.00191 -0.0825 E">
                                      <p:cBhvr>
                                        <p:cTn id="1954" dur="500" fill="hold"/>
                                        <p:tgtEl>
                                          <p:spTgt spid="4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5" fill="hold">
                            <p:stCondLst>
                              <p:cond delay="12543"/>
                            </p:stCondLst>
                            <p:childTnLst>
                              <p:par>
                                <p:cTn id="19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95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9" fill="hold">
                            <p:stCondLst>
                              <p:cond delay="13043"/>
                            </p:stCondLst>
                            <p:childTnLst>
                              <p:par>
                                <p:cTn id="19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2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3" fill="hold">
                            <p:stCondLst>
                              <p:cond delay="13543"/>
                            </p:stCondLst>
                            <p:childTnLst>
                              <p:par>
                                <p:cTn id="196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5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66" dur="250" autoRev="1" fill="hold"/>
                                        <p:tgtEl>
                                          <p:spTgt spid="4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7" fill="hold">
                            <p:stCondLst>
                              <p:cond delay="14043"/>
                            </p:stCondLst>
                            <p:childTnLst>
                              <p:par>
                                <p:cTn id="19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0" dur="50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1" dur="50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2" dur="50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3" fill="hold">
                            <p:stCondLst>
                              <p:cond delay="15143"/>
                            </p:stCondLst>
                            <p:childTnLst>
                              <p:par>
                                <p:cTn id="19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6" dur="500"/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7" dur="500"/>
                                        <p:tgtEl>
                                          <p:spTgt spid="4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8" dur="500"/>
                                        <p:tgtEl>
                                          <p:spTgt spid="4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9" fill="hold">
                            <p:stCondLst>
                              <p:cond delay="17293"/>
                            </p:stCondLst>
                            <p:childTnLst>
                              <p:par>
                                <p:cTn id="19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2" dur="500"/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3" dur="500"/>
                                        <p:tgtEl>
                                          <p:spTgt spid="4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4" dur="500"/>
                                        <p:tgtEl>
                                          <p:spTgt spid="4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5" fill="hold">
                            <p:stCondLst>
                              <p:cond delay="19593"/>
                            </p:stCondLst>
                            <p:childTnLst>
                              <p:par>
                                <p:cTn id="19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8" dur="500"/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9" dur="500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0" dur="500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1" fill="hold">
                            <p:stCondLst>
                              <p:cond delay="22793"/>
                            </p:stCondLst>
                            <p:childTnLst>
                              <p:par>
                                <p:cTn id="1992" nodeType="afterEffect" fill="hold" presetClass="exit" presetID="4" presetSubtype="16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nimEffect filter="box(in)" transition="out">
                                      <p:cBhvr additive="repl">
                                        <p:cTn id="199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5" fill="hold">
                            <p:stCondLst>
                              <p:cond delay="25593"/>
                            </p:stCondLst>
                            <p:childTnLst>
                              <p:par>
                                <p:cTn id="1996" nodeType="afterEffect" fill="hold" presetClass="exit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nimEffect filter="box(in)" transition="out">
                                      <p:cBhvr additive="repl">
                                        <p:cTn id="1997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9" fill="hold">
                            <p:stCondLst>
                              <p:cond delay="26918"/>
                            </p:stCondLst>
                            <p:childTnLst>
                              <p:par>
                                <p:cTn id="2000" nodeType="afterEffect" fill="hold" presetClass="exit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nimEffect filter="box(in)" transition="out">
                                      <p:cBhvr additive="repl">
                                        <p:cTn id="2001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3" fill="hold">
                            <p:stCondLst>
                              <p:cond delay="28318"/>
                            </p:stCondLst>
                            <p:childTnLst>
                              <p:par>
                                <p:cTn id="2004" nodeType="afterEffect" fill="hold" presetClass="exit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nimEffect filter="box(in)" transition="out">
                                      <p:cBhvr additive="repl">
                                        <p:cTn id="2005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7" fill="hold">
                            <p:stCondLst>
                              <p:cond delay="30168"/>
                            </p:stCondLst>
                            <p:childTnLst>
                              <p:par>
                                <p:cTn id="200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09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1" fill="hold">
                            <p:stCondLst>
                              <p:cond delay="30668"/>
                            </p:stCondLst>
                            <p:childTnLst>
                              <p:par>
                                <p:cTn id="20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4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5" fill="hold">
                            <p:stCondLst>
                              <p:cond delay="31168"/>
                            </p:stCondLst>
                            <p:childTnLst>
                              <p:par>
                                <p:cTn id="201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7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18" dur="250" autoRev="1" fill="hold"/>
                                        <p:tgtEl>
                                          <p:spTgt spid="4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9" fill="hold">
                            <p:stCondLst>
                              <p:cond delay="31668"/>
                            </p:stCondLst>
                            <p:childTnLst>
                              <p:par>
                                <p:cTn id="20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2" dur="50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3" dur="50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4" dur="50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5" fill="hold">
                            <p:stCondLst>
                              <p:cond delay="32918"/>
                            </p:stCondLst>
                            <p:childTnLst>
                              <p:par>
                                <p:cTn id="20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8" dur="50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9" dur="50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0" dur="50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1" fill="hold">
                            <p:stCondLst>
                              <p:cond delay="34468"/>
                            </p:stCondLst>
                            <p:childTnLst>
                              <p:par>
                                <p:cTn id="20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4" dur="50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5" dur="50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6" dur="50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7" fill="hold">
                            <p:stCondLst>
                              <p:cond delay="37068"/>
                            </p:stCondLst>
                            <p:childTnLst>
                              <p:par>
                                <p:cTn id="20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40" dur="500"/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1" dur="500"/>
                                        <p:tgtEl>
                                          <p:spTgt spid="4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2" dur="500"/>
                                        <p:tgtEl>
                                          <p:spTgt spid="4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3" fill="hold">
                            <p:stCondLst>
                              <p:cond delay="40118"/>
                            </p:stCondLst>
                            <p:childTnLst>
                              <p:par>
                                <p:cTn id="2044" nodeType="afterEffect" fill="hold" presetClass="exit" presetID="37">
                                  <p:stCondLst>
                                    <p:cond delay="200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04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6" dur="50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7" dur="5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8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0" fill="hold">
                            <p:stCondLst>
                              <p:cond delay="43368"/>
                            </p:stCondLst>
                            <p:childTnLst>
                              <p:par>
                                <p:cTn id="2051" nodeType="after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05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3" dur="50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4" dur="5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5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7" fill="hold">
                            <p:stCondLst>
                              <p:cond delay="44918"/>
                            </p:stCondLst>
                            <p:childTnLst>
                              <p:par>
                                <p:cTn id="2058" nodeType="after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05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0" dur="50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1" dur="5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2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4" fill="hold">
                            <p:stCondLst>
                              <p:cond delay="47518"/>
                            </p:stCondLst>
                            <p:childTnLst>
                              <p:par>
                                <p:cTn id="2065" nodeType="after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066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7" dur="500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8" dur="50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9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1" fill="hold">
                            <p:stCondLst>
                              <p:cond delay="50568"/>
                            </p:stCondLst>
                            <p:childTnLst>
                              <p:par>
                                <p:cTn id="207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73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5" fill="hold">
                            <p:stCondLst>
                              <p:cond delay="51068"/>
                            </p:stCondLst>
                            <p:childTnLst>
                              <p:par>
                                <p:cTn id="207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77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9" fill="hold">
                            <p:stCondLst>
                              <p:cond delay="51568"/>
                            </p:stCondLst>
                            <p:childTnLst>
                              <p:par>
                                <p:cTn id="20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2081" dur="1" fill="hold"/>
                                        <p:tgtEl>
                                          <p:spTgt spid="4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2413080" y="-1135080"/>
            <a:ext cx="44402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Group 3"/>
          <p:cNvGrpSpPr/>
          <p:nvPr/>
        </p:nvGrpSpPr>
        <p:grpSpPr>
          <a:xfrm>
            <a:off x="-103320" y="-487440"/>
            <a:ext cx="9325440" cy="4595760"/>
            <a:chOff x="-103320" y="-487440"/>
            <a:chExt cx="9325440" cy="4595760"/>
          </a:xfrm>
        </p:grpSpPr>
        <p:grpSp>
          <p:nvGrpSpPr>
            <p:cNvPr id="496" name="Group 4"/>
            <p:cNvGrpSpPr/>
            <p:nvPr/>
          </p:nvGrpSpPr>
          <p:grpSpPr>
            <a:xfrm>
              <a:off x="4320" y="-487440"/>
              <a:ext cx="9217800" cy="4595760"/>
              <a:chOff x="4320" y="-487440"/>
              <a:chExt cx="9217800" cy="4595760"/>
            </a:xfrm>
          </p:grpSpPr>
          <p:grpSp>
            <p:nvGrpSpPr>
              <p:cNvPr id="497" name="Group 5"/>
              <p:cNvGrpSpPr/>
              <p:nvPr/>
            </p:nvGrpSpPr>
            <p:grpSpPr>
              <a:xfrm>
                <a:off x="4320" y="-487080"/>
                <a:ext cx="4494600" cy="4524120"/>
                <a:chOff x="4320" y="-487080"/>
                <a:chExt cx="4494600" cy="4524120"/>
              </a:xfrm>
            </p:grpSpPr>
            <p:sp>
              <p:nvSpPr>
                <p:cNvPr id="498" name="Rectangle 6"/>
                <p:cNvSpPr/>
                <p:nvPr/>
              </p:nvSpPr>
              <p:spPr>
                <a:xfrm flipV="1">
                  <a:off x="4320" y="-487080"/>
                  <a:ext cx="1522800" cy="2876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未知"/>
                <p:cNvSpPr/>
                <p:nvPr/>
              </p:nvSpPr>
              <p:spPr>
                <a:xfrm flipV="1">
                  <a:off x="4320" y="2380680"/>
                  <a:ext cx="4494600" cy="1655640"/>
                </a:xfrm>
                <a:custGeom>
                  <a:avLst/>
                  <a:gdLst/>
                  <a:ahLst/>
                  <a:rect l="l" t="t" r="r" b="b"/>
                  <a:pathLst>
                    <a:path w="2631" h="1134">
                      <a:moveTo>
                        <a:pt x="2631" y="0"/>
                      </a:moveTo>
                      <a:lnTo>
                        <a:pt x="907" y="1134"/>
                      </a:lnTo>
                      <a:lnTo>
                        <a:pt x="0" y="1134"/>
                      </a:lnTo>
                      <a:lnTo>
                        <a:pt x="263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0" name="Group 8"/>
              <p:cNvGrpSpPr/>
              <p:nvPr/>
            </p:nvGrpSpPr>
            <p:grpSpPr>
              <a:xfrm>
                <a:off x="1527480" y="-487080"/>
                <a:ext cx="2971080" cy="4524120"/>
                <a:chOff x="1527480" y="-487080"/>
                <a:chExt cx="2971080" cy="4524120"/>
              </a:xfrm>
            </p:grpSpPr>
            <p:sp>
              <p:nvSpPr>
                <p:cNvPr id="501" name="Rectangle 9"/>
                <p:cNvSpPr/>
                <p:nvPr/>
              </p:nvSpPr>
              <p:spPr>
                <a:xfrm flipV="1">
                  <a:off x="1527480" y="-487080"/>
                  <a:ext cx="1522800" cy="287640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未知"/>
                <p:cNvSpPr/>
                <p:nvPr/>
              </p:nvSpPr>
              <p:spPr>
                <a:xfrm flipV="1">
                  <a:off x="1527480" y="2380680"/>
                  <a:ext cx="2971080" cy="1655640"/>
                </a:xfrm>
                <a:custGeom>
                  <a:avLst/>
                  <a:gdLst/>
                  <a:ahLst/>
                  <a:rect l="l" t="t" r="r" b="b"/>
                  <a:pathLst>
                    <a:path w="1724" h="1089">
                      <a:moveTo>
                        <a:pt x="1724" y="0"/>
                      </a:moveTo>
                      <a:lnTo>
                        <a:pt x="0" y="1089"/>
                      </a:lnTo>
                      <a:lnTo>
                        <a:pt x="953" y="1089"/>
                      </a:lnTo>
                      <a:lnTo>
                        <a:pt x="1724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3" name="Group 11"/>
              <p:cNvGrpSpPr/>
              <p:nvPr/>
            </p:nvGrpSpPr>
            <p:grpSpPr>
              <a:xfrm>
                <a:off x="3051000" y="-487080"/>
                <a:ext cx="1524240" cy="4595400"/>
                <a:chOff x="3051000" y="-487080"/>
                <a:chExt cx="1524240" cy="4595400"/>
              </a:xfrm>
            </p:grpSpPr>
            <p:sp>
              <p:nvSpPr>
                <p:cNvPr id="504" name="Rectangle 12"/>
                <p:cNvSpPr/>
                <p:nvPr/>
              </p:nvSpPr>
              <p:spPr>
                <a:xfrm flipV="1">
                  <a:off x="3051000" y="-487080"/>
                  <a:ext cx="1522800" cy="2876400"/>
                </a:xfrm>
                <a:prstGeom prst="rect">
                  <a:avLst/>
                </a:pr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AutoShape 13"/>
                <p:cNvSpPr/>
                <p:nvPr/>
              </p:nvSpPr>
              <p:spPr>
                <a:xfrm flipH="1" flipV="1">
                  <a:off x="3052440" y="2382480"/>
                  <a:ext cx="1522800" cy="1725480"/>
                </a:xfrm>
                <a:prstGeom prst="rtTriangle">
                  <a:avLst/>
                </a:pr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6" name="Group 14"/>
              <p:cNvGrpSpPr/>
              <p:nvPr/>
            </p:nvGrpSpPr>
            <p:grpSpPr>
              <a:xfrm>
                <a:off x="4574520" y="-487080"/>
                <a:ext cx="1524240" cy="4595400"/>
                <a:chOff x="4574520" y="-487080"/>
                <a:chExt cx="1524240" cy="4595400"/>
              </a:xfrm>
            </p:grpSpPr>
            <p:sp>
              <p:nvSpPr>
                <p:cNvPr id="507" name="Rectangle 15"/>
                <p:cNvSpPr/>
                <p:nvPr/>
              </p:nvSpPr>
              <p:spPr>
                <a:xfrm flipV="1">
                  <a:off x="4574520" y="-487080"/>
                  <a:ext cx="1522800" cy="2876400"/>
                </a:xfrm>
                <a:prstGeom prst="rect">
                  <a:avLst/>
                </a:prstGeom>
                <a:solidFill>
                  <a:srgbClr val="00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AutoShape 16"/>
                <p:cNvSpPr/>
                <p:nvPr/>
              </p:nvSpPr>
              <p:spPr>
                <a:xfrm flipV="1">
                  <a:off x="4575960" y="2382480"/>
                  <a:ext cx="1522800" cy="1725480"/>
                </a:xfrm>
                <a:prstGeom prst="rtTriangle">
                  <a:avLst/>
                </a:prstGeom>
                <a:solidFill>
                  <a:srgbClr val="00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9" name="Group 17"/>
              <p:cNvGrpSpPr/>
              <p:nvPr/>
            </p:nvGrpSpPr>
            <p:grpSpPr>
              <a:xfrm>
                <a:off x="4727520" y="-487440"/>
                <a:ext cx="3046320" cy="4451040"/>
                <a:chOff x="4727520" y="-487440"/>
                <a:chExt cx="3046320" cy="4451040"/>
              </a:xfrm>
            </p:grpSpPr>
            <p:sp>
              <p:nvSpPr>
                <p:cNvPr id="510" name="Rectangle 18"/>
                <p:cNvSpPr/>
                <p:nvPr/>
              </p:nvSpPr>
              <p:spPr>
                <a:xfrm flipV="1">
                  <a:off x="6096240" y="-487440"/>
                  <a:ext cx="1523520" cy="2876400"/>
                </a:xfrm>
                <a:prstGeom prst="rect">
                  <a:avLst/>
                </a:pr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未知"/>
                <p:cNvSpPr/>
                <p:nvPr/>
              </p:nvSpPr>
              <p:spPr>
                <a:xfrm flipH="1" flipV="1">
                  <a:off x="4727520" y="2381040"/>
                  <a:ext cx="3046320" cy="1582560"/>
                </a:xfrm>
                <a:custGeom>
                  <a:avLst/>
                  <a:gdLst/>
                  <a:ahLst/>
                  <a:rect l="l" t="t" r="r" b="b"/>
                  <a:pathLst>
                    <a:path w="1724" h="1089">
                      <a:moveTo>
                        <a:pt x="1724" y="0"/>
                      </a:moveTo>
                      <a:lnTo>
                        <a:pt x="0" y="1089"/>
                      </a:lnTo>
                      <a:lnTo>
                        <a:pt x="953" y="1089"/>
                      </a:lnTo>
                      <a:lnTo>
                        <a:pt x="1724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2" name="Group 20"/>
              <p:cNvGrpSpPr/>
              <p:nvPr/>
            </p:nvGrpSpPr>
            <p:grpSpPr>
              <a:xfrm>
                <a:off x="4575960" y="-487080"/>
                <a:ext cx="4646160" cy="4524120"/>
                <a:chOff x="4575960" y="-487080"/>
                <a:chExt cx="4646160" cy="4524120"/>
              </a:xfrm>
            </p:grpSpPr>
            <p:sp>
              <p:nvSpPr>
                <p:cNvPr id="513" name="Rectangle 21"/>
                <p:cNvSpPr/>
                <p:nvPr/>
              </p:nvSpPr>
              <p:spPr>
                <a:xfrm flipV="1">
                  <a:off x="7621920" y="-487080"/>
                  <a:ext cx="1523160" cy="2876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未知"/>
                <p:cNvSpPr/>
                <p:nvPr/>
              </p:nvSpPr>
              <p:spPr>
                <a:xfrm flipH="1" flipV="1">
                  <a:off x="4575960" y="2381040"/>
                  <a:ext cx="4646160" cy="1655640"/>
                </a:xfrm>
                <a:custGeom>
                  <a:avLst/>
                  <a:gdLst/>
                  <a:ahLst/>
                  <a:rect l="l" t="t" r="r" b="b"/>
                  <a:pathLst>
                    <a:path w="2631" h="1134">
                      <a:moveTo>
                        <a:pt x="2631" y="0"/>
                      </a:moveTo>
                      <a:lnTo>
                        <a:pt x="907" y="1134"/>
                      </a:lnTo>
                      <a:lnTo>
                        <a:pt x="0" y="1134"/>
                      </a:lnTo>
                      <a:lnTo>
                        <a:pt x="2631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Rectangle 23"/>
                <p:cNvSpPr/>
                <p:nvPr/>
              </p:nvSpPr>
              <p:spPr>
                <a:xfrm flipV="1">
                  <a:off x="9145080" y="2318400"/>
                  <a:ext cx="77040" cy="144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16" name="Group 24"/>
            <p:cNvGrpSpPr/>
            <p:nvPr/>
          </p:nvGrpSpPr>
          <p:grpSpPr>
            <a:xfrm>
              <a:off x="-103320" y="154440"/>
              <a:ext cx="9300240" cy="2253240"/>
              <a:chOff x="-103320" y="154440"/>
              <a:chExt cx="9300240" cy="2253240"/>
            </a:xfrm>
          </p:grpSpPr>
          <p:sp>
            <p:nvSpPr>
              <p:cNvPr id="517" name="Text Box 25"/>
              <p:cNvSpPr/>
              <p:nvPr/>
            </p:nvSpPr>
            <p:spPr>
              <a:xfrm flipV="1">
                <a:off x="-102960" y="153720"/>
                <a:ext cx="1716120" cy="225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c0c0c0"/>
                    </a:solidFill>
                    <a:latin typeface="Arial Black"/>
                  </a:rPr>
                  <a:t>1949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c0c0c0"/>
                    </a:solidFill>
                    <a:latin typeface="Arial Black"/>
                  </a:rPr>
                  <a:t>--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c0c0c0"/>
                    </a:solidFill>
                    <a:latin typeface="Arial Black"/>
                  </a:rPr>
                  <a:t>1959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Text Box 26"/>
              <p:cNvSpPr/>
              <p:nvPr/>
            </p:nvSpPr>
            <p:spPr>
              <a:xfrm flipV="1">
                <a:off x="1425960" y="153720"/>
                <a:ext cx="1716120" cy="225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cc3300"/>
                    </a:solidFill>
                    <a:latin typeface="Arial Black"/>
                  </a:rPr>
                  <a:t>1959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cc3300"/>
                    </a:solidFill>
                    <a:latin typeface="Arial Black"/>
                  </a:rPr>
                  <a:t>--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cc3300"/>
                    </a:solidFill>
                    <a:latin typeface="Arial Black"/>
                  </a:rPr>
                  <a:t>1969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Text Box 27"/>
              <p:cNvSpPr/>
              <p:nvPr/>
            </p:nvSpPr>
            <p:spPr>
              <a:xfrm flipV="1">
                <a:off x="2939760" y="153720"/>
                <a:ext cx="1716120" cy="225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3399"/>
                    </a:solidFill>
                    <a:latin typeface="Arial Black"/>
                  </a:rPr>
                  <a:t>1969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3399"/>
                    </a:solidFill>
                    <a:latin typeface="Arial Black"/>
                  </a:rPr>
                  <a:t>--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3399"/>
                    </a:solidFill>
                    <a:latin typeface="Arial Black"/>
                  </a:rPr>
                  <a:t>1979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Text Box 28"/>
              <p:cNvSpPr/>
              <p:nvPr/>
            </p:nvSpPr>
            <p:spPr>
              <a:xfrm flipV="1">
                <a:off x="4453560" y="153720"/>
                <a:ext cx="1716120" cy="225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cc00"/>
                    </a:solidFill>
                    <a:latin typeface="Arial Black"/>
                  </a:rPr>
                  <a:t>1979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cc00"/>
                    </a:solidFill>
                    <a:latin typeface="Arial Black"/>
                  </a:rPr>
                  <a:t>--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cc00"/>
                    </a:solidFill>
                    <a:latin typeface="Arial Black"/>
                  </a:rPr>
                  <a:t>1989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Text Box 29"/>
              <p:cNvSpPr/>
              <p:nvPr/>
            </p:nvSpPr>
            <p:spPr>
              <a:xfrm flipV="1">
                <a:off x="5967360" y="153720"/>
                <a:ext cx="1716120" cy="225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00ff"/>
                    </a:solidFill>
                    <a:latin typeface="Arial Black"/>
                  </a:rPr>
                  <a:t>1989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00ff"/>
                    </a:solidFill>
                    <a:latin typeface="Arial Black"/>
                  </a:rPr>
                  <a:t>--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00ff"/>
                    </a:solidFill>
                    <a:latin typeface="Arial Black"/>
                  </a:rPr>
                  <a:t>1999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Text Box 30"/>
              <p:cNvSpPr/>
              <p:nvPr/>
            </p:nvSpPr>
            <p:spPr>
              <a:xfrm flipV="1">
                <a:off x="7480800" y="153720"/>
                <a:ext cx="1716120" cy="225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Arial Black"/>
                  </a:rPr>
                  <a:t>1999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Arial Black"/>
                  </a:rPr>
                  <a:t>--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Arial Black"/>
                  </a:rPr>
                  <a:t>2009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3" name="Rectangle 31"/>
          <p:cNvSpPr/>
          <p:nvPr/>
        </p:nvSpPr>
        <p:spPr>
          <a:xfrm>
            <a:off x="0" y="0"/>
            <a:ext cx="9145440" cy="5713560"/>
          </a:xfrm>
          <a:prstGeom prst="rect">
            <a:avLst/>
          </a:prstGeom>
          <a:gradFill rotWithShape="0">
            <a:gsLst>
              <a:gs pos="0">
                <a:srgbClr val="ff3399">
                  <a:alpha val="95294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WordArt 32" descr=""/>
          <p:cNvPicPr/>
          <p:nvPr/>
        </p:nvPicPr>
        <p:blipFill>
          <a:blip r:embed="rId1"/>
          <a:stretch/>
        </p:blipFill>
        <p:spPr>
          <a:xfrm>
            <a:off x="2987640" y="3743280"/>
            <a:ext cx="3168720" cy="731880"/>
          </a:xfrm>
          <a:prstGeom prst="rect">
            <a:avLst/>
          </a:prstGeom>
          <a:ln w="0">
            <a:noFill/>
          </a:ln>
        </p:spPr>
      </p:pic>
      <p:grpSp>
        <p:nvGrpSpPr>
          <p:cNvPr id="525" name="Group 33"/>
          <p:cNvGrpSpPr/>
          <p:nvPr/>
        </p:nvGrpSpPr>
        <p:grpSpPr>
          <a:xfrm>
            <a:off x="2266920" y="4659480"/>
            <a:ext cx="4609800" cy="969840"/>
            <a:chOff x="2266920" y="4659480"/>
            <a:chExt cx="4609800" cy="969840"/>
          </a:xfrm>
        </p:grpSpPr>
        <p:sp>
          <p:nvSpPr>
            <p:cNvPr id="526" name="WordArt 34"/>
            <p:cNvSpPr txBox="1"/>
            <p:nvPr/>
          </p:nvSpPr>
          <p:spPr>
            <a:xfrm>
              <a:off x="5545440" y="4659480"/>
              <a:ext cx="1331280" cy="96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6480">
                    <a:solidFill>
                      <a:srgbClr val="ffff00"/>
                    </a:solidFill>
                    <a:miter/>
                  </a:ln>
                  <a:gradFill rotWithShape="0">
                    <a:gsLst>
                      <a:gs pos="0">
                        <a:srgbClr val="e20000"/>
                      </a:gs>
                      <a:gs pos="100000">
                        <a:srgbClr val="ac0000"/>
                      </a:gs>
                    </a:gsLst>
                    <a:lin ang="5400000"/>
                  </a:gradFill>
                  <a:latin typeface="宋体"/>
                </a:rPr>
                <a:t>解放</a:t>
              </a:r>
              <a:endParaRPr b="1" lang="en-US" sz="1800" spc="1" strike="noStrike">
                <a:ln w="648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e20000"/>
                    </a:gs>
                    <a:gs pos="100000">
                      <a:srgbClr val="ac0000"/>
                    </a:gs>
                  </a:gsLst>
                  <a:lin ang="5400000"/>
                </a:gradFill>
                <a:latin typeface="宋体"/>
                <a:ea typeface="宋体"/>
              </a:endParaRPr>
            </a:p>
          </p:txBody>
        </p:sp>
        <p:sp>
          <p:nvSpPr>
            <p:cNvPr id="527" name="WordArt 35"/>
            <p:cNvSpPr txBox="1"/>
            <p:nvPr/>
          </p:nvSpPr>
          <p:spPr>
            <a:xfrm>
              <a:off x="2266920" y="4892760"/>
              <a:ext cx="3058560" cy="59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6480">
                    <a:solidFill>
                      <a:srgbClr val="ffff00"/>
                    </a:solidFill>
                    <a:miter/>
                  </a:ln>
                  <a:gradFill rotWithShape="0">
                    <a:gsLst>
                      <a:gs pos="0">
                        <a:srgbClr val="e20000"/>
                      </a:gs>
                      <a:gs pos="100000">
                        <a:srgbClr val="ac0000"/>
                      </a:gs>
                    </a:gsLst>
                    <a:lin ang="5400000"/>
                  </a:gradFill>
                  <a:latin typeface="宋体"/>
                </a:rPr>
                <a:t>从未停止的</a:t>
              </a:r>
              <a:endParaRPr b="1" lang="en-US" sz="1800" spc="1" strike="noStrike">
                <a:ln w="648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e20000"/>
                    </a:gs>
                    <a:gs pos="100000">
                      <a:srgbClr val="ac0000"/>
                    </a:gs>
                  </a:gsLst>
                  <a:lin ang="5400000"/>
                </a:gradFill>
                <a:latin typeface="宋体"/>
                <a:ea typeface="宋体"/>
              </a:endParaRPr>
            </a:p>
          </p:txBody>
        </p:sp>
      </p:grpSp>
      <p:grpSp>
        <p:nvGrpSpPr>
          <p:cNvPr id="528" name="Oval 36"/>
          <p:cNvGrpSpPr/>
          <p:nvPr/>
        </p:nvGrpSpPr>
        <p:grpSpPr>
          <a:xfrm>
            <a:off x="9253440" y="1384200"/>
            <a:ext cx="5400720" cy="66600"/>
            <a:chOff x="9253440" y="1384200"/>
            <a:chExt cx="5400720" cy="66600"/>
          </a:xfrm>
        </p:grpSpPr>
        <p:pic>
          <p:nvPicPr>
            <p:cNvPr id="529" name="Oval 36" descr=""/>
            <p:cNvPicPr/>
            <p:nvPr/>
          </p:nvPicPr>
          <p:blipFill>
            <a:blip r:embed="rId2"/>
            <a:stretch/>
          </p:blipFill>
          <p:spPr>
            <a:xfrm>
              <a:off x="9253440" y="1384200"/>
              <a:ext cx="5400720" cy="6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0" name="Text Box 38"/>
            <p:cNvSpPr/>
            <p:nvPr/>
          </p:nvSpPr>
          <p:spPr>
            <a:xfrm>
              <a:off x="10044000" y="1392120"/>
              <a:ext cx="381780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Group 37"/>
          <p:cNvGrpSpPr/>
          <p:nvPr/>
        </p:nvGrpSpPr>
        <p:grpSpPr>
          <a:xfrm>
            <a:off x="3171960" y="1415880"/>
            <a:ext cx="2800080" cy="1044360"/>
            <a:chOff x="3171960" y="1415880"/>
            <a:chExt cx="2800080" cy="1044360"/>
          </a:xfrm>
        </p:grpSpPr>
        <p:grpSp>
          <p:nvGrpSpPr>
            <p:cNvPr id="532" name="Rectangle 38"/>
            <p:cNvGrpSpPr/>
            <p:nvPr/>
          </p:nvGrpSpPr>
          <p:grpSpPr>
            <a:xfrm>
              <a:off x="3171960" y="1415880"/>
              <a:ext cx="2800080" cy="1044360"/>
              <a:chOff x="3171960" y="1415880"/>
              <a:chExt cx="2800080" cy="1044360"/>
            </a:xfrm>
          </p:grpSpPr>
          <p:pic>
            <p:nvPicPr>
              <p:cNvPr id="533" name="Rectangle 38" descr=""/>
              <p:cNvPicPr/>
              <p:nvPr/>
            </p:nvPicPr>
            <p:blipFill>
              <a:blip r:embed="rId3"/>
              <a:stretch/>
            </p:blipFill>
            <p:spPr>
              <a:xfrm>
                <a:off x="3171960" y="1415880"/>
                <a:ext cx="2800080" cy="1044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4" name="Text Box 42"/>
              <p:cNvSpPr/>
              <p:nvPr/>
            </p:nvSpPr>
            <p:spPr>
              <a:xfrm>
                <a:off x="3173760" y="1417320"/>
                <a:ext cx="2796480" cy="104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5" name="Rectangle 39"/>
            <p:cNvGrpSpPr/>
            <p:nvPr/>
          </p:nvGrpSpPr>
          <p:grpSpPr>
            <a:xfrm>
              <a:off x="3981960" y="1415880"/>
              <a:ext cx="1187640" cy="1044360"/>
              <a:chOff x="3981960" y="1415880"/>
              <a:chExt cx="1187640" cy="1044360"/>
            </a:xfrm>
          </p:grpSpPr>
          <p:pic>
            <p:nvPicPr>
              <p:cNvPr id="536" name="Rectangle 39" descr=""/>
              <p:cNvPicPr/>
              <p:nvPr/>
            </p:nvPicPr>
            <p:blipFill>
              <a:blip r:embed="rId4"/>
              <a:stretch/>
            </p:blipFill>
            <p:spPr>
              <a:xfrm>
                <a:off x="3984120" y="1415880"/>
                <a:ext cx="1185480" cy="1044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7" name="Text Box 45"/>
              <p:cNvSpPr/>
              <p:nvPr/>
            </p:nvSpPr>
            <p:spPr>
              <a:xfrm>
                <a:off x="3981960" y="1417320"/>
                <a:ext cx="1185840" cy="104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8" name="WordArt 40"/>
          <p:cNvSpPr txBox="1"/>
          <p:nvPr/>
        </p:nvSpPr>
        <p:spPr>
          <a:xfrm>
            <a:off x="3924360" y="1668600"/>
            <a:ext cx="1295280" cy="6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solidFill>
                  <a:srgbClr val="ffffff"/>
                </a:solidFill>
                <a:latin typeface="宋体"/>
              </a:rPr>
              <a:t>结 语</a:t>
            </a:r>
            <a:endParaRPr b="1" lang="en-US" sz="2400" spc="-1" strike="noStrike">
              <a:ln w="0">
                <a:noFill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grpSp>
        <p:nvGrpSpPr>
          <p:cNvPr id="539" name="Oval 41"/>
          <p:cNvGrpSpPr/>
          <p:nvPr/>
        </p:nvGrpSpPr>
        <p:grpSpPr>
          <a:xfrm>
            <a:off x="0" y="1384200"/>
            <a:ext cx="9144000" cy="66600"/>
            <a:chOff x="0" y="1384200"/>
            <a:chExt cx="9144000" cy="66600"/>
          </a:xfrm>
        </p:grpSpPr>
        <p:pic>
          <p:nvPicPr>
            <p:cNvPr id="540" name="Oval 41" descr=""/>
            <p:cNvPicPr/>
            <p:nvPr/>
          </p:nvPicPr>
          <p:blipFill>
            <a:blip r:embed="rId5"/>
            <a:stretch/>
          </p:blipFill>
          <p:spPr>
            <a:xfrm>
              <a:off x="0" y="1384200"/>
              <a:ext cx="9144000" cy="6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 Box 49"/>
            <p:cNvSpPr/>
            <p:nvPr/>
          </p:nvSpPr>
          <p:spPr>
            <a:xfrm>
              <a:off x="1339920" y="1392120"/>
              <a:ext cx="646596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2" name="AutoShape 42"/>
          <p:cNvGrpSpPr/>
          <p:nvPr/>
        </p:nvGrpSpPr>
        <p:grpSpPr>
          <a:xfrm>
            <a:off x="324000" y="1347840"/>
            <a:ext cx="8277120" cy="176040"/>
            <a:chOff x="324000" y="1347840"/>
            <a:chExt cx="8277120" cy="176040"/>
          </a:xfrm>
        </p:grpSpPr>
        <p:pic>
          <p:nvPicPr>
            <p:cNvPr id="543" name="AutoShape 42" descr=""/>
            <p:cNvPicPr/>
            <p:nvPr/>
          </p:nvPicPr>
          <p:blipFill>
            <a:blip r:embed="rId6"/>
            <a:stretch/>
          </p:blipFill>
          <p:spPr>
            <a:xfrm>
              <a:off x="324000" y="1347840"/>
              <a:ext cx="8277120" cy="17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Text Box 52"/>
            <p:cNvSpPr/>
            <p:nvPr/>
          </p:nvSpPr>
          <p:spPr>
            <a:xfrm rot="16200000">
              <a:off x="4426920" y="-673560"/>
              <a:ext cx="63360" cy="42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0">
    <p:fade/>
  </p:transition>
  <p:timing>
    <p:tnLst>
      <p:par>
        <p:cTn id="2082" dur="indefinite" restart="never" nodeType="tmRoot">
          <p:childTnLst>
            <p:seq>
              <p:cTn id="2083" dur="indefinite" nodeType="mainSeq">
                <p:childTnLst>
                  <p:par>
                    <p:cTn id="2084" fill="hold">
                      <p:stCondLst>
                        <p:cond delay="0"/>
                      </p:stCondLst>
                      <p:childTnLst>
                        <p:par>
                          <p:cTn id="2085" fill="hold">
                            <p:stCondLst>
                              <p:cond delay="0"/>
                            </p:stCondLst>
                            <p:childTnLst>
                              <p:par>
                                <p:cTn id="2086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11111E-006 L 0 -0.51472 E">
                                      <p:cBhvr>
                                        <p:cTn id="2087" dur="2000" fill="hold"/>
                                        <p:tgtEl>
                                          <p:spTgt spid="5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9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1" nodeType="withEffect" fill="hold" presetClass="path" presetID="64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0.74028 E">
                                      <p:cBhvr>
                                        <p:cTn id="2092" dur="2000" fill="hold"/>
                                        <p:tgtEl>
                                          <p:spTgt spid="5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3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8" fill="hold">
                            <p:stCondLst>
                              <p:cond delay="3500"/>
                            </p:stCondLst>
                            <p:childTnLst>
                              <p:par>
                                <p:cTn id="20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1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3" fill="hold">
                            <p:stCondLst>
                              <p:cond delay="4000"/>
                            </p:stCondLst>
                            <p:childTnLst>
                              <p:par>
                                <p:cTn id="2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6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7" fill="hold">
                            <p:stCondLst>
                              <p:cond delay="5000"/>
                            </p:stCondLst>
                            <p:childTnLst>
                              <p:par>
                                <p:cTn id="210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10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3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4" fill="hold">
                            <p:stCondLst>
                              <p:cond delay="5500"/>
                            </p:stCondLst>
                            <p:childTnLst>
                              <p:par>
                                <p:cTn id="2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7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8" fill="hold">
                            <p:stCondLst>
                              <p:cond delay="6000"/>
                            </p:stCondLst>
                            <p:childTnLst>
                              <p:par>
                                <p:cTn id="211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20" dur="1000" fill="hold"/>
                                        <p:tgtEl>
                                          <p:spTgt spid="531"/>
                                        </p:tgtEl>
                                      </p:cBhvr>
                                      <p:to x="8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2"/>
          <p:cNvSpPr/>
          <p:nvPr/>
        </p:nvSpPr>
        <p:spPr>
          <a:xfrm>
            <a:off x="2413080" y="-1135080"/>
            <a:ext cx="44402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3"/>
          <p:cNvGrpSpPr/>
          <p:nvPr/>
        </p:nvGrpSpPr>
        <p:grpSpPr>
          <a:xfrm>
            <a:off x="-103320" y="-487440"/>
            <a:ext cx="9325440" cy="4595760"/>
            <a:chOff x="-103320" y="-487440"/>
            <a:chExt cx="9325440" cy="4595760"/>
          </a:xfrm>
        </p:grpSpPr>
        <p:grpSp>
          <p:nvGrpSpPr>
            <p:cNvPr id="547" name="Group 4"/>
            <p:cNvGrpSpPr/>
            <p:nvPr/>
          </p:nvGrpSpPr>
          <p:grpSpPr>
            <a:xfrm>
              <a:off x="4320" y="-487440"/>
              <a:ext cx="9217800" cy="4595760"/>
              <a:chOff x="4320" y="-487440"/>
              <a:chExt cx="9217800" cy="4595760"/>
            </a:xfrm>
          </p:grpSpPr>
          <p:grpSp>
            <p:nvGrpSpPr>
              <p:cNvPr id="548" name="Group 5"/>
              <p:cNvGrpSpPr/>
              <p:nvPr/>
            </p:nvGrpSpPr>
            <p:grpSpPr>
              <a:xfrm>
                <a:off x="4320" y="-487080"/>
                <a:ext cx="4494600" cy="4524120"/>
                <a:chOff x="4320" y="-487080"/>
                <a:chExt cx="4494600" cy="4524120"/>
              </a:xfrm>
            </p:grpSpPr>
            <p:sp>
              <p:nvSpPr>
                <p:cNvPr id="549" name="Rectangle 6"/>
                <p:cNvSpPr/>
                <p:nvPr/>
              </p:nvSpPr>
              <p:spPr>
                <a:xfrm flipV="1">
                  <a:off x="4320" y="-487080"/>
                  <a:ext cx="1522800" cy="2876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未知"/>
                <p:cNvSpPr/>
                <p:nvPr/>
              </p:nvSpPr>
              <p:spPr>
                <a:xfrm flipV="1">
                  <a:off x="4320" y="2380680"/>
                  <a:ext cx="4494600" cy="1655640"/>
                </a:xfrm>
                <a:custGeom>
                  <a:avLst/>
                  <a:gdLst/>
                  <a:ahLst/>
                  <a:rect l="l" t="t" r="r" b="b"/>
                  <a:pathLst>
                    <a:path w="2631" h="1134">
                      <a:moveTo>
                        <a:pt x="2631" y="0"/>
                      </a:moveTo>
                      <a:lnTo>
                        <a:pt x="907" y="1134"/>
                      </a:lnTo>
                      <a:lnTo>
                        <a:pt x="0" y="1134"/>
                      </a:lnTo>
                      <a:lnTo>
                        <a:pt x="263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1" name="Group 8"/>
              <p:cNvGrpSpPr/>
              <p:nvPr/>
            </p:nvGrpSpPr>
            <p:grpSpPr>
              <a:xfrm>
                <a:off x="1527480" y="-487080"/>
                <a:ext cx="2971080" cy="4524120"/>
                <a:chOff x="1527480" y="-487080"/>
                <a:chExt cx="2971080" cy="4524120"/>
              </a:xfrm>
            </p:grpSpPr>
            <p:sp>
              <p:nvSpPr>
                <p:cNvPr id="552" name="Rectangle 9"/>
                <p:cNvSpPr/>
                <p:nvPr/>
              </p:nvSpPr>
              <p:spPr>
                <a:xfrm flipV="1">
                  <a:off x="1527480" y="-487080"/>
                  <a:ext cx="1522800" cy="287640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未知"/>
                <p:cNvSpPr/>
                <p:nvPr/>
              </p:nvSpPr>
              <p:spPr>
                <a:xfrm flipV="1">
                  <a:off x="1527480" y="2380680"/>
                  <a:ext cx="2971080" cy="1655640"/>
                </a:xfrm>
                <a:custGeom>
                  <a:avLst/>
                  <a:gdLst/>
                  <a:ahLst/>
                  <a:rect l="l" t="t" r="r" b="b"/>
                  <a:pathLst>
                    <a:path w="1724" h="1089">
                      <a:moveTo>
                        <a:pt x="1724" y="0"/>
                      </a:moveTo>
                      <a:lnTo>
                        <a:pt x="0" y="1089"/>
                      </a:lnTo>
                      <a:lnTo>
                        <a:pt x="953" y="1089"/>
                      </a:lnTo>
                      <a:lnTo>
                        <a:pt x="1724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4" name="Group 11"/>
              <p:cNvGrpSpPr/>
              <p:nvPr/>
            </p:nvGrpSpPr>
            <p:grpSpPr>
              <a:xfrm>
                <a:off x="3051000" y="-487080"/>
                <a:ext cx="1524240" cy="4595400"/>
                <a:chOff x="3051000" y="-487080"/>
                <a:chExt cx="1524240" cy="4595400"/>
              </a:xfrm>
            </p:grpSpPr>
            <p:sp>
              <p:nvSpPr>
                <p:cNvPr id="555" name="Rectangle 12"/>
                <p:cNvSpPr/>
                <p:nvPr/>
              </p:nvSpPr>
              <p:spPr>
                <a:xfrm flipV="1">
                  <a:off x="3051000" y="-487080"/>
                  <a:ext cx="1522800" cy="2876400"/>
                </a:xfrm>
                <a:prstGeom prst="rect">
                  <a:avLst/>
                </a:pr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AutoShape 13"/>
                <p:cNvSpPr/>
                <p:nvPr/>
              </p:nvSpPr>
              <p:spPr>
                <a:xfrm flipH="1" flipV="1">
                  <a:off x="3052440" y="2382480"/>
                  <a:ext cx="1522800" cy="1725480"/>
                </a:xfrm>
                <a:prstGeom prst="rtTriangle">
                  <a:avLst/>
                </a:pr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7" name="Group 14"/>
              <p:cNvGrpSpPr/>
              <p:nvPr/>
            </p:nvGrpSpPr>
            <p:grpSpPr>
              <a:xfrm>
                <a:off x="4574520" y="-487080"/>
                <a:ext cx="1524240" cy="4595400"/>
                <a:chOff x="4574520" y="-487080"/>
                <a:chExt cx="1524240" cy="4595400"/>
              </a:xfrm>
            </p:grpSpPr>
            <p:sp>
              <p:nvSpPr>
                <p:cNvPr id="558" name="Rectangle 15"/>
                <p:cNvSpPr/>
                <p:nvPr/>
              </p:nvSpPr>
              <p:spPr>
                <a:xfrm flipV="1">
                  <a:off x="4574520" y="-487080"/>
                  <a:ext cx="1522800" cy="2876400"/>
                </a:xfrm>
                <a:prstGeom prst="rect">
                  <a:avLst/>
                </a:prstGeom>
                <a:solidFill>
                  <a:srgbClr val="00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AutoShape 16"/>
                <p:cNvSpPr/>
                <p:nvPr/>
              </p:nvSpPr>
              <p:spPr>
                <a:xfrm flipV="1">
                  <a:off x="4575960" y="2382480"/>
                  <a:ext cx="1522800" cy="1725480"/>
                </a:xfrm>
                <a:prstGeom prst="rtTriangle">
                  <a:avLst/>
                </a:prstGeom>
                <a:solidFill>
                  <a:srgbClr val="00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0" name="Group 17"/>
              <p:cNvGrpSpPr/>
              <p:nvPr/>
            </p:nvGrpSpPr>
            <p:grpSpPr>
              <a:xfrm>
                <a:off x="4727520" y="-487440"/>
                <a:ext cx="3046320" cy="4451040"/>
                <a:chOff x="4727520" y="-487440"/>
                <a:chExt cx="3046320" cy="4451040"/>
              </a:xfrm>
            </p:grpSpPr>
            <p:sp>
              <p:nvSpPr>
                <p:cNvPr id="561" name="Rectangle 18"/>
                <p:cNvSpPr/>
                <p:nvPr/>
              </p:nvSpPr>
              <p:spPr>
                <a:xfrm flipV="1">
                  <a:off x="6096240" y="-487440"/>
                  <a:ext cx="1523520" cy="2876400"/>
                </a:xfrm>
                <a:prstGeom prst="rect">
                  <a:avLst/>
                </a:pr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未知"/>
                <p:cNvSpPr/>
                <p:nvPr/>
              </p:nvSpPr>
              <p:spPr>
                <a:xfrm flipH="1" flipV="1">
                  <a:off x="4727520" y="2381040"/>
                  <a:ext cx="3046320" cy="1582560"/>
                </a:xfrm>
                <a:custGeom>
                  <a:avLst/>
                  <a:gdLst/>
                  <a:ahLst/>
                  <a:rect l="l" t="t" r="r" b="b"/>
                  <a:pathLst>
                    <a:path w="1724" h="1089">
                      <a:moveTo>
                        <a:pt x="1724" y="0"/>
                      </a:moveTo>
                      <a:lnTo>
                        <a:pt x="0" y="1089"/>
                      </a:lnTo>
                      <a:lnTo>
                        <a:pt x="953" y="1089"/>
                      </a:lnTo>
                      <a:lnTo>
                        <a:pt x="1724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3" name="Group 20"/>
              <p:cNvGrpSpPr/>
              <p:nvPr/>
            </p:nvGrpSpPr>
            <p:grpSpPr>
              <a:xfrm>
                <a:off x="4575960" y="-487080"/>
                <a:ext cx="4646160" cy="4524120"/>
                <a:chOff x="4575960" y="-487080"/>
                <a:chExt cx="4646160" cy="4524120"/>
              </a:xfrm>
            </p:grpSpPr>
            <p:sp>
              <p:nvSpPr>
                <p:cNvPr id="564" name="Rectangle 21"/>
                <p:cNvSpPr/>
                <p:nvPr/>
              </p:nvSpPr>
              <p:spPr>
                <a:xfrm flipV="1">
                  <a:off x="7621920" y="-487080"/>
                  <a:ext cx="1523160" cy="2876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未知"/>
                <p:cNvSpPr/>
                <p:nvPr/>
              </p:nvSpPr>
              <p:spPr>
                <a:xfrm flipH="1" flipV="1">
                  <a:off x="4575960" y="2381040"/>
                  <a:ext cx="4646160" cy="1655640"/>
                </a:xfrm>
                <a:custGeom>
                  <a:avLst/>
                  <a:gdLst/>
                  <a:ahLst/>
                  <a:rect l="l" t="t" r="r" b="b"/>
                  <a:pathLst>
                    <a:path w="2631" h="1134">
                      <a:moveTo>
                        <a:pt x="2631" y="0"/>
                      </a:moveTo>
                      <a:lnTo>
                        <a:pt x="907" y="1134"/>
                      </a:lnTo>
                      <a:lnTo>
                        <a:pt x="0" y="1134"/>
                      </a:lnTo>
                      <a:lnTo>
                        <a:pt x="2631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Rectangle 23"/>
                <p:cNvSpPr/>
                <p:nvPr/>
              </p:nvSpPr>
              <p:spPr>
                <a:xfrm flipV="1">
                  <a:off x="9145080" y="2318400"/>
                  <a:ext cx="77040" cy="144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67" name="Group 24"/>
            <p:cNvGrpSpPr/>
            <p:nvPr/>
          </p:nvGrpSpPr>
          <p:grpSpPr>
            <a:xfrm>
              <a:off x="-103320" y="154440"/>
              <a:ext cx="9300240" cy="2253240"/>
              <a:chOff x="-103320" y="154440"/>
              <a:chExt cx="9300240" cy="2253240"/>
            </a:xfrm>
          </p:grpSpPr>
          <p:sp>
            <p:nvSpPr>
              <p:cNvPr id="568" name="Text Box 25"/>
              <p:cNvSpPr/>
              <p:nvPr/>
            </p:nvSpPr>
            <p:spPr>
              <a:xfrm flipV="1">
                <a:off x="-102960" y="153720"/>
                <a:ext cx="1716120" cy="225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c0c0c0"/>
                    </a:solidFill>
                    <a:latin typeface="Arial Black"/>
                  </a:rPr>
                  <a:t>1949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c0c0c0"/>
                    </a:solidFill>
                    <a:latin typeface="Arial Black"/>
                  </a:rPr>
                  <a:t>--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c0c0c0"/>
                    </a:solidFill>
                    <a:latin typeface="Arial Black"/>
                  </a:rPr>
                  <a:t>1959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26"/>
              <p:cNvSpPr/>
              <p:nvPr/>
            </p:nvSpPr>
            <p:spPr>
              <a:xfrm flipV="1">
                <a:off x="1425960" y="153720"/>
                <a:ext cx="1716120" cy="225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cc3300"/>
                    </a:solidFill>
                    <a:latin typeface="Arial Black"/>
                  </a:rPr>
                  <a:t>1959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cc3300"/>
                    </a:solidFill>
                    <a:latin typeface="Arial Black"/>
                  </a:rPr>
                  <a:t>--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cc3300"/>
                    </a:solidFill>
                    <a:latin typeface="Arial Black"/>
                  </a:rPr>
                  <a:t>1969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Text Box 27"/>
              <p:cNvSpPr/>
              <p:nvPr/>
            </p:nvSpPr>
            <p:spPr>
              <a:xfrm flipV="1">
                <a:off x="2939760" y="153720"/>
                <a:ext cx="1716120" cy="225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3399"/>
                    </a:solidFill>
                    <a:latin typeface="Arial Black"/>
                  </a:rPr>
                  <a:t>1969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3399"/>
                    </a:solidFill>
                    <a:latin typeface="Arial Black"/>
                  </a:rPr>
                  <a:t>--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3399"/>
                    </a:solidFill>
                    <a:latin typeface="Arial Black"/>
                  </a:rPr>
                  <a:t>1979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Text Box 28"/>
              <p:cNvSpPr/>
              <p:nvPr/>
            </p:nvSpPr>
            <p:spPr>
              <a:xfrm flipV="1">
                <a:off x="4453560" y="153720"/>
                <a:ext cx="1716120" cy="225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cc00"/>
                    </a:solidFill>
                    <a:latin typeface="Arial Black"/>
                  </a:rPr>
                  <a:t>1979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cc00"/>
                    </a:solidFill>
                    <a:latin typeface="Arial Black"/>
                  </a:rPr>
                  <a:t>--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cc00"/>
                    </a:solidFill>
                    <a:latin typeface="Arial Black"/>
                  </a:rPr>
                  <a:t>1989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29"/>
              <p:cNvSpPr/>
              <p:nvPr/>
            </p:nvSpPr>
            <p:spPr>
              <a:xfrm flipV="1">
                <a:off x="5967360" y="153720"/>
                <a:ext cx="1716120" cy="225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00ff"/>
                    </a:solidFill>
                    <a:latin typeface="Arial Black"/>
                  </a:rPr>
                  <a:t>1989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00ff"/>
                    </a:solidFill>
                    <a:latin typeface="Arial Black"/>
                  </a:rPr>
                  <a:t>--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00ff"/>
                    </a:solidFill>
                    <a:latin typeface="Arial Black"/>
                  </a:rPr>
                  <a:t>1999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Text Box 30"/>
              <p:cNvSpPr/>
              <p:nvPr/>
            </p:nvSpPr>
            <p:spPr>
              <a:xfrm flipV="1">
                <a:off x="7480800" y="153720"/>
                <a:ext cx="1716120" cy="225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Arial Black"/>
                  </a:rPr>
                  <a:t>1999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Arial Black"/>
                  </a:rPr>
                  <a:t>--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Arial Black"/>
                  </a:rPr>
                  <a:t>2009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4" name="Rectangle 31"/>
          <p:cNvSpPr/>
          <p:nvPr/>
        </p:nvSpPr>
        <p:spPr>
          <a:xfrm>
            <a:off x="0" y="0"/>
            <a:ext cx="9145440" cy="5713560"/>
          </a:xfrm>
          <a:prstGeom prst="rect">
            <a:avLst/>
          </a:prstGeom>
          <a:gradFill rotWithShape="0">
            <a:gsLst>
              <a:gs pos="0">
                <a:srgbClr val="ff3399">
                  <a:alpha val="95294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32"/>
          <p:cNvSpPr/>
          <p:nvPr/>
        </p:nvSpPr>
        <p:spPr>
          <a:xfrm>
            <a:off x="0" y="0"/>
            <a:ext cx="9145440" cy="5713560"/>
          </a:xfrm>
          <a:prstGeom prst="rect">
            <a:avLst/>
          </a:prstGeom>
          <a:gradFill rotWithShape="0">
            <a:gsLst>
              <a:gs pos="0">
                <a:srgbClr val="ea0000">
                  <a:alpha val="70196"/>
                </a:srgbClr>
              </a:gs>
              <a:gs pos="100000">
                <a:srgbClr val="ff3399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6" name="Group 33"/>
          <p:cNvGrpSpPr/>
          <p:nvPr/>
        </p:nvGrpSpPr>
        <p:grpSpPr>
          <a:xfrm>
            <a:off x="0" y="1415880"/>
            <a:ext cx="9145440" cy="4297320"/>
            <a:chOff x="0" y="1415880"/>
            <a:chExt cx="9145440" cy="4297320"/>
          </a:xfrm>
        </p:grpSpPr>
        <p:sp>
          <p:nvSpPr>
            <p:cNvPr id="577" name="Rectangle 34"/>
            <p:cNvSpPr/>
            <p:nvPr/>
          </p:nvSpPr>
          <p:spPr>
            <a:xfrm>
              <a:off x="0" y="1415880"/>
              <a:ext cx="9145440" cy="4297320"/>
            </a:xfrm>
            <a:prstGeom prst="rect">
              <a:avLst/>
            </a:prstGeom>
            <a:gradFill rotWithShape="0">
              <a:gsLst>
                <a:gs pos="0">
                  <a:srgbClr val="ff3300">
                    <a:alpha val="80000"/>
                  </a:srgbClr>
                </a:gs>
                <a:gs pos="100000">
                  <a:srgbClr val="dc2c00">
                    <a:alpha val="4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Rectangle 35"/>
            <p:cNvSpPr/>
            <p:nvPr/>
          </p:nvSpPr>
          <p:spPr>
            <a:xfrm>
              <a:off x="0" y="4273560"/>
              <a:ext cx="179280" cy="1439640"/>
            </a:xfrm>
            <a:prstGeom prst="rect">
              <a:avLst/>
            </a:prstGeom>
            <a:solidFill>
              <a:srgbClr val="ea0000">
                <a:alpha val="9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Rectangle 36"/>
            <p:cNvSpPr/>
            <p:nvPr/>
          </p:nvSpPr>
          <p:spPr>
            <a:xfrm>
              <a:off x="0" y="5533920"/>
              <a:ext cx="1440000" cy="179280"/>
            </a:xfrm>
            <a:prstGeom prst="rect">
              <a:avLst/>
            </a:prstGeom>
            <a:solidFill>
              <a:srgbClr val="ea0000">
                <a:alpha val="9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Rectangle 37"/>
            <p:cNvSpPr/>
            <p:nvPr/>
          </p:nvSpPr>
          <p:spPr>
            <a:xfrm flipH="1">
              <a:off x="8966160" y="4273560"/>
              <a:ext cx="179280" cy="1439640"/>
            </a:xfrm>
            <a:prstGeom prst="rect">
              <a:avLst/>
            </a:prstGeom>
            <a:solidFill>
              <a:srgbClr val="ea0000">
                <a:alpha val="9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Rectangle 38"/>
            <p:cNvSpPr/>
            <p:nvPr/>
          </p:nvSpPr>
          <p:spPr>
            <a:xfrm flipH="1">
              <a:off x="7705080" y="5533920"/>
              <a:ext cx="1439640" cy="179280"/>
            </a:xfrm>
            <a:prstGeom prst="rect">
              <a:avLst/>
            </a:prstGeom>
            <a:solidFill>
              <a:srgbClr val="ea0000">
                <a:alpha val="9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Group 39"/>
          <p:cNvGrpSpPr/>
          <p:nvPr/>
        </p:nvGrpSpPr>
        <p:grpSpPr>
          <a:xfrm>
            <a:off x="-6664320" y="1415880"/>
            <a:ext cx="22395960" cy="1044360"/>
            <a:chOff x="-6664320" y="1415880"/>
            <a:chExt cx="22395960" cy="1044360"/>
          </a:xfrm>
        </p:grpSpPr>
        <p:grpSp>
          <p:nvGrpSpPr>
            <p:cNvPr id="583" name="Rectangle 40"/>
            <p:cNvGrpSpPr/>
            <p:nvPr/>
          </p:nvGrpSpPr>
          <p:grpSpPr>
            <a:xfrm>
              <a:off x="-6664320" y="1415880"/>
              <a:ext cx="22395960" cy="1044360"/>
              <a:chOff x="-6664320" y="1415880"/>
              <a:chExt cx="22395960" cy="1044360"/>
            </a:xfrm>
          </p:grpSpPr>
          <p:pic>
            <p:nvPicPr>
              <p:cNvPr id="584" name="Rectangle 40" descr=""/>
              <p:cNvPicPr/>
              <p:nvPr/>
            </p:nvPicPr>
            <p:blipFill>
              <a:blip r:embed="rId1"/>
              <a:stretch/>
            </p:blipFill>
            <p:spPr>
              <a:xfrm>
                <a:off x="-6662880" y="1415880"/>
                <a:ext cx="22394520" cy="1044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5" name="Text Box 42"/>
              <p:cNvSpPr/>
              <p:nvPr/>
            </p:nvSpPr>
            <p:spPr>
              <a:xfrm>
                <a:off x="-6664320" y="1417320"/>
                <a:ext cx="22395600" cy="104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6" name="Rectangle 41"/>
            <p:cNvGrpSpPr/>
            <p:nvPr/>
          </p:nvGrpSpPr>
          <p:grpSpPr>
            <a:xfrm>
              <a:off x="-215280" y="1415880"/>
              <a:ext cx="9509400" cy="1044360"/>
              <a:chOff x="-215280" y="1415880"/>
              <a:chExt cx="9509400" cy="1044360"/>
            </a:xfrm>
          </p:grpSpPr>
          <p:pic>
            <p:nvPicPr>
              <p:cNvPr id="587" name="Rectangle 41" descr=""/>
              <p:cNvPicPr/>
              <p:nvPr/>
            </p:nvPicPr>
            <p:blipFill>
              <a:blip r:embed="rId2"/>
              <a:stretch/>
            </p:blipFill>
            <p:spPr>
              <a:xfrm>
                <a:off x="-214200" y="1415880"/>
                <a:ext cx="9508320" cy="1044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8" name="Text Box 45"/>
              <p:cNvSpPr/>
              <p:nvPr/>
            </p:nvSpPr>
            <p:spPr>
              <a:xfrm>
                <a:off x="-215280" y="1417320"/>
                <a:ext cx="9509040" cy="104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9" name="WordArt 42"/>
          <p:cNvSpPr txBox="1"/>
          <p:nvPr/>
        </p:nvSpPr>
        <p:spPr>
          <a:xfrm>
            <a:off x="3924360" y="1668600"/>
            <a:ext cx="1295280" cy="6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solidFill>
                  <a:srgbClr val="ffffff"/>
                </a:solidFill>
                <a:latin typeface="宋体"/>
              </a:rPr>
              <a:t>结 语</a:t>
            </a:r>
            <a:endParaRPr b="1" lang="en-US" sz="2400" spc="-1" strike="noStrike">
              <a:ln w="0">
                <a:noFill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90" name="Text Box 43"/>
          <p:cNvSpPr/>
          <p:nvPr/>
        </p:nvSpPr>
        <p:spPr>
          <a:xfrm>
            <a:off x="973080" y="3801960"/>
            <a:ext cx="719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从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605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的培根到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9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的中国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44"/>
          <p:cNvSpPr/>
          <p:nvPr/>
        </p:nvSpPr>
        <p:spPr>
          <a:xfrm>
            <a:off x="973080" y="3803760"/>
            <a:ext cx="719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世界的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404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45"/>
          <p:cNvSpPr/>
          <p:nvPr/>
        </p:nvSpPr>
        <p:spPr>
          <a:xfrm>
            <a:off x="973080" y="3803760"/>
            <a:ext cx="719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国的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60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46"/>
          <p:cNvSpPr/>
          <p:nvPr/>
        </p:nvSpPr>
        <p:spPr>
          <a:xfrm>
            <a:off x="973080" y="4451400"/>
            <a:ext cx="719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解除人性的束缚令人欣喜地逐渐成为人类的共识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47"/>
          <p:cNvSpPr/>
          <p:nvPr/>
        </p:nvSpPr>
        <p:spPr>
          <a:xfrm>
            <a:off x="973080" y="5052960"/>
            <a:ext cx="719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但它依然是我们这个时代最重要的命题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5" name="Group 48"/>
          <p:cNvGrpSpPr/>
          <p:nvPr/>
        </p:nvGrpSpPr>
        <p:grpSpPr>
          <a:xfrm>
            <a:off x="2052720" y="192240"/>
            <a:ext cx="4908240" cy="1258200"/>
            <a:chOff x="2052720" y="192240"/>
            <a:chExt cx="4908240" cy="1258200"/>
          </a:xfrm>
        </p:grpSpPr>
        <p:sp>
          <p:nvSpPr>
            <p:cNvPr id="596" name="WordArt 49"/>
            <p:cNvSpPr txBox="1"/>
            <p:nvPr/>
          </p:nvSpPr>
          <p:spPr>
            <a:xfrm>
              <a:off x="5543640" y="192240"/>
              <a:ext cx="1417320" cy="1258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ln w="0">
                    <a:noFill/>
                  </a:ln>
                  <a:blipFill rotWithShape="0">
                    <a:blip r:embed="rId3">
                      <a:alphaModFix amt="90000"/>
                    </a:blip>
                    <a:srcRect/>
                    <a:stretch/>
                  </a:blipFill>
                  <a:latin typeface="宋体"/>
                </a:rPr>
                <a:t>解放</a:t>
              </a:r>
              <a:endParaRPr b="1" lang="en-US" sz="1800" spc="-1" strike="noStrike">
                <a:ln w="0">
                  <a:noFill/>
                </a:ln>
                <a:blipFill rotWithShape="0">
                  <a:blip r:embed="rId4">
                    <a:alphaModFix amt="90000"/>
                  </a:blip>
                  <a:srcRect/>
                  <a:stretch/>
                </a:blipFill>
                <a:latin typeface="宋体"/>
                <a:ea typeface="宋体"/>
              </a:endParaRPr>
            </a:p>
          </p:txBody>
        </p:sp>
        <p:sp>
          <p:nvSpPr>
            <p:cNvPr id="597" name="WordArt 50"/>
            <p:cNvSpPr txBox="1"/>
            <p:nvPr/>
          </p:nvSpPr>
          <p:spPr>
            <a:xfrm>
              <a:off x="2052720" y="494640"/>
              <a:ext cx="3256560" cy="770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ln w="0">
                    <a:noFill/>
                  </a:ln>
                  <a:blipFill rotWithShape="0">
                    <a:blip r:embed="rId5">
                      <a:alphaModFix amt="90000"/>
                    </a:blip>
                    <a:srcRect/>
                    <a:stretch/>
                  </a:blipFill>
                  <a:latin typeface="宋体"/>
                </a:rPr>
                <a:t>从未停止的</a:t>
              </a:r>
              <a:endParaRPr b="1" lang="en-US" sz="1800" spc="-1" strike="noStrike">
                <a:ln w="0">
                  <a:noFill/>
                </a:ln>
                <a:blipFill rotWithShape="0">
                  <a:blip r:embed="rId6">
                    <a:alphaModFix amt="90000"/>
                  </a:blip>
                  <a:srcRect/>
                  <a:stretch/>
                </a:blipFill>
                <a:latin typeface="宋体"/>
                <a:ea typeface="宋体"/>
              </a:endParaRPr>
            </a:p>
          </p:txBody>
        </p:sp>
      </p:grpSp>
      <p:grpSp>
        <p:nvGrpSpPr>
          <p:cNvPr id="598" name="Group 51"/>
          <p:cNvGrpSpPr/>
          <p:nvPr/>
        </p:nvGrpSpPr>
        <p:grpSpPr>
          <a:xfrm>
            <a:off x="2266920" y="446040"/>
            <a:ext cx="4609800" cy="969840"/>
            <a:chOff x="2266920" y="446040"/>
            <a:chExt cx="4609800" cy="969840"/>
          </a:xfrm>
        </p:grpSpPr>
        <p:sp>
          <p:nvSpPr>
            <p:cNvPr id="599" name="WordArt 52"/>
            <p:cNvSpPr txBox="1"/>
            <p:nvPr/>
          </p:nvSpPr>
          <p:spPr>
            <a:xfrm>
              <a:off x="5545440" y="446040"/>
              <a:ext cx="1331280" cy="96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6480">
                    <a:solidFill>
                      <a:srgbClr val="ffff00"/>
                    </a:solidFill>
                    <a:miter/>
                  </a:ln>
                  <a:gradFill rotWithShape="0">
                    <a:gsLst>
                      <a:gs pos="0">
                        <a:srgbClr val="e20000"/>
                      </a:gs>
                      <a:gs pos="100000">
                        <a:srgbClr val="ac0000"/>
                      </a:gs>
                    </a:gsLst>
                    <a:lin ang="5400000"/>
                  </a:gradFill>
                  <a:latin typeface="宋体"/>
                </a:rPr>
                <a:t>解放</a:t>
              </a:r>
              <a:endParaRPr b="1" lang="en-US" sz="1800" spc="1" strike="noStrike">
                <a:ln w="648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e20000"/>
                    </a:gs>
                    <a:gs pos="100000">
                      <a:srgbClr val="ac0000"/>
                    </a:gs>
                  </a:gsLst>
                  <a:lin ang="5400000"/>
                </a:gradFill>
                <a:latin typeface="宋体"/>
                <a:ea typeface="宋体"/>
              </a:endParaRPr>
            </a:p>
          </p:txBody>
        </p:sp>
        <p:sp>
          <p:nvSpPr>
            <p:cNvPr id="600" name="WordArt 53"/>
            <p:cNvSpPr txBox="1"/>
            <p:nvPr/>
          </p:nvSpPr>
          <p:spPr>
            <a:xfrm>
              <a:off x="2266920" y="679320"/>
              <a:ext cx="3058560" cy="59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6480">
                    <a:solidFill>
                      <a:srgbClr val="ffff00"/>
                    </a:solidFill>
                    <a:miter/>
                  </a:ln>
                  <a:gradFill rotWithShape="0">
                    <a:gsLst>
                      <a:gs pos="0">
                        <a:srgbClr val="e20000"/>
                      </a:gs>
                      <a:gs pos="100000">
                        <a:srgbClr val="ac0000"/>
                      </a:gs>
                    </a:gsLst>
                    <a:lin ang="5400000"/>
                  </a:gradFill>
                  <a:latin typeface="宋体"/>
                </a:rPr>
                <a:t>从未停止的</a:t>
              </a:r>
              <a:endParaRPr b="1" lang="en-US" sz="1800" spc="1" strike="noStrike">
                <a:ln w="648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e20000"/>
                    </a:gs>
                    <a:gs pos="100000">
                      <a:srgbClr val="ac0000"/>
                    </a:gs>
                  </a:gsLst>
                  <a:lin ang="5400000"/>
                </a:gradFill>
                <a:latin typeface="宋体"/>
                <a:ea typeface="宋体"/>
              </a:endParaRPr>
            </a:p>
          </p:txBody>
        </p:sp>
      </p:grpSp>
      <p:grpSp>
        <p:nvGrpSpPr>
          <p:cNvPr id="601" name="Oval 54"/>
          <p:cNvGrpSpPr/>
          <p:nvPr/>
        </p:nvGrpSpPr>
        <p:grpSpPr>
          <a:xfrm>
            <a:off x="0" y="1384200"/>
            <a:ext cx="9144000" cy="66600"/>
            <a:chOff x="0" y="1384200"/>
            <a:chExt cx="9144000" cy="66600"/>
          </a:xfrm>
        </p:grpSpPr>
        <p:pic>
          <p:nvPicPr>
            <p:cNvPr id="602" name="Oval 54" descr=""/>
            <p:cNvPicPr/>
            <p:nvPr/>
          </p:nvPicPr>
          <p:blipFill>
            <a:blip r:embed="rId7"/>
            <a:stretch/>
          </p:blipFill>
          <p:spPr>
            <a:xfrm>
              <a:off x="0" y="1384200"/>
              <a:ext cx="9144000" cy="6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Text Box 60"/>
            <p:cNvSpPr/>
            <p:nvPr/>
          </p:nvSpPr>
          <p:spPr>
            <a:xfrm>
              <a:off x="1339920" y="1392120"/>
              <a:ext cx="646596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" name="AutoShape 55"/>
          <p:cNvGrpSpPr/>
          <p:nvPr/>
        </p:nvGrpSpPr>
        <p:grpSpPr>
          <a:xfrm>
            <a:off x="324000" y="1347840"/>
            <a:ext cx="8277120" cy="176040"/>
            <a:chOff x="324000" y="1347840"/>
            <a:chExt cx="8277120" cy="176040"/>
          </a:xfrm>
        </p:grpSpPr>
        <p:pic>
          <p:nvPicPr>
            <p:cNvPr id="605" name="AutoShape 55" descr=""/>
            <p:cNvPicPr/>
            <p:nvPr/>
          </p:nvPicPr>
          <p:blipFill>
            <a:blip r:embed="rId8"/>
            <a:stretch/>
          </p:blipFill>
          <p:spPr>
            <a:xfrm>
              <a:off x="324000" y="1347840"/>
              <a:ext cx="8277120" cy="17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6" name="Text Box 63"/>
            <p:cNvSpPr/>
            <p:nvPr/>
          </p:nvSpPr>
          <p:spPr>
            <a:xfrm rot="16200000">
              <a:off x="4426920" y="-673560"/>
              <a:ext cx="63360" cy="42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121" dur="indefinite" restart="never" nodeType="tmRoot">
          <p:childTnLst>
            <p:seq>
              <p:cTn id="2122" dur="indefinite" nodeType="mainSeq">
                <p:childTnLst>
                  <p:par>
                    <p:cTn id="2123" fill="hold">
                      <p:stCondLst>
                        <p:cond delay="0"/>
                      </p:stCondLst>
                      <p:childTnLst>
                        <p:par>
                          <p:cTn id="2124" fill="hold">
                            <p:stCondLst>
                              <p:cond delay="0"/>
                            </p:stCondLst>
                            <p:childTnLst>
                              <p:par>
                                <p:cTn id="2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7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1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4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36" dur="1000" fill="hold"/>
                                        <p:tgtEl>
                                          <p:spTgt spid="595"/>
                                        </p:tgtEl>
                                      </p:cBhvr>
                                      <p:to x="13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37" nodeType="withEffect" fill="hold" presetClass="exit" presetID="47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38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9" dur="500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0" dur="500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2" fill="hold">
                            <p:stCondLst>
                              <p:cond delay="2500"/>
                            </p:stCondLst>
                            <p:childTnLst>
                              <p:par>
                                <p:cTn id="214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45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4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9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0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1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2" fill="hold">
                            <p:stCondLst>
                              <p:cond delay="4000"/>
                            </p:stCondLst>
                            <p:childTnLst>
                              <p:par>
                                <p:cTn id="2153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11111E-006 L 0 -0.19111 E">
                                      <p:cBhvr>
                                        <p:cTn id="2154" dur="1000" fill="hold"/>
                                        <p:tgtEl>
                                          <p:spTgt spid="5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5" fill="hold">
                            <p:stCondLst>
                              <p:cond delay="5000"/>
                            </p:stCondLst>
                            <p:childTnLst>
                              <p:par>
                                <p:cTn id="2156" nodeType="after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8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9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1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2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4.44444E-006 L 1.38889E-006 -0.09862 E">
                                      <p:cBhvr>
                                        <p:cTn id="2163" dur="1000" fill="hold"/>
                                        <p:tgtEl>
                                          <p:spTgt spid="5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4" fill="hold">
                            <p:stCondLst>
                              <p:cond delay="7000"/>
                            </p:stCondLst>
                            <p:childTnLst>
                              <p:par>
                                <p:cTn id="2165" nodeType="after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7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8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9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3" dur="5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4" dur="5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5" dur="5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6" fill="hold">
                            <p:stCondLst>
                              <p:cond delay="11800"/>
                            </p:stCondLst>
                            <p:childTnLst>
                              <p:par>
                                <p:cTn id="2177" nodeType="afterEffect" fill="hold" presetClass="exit" presetID="47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8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9" dur="10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0" dur="10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2" nodeType="withEffect" fill="hold" presetClass="exit" presetID="47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3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4" dur="100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5" dur="100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7" nodeType="withEffect" fill="hold" presetClass="exit" presetID="47">
                                  <p:stCondLst>
                                    <p:cond delay="1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8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9" dur="100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0" dur="100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2" fill="hold">
                            <p:stCondLst>
                              <p:cond delay="14400"/>
                            </p:stCondLst>
                            <p:childTnLst>
                              <p:par>
                                <p:cTn id="21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5" dur="500"/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6" dur="500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7" dur="500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8" fill="hold">
                            <p:stCondLst>
                              <p:cond delay="17600"/>
                            </p:stCondLst>
                            <p:childTnLst>
                              <p:par>
                                <p:cTn id="2199" nodeType="afterEffect" fill="hold" presetClass="path" presetID="64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8.33333E-007 1.11111E-006 L -8.33333E-007 -0.31278 E">
                                      <p:cBhvr>
                                        <p:cTn id="2200" dur="1500" fill="hold"/>
                                        <p:tgtEl>
                                          <p:spTgt spid="5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01" nodeType="withEffect" fill="hold" presetClass="path" presetID="64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3.33333E-006 L 0 -0.27945 E">
                                      <p:cBhvr>
                                        <p:cTn id="2202" dur="1500" fill="hold"/>
                                        <p:tgtEl>
                                          <p:spTgt spid="5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03" nodeType="withEffect" fill="hold" presetClass="exit" presetID="10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204" dur="1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6" nodeType="withEffect" fill="hold" presetClass="exit" presetID="10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207" dur="1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9" fill="hold">
                            <p:stCondLst>
                              <p:cond delay="21100"/>
                            </p:stCondLst>
                            <p:childTnLst>
                              <p:par>
                                <p:cTn id="2210" nodeType="after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2211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14" dur="1000" fill="hold"/>
                                        <p:tgtEl>
                                          <p:spTgt spid="576"/>
                                        </p:tgtEl>
                                      </p:cBhvr>
                                      <p:to x="5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5" fill="hold">
                            <p:stCondLst>
                              <p:cond delay="22100"/>
                            </p:stCondLst>
                            <p:childTnLst>
                              <p:par>
                                <p:cTn id="221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17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20" dur="1000" fill="hold"/>
                                        <p:tgtEl>
                                          <p:spTgt spid="582"/>
                                        </p:tgtEl>
                                      </p:cBhvr>
                                      <p:to x="125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2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4" fill="hold">
                            <p:stCondLst>
                              <p:cond delay="23100"/>
                            </p:stCondLst>
                            <p:childTnLst>
                              <p:par>
                                <p:cTn id="2225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6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7" dur="500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8" dur="500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0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31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2" dur="1000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3" dur="1000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5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36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7" dur="500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8" dur="500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2T14:11:1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8-23T00:41:11Z</dcterms:modified>
  <cp:revision>105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