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9BF-7955-46FA-93A1-C17EF956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9EF-CD4D-457C-B953-2E1FD02B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DAB34-1558-4B49-881E-3E3A9DC9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171C-DB05-4EF6-8C88-2F1D9D9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F6602-B20E-44CD-94CD-21FACF2A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C2AEC-41AA-4C99-89BD-CDAF83D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B38E2-0A3F-4A87-A8DA-657A2F14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07109-E997-4878-8862-9D090AD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C4D40-31E8-44BE-A136-82349681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9EB6B-D0C3-404D-A1FE-28930222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375BB-81D7-434D-9F5D-B36B1BF5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22828-E8C2-44C4-9FB8-5AD1070A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C61-3F27-4CD1-A469-75161B6E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5EF27-F08F-4A29-9B05-9FDB70C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7D867-6A8B-4774-B0EA-81ABE680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C2917-B029-4E70-A7A2-44E44A8F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9B43B-9F72-4685-90EC-3273327D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F1F3E-BF25-44F1-B96F-8B12AC35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EB11A-E50A-4760-8F41-B5F43F2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A4603-197D-42C5-8438-9494397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B95BB-FB59-4033-9AB2-8672A118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5681F-0508-4455-8507-372D6C6F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6FB84-FFDF-4A09-9D84-11AAEB5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C64-CF6E-4117-8E28-06C69003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C430E-EEE7-490D-A70A-1D2699E1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527C0-39FE-4237-8E84-4FD774AB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756CE-ED9C-476B-AB8B-F5CC40D6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B4290-19ED-4D7E-B0A5-9E94090E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0E1DD-7896-4349-8781-441AC42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8ABC-EB70-4440-83D3-7535198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68225-9601-458A-B0B6-597183C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F20C6-84F8-40F3-AE56-128AC5F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0CF8-428F-40C0-AD94-AC825808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64F6-C295-4F4F-B532-BA188DB4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EBBA-E315-4C9C-A8F2-4A24F98E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C577C-A00C-4112-8298-62AD7872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FE638-9B67-40FD-9B40-C7888DD5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BB0C-9EFD-4C4D-AF69-188DA1EC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C0A84-D96B-4D71-9BFB-8DDDF3DF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6FD90-65F6-4A0C-9761-9D0DBFC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1AAA9-CDA6-40AB-A258-DF6D5356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AA7BC-34AD-4B8A-98F5-4F0FF9A7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4A769-4F85-41B1-8BED-AD6F0A58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76DE7-3950-411D-B302-9604C3DC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1C092-4B97-4E5B-8CDF-776A8C0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09BA-BB2C-4F3B-B646-A9C77875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521B6-0A7E-4FB2-9B1C-7154700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C414B-C277-4329-8A36-3EC4129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91D0C-FFC6-4825-B930-64135B7B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4D303-CA18-4955-ABCD-D9680187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DDCD5-C363-4F52-B600-77D957BC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04921-3D1C-443B-9E69-04009F4F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8CDF6-0BA2-4631-9CD7-6F9A4B04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17C4F-1FDA-4CC3-823F-E95D111A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8E12B-E851-4CC6-AF63-516F7D0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8E272-8F1F-44B2-B07B-4E8FE0B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F7C-753E-46C7-8878-5F779B77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2AD5A-9C42-4D6F-9FDB-6A41C3F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1BE95-1107-41DF-9207-B7F72E4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5ABED-8646-415F-807C-661CC93E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BE0D2-A5AB-4496-A51B-422F962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CC476-332E-45AE-8463-567F283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FD198-A05E-49E8-BA3B-BF67B8C6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345AB-405F-4DBC-9E77-9A3DE36E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A624-8162-45C2-B9C6-90F9FA68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84DB-0CD9-4817-B387-AA59A4C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3A4B-2188-4EA6-8E28-D33EA8E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DD1-A6DA-46D4-BB1E-A7A60381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B18-C091-4BB6-ACA5-7827938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9FD-4EBA-4593-BFE7-D7D8DAE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815E-7578-469C-ADCE-1C6A6D9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B951-8DC3-4412-A65C-0B65A423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43A5-FFDC-45F8-8D4B-C4BCE2C5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D201-A66F-467C-8848-14990D33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73F8-7391-4A98-A2C9-DD6DEC8B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3447-BC5B-4B67-A0C0-3CBC801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7B2B-BC24-4242-A0AD-BE63E66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F237-AF4F-43F5-A67B-1245532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144C-C18E-4160-BAB3-8BB6B0F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57C-32AC-410F-9BCB-06943288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90B6-0E3A-4CDB-A8B0-88C8410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A2E9-E515-4836-8F42-EFD9E653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D2E2-3476-4010-8D5E-4FD2194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4A35-7C7A-416A-B53A-026EF4ED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7BC1-7F7C-4A2D-B9A7-C372D6AA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F991-38B5-44B9-B04E-3712FFB3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9697-D686-446D-A847-841E55C5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3714-40E2-45E4-86E9-4D0A2B1D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8B91-70B5-4BCC-AD27-984ECABE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2347-2988-47B1-A1FB-784488F2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B13-A412-4510-BCC3-F3AABFC3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935EB-97AA-4F8D-A426-E6CF424F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0BA5-957D-4CAE-A667-100EDEBF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B33C-83DA-4069-993F-EB27DF29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5A08-D8BC-4C24-8787-D729B67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B07A-0F84-460F-BBB4-6BCA8B9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E9AA-2087-41E0-A5C2-A1B6525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BDEC7-740B-4C49-9C7B-616BA26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9086A-3FB9-43B4-97D4-67707DC0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DC74-755F-46F9-828A-7F621469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5BA4-9D81-435A-BB63-FC052C5B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D54-9B56-40B1-8EF7-27B47FEC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243A-C9F4-4299-9B08-193DE134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6148-C274-4ED7-9B07-97A3C3EE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F3F9-C392-47EA-ACBC-E7B68252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F4E2C-A687-4476-A600-731328F7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1A57-6345-47DD-B716-3FA7105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5CFF-6D53-4552-A356-240D367C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9BAD1-BB90-4E16-94FE-85648CF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738C-DB43-45FE-A57D-681CFFA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D272-E4A3-44F0-820D-D6BCD71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0012-F21B-492D-837D-ED4281D2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0A6-6278-4A13-BD68-57FD5993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3449A-2B4D-48CB-855A-ED7F107A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8897-42EC-4D17-A50E-B0C60984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9FEA-E1D1-4CC3-BDA0-C7421931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D8218-C694-47FC-974E-2DEF8342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572BD-FA7F-498E-B9DF-8394F68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F2B06-2043-4F47-BD17-F1AF6A57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98FE0-7500-44C2-A134-56F70923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7D4F-D80F-4E9C-955E-2F192BF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EB888-2587-4134-82FF-17C3D79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73DE-5BDB-409E-94B9-9EE6A36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94C-D989-4CCF-ADD3-6ACDDCE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847E0-B081-4653-991E-2C69846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0231-9EBE-4404-88D5-A794A5AC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BAD1-0306-4904-A690-2212267E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9C89-FF0E-489A-97D5-7D1D0097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668F5-E10E-4C82-8943-B4C7778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D8DA-2B1F-4B44-A6BE-9873EEC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E5EE-185B-4377-9907-D77878D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4669-DE44-4313-8D26-17732889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BAA8-D216-47DA-BEE6-47C3AF4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6F1B7-5CC1-42E9-9B88-2494EAD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64A-69C4-4540-A23A-40795A9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D9C7-396E-433B-94D9-6F3F317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FD3C-36ED-4C22-9E4E-4C4BDE6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6031-2751-4602-97DC-F21F806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79F2-A6A9-41BE-9D33-B7B80ADA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CD0EF-07A8-4BCB-A127-8450A057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E294A-7702-45BD-ABB7-609C4580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D1436-A663-4E8F-B477-2B7E0E6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264E7-3C91-4628-B441-B78BD978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E8BB3-5E5B-4489-87F7-E26AC826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7391-523D-4AEA-82C4-85A75E8B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4A2-3450-43A3-A2E7-FA7AEDB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FC619-08B9-43DF-9E2E-FCD789D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86D8-52F5-4D9B-9463-D7BF0C72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9685E-8E86-4110-B308-35B6D81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6698-1147-47A1-AD94-B9A2D35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1F167-828D-4B69-99DD-6BC516F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36106-CF79-4234-9717-DACEB6B8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B41AE-3C2A-427C-905C-0515FFC1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A9737-C5D3-46B3-A97D-AAB857C1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3FF24-B562-46DB-B404-1036310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639DE-3BD3-4927-B54B-DB5407E6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DB51-0E73-411E-9A67-0E7CD112B6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47D3-864C-43B7-9201-82E6000456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B5CD-139A-4628-A82D-4E73690880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505-02F5-4BD8-9199-188F03D3CC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37BD-FB81-48CD-B32E-920E104C2B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CF7-C4F3-4386-A101-7320424D6D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2B5D-9384-40FD-8A3B-E0B0B16746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82B-C6B7-46A4-9950-BEA0E146B2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705-74C4-46AD-ABAC-DA7C5863AA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A60-B706-44FD-948C-10CEB6DDBC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7A1E-6B43-4739-8670-D21711A501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8080-1391-42F1-A545-55261992E8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1EB2-05F0-4A4C-9A2C-34F921318C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1EBF-43E3-4FA0-B5AE-2D45A6C1BD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3F62-A434-4628-AC89-42B45697FB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BC7-327B-4B7D-BFDD-091E2DCBC7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59B-871D-421D-B78F-03A49D84D47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5F39-69DF-450E-B1F0-DE08ECA0F8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F498-E449-4800-A855-E3EA190982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0B5-3E59-4CA4-A897-3DBA1D097D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264-605A-4113-A92E-B4CA848F54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A46F-5B41-48A9-B515-38C6D2CED4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872D-D2A6-4A40-8F3C-E6CD8691D5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303-C992-4D47-AEE4-B7A9650761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D05-D8A9-4F25-A35C-7E243F9B97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B58-888B-4307-A10D-A342C28C83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3480"/>
            <a:ext cx="9177480" cy="68914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2"/>
          <p:cNvSpPr/>
          <p:nvPr/>
        </p:nvSpPr>
        <p:spPr>
          <a:xfrm>
            <a:off x="3071880" y="2571840"/>
            <a:ext cx="30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787"/>
                </a:solidFill>
                <a:latin typeface="时尚中黑简体"/>
                <a:ea typeface="时尚中黑简体"/>
              </a:rPr>
              <a:t>学习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"/>
          <p:cNvSpPr/>
          <p:nvPr/>
        </p:nvSpPr>
        <p:spPr>
          <a:xfrm>
            <a:off x="2048040" y="16002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酷炫三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94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5" descr="C:\Documents and Settings\Administrator\桌面\未标题-1.png"/>
          <p:cNvPicPr/>
          <p:nvPr/>
        </p:nvPicPr>
        <p:blipFill>
          <a:blip r:embed="rId2"/>
          <a:stretch/>
        </p:blipFill>
        <p:spPr>
          <a:xfrm>
            <a:off x="1832040" y="2527200"/>
            <a:ext cx="5441760" cy="18399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2928960" y="30002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e88e"/>
                </a:solidFill>
                <a:latin typeface="时尚中黑简体"/>
                <a:ea typeface="时尚中黑简体"/>
              </a:rPr>
              <a:t>学习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Documents and Settings\Administrator\桌面\3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3480"/>
            <a:ext cx="91774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0" y="-33480"/>
            <a:ext cx="9180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3480"/>
            <a:ext cx="91774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C:\Documents and Settings\Administrator\桌面\图片1.jpg"/>
          <p:cNvPicPr/>
          <p:nvPr/>
        </p:nvPicPr>
        <p:blipFill>
          <a:blip r:embed="rId1"/>
          <a:stretch/>
        </p:blipFill>
        <p:spPr>
          <a:xfrm>
            <a:off x="-33480" y="-31680"/>
            <a:ext cx="917748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6:21:1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9:10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