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D88-B116-441F-AFA2-E82E008F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84B-ECDD-415D-9FAF-3C5DE06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DB5-5930-4D74-A9B3-57BBD3EE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A99-D148-46F7-AF54-831AF786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F00-1E7C-45BE-8B33-B9E9FF2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40C-1CD3-48BB-BDF3-5B2AF66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557-052C-4966-9431-3ED0CEB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793-B34D-40F2-90CC-4F7DB5D6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836-2CD6-45A5-A3FB-EBB9211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E14-C123-43A5-A41D-EA7A51C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44D-8763-4150-A50C-CE7AB2F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75D-8EAB-4219-AD08-3172BB3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F9F8-F4DC-4205-8A10-516F0D08B5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EE3-61C6-41BA-AEBC-A99A6C611B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1368360" y="1946160"/>
            <a:ext cx="6226200" cy="7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368360" y="2035080"/>
            <a:ext cx="6228000" cy="54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121200" y="21207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9"/>
          <p:cNvGrpSpPr/>
          <p:nvPr/>
        </p:nvGrpSpPr>
        <p:grpSpPr>
          <a:xfrm>
            <a:off x="1368360" y="2881440"/>
            <a:ext cx="6228000" cy="718920"/>
            <a:chOff x="1368360" y="2881440"/>
            <a:chExt cx="6228000" cy="718920"/>
          </a:xfrm>
        </p:grpSpPr>
        <p:grpSp>
          <p:nvGrpSpPr>
            <p:cNvPr id="46" name="组合 6"/>
            <p:cNvGrpSpPr/>
            <p:nvPr/>
          </p:nvGrpSpPr>
          <p:grpSpPr>
            <a:xfrm>
              <a:off x="1368360" y="2881440"/>
              <a:ext cx="6228000" cy="718920"/>
              <a:chOff x="1368360" y="2881440"/>
              <a:chExt cx="6228000" cy="718920"/>
            </a:xfrm>
          </p:grpSpPr>
          <p:sp>
            <p:nvSpPr>
              <p:cNvPr id="47" name="AutoShape 3"/>
              <p:cNvSpPr/>
              <p:nvPr/>
            </p:nvSpPr>
            <p:spPr>
              <a:xfrm>
                <a:off x="1368360" y="2881440"/>
                <a:ext cx="622800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3"/>
              <p:cNvSpPr/>
              <p:nvPr/>
            </p:nvSpPr>
            <p:spPr>
              <a:xfrm>
                <a:off x="1368360" y="2970720"/>
                <a:ext cx="6228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eeece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6"/>
            <p:cNvSpPr/>
            <p:nvPr/>
          </p:nvSpPr>
          <p:spPr>
            <a:xfrm>
              <a:off x="3120840" y="3056040"/>
              <a:ext cx="27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"/>
          <p:cNvGrpSpPr/>
          <p:nvPr/>
        </p:nvGrpSpPr>
        <p:grpSpPr>
          <a:xfrm>
            <a:off x="1368360" y="3862440"/>
            <a:ext cx="6228000" cy="718920"/>
            <a:chOff x="1368360" y="3862440"/>
            <a:chExt cx="6228000" cy="718920"/>
          </a:xfrm>
        </p:grpSpPr>
        <p:grpSp>
          <p:nvGrpSpPr>
            <p:cNvPr id="51" name="组合 10"/>
            <p:cNvGrpSpPr/>
            <p:nvPr/>
          </p:nvGrpSpPr>
          <p:grpSpPr>
            <a:xfrm>
              <a:off x="1368360" y="3862440"/>
              <a:ext cx="6228000" cy="718920"/>
              <a:chOff x="1368360" y="3862440"/>
              <a:chExt cx="6228000" cy="718920"/>
            </a:xfrm>
          </p:grpSpPr>
          <p:sp>
            <p:nvSpPr>
              <p:cNvPr id="52" name="AutoShape 3"/>
              <p:cNvSpPr/>
              <p:nvPr/>
            </p:nvSpPr>
            <p:spPr>
              <a:xfrm>
                <a:off x="1368360" y="3862440"/>
                <a:ext cx="622800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3"/>
              <p:cNvSpPr/>
              <p:nvPr/>
            </p:nvSpPr>
            <p:spPr>
              <a:xfrm>
                <a:off x="1368360" y="3951720"/>
                <a:ext cx="6228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19"/>
            <p:cNvSpPr/>
            <p:nvPr/>
          </p:nvSpPr>
          <p:spPr>
            <a:xfrm>
              <a:off x="3120840" y="4037040"/>
              <a:ext cx="27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236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dur="indefinite" nodeType="afterEffect" fill="hold" presetClass="entr" presetID="16" presetSubtype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00"/>
                            </p:stCondLst>
                            <p:childTnLst>
                              <p:par>
                                <p:cTn id="16" dur="indefinite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625-A42B-4C8F-92A9-F837DA1117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48:41Z</dcterms:modified>
  <cp:revision>70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