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2D8-16BC-4609-9C05-61C468C0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AF7-EACB-4BA2-A05C-75638B72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33B-E480-496D-AC85-C0C2FA4C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5D2-6D5B-4808-9158-59B40967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551B-7A90-4095-8CB2-06016ADE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012C-0D80-4CB6-8216-2816A236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BD4B-F997-41FD-A2A7-2B72FED4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36AC-6B92-4EC1-B58B-5A2B01A8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4427-F655-4340-9985-6848FE72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4DC2-AE79-4364-B6A5-C88DFF68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C828-003C-4561-BC30-18733AD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76D-FC1E-4615-B921-DEB1B090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D19C-0F11-49E4-BFC8-9BE2F8F4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35C1-8D1E-4DE5-B413-D3AC1D1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54FB-093D-401B-892D-9EDAE035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8B59-EDDF-4970-B497-6C07E3EB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9583-3D71-44F9-B376-76C95B86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8B3-128E-43C8-8AC9-27F98E99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FC5-9970-4DC0-BC3D-20A2ECFB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8F9-278B-44BC-A28E-0DB06219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D44-7F55-4423-91AD-307AEA59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CC4-4D57-4CB7-B88D-207FC0D0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237-07C9-49BB-8AA1-2B1BF441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1E8-9076-46DE-8D08-2D1B8D8E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66F6-56EB-48E6-8144-8A4FE1756F3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7BD0-EEBF-4EA4-8643-6F9892E80E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339B-7351-4DAF-969D-1F521EE264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hyperlink" Target="http://www.eeppt.com/sucai/" TargetMode="External"/><Relationship Id="rId4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5"/>
          <p:cNvSpPr/>
          <p:nvPr/>
        </p:nvSpPr>
        <p:spPr>
          <a:xfrm>
            <a:off x="5937120" y="1844640"/>
            <a:ext cx="346320" cy="345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/>
          <p:cNvSpPr/>
          <p:nvPr/>
        </p:nvSpPr>
        <p:spPr>
          <a:xfrm>
            <a:off x="5584680" y="2190600"/>
            <a:ext cx="346320" cy="3463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"/>
          <p:cNvSpPr/>
          <p:nvPr/>
        </p:nvSpPr>
        <p:spPr>
          <a:xfrm>
            <a:off x="5937120" y="2198520"/>
            <a:ext cx="346320" cy="3463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296040" y="2190600"/>
            <a:ext cx="345960" cy="3463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6654960" y="2527200"/>
            <a:ext cx="345960" cy="3463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296040" y="2544840"/>
            <a:ext cx="345960" cy="3459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"/>
          <p:cNvSpPr/>
          <p:nvPr/>
        </p:nvSpPr>
        <p:spPr>
          <a:xfrm>
            <a:off x="5937120" y="2550960"/>
            <a:ext cx="346320" cy="3463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584680" y="2544840"/>
            <a:ext cx="346320" cy="345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"/>
          <p:cNvSpPr/>
          <p:nvPr/>
        </p:nvSpPr>
        <p:spPr>
          <a:xfrm>
            <a:off x="5227560" y="2549520"/>
            <a:ext cx="346320" cy="3459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4867200" y="2909880"/>
            <a:ext cx="346320" cy="345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227560" y="2901960"/>
            <a:ext cx="346320" cy="3459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5584680" y="2897280"/>
            <a:ext cx="346320" cy="345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937120" y="2903400"/>
            <a:ext cx="346320" cy="34632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6296040" y="2897280"/>
            <a:ext cx="345960" cy="345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6654960" y="2886120"/>
            <a:ext cx="345960" cy="34596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7010280" y="2886120"/>
            <a:ext cx="346320" cy="3459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7370640" y="3252960"/>
            <a:ext cx="346320" cy="3459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7010280" y="3246480"/>
            <a:ext cx="346320" cy="345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6654960" y="3243240"/>
            <a:ext cx="345960" cy="3459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6296040" y="3249720"/>
            <a:ext cx="345960" cy="345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5937120" y="3255840"/>
            <a:ext cx="346320" cy="34632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5584680" y="3249720"/>
            <a:ext cx="346320" cy="34596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5227560" y="3254400"/>
            <a:ext cx="346320" cy="3459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4867200" y="3262320"/>
            <a:ext cx="346320" cy="3459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4508640" y="3262320"/>
            <a:ext cx="345960" cy="34596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4867200" y="3614760"/>
            <a:ext cx="346320" cy="34596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5"/>
          <p:cNvSpPr/>
          <p:nvPr/>
        </p:nvSpPr>
        <p:spPr>
          <a:xfrm>
            <a:off x="5227560" y="3606840"/>
            <a:ext cx="346320" cy="34596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5584680" y="3602160"/>
            <a:ext cx="346320" cy="34596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5937120" y="3608280"/>
            <a:ext cx="346320" cy="34632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6296040" y="3602160"/>
            <a:ext cx="345960" cy="34596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6654960" y="3602160"/>
            <a:ext cx="345960" cy="34596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7010280" y="3605040"/>
            <a:ext cx="346320" cy="34632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6654960" y="3960720"/>
            <a:ext cx="345960" cy="346320"/>
          </a:xfrm>
          <a:prstGeom prst="ellipse">
            <a:avLst/>
          </a:prstGeom>
          <a:blipFill rotWithShape="0">
            <a:blip r:embed="rId3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6296040" y="3954600"/>
            <a:ext cx="345960" cy="34596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5937120" y="3960720"/>
            <a:ext cx="346320" cy="34632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5584680" y="3954600"/>
            <a:ext cx="346320" cy="345960"/>
          </a:xfrm>
          <a:prstGeom prst="ellipse">
            <a:avLst/>
          </a:pr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5227560" y="3959280"/>
            <a:ext cx="346320" cy="34596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5584680" y="4307040"/>
            <a:ext cx="346320" cy="345960"/>
          </a:xfrm>
          <a:prstGeom prst="ellipse">
            <a:avLst/>
          </a:prstGeom>
          <a:blipFill rotWithShape="0">
            <a:blip r:embed="rId3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5937120" y="4314960"/>
            <a:ext cx="346320" cy="345960"/>
          </a:xfrm>
          <a:prstGeom prst="ellipse">
            <a:avLst/>
          </a:prstGeom>
          <a:blipFill rotWithShape="0">
            <a:blip r:embed="rId4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6296040" y="4307040"/>
            <a:ext cx="345960" cy="345960"/>
          </a:xfrm>
          <a:prstGeom prst="ellipse">
            <a:avLst/>
          </a:prstGeom>
          <a:blipFill rotWithShape="0">
            <a:blip r:embed="rId4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5937120" y="4667400"/>
            <a:ext cx="346320" cy="345960"/>
          </a:xfrm>
          <a:prstGeom prst="ellipse">
            <a:avLst/>
          </a:prstGeom>
          <a:blipFill rotWithShape="0">
            <a:blip r:embed="rId4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1"/>
          <p:cNvSpPr/>
          <p:nvPr/>
        </p:nvSpPr>
        <p:spPr>
          <a:xfrm>
            <a:off x="5298480" y="184464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Intrepid ExtraBold"/>
                <a:ea typeface="方正综艺简体"/>
              </a:rPr>
              <a:t>5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2"/>
          <p:cNvSpPr/>
          <p:nvPr/>
        </p:nvSpPr>
        <p:spPr>
          <a:xfrm>
            <a:off x="5298480" y="184464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Intrepid ExtraBold"/>
                <a:ea typeface="方正综艺简体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3"/>
          <p:cNvSpPr/>
          <p:nvPr/>
        </p:nvSpPr>
        <p:spPr>
          <a:xfrm>
            <a:off x="5298480" y="184464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Intrepid ExtraBold"/>
                <a:ea typeface="方正综艺简体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4"/>
          <p:cNvSpPr/>
          <p:nvPr/>
        </p:nvSpPr>
        <p:spPr>
          <a:xfrm>
            <a:off x="5298480" y="184464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Intrepid ExtraBold"/>
                <a:ea typeface="方正综艺简体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5"/>
          <p:cNvSpPr/>
          <p:nvPr/>
        </p:nvSpPr>
        <p:spPr>
          <a:xfrm>
            <a:off x="5298480" y="184464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Intrepid ExtraBold"/>
                <a:ea typeface="方正综艺简体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0" y="6462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4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080" y="28116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倒计时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3" presetSubtype="16" repeatCount="5000">
                                  <p:stCondLst>
                                    <p:cond delay="1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3" presetSubtype="16" repeatCount="5000">
                                  <p:stCondLst>
                                    <p:cond delay="2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16" repeatCount="5000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3" presetSubtype="16" repeatCount="5000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3" presetSubtype="16" repeatCount="500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4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3" presetSubtype="16" repeatCount="5000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5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3" presetSubtype="16" repeatCount="5000">
                                  <p:stCondLst>
                                    <p:cond delay="7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6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3" presetSubtype="16" repeatCount="5000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6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3" presetSubtype="16" repeatCount="5000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7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3" presetSubtype="16" repeatCount="5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3" presetSubtype="16" repeatCount="5000">
                                  <p:stCondLst>
                                    <p:cond delay="11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3" presetSubtype="16" repeatCount="5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9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3" presetSubtype="16" repeatCount="5000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3" presetSubtype="16" repeatCount="5000">
                                  <p:stCondLst>
                                    <p:cond delay="14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3" presetSubtype="16" repeatCount="500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1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3" presetSubtype="16" repeatCount="5000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2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3" presetSubtype="16" repeatCount="5000">
                                  <p:stCondLst>
                                    <p:cond delay="17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3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3" presetSubtype="16" repeatCount="5000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3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3" presetSubtype="16" repeatCount="5000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4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3" presetSubtype="16" repeatCount="5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3" presetSubtype="16" repeatCount="5000">
                                  <p:stCondLst>
                                    <p:cond delay="21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3" presetSubtype="16" repeatCount="5000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6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3" presetSubtype="16" repeatCount="5000">
                                  <p:stCondLst>
                                    <p:cond delay="23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3" presetSubtype="16" repeatCount="5000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3" presetSubtype="16" repeatCount="5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8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3" presetSubtype="16" repeatCount="5000">
                                  <p:stCondLst>
                                    <p:cond delay="26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9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3" presetSubtype="16" repeatCount="5000">
                                  <p:stCondLst>
                                    <p:cond delay="27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0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3" presetSubtype="16" repeatCount="5000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0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3" presetSubtype="16" repeatCount="5000">
                                  <p:stCondLst>
                                    <p:cond delay="29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1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3" presetSubtype="16" repeatCount="5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3" presetSubtype="16" repeatCount="5000">
                                  <p:stCondLst>
                                    <p:cond delay="31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3" presetSubtype="16" repeatCount="5000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3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3" presetSubtype="16" repeatCount="5000">
                                  <p:stCondLst>
                                    <p:cond delay="33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3" presetSubtype="16" repeatCount="5000">
                                  <p:stCondLst>
                                    <p:cond delay="34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3" presetSubtype="16" repeatCount="500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5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3" presetSubtype="16" repeatCount="5000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6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3" presetSubtype="16" repeatCount="5000">
                                  <p:stCondLst>
                                    <p:cond delay="37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7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3" presetSubtype="16" repeatCount="5000">
                                  <p:stCondLst>
                                    <p:cond delay="38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7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3" presetSubtype="16" repeatCount="5000">
                                  <p:stCondLst>
                                    <p:cond delay="39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8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3" presetSubtype="16" repeatCount="5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0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3" presetSubtype="16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3" presetSubtype="16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3" presetSubtype="16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2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DEE9-7E49-4A64-862E-55F0969F2F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7:1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23:17Z</dcterms:modified>
  <cp:revision>1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