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117-2946-422C-806F-F62F3D2D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3F5-F310-47E0-8F13-3DC0FDB8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CFB-D1E9-4A51-816A-28D4FA30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8E1-6C99-4F48-8542-4645D30B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ECC-00A0-4B29-8AB5-945945EC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B39-33B9-408D-9B04-A1E5CC93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F8B-7730-4469-B270-C9CFBBD8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EA8-F1DA-458A-AF45-D9DDB16F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BD1-F244-42CB-BAE7-E0591607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CCF-8969-4770-BC06-0F9855E1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197-3A0D-4BA5-83E4-BC232F1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255-AFA8-4F30-8D38-F3E40939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9A93-D9C5-41EE-AADD-1AE97F5B18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314e251f95cad1c8ddf1f6927f3e6709c93d5138"/>
          <p:cNvPicPr/>
          <p:nvPr/>
        </p:nvPicPr>
        <p:blipFill>
          <a:blip r:embed="rId1"/>
          <a:stretch/>
        </p:blipFill>
        <p:spPr>
          <a:xfrm>
            <a:off x="0" y="-133200"/>
            <a:ext cx="9217080" cy="699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9760" y="981000"/>
            <a:ext cx="33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漫美男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e30e924b899a90193ea50831d950a7b0308f5ac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52a2834349b033b4c51f76f15ce36d3d439bdad"/>
          <p:cNvPicPr/>
          <p:nvPr/>
        </p:nvPicPr>
        <p:blipFill>
          <a:blip r:embed="rId1"/>
          <a:stretch/>
        </p:blipFill>
        <p:spPr>
          <a:xfrm>
            <a:off x="-1401840" y="0"/>
            <a:ext cx="105458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96720" y="5734080"/>
            <a:ext cx="580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009b3de9c82d158a6405204800a19d8bd3e4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8b13632762d0f7037e329e6908fa513d2797c587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d086e061d950a7be15145710ad162d9f2d3c9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4628535e5dde711daaa4943a7efce1b9d16610e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E55-AB73-4EC0-9E8A-76B8341D55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f703738da97739127a2b8fd4f8198618367ae2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7:15:4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32:46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