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080-9370-4593-AD39-7DDF1476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712-FAD2-42B7-8724-2FA7370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841-69A2-4CF5-8F71-D459EA98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EBE-0FA2-48EC-AFFD-4A942BE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F968-D804-4925-96D0-EFF58568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9AE9-0EF4-4ABA-9434-B797C517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133-FB7A-457B-A103-99D757CF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2F6-A24B-4DC7-8254-1781F06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218C-FE0F-4249-8CC1-E79D220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ECC-5FD1-46C4-9675-3C1E0A5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8418-25FB-4D52-99CE-E1FC5345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E4E-8BDD-4DE3-B11F-584FD3E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CA4D-2DC9-4FB4-A45C-15ADD43D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877-0565-4CE4-968E-1250015F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02D6-46F9-4382-B467-D814BA8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FF1-E01B-49F6-876D-650D74FA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45C7-F33F-4D29-B9C5-976060CA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80C-AAB7-4115-9AE9-D583B37D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678-41E0-47A9-B699-0D11213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2CC-1042-48D9-B384-02CC74A2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E3F-5AFF-4AE5-BE60-7BA4D9B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AE4-D431-46A0-AA80-05F94C5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2B4-F2B8-4D3A-B2C6-CAB243E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ACE-A065-48A9-996B-41155F3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6C3-2326-47AF-96A3-847247C5ED4F}" type="slidenum"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6C3-D967-4ACD-BE0B-9077E4462A2E}" type="slidenum"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itle Goes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5" name="Picture 4" descr="boy_playing_clarinet_hg_clr"/>
          <p:cNvPicPr/>
          <p:nvPr/>
        </p:nvPicPr>
        <p:blipFill>
          <a:blip r:embed="rId1"/>
          <a:stretch/>
        </p:blipFill>
        <p:spPr>
          <a:xfrm>
            <a:off x="6553080" y="4267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动漫</a:t>
            </a: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whitecell"/>
          <p:cNvPicPr/>
          <p:nvPr/>
        </p:nvPicPr>
        <p:blipFill>
          <a:blip r:embed="rId1"/>
          <a:stretch/>
        </p:blipFill>
        <p:spPr>
          <a:xfrm>
            <a:off x="1143000" y="663480"/>
            <a:ext cx="7829640" cy="5967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1" name="Picture 5" descr="girl_playing_violin_hg_clr"/>
          <p:cNvPicPr/>
          <p:nvPr/>
        </p:nvPicPr>
        <p:blipFill>
          <a:blip r:embed="rId2"/>
          <a:stretch/>
        </p:blipFill>
        <p:spPr>
          <a:xfrm>
            <a:off x="7315200" y="48006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4920" y="609300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Transitional Page</a:t>
            </a:r>
            <a:endParaRPr b="1" lang="en-US" sz="7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Franklin Gothic Demi"/>
              <a:ea typeface="宋体"/>
            </a:endParaRPr>
          </a:p>
        </p:txBody>
      </p:sp>
      <p:pic>
        <p:nvPicPr>
          <p:cNvPr id="97" name="Picture 4" descr="girl_playing_trumpet_hg_clr"/>
          <p:cNvPicPr/>
          <p:nvPr/>
        </p:nvPicPr>
        <p:blipFill>
          <a:blip r:embed="rId2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模板免费下载。助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143000" y="685800"/>
            <a:ext cx="77724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4" name="Picture 5" descr="boy_playing_saxophone_hg_clr"/>
          <p:cNvPicPr/>
          <p:nvPr/>
        </p:nvPicPr>
        <p:blipFill>
          <a:blip r:embed="rId1"/>
          <a:stretch/>
        </p:blipFill>
        <p:spPr>
          <a:xfrm>
            <a:off x="6934320" y="4495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6:16:0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0:3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