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5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</p:sld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0B490-09D9-4C3C-AFF4-3D3AE68B85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2A18-0C94-4841-B4F7-9D341402E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4FBE67-CEFB-4F74-A609-9CCCF3AB6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9D17CD-5AAE-473E-890A-D4813746C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09EF57-CA4F-439A-9D90-303B4EFFBB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102EB6-7964-4AA3-B9F8-C22FB15DEC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4D32D5-C2AB-4B69-A8BE-44B92D5A3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86AE49-7DD2-48E2-8068-6FE040950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7BEBA3-809B-4879-8AF9-398F3855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893B473-5008-4D57-B294-7F20EE8EEF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DB5E8D4-EC55-4B21-B73F-767415428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748EA22-7822-4AAD-B71E-8E9ACF5213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F5B8-162D-46B0-BD72-51555DC88A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97753B-2B02-4AA7-9AF0-AF8B004B9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69EAE6B-D026-4222-B23D-80532D2EF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C0CB44-BC7F-47F1-9602-90A914DF3C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6E3EE5D-90A0-47B3-BCA3-48BDFC349B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098EFD-EEFC-4BC9-B6B0-420DCDB6EF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539ED65-4254-4AA1-A073-39DA24E75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B835C2-44C5-41C7-B9C0-D32D9289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F9CC1F6-99C8-4C5F-AF9F-775A7C80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F055061-D727-4EC4-80B9-7B804910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A782898-60AC-4B02-9DFA-70ECBB5DB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1B6D-B70E-4930-85F3-D00AAD8C44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65D1AD-2C28-4E4F-9C27-79E4D9CB8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8F9F083-7A38-47C6-89ED-A85090A3F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AA953EA-0325-4AEF-82CC-91CCADF2D7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149BE89-F4D4-4C8F-A7B9-59693BB48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644E17-7464-4843-941A-A849758121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2BB70AF-BD29-4AD6-ABBC-C2870B62B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D5DC511-04FA-444D-8308-E55E94596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D32D6C8-90E8-4192-A3D0-CCECA2D8A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DB2FF3-7AD3-4017-B261-D5512B812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DC406D-0E5A-4A58-A809-1D7DF337E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64DB-EB46-496F-90C0-F823FBE25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F6D9E1C-83E6-4DF5-981F-571AD9DFB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014FC7-4C65-4CBE-B46A-27A4DD1E27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ABA3D7-F23A-4FE7-9223-67961955F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0175D23-B3F3-4795-AE92-EC18E27AC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497CC85-E49F-4499-83AE-6A03564EF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AAD5038-22B5-46D4-81E6-96FE21435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6EA99EE-BFA2-406E-B10E-3CEFA5D5B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87078D-92E9-4E4A-AD37-C8FC3FBB70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0B281A-32E9-4DD5-BE78-DED822148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01D67EC-3616-4B50-9D18-A8161D42E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6F7D3-CF0B-4CD9-8F61-2A0C441BC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8C512A8-AB6F-432D-8186-5631EA3E9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C67F07-4442-4B41-A95B-6F3B8C8A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90926A4-0371-4827-9694-D6BA44CF5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9CDD2AD-D878-416B-8DE6-0EA76FB8CF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69CBD9-4102-4269-860C-CE0BB8F1A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27C5EE-5B88-4EB3-8865-1F8F10309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5D2E956-D8F0-4C50-8A7F-87D8DD0CD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CD73834-891D-428B-9F6D-D0581EE95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A0161B1-FAF3-4CBD-832C-B02C8F341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6DB706-EDD8-4849-8DCC-737A12660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D50D71-37E3-4EB5-B066-8B5783004E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0CD4DA-3043-4976-BDE9-65B3F02FB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7E1E29C-E40A-44BA-A99F-1789A159D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F0613A7-6259-4ABD-B2C8-C479EDB13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9709463-E5AD-4339-80A1-910DD3A1E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432AA6-B9F0-49C3-A4C9-0E3513968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5AEDA0B-AF00-4A61-B52D-0DDD47C136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6ABDE8E-A211-44A7-844F-982FA59CDF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18E8E-48CA-4038-BA66-084239FB4D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A8B54F-C1D9-4389-976C-92910DEA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D552C-1420-4B08-B308-2EBE98F7D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ECCC1-85ED-495B-B140-14D40D493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740F6-307D-4AA9-AC56-BF258E3F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9BBDC2-A296-4434-830C-5ED362EB8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C2B52-470C-44E0-ACC2-4E5DB3E05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891FC4-6CBD-4831-A54A-3624F62AE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D971CE-2B3E-4190-83DA-C78CF9E9A0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F89636-4F8F-4821-A692-C35F08650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E6DF9A-771A-49E1-9723-DF59870666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CB7E64-E728-4C35-A062-046F5A51F6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8C1314-C2AE-4374-96EB-00FF3F5282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34949C-3EE7-4102-AB52-B62F6737E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BF3600-6653-4DA3-B73D-499A6E369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56821-0BF7-4564-9BFD-C0DCD5CDE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ACFB460-550B-45D3-B082-A2B69FD53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2473C8-6B56-4511-9BE0-267DB622D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16719-AF3A-43EB-8691-486420C32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633C77-0078-4E76-934F-503017BFC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2706E1-2C26-4EE5-9B0F-1BC704E944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91FCDD-9C0E-41DC-AE45-3C4902F3F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8FFA97-0672-47E6-985D-4046D8C67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308D27-79A6-49A3-9037-E4191B2AA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E52F10-3A99-43A6-9F46-8D92A9CC2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4E02F-A694-42E0-BDE2-03E68438B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4AC28-AD89-4A71-B9F0-D4D7F81F2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0D0473-15C8-4DE9-AD19-829FF8D95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DD05D8-683E-42AD-8456-FCEAA93EF3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41005D-AD46-4FE4-8C8F-629AC5C506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470BD1-C2EF-493C-8EC9-890D0CA0C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5FF72A-FE7E-47B6-8077-086437FC2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A2FB70-D26C-4F82-8D03-8C8E21DA20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7E258C-2775-457A-9530-6D000ABDF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D7C65E-51C7-46CE-B2FD-1E36605402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63E1D16-F885-49CE-A754-33012E1C7E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59BEF8-117C-4C49-8E9C-11269A27A6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661AE-C495-4D8E-AF04-9B78B18268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37A00A1-83E6-497F-970A-D6A5358AF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5F18F8-6287-43A8-A9B9-FCEF8E1A1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3DF8C9-DE92-433E-9DFC-A854E13F2B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A41D9F-3280-4F45-B8AF-8BC7C9868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BC2711-0EF5-4F39-82F4-CBB9D0F96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4AA6EC-4397-4536-B0BE-774AAA7EF1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A612F9-B381-4F90-98E9-31E0CD97F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4891199-1C43-4BDF-898F-05713C686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369FA09-ED16-4E42-893C-8FA0357CA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05F681-3A1D-4408-9640-1D05BB5CCF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A9D62-F418-4ED2-BA63-692C56A1B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1EA55B-D210-4197-83AF-164A25296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6E2189-614F-41D7-AF86-CFD345C9FD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7C6E2A6-2D6B-4B6A-A576-9C900E77DA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86122B-0A1E-43A3-BB0D-5F63397D2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076DC3-FBE6-42F1-9A6F-45041816E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01A641-89BE-40CE-A7CE-5B53C4CE83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6E87D5-B7A5-4845-915B-935B4A3D7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02F29D-9BF0-4738-B38D-2A01D8D37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52B5D95-2525-4285-B079-B7231C48F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D1F90F0-C70B-4996-96A5-25E1F59E5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FC75F-1C3B-45DF-A6AB-25B59BF19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A716B41-657D-4816-84A9-2E6AB0A2AC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F7EE75-73A8-4786-A2A5-38FB14772F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45793B-1E6C-4B4F-9A17-96A29C83E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45292A5-4875-44F3-8510-D88BBA9B53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28A9BEB-7BDE-4AF5-9603-A5E99062C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B42CA1D-09AF-4F6F-B92E-61BC30996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5D094D-613D-4FB2-8EC5-4A0495EAD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BB3C38-D0A4-4468-AE46-7DD95690F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4AF0C7-8297-426A-82D9-D0617A8C03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450F4FC-39C7-4248-AEC1-446FA70479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30298-A1A8-4E2B-9D64-DABF2ACDE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B081DD-6AA2-4819-BF0F-E6E21EBD9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B92DFD-E805-4566-95FB-4BC6FD4A8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2E5979D-D2E3-4926-999E-EB5A23C8E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9B160A3-7FE9-4FF3-BC60-BE03895625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940413-FC67-4871-ABD4-AC4CBBC3C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55141C-F342-4D33-9FC6-DB111061F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71C858-4551-475A-BC0F-6F34FE481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53C76D-06FB-4BB0-BCAF-B4A11C6818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FB170E-4C1F-4920-9544-6AB19E53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A30AC18-7E3B-472C-B404-3B39D0A20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B624-7C35-408F-9F6E-39F8F2627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ADBCB5-FE4A-458A-93DF-AA8D23CC7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C33119-E543-48B5-8066-FAC325DB8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8C64599-8D11-49D3-A884-8314E7243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5D6841D-CC65-4CB6-A7E1-AC258969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0B8B13D-E537-4106-B5E0-D0EE33DA88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44E455A-5011-49A9-B487-31A9EF8066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DC9CAF-E677-42AB-81AD-31D95276A1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C21ACC-93D8-4AE4-B542-FAEC99F642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C322211-B624-4581-8F51-88BDE090D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1F71EFB-AB92-4650-99CE-43B6E40FB4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3276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647960" y="635652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076960" y="6356520"/>
            <a:ext cx="3276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6C92-17A3-4FD0-B0A6-ED3F22BD64C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36F8A1-661A-4A3E-9167-3AB923F90398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9B79C-3FA6-481A-BB18-49C90777706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3B301-8865-4901-8698-C6B9E88FE687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dt" idx="3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4"/>
          <p:cNvSpPr>
            <a:spLocks noGrp="1"/>
          </p:cNvSpPr>
          <p:nvPr>
            <p:ph type="ftr" idx="3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5"/>
          <p:cNvSpPr>
            <a:spLocks noGrp="1"/>
          </p:cNvSpPr>
          <p:nvPr>
            <p:ph type="sldNum" idx="3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7EF96-F2DF-403D-AE90-FABC5BD5C6EC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7EDA8B-1DF1-49A5-9B5D-49275F668459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E782B-CFBB-4701-8125-095DF19A267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94190-DF64-4076-9CF7-74C0781F887E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CC6A3-7598-4B0D-B095-71E58300D5B2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C66CB-D432-4422-8DB9-7847621E19AB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0B483-EFE0-4F8C-8CC0-64A2A2808671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4ED181-4CCE-4480-92AD-FD38AFC211E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609120" y="6356520"/>
            <a:ext cx="2845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4165200" y="6356520"/>
            <a:ext cx="3861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8737560" y="6356520"/>
            <a:ext cx="2844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3C34DB-E64C-41CE-8C5E-DFC9409406C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slide" Target="slide3.xml"/><Relationship Id="rId1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3.png"/><Relationship Id="rId3" Type="http://schemas.openxmlformats.org/officeDocument/2006/relationships/image" Target="../media/image7.png"/><Relationship Id="rId4" Type="http://schemas.openxmlformats.org/officeDocument/2006/relationships/slide" Target="slide2.xml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5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slide" Target="slide2.xml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Picture 10" descr="C:\Users\apple\Desktop\mb\222222222\1.jpg"/>
          <p:cNvPicPr/>
          <p:nvPr/>
        </p:nvPicPr>
        <p:blipFill>
          <a:blip r:embed="rId1"/>
          <a:stretch/>
        </p:blipFill>
        <p:spPr>
          <a:xfrm>
            <a:off x="14400" y="0"/>
            <a:ext cx="12217320" cy="6858000"/>
          </a:xfrm>
          <a:prstGeom prst="rect">
            <a:avLst/>
          </a:prstGeom>
          <a:ln w="0">
            <a:noFill/>
          </a:ln>
        </p:spPr>
      </p:pic>
      <p:sp>
        <p:nvSpPr>
          <p:cNvPr id="534" name="矩形 14"/>
          <p:cNvSpPr/>
          <p:nvPr/>
        </p:nvSpPr>
        <p:spPr>
          <a:xfrm>
            <a:off x="4748760" y="2270160"/>
            <a:ext cx="2833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方正大标宋简体"/>
                <a:ea typeface="方正大标宋简体"/>
              </a:rPr>
              <a:t>THE EARTH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矩形 15"/>
          <p:cNvSpPr/>
          <p:nvPr/>
        </p:nvSpPr>
        <p:spPr>
          <a:xfrm>
            <a:off x="4623120" y="2760840"/>
            <a:ext cx="30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WAS CRYING F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6" name="Picture 12" descr="C:\Users\apple\Desktop\mb\222222222\2.png"/>
          <p:cNvPicPr/>
          <p:nvPr/>
        </p:nvPicPr>
        <p:blipFill>
          <a:blip r:embed="rId2"/>
          <a:stretch/>
        </p:blipFill>
        <p:spPr>
          <a:xfrm>
            <a:off x="4327560" y="3473280"/>
            <a:ext cx="3511440" cy="927360"/>
          </a:xfrm>
          <a:prstGeom prst="rect">
            <a:avLst/>
          </a:prstGeom>
          <a:ln w="0">
            <a:noFill/>
          </a:ln>
        </p:spPr>
      </p:pic>
      <p:sp>
        <p:nvSpPr>
          <p:cNvPr id="537" name="矩形 1"/>
          <p:cNvSpPr/>
          <p:nvPr/>
        </p:nvSpPr>
        <p:spPr>
          <a:xfrm>
            <a:off x="155160" y="6465960"/>
            <a:ext cx="2980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矩形 2"/>
          <p:cNvSpPr/>
          <p:nvPr/>
        </p:nvSpPr>
        <p:spPr>
          <a:xfrm>
            <a:off x="3960000" y="1746360"/>
            <a:ext cx="3633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地球在喊救命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9" name="Picture 9" descr="C:\Users\apple\Desktop\mb\222222222\3.png"/>
          <p:cNvPicPr/>
          <p:nvPr/>
        </p:nvPicPr>
        <p:blipFill>
          <a:blip r:embed="rId1"/>
          <a:stretch/>
        </p:blipFill>
        <p:spPr>
          <a:xfrm>
            <a:off x="9983880" y="0"/>
            <a:ext cx="1011240" cy="884160"/>
          </a:xfrm>
          <a:prstGeom prst="rect">
            <a:avLst/>
          </a:prstGeom>
          <a:ln w="0">
            <a:noFill/>
          </a:ln>
        </p:spPr>
      </p:pic>
      <p:sp>
        <p:nvSpPr>
          <p:cNvPr id="540" name="矩形 10"/>
          <p:cNvSpPr/>
          <p:nvPr/>
        </p:nvSpPr>
        <p:spPr>
          <a:xfrm>
            <a:off x="1392120" y="858960"/>
            <a:ext cx="19684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a6a6a6"/>
                </a:solidFill>
                <a:latin typeface="方正大标宋简体"/>
                <a:ea typeface="方正大标宋简体"/>
              </a:rPr>
              <a:t>DIRECTORY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1" name="Picture 11" descr="C:\Users\apple\Desktop\mb\222222222\4.png"/>
          <p:cNvPicPr/>
          <p:nvPr/>
        </p:nvPicPr>
        <p:blipFill>
          <a:blip r:embed="rId2"/>
          <a:stretch/>
        </p:blipFill>
        <p:spPr>
          <a:xfrm>
            <a:off x="0" y="1089000"/>
            <a:ext cx="1341360" cy="12600"/>
          </a:xfrm>
          <a:prstGeom prst="rect">
            <a:avLst/>
          </a:prstGeom>
          <a:ln w="0">
            <a:noFill/>
          </a:ln>
        </p:spPr>
      </p:pic>
      <p:pic>
        <p:nvPicPr>
          <p:cNvPr id="542" name="Picture 12" descr="C:\Users\apple\Desktop\mb\222222222\5.png"/>
          <p:cNvPicPr/>
          <p:nvPr/>
        </p:nvPicPr>
        <p:blipFill>
          <a:blip r:embed="rId3"/>
          <a:stretch/>
        </p:blipFill>
        <p:spPr>
          <a:xfrm>
            <a:off x="1541520" y="2179800"/>
            <a:ext cx="109440" cy="109440"/>
          </a:xfrm>
          <a:prstGeom prst="rect">
            <a:avLst/>
          </a:prstGeom>
          <a:ln w="0">
            <a:noFill/>
          </a:ln>
        </p:spPr>
      </p:pic>
      <p:pic>
        <p:nvPicPr>
          <p:cNvPr id="543" name="Picture 12" descr="C:\Users\apple\Desktop\mb\222222222\5.png"/>
          <p:cNvPicPr/>
          <p:nvPr/>
        </p:nvPicPr>
        <p:blipFill>
          <a:blip r:embed="rId4"/>
          <a:stretch/>
        </p:blipFill>
        <p:spPr>
          <a:xfrm>
            <a:off x="2022480" y="2641680"/>
            <a:ext cx="109440" cy="109440"/>
          </a:xfrm>
          <a:prstGeom prst="rect">
            <a:avLst/>
          </a:prstGeom>
          <a:ln w="0">
            <a:noFill/>
          </a:ln>
        </p:spPr>
      </p:pic>
      <p:pic>
        <p:nvPicPr>
          <p:cNvPr id="544" name="Picture 12" descr="C:\Users\apple\Desktop\mb\222222222\5.png"/>
          <p:cNvPicPr/>
          <p:nvPr/>
        </p:nvPicPr>
        <p:blipFill>
          <a:blip r:embed="rId5"/>
          <a:stretch/>
        </p:blipFill>
        <p:spPr>
          <a:xfrm>
            <a:off x="2503440" y="3086280"/>
            <a:ext cx="109440" cy="109440"/>
          </a:xfrm>
          <a:prstGeom prst="rect">
            <a:avLst/>
          </a:prstGeom>
          <a:ln w="0">
            <a:noFill/>
          </a:ln>
        </p:spPr>
      </p:pic>
      <p:pic>
        <p:nvPicPr>
          <p:cNvPr id="545" name="Picture 12" descr="C:\Users\apple\Desktop\mb\222222222\5.png"/>
          <p:cNvPicPr/>
          <p:nvPr/>
        </p:nvPicPr>
        <p:blipFill>
          <a:blip r:embed="rId6"/>
          <a:stretch/>
        </p:blipFill>
        <p:spPr>
          <a:xfrm>
            <a:off x="2981160" y="3538440"/>
            <a:ext cx="109800" cy="109800"/>
          </a:xfrm>
          <a:prstGeom prst="rect">
            <a:avLst/>
          </a:prstGeom>
          <a:ln w="0">
            <a:noFill/>
          </a:ln>
        </p:spPr>
      </p:pic>
      <p:pic>
        <p:nvPicPr>
          <p:cNvPr id="546" name="Picture 12" descr="C:\Users\apple\Desktop\mb\222222222\5.png"/>
          <p:cNvPicPr/>
          <p:nvPr/>
        </p:nvPicPr>
        <p:blipFill>
          <a:blip r:embed="rId7"/>
          <a:stretch/>
        </p:blipFill>
        <p:spPr>
          <a:xfrm>
            <a:off x="10531440" y="4307040"/>
            <a:ext cx="109440" cy="109440"/>
          </a:xfrm>
          <a:prstGeom prst="rect">
            <a:avLst/>
          </a:prstGeom>
          <a:ln w="0">
            <a:noFill/>
          </a:ln>
        </p:spPr>
      </p:pic>
      <p:pic>
        <p:nvPicPr>
          <p:cNvPr id="547" name="Picture 12" descr="C:\Users\apple\Desktop\mb\222222222\5.png"/>
          <p:cNvPicPr/>
          <p:nvPr/>
        </p:nvPicPr>
        <p:blipFill>
          <a:blip r:embed="rId8"/>
          <a:stretch/>
        </p:blipFill>
        <p:spPr>
          <a:xfrm>
            <a:off x="10037880" y="4753080"/>
            <a:ext cx="109440" cy="109440"/>
          </a:xfrm>
          <a:prstGeom prst="rect">
            <a:avLst/>
          </a:prstGeom>
          <a:ln w="0">
            <a:noFill/>
          </a:ln>
        </p:spPr>
      </p:pic>
      <p:pic>
        <p:nvPicPr>
          <p:cNvPr id="548" name="Picture 12" descr="C:\Users\apple\Desktop\mb\222222222\5.png"/>
          <p:cNvPicPr/>
          <p:nvPr/>
        </p:nvPicPr>
        <p:blipFill>
          <a:blip r:embed="rId9"/>
          <a:stretch/>
        </p:blipFill>
        <p:spPr>
          <a:xfrm>
            <a:off x="9559800" y="5197320"/>
            <a:ext cx="109800" cy="109800"/>
          </a:xfrm>
          <a:prstGeom prst="rect">
            <a:avLst/>
          </a:prstGeom>
          <a:ln w="0">
            <a:noFill/>
          </a:ln>
        </p:spPr>
      </p:pic>
      <p:pic>
        <p:nvPicPr>
          <p:cNvPr id="549" name="Picture 12" descr="C:\Users\apple\Desktop\mb\222222222\5.png"/>
          <p:cNvPicPr/>
          <p:nvPr/>
        </p:nvPicPr>
        <p:blipFill>
          <a:blip r:embed="rId10"/>
          <a:stretch/>
        </p:blipFill>
        <p:spPr>
          <a:xfrm>
            <a:off x="9090000" y="5657760"/>
            <a:ext cx="109440" cy="109800"/>
          </a:xfrm>
          <a:prstGeom prst="rect">
            <a:avLst/>
          </a:prstGeom>
          <a:ln w="0">
            <a:noFill/>
          </a:ln>
        </p:spPr>
      </p:pic>
      <p:sp>
        <p:nvSpPr>
          <p:cNvPr id="550" name="矩形 20">
            <a:hlinkClick r:id="rId11" action="ppaction://hlinksldjump"/>
          </p:cNvPr>
          <p:cNvSpPr/>
          <p:nvPr/>
        </p:nvSpPr>
        <p:spPr>
          <a:xfrm>
            <a:off x="1708560" y="2030400"/>
            <a:ext cx="2402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a6a6a6"/>
                </a:solidFill>
                <a:latin typeface="微软雅黑"/>
                <a:ea typeface="微软雅黑"/>
              </a:rPr>
              <a:t>The first quarter sal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1" name="矩形 21"/>
          <p:cNvSpPr/>
          <p:nvPr/>
        </p:nvSpPr>
        <p:spPr>
          <a:xfrm>
            <a:off x="2181960" y="2506680"/>
            <a:ext cx="5097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a6a6a6"/>
                </a:solidFill>
                <a:latin typeface="微软雅黑"/>
                <a:ea typeface="微软雅黑"/>
              </a:rPr>
              <a:t>The second quarter sales The third quarter sal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2" name="矩形 23"/>
          <p:cNvSpPr/>
          <p:nvPr/>
        </p:nvSpPr>
        <p:spPr>
          <a:xfrm>
            <a:off x="2698200" y="2967120"/>
            <a:ext cx="5097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a6a6a6"/>
                </a:solidFill>
                <a:latin typeface="微软雅黑"/>
                <a:ea typeface="微软雅黑"/>
              </a:rPr>
              <a:t>The second quarter sales The third quarter sal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矩形 24"/>
          <p:cNvSpPr/>
          <p:nvPr/>
        </p:nvSpPr>
        <p:spPr>
          <a:xfrm>
            <a:off x="3115800" y="3429000"/>
            <a:ext cx="2402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a6a6a6"/>
                </a:solidFill>
                <a:latin typeface="微软雅黑"/>
                <a:ea typeface="微软雅黑"/>
              </a:rPr>
              <a:t>The first quarter sal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矩形 25"/>
          <p:cNvSpPr/>
          <p:nvPr/>
        </p:nvSpPr>
        <p:spPr>
          <a:xfrm>
            <a:off x="7938720" y="4141800"/>
            <a:ext cx="2402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a6a6a6"/>
                </a:solidFill>
                <a:latin typeface="微软雅黑"/>
                <a:ea typeface="微软雅黑"/>
              </a:rPr>
              <a:t>The first quarter sal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矩形 26"/>
          <p:cNvSpPr/>
          <p:nvPr/>
        </p:nvSpPr>
        <p:spPr>
          <a:xfrm>
            <a:off x="4850640" y="4608360"/>
            <a:ext cx="5097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a6a6a6"/>
                </a:solidFill>
                <a:latin typeface="微软雅黑"/>
                <a:ea typeface="微软雅黑"/>
              </a:rPr>
              <a:t>The second quarter sales The third quarter sal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6" name="矩形 27"/>
          <p:cNvSpPr/>
          <p:nvPr/>
        </p:nvSpPr>
        <p:spPr>
          <a:xfrm>
            <a:off x="4349160" y="5070600"/>
            <a:ext cx="50972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a6a6a6"/>
                </a:solidFill>
                <a:latin typeface="微软雅黑"/>
                <a:ea typeface="微软雅黑"/>
              </a:rPr>
              <a:t>The second quarter sales The third quarter sal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7" name="矩形 28"/>
          <p:cNvSpPr/>
          <p:nvPr/>
        </p:nvSpPr>
        <p:spPr>
          <a:xfrm>
            <a:off x="6602760" y="5532480"/>
            <a:ext cx="240264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a6a6a6"/>
                </a:solidFill>
                <a:latin typeface="微软雅黑"/>
                <a:ea typeface="微软雅黑"/>
              </a:rPr>
              <a:t>The first quarter sal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8" name="Picture 7" descr="C:\Users\apple\Desktop\mb\222222222\6.png"/>
          <p:cNvPicPr/>
          <p:nvPr/>
        </p:nvPicPr>
        <p:blipFill>
          <a:blip r:embed="rId1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  <p:sp>
        <p:nvSpPr>
          <p:cNvPr id="559" name="矩形 6"/>
          <p:cNvSpPr/>
          <p:nvPr/>
        </p:nvSpPr>
        <p:spPr>
          <a:xfrm>
            <a:off x="4572000" y="2625840"/>
            <a:ext cx="3154320" cy="120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a6a6"/>
                </a:solidFill>
                <a:latin typeface="微软雅黑"/>
                <a:ea typeface="微软雅黑"/>
              </a:rPr>
              <a:t>THE FIRS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a6a6a6"/>
                </a:solidFill>
                <a:latin typeface="微软雅黑"/>
                <a:ea typeface="微软雅黑"/>
              </a:rPr>
              <a:t>QUARTER SALES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8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9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9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79820">
                                      <p:cBhvr>
                                        <p:cTn id="9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0" name="Picture 12" descr="C:\Users\apple\Desktop\mb\222222222\5.png"/>
          <p:cNvPicPr/>
          <p:nvPr/>
        </p:nvPicPr>
        <p:blipFill>
          <a:blip r:embed="rId1"/>
          <a:stretch/>
        </p:blipFill>
        <p:spPr>
          <a:xfrm>
            <a:off x="1444680" y="708120"/>
            <a:ext cx="109440" cy="109440"/>
          </a:xfrm>
          <a:prstGeom prst="rect">
            <a:avLst/>
          </a:prstGeom>
          <a:ln w="0">
            <a:noFill/>
          </a:ln>
        </p:spPr>
      </p:pic>
      <p:pic>
        <p:nvPicPr>
          <p:cNvPr id="561" name="Picture 9" descr="C:\Users\apple\Desktop\mb\222222222\3.png"/>
          <p:cNvPicPr/>
          <p:nvPr/>
        </p:nvPicPr>
        <p:blipFill>
          <a:blip r:embed="rId2"/>
          <a:stretch/>
        </p:blipFill>
        <p:spPr>
          <a:xfrm>
            <a:off x="9983880" y="0"/>
            <a:ext cx="1011240" cy="884160"/>
          </a:xfrm>
          <a:prstGeom prst="rect">
            <a:avLst/>
          </a:prstGeom>
          <a:ln w="0">
            <a:noFill/>
          </a:ln>
        </p:spPr>
      </p:pic>
      <p:sp>
        <p:nvSpPr>
          <p:cNvPr id="562" name="矩形 11"/>
          <p:cNvSpPr/>
          <p:nvPr/>
        </p:nvSpPr>
        <p:spPr>
          <a:xfrm>
            <a:off x="1457280" y="4264200"/>
            <a:ext cx="9313920" cy="365040"/>
          </a:xfrm>
          <a:prstGeom prst="rect">
            <a:avLst/>
          </a:prstGeom>
          <a:solidFill>
            <a:srgbClr val="d9d9d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3" name="Picture 10" descr="C:\Users\apple\Desktop\mb\222222222\7.png"/>
          <p:cNvPicPr/>
          <p:nvPr/>
        </p:nvPicPr>
        <p:blipFill>
          <a:blip r:embed="rId3"/>
          <a:stretch/>
        </p:blipFill>
        <p:spPr>
          <a:xfrm>
            <a:off x="1469880" y="2509920"/>
            <a:ext cx="3389400" cy="1633320"/>
          </a:xfrm>
          <a:prstGeom prst="rect">
            <a:avLst/>
          </a:prstGeom>
          <a:ln w="0">
            <a:noFill/>
          </a:ln>
        </p:spPr>
      </p:pic>
      <p:sp>
        <p:nvSpPr>
          <p:cNvPr id="564" name="矩形 13"/>
          <p:cNvSpPr/>
          <p:nvPr/>
        </p:nvSpPr>
        <p:spPr>
          <a:xfrm>
            <a:off x="5070600" y="2592360"/>
            <a:ext cx="55782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Ehendae parionsent. Officip iendeles vitaspediti untiunto te soloriam, id et explaccabo. Uptas quatium enihillibus est lacearc hiciass edignisquo bla di ommos modit atumen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Uptas quatium enihillibus est lacearc hiciass edignisquo bla di ommos modit atumen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5" name="矩形 14"/>
          <p:cNvSpPr/>
          <p:nvPr/>
        </p:nvSpPr>
        <p:spPr>
          <a:xfrm>
            <a:off x="1625040" y="598320"/>
            <a:ext cx="289512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a6a6a6"/>
                </a:solidFill>
                <a:latin typeface="微软雅黑"/>
                <a:ea typeface="微软雅黑"/>
              </a:rPr>
              <a:t>THE FIRST QUARTER SAL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矩形 15">
            <a:hlinkClick r:id="rId4" action="ppaction://hlinksldjump"/>
          </p:cNvPr>
          <p:cNvSpPr/>
          <p:nvPr/>
        </p:nvSpPr>
        <p:spPr>
          <a:xfrm>
            <a:off x="10702800" y="6288120"/>
            <a:ext cx="107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0e9"/>
                </a:solidFill>
                <a:latin typeface="方正大标宋简体"/>
                <a:ea typeface="方正大标宋简体"/>
              </a:rPr>
              <a:t>【</a:t>
            </a:r>
            <a:r>
              <a:rPr b="0" lang="en-US" sz="1000" spc="-1" strike="noStrike">
                <a:solidFill>
                  <a:srgbClr val="00a0e9"/>
                </a:solidFill>
                <a:latin typeface="方正大标宋简体"/>
                <a:ea typeface="方正大标宋简体"/>
              </a:rPr>
              <a:t>DIRECTORY</a:t>
            </a:r>
            <a:r>
              <a:rPr b="0" lang="en-US" sz="1000" spc="-1" strike="noStrike">
                <a:solidFill>
                  <a:srgbClr val="00a0e9"/>
                </a:solidFill>
                <a:latin typeface="方正大标宋简体"/>
                <a:ea typeface="方正大标宋简体"/>
              </a:rPr>
              <a:t>】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4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199224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163188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网站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                      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背景图片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动态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dongtai/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毕业设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chuangyi/       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图表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tubiao/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论文答辩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打包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好看的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jingpi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企业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qiye/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免费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课件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kejian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素材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sucai/                  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古典中国风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zhongguofe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营销策划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  http://www.eeppt.com/moban/yingxiao/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经典商务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shangwu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外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uowai/ 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工作总结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模板下载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</a:rPr>
              <a:t>http://www.eeppt.com/moban/gongzuo/ 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9" name="Rectangle 7"/>
          <p:cNvSpPr/>
          <p:nvPr/>
        </p:nvSpPr>
        <p:spPr>
          <a:xfrm>
            <a:off x="881064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0" name="Picture 9" descr="C:\Users\apple\Desktop\mb\222222222\3.png"/>
          <p:cNvPicPr/>
          <p:nvPr/>
        </p:nvPicPr>
        <p:blipFill>
          <a:blip r:embed="rId1"/>
          <a:stretch/>
        </p:blipFill>
        <p:spPr>
          <a:xfrm>
            <a:off x="9983880" y="0"/>
            <a:ext cx="1011240" cy="88416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12" descr="C:\Users\apple\Desktop\mb\222222222\5.png"/>
          <p:cNvPicPr/>
          <p:nvPr/>
        </p:nvPicPr>
        <p:blipFill>
          <a:blip r:embed="rId2"/>
          <a:stretch/>
        </p:blipFill>
        <p:spPr>
          <a:xfrm>
            <a:off x="1444680" y="708120"/>
            <a:ext cx="109440" cy="109440"/>
          </a:xfrm>
          <a:prstGeom prst="rect">
            <a:avLst/>
          </a:prstGeom>
          <a:ln w="0">
            <a:noFill/>
          </a:ln>
        </p:spPr>
      </p:pic>
      <p:sp>
        <p:nvSpPr>
          <p:cNvPr id="572" name="矩形 9"/>
          <p:cNvSpPr/>
          <p:nvPr/>
        </p:nvSpPr>
        <p:spPr>
          <a:xfrm>
            <a:off x="1705320" y="598320"/>
            <a:ext cx="6061680" cy="35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a6a6a6"/>
                </a:solidFill>
                <a:latin typeface="微软雅黑"/>
                <a:ea typeface="微软雅黑"/>
              </a:rPr>
              <a:t>THE SECOND QUARTER SALES THE THIRD QUARTER SALES</a:t>
            </a: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3" name="Picture 9" descr="C:\Users\apple\Desktop\mb\222222222\8.png"/>
          <p:cNvPicPr/>
          <p:nvPr/>
        </p:nvPicPr>
        <p:blipFill>
          <a:blip r:embed="rId3"/>
          <a:stretch/>
        </p:blipFill>
        <p:spPr>
          <a:xfrm>
            <a:off x="1353960" y="1338120"/>
            <a:ext cx="2376720" cy="3668760"/>
          </a:xfrm>
          <a:prstGeom prst="rect">
            <a:avLst/>
          </a:prstGeom>
          <a:ln w="0">
            <a:noFill/>
          </a:ln>
        </p:spPr>
      </p:pic>
      <p:sp>
        <p:nvSpPr>
          <p:cNvPr id="574" name="矩形 12"/>
          <p:cNvSpPr/>
          <p:nvPr/>
        </p:nvSpPr>
        <p:spPr>
          <a:xfrm>
            <a:off x="3738600" y="2470320"/>
            <a:ext cx="7210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Ehendae parionsent. Officip iendeles vitaspediti untiunto te soloriam, id et explaccabo. Uptas quatium enihillibus est lacearc hiciass edignisquo bla di ommos modit atumen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Uptas quatium enihillibus est lacearc hiciass edignisquo bla di ommos modit atumen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5" name="Picture 10" descr="C:\Users\apple\Desktop\mb\222222222\9.png"/>
          <p:cNvPicPr/>
          <p:nvPr/>
        </p:nvPicPr>
        <p:blipFill>
          <a:blip r:embed="rId4"/>
          <a:stretch/>
        </p:blipFill>
        <p:spPr>
          <a:xfrm>
            <a:off x="9117000" y="3648240"/>
            <a:ext cx="1657440" cy="1103040"/>
          </a:xfrm>
          <a:prstGeom prst="rect">
            <a:avLst/>
          </a:prstGeom>
          <a:ln w="0">
            <a:noFill/>
          </a:ln>
        </p:spPr>
      </p:pic>
      <p:sp>
        <p:nvSpPr>
          <p:cNvPr id="576" name="矩形 14"/>
          <p:cNvSpPr/>
          <p:nvPr/>
        </p:nvSpPr>
        <p:spPr>
          <a:xfrm>
            <a:off x="3745080" y="3699000"/>
            <a:ext cx="52606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Ehendae parionsent. Officip iendeles vitaspediti untiunto te soloriam, id et explaccabo. Uptas quatium enihillibus est lacearc hiciass edignisquo bla di ommos modit atument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a6a6a6"/>
                </a:solidFill>
                <a:latin typeface="Times New Roman"/>
                <a:ea typeface="Times New Roman"/>
              </a:rPr>
              <a:t>Uptas quatium enihillibus est lacearc hiciass edignisquo bla d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7" name="矩形 16">
            <a:hlinkClick r:id="rId5" action="ppaction://hlinksldjump"/>
          </p:cNvPr>
          <p:cNvSpPr/>
          <p:nvPr/>
        </p:nvSpPr>
        <p:spPr>
          <a:xfrm>
            <a:off x="10702800" y="6288120"/>
            <a:ext cx="107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a0e9"/>
                </a:solidFill>
                <a:latin typeface="方正大标宋简体"/>
                <a:ea typeface="方正大标宋简体"/>
              </a:rPr>
              <a:t>【</a:t>
            </a:r>
            <a:r>
              <a:rPr b="0" lang="en-US" sz="1000" spc="-1" strike="noStrike">
                <a:solidFill>
                  <a:srgbClr val="00a0e9"/>
                </a:solidFill>
                <a:latin typeface="方正大标宋简体"/>
                <a:ea typeface="方正大标宋简体"/>
              </a:rPr>
              <a:t>DIRECTORY</a:t>
            </a:r>
            <a:r>
              <a:rPr b="0" lang="en-US" sz="1000" spc="-1" strike="noStrike">
                <a:solidFill>
                  <a:srgbClr val="00a0e9"/>
                </a:solidFill>
                <a:latin typeface="方正大标宋简体"/>
                <a:ea typeface="方正大标宋简体"/>
              </a:rPr>
              <a:t>】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0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" dur="2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Picture 5" descr="C:\Users\apple\Desktop\mb\222222222\10.png"/>
          <p:cNvPicPr/>
          <p:nvPr/>
        </p:nvPicPr>
        <p:blipFill>
          <a:blip r:embed="rId1"/>
          <a:stretch/>
        </p:blipFill>
        <p:spPr>
          <a:xfrm>
            <a:off x="5019840" y="3878280"/>
            <a:ext cx="2455560" cy="274680"/>
          </a:xfrm>
          <a:prstGeom prst="rect">
            <a:avLst/>
          </a:prstGeom>
          <a:ln w="0">
            <a:noFill/>
          </a:ln>
        </p:spPr>
      </p:pic>
      <p:pic>
        <p:nvPicPr>
          <p:cNvPr id="579" name="Picture 9" descr="C:\Users\apple\Desktop\mb\222222222\3.png"/>
          <p:cNvPicPr/>
          <p:nvPr/>
        </p:nvPicPr>
        <p:blipFill>
          <a:blip r:embed="rId2"/>
          <a:stretch/>
        </p:blipFill>
        <p:spPr>
          <a:xfrm>
            <a:off x="5759280" y="3884760"/>
            <a:ext cx="1011240" cy="884160"/>
          </a:xfrm>
          <a:prstGeom prst="rect">
            <a:avLst/>
          </a:prstGeom>
          <a:ln w="0">
            <a:noFill/>
          </a:ln>
        </p:spPr>
      </p:pic>
      <p:sp>
        <p:nvSpPr>
          <p:cNvPr id="580" name="矩形 6"/>
          <p:cNvSpPr/>
          <p:nvPr/>
        </p:nvSpPr>
        <p:spPr>
          <a:xfrm>
            <a:off x="4925880" y="2703600"/>
            <a:ext cx="27846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a6a6a6"/>
                </a:solidFill>
                <a:latin typeface="微软雅黑"/>
                <a:ea typeface="微软雅黑"/>
              </a:rPr>
              <a:t>THANKS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6a6a6"/>
                </a:solidFill>
                <a:latin typeface="微软雅黑"/>
                <a:ea typeface="微软雅黑"/>
              </a:rPr>
              <a:t>FOR WATCHING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0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9:31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01:47:42Z</dcterms:modified>
  <cp:revision>0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