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34E5-F6CF-4993-86C2-A61F230CC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6A50-CFFD-42A5-8EAE-114B84353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628A-492F-40E9-B691-97389D746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45BF-15B1-45E1-A0E4-2DA0171BE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AFE52-34C0-40EA-8DE7-A3ED99290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665F9-8B11-4B6D-BE6E-8F0E707E6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652BC-2505-4387-937C-10FB6FDC0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F331D-B42B-423C-874D-11366EE5C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19958-4276-41FA-A7BA-73BEF5DC9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410CC-3C1E-431E-9A19-956394FD8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454CA-1008-428A-825C-6E372875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2428-ECA1-4B2B-A43A-8C3879F30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92A34-E7FE-4261-A09B-F63A781A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95273-3A88-4BD3-BBB5-7E7846F9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1F516-9ADA-41BA-A009-AE1E452CF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10237-ECAF-4F28-A54E-0C3C8DE18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A5F98-054F-4613-94E9-F3BBE3A20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2BA5-1E89-49AA-871C-53259D795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509C-7686-4EBD-BAE5-F36518419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E883-66E9-4BDF-A9F5-49BCB8878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5635-E0CF-4D4B-85C1-3DD4BAEF0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517E-00C8-4166-BD36-C23797FD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11E0-31F8-4323-AE4B-2A96CF44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A0FC-160E-495C-9F03-514D96FB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11DC3-8A9E-4DA2-9B9F-9738065EE68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292BD-FE81-40AB-8440-A6EF3B6A55D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0" descr=""/>
          <p:cNvPicPr/>
          <p:nvPr/>
        </p:nvPicPr>
        <p:blipFill>
          <a:blip r:embed="rId2"/>
          <a:stretch/>
        </p:blipFill>
        <p:spPr>
          <a:xfrm>
            <a:off x="2627280" y="1374840"/>
            <a:ext cx="4230720" cy="15494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492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1519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4427640" y="3449520"/>
            <a:ext cx="4751280" cy="3435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3"/>
          <a:stretch/>
        </p:blipFill>
        <p:spPr>
          <a:xfrm>
            <a:off x="395280" y="88920"/>
            <a:ext cx="2592360" cy="9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B0CB-AA4F-49A6-B6BB-A5C59E9D46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5"/>
          <p:cNvSpPr/>
          <p:nvPr/>
        </p:nvSpPr>
        <p:spPr>
          <a:xfrm>
            <a:off x="281160" y="528480"/>
            <a:ext cx="6904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3240" y="0"/>
            <a:ext cx="241128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"/>
          <p:cNvPicPr/>
          <p:nvPr/>
        </p:nvPicPr>
        <p:blipFill>
          <a:blip r:embed="rId2"/>
          <a:stretch/>
        </p:blipFill>
        <p:spPr>
          <a:xfrm>
            <a:off x="108000" y="5950080"/>
            <a:ext cx="2077920" cy="7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6T13:5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9T02:44:01Z</dcterms:modified>
  <cp:revision>76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