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C3F5-1E6E-440A-AEDD-0D8562C7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B95AB-DFDD-44DD-B01D-08A5153A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FD09D-45CA-4E52-BD4B-F85A64CF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36EC-B6D9-41E4-8452-F1003B3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39859-6DA8-4001-89C8-ECAFE36C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592C6-FC6E-4125-B54D-4B49368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D0041-0833-406E-A2F5-D1B8BA1F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92C24-90A7-42BC-A3A5-290FA972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1DA4D-5B6F-43C0-B4C3-F43663C3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B6423-009B-4B74-BEE1-CEA4303D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03771-D33C-4BBD-ABC9-EE0598E2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F3D88-B4B3-41FD-AD3A-59A24292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0730D-1F37-4D56-A894-98E240F4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C5C50-AE1C-4EFA-86F6-87BDB7E2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EFE6B-075A-47B3-8F19-6310AA3A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CC351-97BD-4804-AE75-36726E02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EED59-0DDB-44AE-8C75-4CD6117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D007C-ABE9-432C-BEAB-AD8C7E5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641B4-CDBB-4EF2-AD51-A7CEE3E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D6F4B-B95C-44B9-A215-4A5C027C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16987-2074-4D75-A4B1-9B125A88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C133D-E66C-4183-865A-14F55380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997C5-478D-424F-A229-8979BF85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E582A-806A-4083-9E04-DE3AEC50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47EBD-210C-4C08-8C30-F9174C56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3E5DE-A6E2-4956-9E57-5024F2E8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9B03E-FA06-458E-BD1A-CF4929B4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306C9-DA77-4E7E-B114-119E236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5F3FC-FC24-4770-AD62-C6194FF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39214-EE32-4FF8-A3C2-C279386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F73-1D90-4AB9-B7C3-7CF619D1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493B7-94D5-4BBA-AADF-843BCBF2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3EB96-4CDA-4E48-A37B-A7D0EA98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88261-26D6-42A5-9991-AF541F0C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9342D-D97F-4B8D-97DC-DDA5C42D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11D1F-BAD8-4A22-ABD0-40897B4F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D2799-C44C-41D5-A900-6F3710B8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6DE94-3FF7-42D1-93FA-D3D03742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476BE-1DFD-4969-93A4-DA701AC4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F39B9-DDCF-46DD-A00B-ECF0C6C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48356-468E-4D83-A190-8C22A088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A5F-D37C-4F62-A3DC-5D20DFDF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581BF-A7BD-4809-B3E8-8D98AF7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70675-646B-471B-8EA4-D30AEF9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648B6-A89E-4CCC-BCFB-B961D8CD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01BDE-C6C1-4E89-9F39-CBA15C18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EF54-5DCF-439E-AB34-86907DA1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7F6D1-E3DE-4FA0-9EF2-08A10FA2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3693F-E1FB-4854-B657-7668E83F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D7C4B-AEA4-466C-9EF3-2CCD8C2B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F472F-9CAE-44A6-9E9C-1D9CB455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1C190-742E-4404-9BFA-CD2517B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97A-EFA4-4A7F-8835-81030F98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608A1-2025-48D2-BF95-D9A909B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3A0B0-7180-4DD8-83CF-2FA74B4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6F2A5-2A51-4A20-8BDC-CD7AEF7F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2E44E-0FF9-4EAF-9EBB-ABF86C1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B9FF1-B25B-45AD-8F50-4CC58AC5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B5E35-EE8C-4277-A7CA-C761A773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9FF20-80B0-43CC-8995-ACE57C34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92231-B109-4C76-8287-FC540F81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0C2CC-556B-4180-A84E-F26F5AC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E71D4-5BAF-4A71-8D31-2539826A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5FE-1E25-4A35-93D4-74E3E500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C8729-9532-4DBC-9658-98E8AF63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06F75-7965-4DF0-B8B7-D5417F0C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E70D1-502C-4DFB-99AA-80089433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BD99A-D40D-46CA-A43E-2D67CFFF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A91A2-360F-45C4-844E-AE2EC9FE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FC56D-F0F0-4902-ACA4-50A29EE6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1839B-2D0D-44DE-A44E-C2622275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0F2DE-47E5-45D5-9985-E7A09A5F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8816E-6698-44F4-A42E-998311C8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57E-8F2C-423D-833C-4BBDB153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1C4-D84E-4B99-8B8C-033C1C3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73F-C4A0-47A1-BC77-4D14317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029-E2E8-4A86-9E0D-208AFE47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72B-2B29-4EC3-8308-1CFD5A3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DB2-7E4C-42E4-90F4-35D6E648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B6A-27D1-4687-81D1-95992C84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41A-1EA6-41EB-9856-E646B63E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4585-1849-42D2-B18E-FF197343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7CD7-266D-479A-8ACD-A2659C59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5F20-AF23-4C0F-9933-3700AE5D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989E-3BA8-47F2-9F7C-542505FE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1060-D928-46F5-A349-075FA770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B96E-9F2A-4EE9-9F92-8A4E833B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49C1-E79E-4B86-B8B5-A14B3EA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BCC-32EA-42B6-92ED-B3915DF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2C06-5B62-4073-8628-2F362257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44DD-12F2-4EFF-A909-7558F45A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9971-4A0F-4D5B-9EF8-3453C803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068-338C-4491-A1D5-F54EE747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C068-6E9D-45C7-86B7-67BC7C21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4E51-27E2-4321-836C-217353D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80F12-4A16-4552-A260-59176659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347F-001D-4B7C-B20D-C7AC8857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B2C7-B992-4E25-9921-E837EEA1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EAA8-B6CF-48D8-ACDD-A4B3A905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C25F-2F00-4E77-800A-1EEE63B5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A06F7-86CF-415A-AF29-FFDE1E6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9B48-4A47-4456-A5CD-354A2318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93C8-7ED9-44BD-8FE6-7E1B85C8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BFAD-300E-4645-81C8-004515F8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2272-1F16-4C8C-BB28-FB5460E8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17163-A7C0-4791-9A92-F2EF2052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CA8F-E6E1-4F29-AD18-947B89FE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3FB9-6733-4E24-AAFA-FA20A98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5FBF-C37B-48EC-91D3-16391E41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2FAD-D2C8-4A21-904D-1F3024D1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61BA-DEA3-495E-BFE6-6CEDB63C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EA3D-37A4-4B7E-9A50-DA9251CD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6B2D-5EDD-4344-A514-6E97B18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6BBD8-F1BD-4A5F-BF7E-08E35D52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5E74-6B0B-4128-B499-5576BDD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0367-656A-4605-A0DB-8DCCFD4E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4EF5-8AEE-4401-B1EA-AAAE07F8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5E5C-0268-4828-8701-647CF4EA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CE18D-9386-46FC-A4D0-5D13B424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95D9-71AD-4B89-83FE-AFC66796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39355-488E-442C-87C8-19FC5DE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07E6-7BC0-4DAD-BFB0-24850E6F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A7348-7E3B-4930-B382-06A7714A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90D2-1C11-4DA3-9D55-6DAD4807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CB77-F563-47BC-8818-15C491C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5697-BCBF-4701-B086-5CB6B89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31FDF-392D-48A1-A8F8-E69EAAA5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1FA87-C024-40F7-971B-C94E63CA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B944-7385-4974-9A65-E4B2320C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6B880-1F33-45FB-AF21-1A5593B3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6CE5-54E5-4238-940A-59A6FFB0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FFDEC-ACE5-439C-8BB3-4DB08F8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41801-8D7D-455A-86D6-D04ED67B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62F2D-28D9-4C38-8F88-0BCE5E12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2389F-3C1C-49D7-B48D-8DD9D110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312CC-E45C-4D95-82D4-6D6D6D29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FCC05-95C0-455E-AC07-223DF438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28564-5B22-4696-A231-4F9DD55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5AB9-08A4-47C8-9B48-71C2465F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07CB-77EB-406D-AAA1-D0CC841F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A5810-9EDD-41D3-B359-0BC12620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F2574-B3FF-437B-8A09-60896B7F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9CA3-C1BE-4B02-951F-60A7E8A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D453-AFEE-4474-9A6A-17DAD74A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D39D7-57FF-400D-8752-533232B0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8E379-D78A-437B-BB57-28072EE3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592C0-31DC-4EA2-ACF1-647BE5F9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FD8D-4D39-41CE-AA30-66785E9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E82C-DE03-468D-838C-04669DD6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F54A-7A7D-4514-99B9-0A0A30F9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9CD16-2618-4B34-A6FD-A4A2D96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83210-0F7C-4FB5-A09A-D0DA74E0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544D-2034-41B2-A7CF-5A245693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F10B-C598-450B-9F5C-C563871E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3D69C-6DBA-44DB-882A-898E8C61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AE45C-6475-4B2B-B81C-9C21EAA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4859280" y="242568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" descr="E:\矢量图素材\中国风\莲\33¹.png"/>
          <p:cNvPicPr/>
          <p:nvPr/>
        </p:nvPicPr>
        <p:blipFill>
          <a:blip r:embed="rId4"/>
          <a:srcRect l="22381" t="0" r="15558" b="23436"/>
          <a:stretch/>
        </p:blipFill>
        <p:spPr>
          <a:xfrm>
            <a:off x="2046240" y="-1440"/>
            <a:ext cx="5675400" cy="4370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C:\Documents and Settings\Administrator\桌面\å¢¨è¿¹.png"/>
          <p:cNvPicPr/>
          <p:nvPr/>
        </p:nvPicPr>
        <p:blipFill>
          <a:blip r:embed="rId5"/>
          <a:stretch/>
        </p:blipFill>
        <p:spPr>
          <a:xfrm>
            <a:off x="1363680" y="-1440"/>
            <a:ext cx="5356080" cy="5711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B33-7817-47E2-BA63-FB2F2753BDAC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2B69-49E5-41C2-8C1C-4F4F08A4BB42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39D0-331D-4E0D-AC88-8C0F383839A8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B2A3-DE06-4E7B-9BE6-3F6D37374FE0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185C-2797-4B46-ACC2-4631CAB0EF98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-36360"/>
            <a:ext cx="9144000" cy="575136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395280" y="-92160"/>
            <a:ext cx="8353440" cy="590256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826920" y="-47520"/>
            <a:ext cx="792360" cy="788760"/>
            <a:chOff x="826920" y="-47520"/>
            <a:chExt cx="792360" cy="788760"/>
          </a:xfrm>
        </p:grpSpPr>
        <p:pic>
          <p:nvPicPr>
            <p:cNvPr id="48" name="Picture 4" descr="E:\矢量图素材\中国风\莲\33¹.png"/>
            <p:cNvPicPr/>
            <p:nvPr/>
          </p:nvPicPr>
          <p:blipFill>
            <a:blip r:embed="rId4"/>
            <a:stretch/>
          </p:blipFill>
          <p:spPr>
            <a:xfrm>
              <a:off x="835200" y="-47520"/>
              <a:ext cx="784080" cy="6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C:\Documents and Settings\Administrator\桌面\å¢¨è¿¹.png"/>
            <p:cNvPicPr/>
            <p:nvPr/>
          </p:nvPicPr>
          <p:blipFill>
            <a:blip r:embed="rId5"/>
            <a:stretch/>
          </p:blipFill>
          <p:spPr>
            <a:xfrm>
              <a:off x="826920" y="51840"/>
              <a:ext cx="648360" cy="68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8D6E-D492-4F12-BEBB-F524629B5F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BFB7-F80C-45CB-B0DC-699771FA0ABB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E9A7-14F7-4103-A35B-2EA1CDF655B6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916B-3429-40ED-9816-41A1746F6A1A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3CB2-7044-48A6-99AE-C11A4E22870D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DB34-402E-4B63-9906-7337AB43EBAE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BB5-B5C1-43E1-9DC7-81241C6C0CBE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E4E5-4E72-47CE-99FB-76494104270C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矩形 2" descr=""/>
          <p:cNvPicPr/>
          <p:nvPr/>
        </p:nvPicPr>
        <p:blipFill>
          <a:blip r:embed="rId1"/>
          <a:stretch/>
        </p:blipFill>
        <p:spPr>
          <a:xfrm>
            <a:off x="4565520" y="2176560"/>
            <a:ext cx="5048280" cy="1530360"/>
          </a:xfrm>
          <a:prstGeom prst="rect">
            <a:avLst/>
          </a:prstGeom>
          <a:ln w="0">
            <a:noFill/>
          </a:ln>
        </p:spPr>
      </p:pic>
      <p:sp>
        <p:nvSpPr>
          <p:cNvPr id="584" name="矩形 3"/>
          <p:cNvSpPr/>
          <p:nvPr/>
        </p:nvSpPr>
        <p:spPr>
          <a:xfrm>
            <a:off x="114840" y="537372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1"/>
          <p:cNvSpPr/>
          <p:nvPr/>
        </p:nvSpPr>
        <p:spPr>
          <a:xfrm>
            <a:off x="975600" y="1633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态墨莲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588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589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0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1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593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594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5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6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598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599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00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1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2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603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604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05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6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7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矩形 2" descr=""/>
          <p:cNvPicPr/>
          <p:nvPr/>
        </p:nvPicPr>
        <p:blipFill>
          <a:blip r:embed="rId1"/>
          <a:stretch/>
        </p:blipFill>
        <p:spPr>
          <a:xfrm>
            <a:off x="4737240" y="2266920"/>
            <a:ext cx="4833720" cy="1689120"/>
          </a:xfrm>
          <a:prstGeom prst="rect">
            <a:avLst/>
          </a:prstGeom>
          <a:ln w="0">
            <a:noFill/>
          </a:ln>
        </p:spPr>
      </p:pic>
      <p:sp>
        <p:nvSpPr>
          <p:cNvPr id="616" name="矩形 4"/>
          <p:cNvSpPr/>
          <p:nvPr/>
        </p:nvSpPr>
        <p:spPr>
          <a:xfrm>
            <a:off x="6372360" y="326880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353960" y="5234040"/>
            <a:ext cx="67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3:58Z</dcterms:modified>
  <cp:revision>0</cp:revision>
  <dc:subject>幻灯片之家 http://www.eeppt.com</dc:subject>
  <dc:title>幻灯片之家 http://www.eeppt.com</dc:title>
</cp:coreProperties>
</file>