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2095-A067-485B-8BE4-C22B9495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7BC-AD98-4F75-AD7A-5F909FF8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304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CF8-4E4B-4EFF-BC10-79189E50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4072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356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4072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356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4DB-09D6-4908-AA1F-97DD05D7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D930-BFDB-4059-A475-E51206DF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37C3-4D43-4FAA-960B-652B7070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1B27-B700-47EC-9995-CE617935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2883-8422-440F-A2C2-64729D2C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5BC1-3460-47CE-8B73-DE2A3AB4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C32B-B147-4510-B0F5-DE6C3806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44CC-1ECB-40BA-822D-A0D95D22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25F-57AE-4F9C-A252-6D0DD851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304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49B0-DC77-4C80-9603-5FE7937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7E54-8F8D-43AD-9CC3-E38C79F4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7AFA-EBEC-43E8-B16F-C5E70CE6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4304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3069-4E84-4EB7-8E1F-B771136F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4072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53560" y="152388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34072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453560" y="3888000"/>
            <a:ext cx="201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4E5B-926E-4023-B24A-0509435D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6E3-BCC8-4C01-9197-FD9EF43A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F58-1BB3-4F46-9F0F-1DC75A8E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208-2268-4BA0-B4E0-23DD0381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A9D-AB0D-45DB-A14C-A0B18E67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9CC-86A8-489F-A4D8-BF9562F2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30440" y="388800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51F-9AA9-4564-B373-126231D3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30440" y="1523880"/>
            <a:ext cx="3049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2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767-0651-41C7-8D5A-D626DE46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3DDF-5DF2-46C2-93A9-2D6910153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0BDF-2701-4490-B9C5-881AB1662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55627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宋体"/>
              </a:rPr>
              <a:t>VIEW FINDER 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58669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6400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21320" y="91440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动态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模板国外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24852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24852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56383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RANSITIONAL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51B-2E9B-4EDC-B677-8FC2ACCA52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5791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5200" y="1523880"/>
            <a:ext cx="2914560" cy="21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2914920" cy="21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93760" y="3862440"/>
            <a:ext cx="291600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52680" y="3862440"/>
            <a:ext cx="291636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5:43:0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4:59Z</dcterms:modified>
  <cp:revision>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