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D7C-6E2D-4913-9F6C-259BD763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BBB-353B-42DC-A068-9F407F35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E94-0D26-4359-AC7E-7A80CFFD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2A3-84E5-4B4C-BB82-78D8BE27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186-73C4-4D2C-B69A-393C9C18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80E-CC6A-4304-90AC-D9DADA86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4175-A92C-44B1-B0C1-0AE4FE4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B3E-4B93-4C2C-BEFA-5E7ADB4B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A82-5B09-4264-81ED-C67C0A1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2A3-DA39-4C4B-ABA7-B514005D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A67-A8A8-42FB-B7A0-A04B2C8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2A7-E49C-48D6-BA07-4806FC7B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A23B-6FDF-41C0-ABF3-0D7C11A48AF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2249-68F3-4ED2-9694-C093A44DA8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76720" y="2705040"/>
            <a:ext cx="2590560" cy="1067040"/>
          </a:xfrm>
          <a:prstGeom prst="rect">
            <a:avLst/>
          </a:prstGeom>
          <a:ln w="0">
            <a:noFill/>
          </a:ln>
        </p:spPr>
      </p:pic>
      <p:pic>
        <p:nvPicPr>
          <p:cNvPr id="42" name="ex.mp3" descr=""/>
          <p:cNvPicPr/>
          <p:nvPr/>
        </p:nvPicPr>
        <p:blipFill>
          <a:blip r:embed="rId2"/>
          <a:stretch/>
        </p:blipFill>
        <p:spPr>
          <a:xfrm>
            <a:off x="4267080" y="-608040"/>
            <a:ext cx="609840" cy="608040"/>
          </a:xfrm>
          <a:prstGeom prst="rect">
            <a:avLst/>
          </a:prstGeom>
          <a:ln w="0">
            <a:noFill/>
          </a:ln>
        </p:spPr>
      </p:pic>
      <p:sp>
        <p:nvSpPr>
          <p:cNvPr id="43" name="Oval 679"/>
          <p:cNvSpPr/>
          <p:nvPr/>
        </p:nvSpPr>
        <p:spPr>
          <a:xfrm>
            <a:off x="2987640" y="1798560"/>
            <a:ext cx="2879640" cy="287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680" y="59706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14800" y="68436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动态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23" presetSubtype="16">
                                  <p:stCondLst>
                                    <p:cond delay="1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431640" y="-2376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011010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0" y="-87804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10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366920" y="-23760"/>
            <a:ext cx="360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0100101010101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934920" y="-87804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1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819920" y="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388280" y="-85248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8755200" y="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8323200" y="-85248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741320" y="-5796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48080" y="-2376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116080" y="-87804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483000" y="-2376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051000" y="-87804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-46080"/>
            <a:ext cx="3621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24360" y="-900000"/>
            <a:ext cx="3618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292720" y="-46080"/>
            <a:ext cx="3589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861080" y="-900000"/>
            <a:ext cx="3585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093000" y="2232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661000" y="-83016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027920" y="2232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6595920" y="-83016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25520" y="12528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011010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-4680" y="-7254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10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60440" y="125280"/>
            <a:ext cx="36036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11101010111101010101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928800" y="-7254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1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813800" y="15228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381800" y="-7002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8748720" y="152280"/>
            <a:ext cx="360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1010101010101101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8317080" y="-70020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735200" y="-42696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41600" y="12528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109960" y="-7254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476520" y="125280"/>
            <a:ext cx="360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0101010201010101010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044880" y="-72540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349880" y="104760"/>
            <a:ext cx="3618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917880" y="-747720"/>
            <a:ext cx="3621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286240" y="104760"/>
            <a:ext cx="3589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854600" y="-747720"/>
            <a:ext cx="35892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086520" y="1746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654520" y="-67788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021440" y="17460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589800" y="-67788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9" descr=""/>
          <p:cNvPicPr/>
          <p:nvPr/>
        </p:nvPicPr>
        <p:blipFill>
          <a:blip r:embed="rId1"/>
          <a:stretch/>
        </p:blipFill>
        <p:spPr>
          <a:xfrm>
            <a:off x="5281560" y="8829720"/>
            <a:ext cx="1308240" cy="212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78440" y="12682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Gothic"/>
              </a:rPr>
              <a:t>WE ARE IIN A NEW 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1"/>
          <p:cNvSpPr/>
          <p:nvPr/>
        </p:nvSpPr>
        <p:spPr>
          <a:xfrm>
            <a:off x="6863760" y="446724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MS Gothic"/>
              </a:rPr>
              <a:t>Every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3"/>
          <p:cNvSpPr/>
          <p:nvPr/>
        </p:nvSpPr>
        <p:spPr>
          <a:xfrm>
            <a:off x="936720" y="44658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stock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4"/>
          <p:cNvSpPr/>
          <p:nvPr/>
        </p:nvSpPr>
        <p:spPr>
          <a:xfrm>
            <a:off x="6840720" y="203976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Arial"/>
                <a:ea typeface="MS Gothic"/>
              </a:rPr>
              <a:t>Of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5"/>
          <p:cNvSpPr/>
          <p:nvPr/>
        </p:nvSpPr>
        <p:spPr>
          <a:xfrm>
            <a:off x="2959200" y="4078440"/>
            <a:ext cx="105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That is the tr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6"/>
          <p:cNvSpPr/>
          <p:nvPr/>
        </p:nvSpPr>
        <p:spPr>
          <a:xfrm>
            <a:off x="580680" y="1652760"/>
            <a:ext cx="141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Oceans of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3"/>
          <p:cNvSpPr/>
          <p:nvPr/>
        </p:nvSpPr>
        <p:spPr>
          <a:xfrm>
            <a:off x="6067080" y="1012680"/>
            <a:ext cx="141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Oceans of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4"/>
          <p:cNvSpPr/>
          <p:nvPr/>
        </p:nvSpPr>
        <p:spPr>
          <a:xfrm>
            <a:off x="1596600" y="24400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Financi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5"/>
          <p:cNvSpPr/>
          <p:nvPr/>
        </p:nvSpPr>
        <p:spPr>
          <a:xfrm>
            <a:off x="649800" y="127944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Gothic"/>
              </a:rPr>
              <a:t>WE ARE IIN A NEW 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6"/>
          <p:cNvSpPr/>
          <p:nvPr/>
        </p:nvSpPr>
        <p:spPr>
          <a:xfrm>
            <a:off x="4511520" y="544500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Arial"/>
                <a:ea typeface="MS Gothic"/>
              </a:rPr>
              <a:t>Struggling with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7"/>
          <p:cNvSpPr/>
          <p:nvPr/>
        </p:nvSpPr>
        <p:spPr>
          <a:xfrm>
            <a:off x="1547280" y="2809800"/>
            <a:ext cx="141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Oceans of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8"/>
          <p:cNvSpPr/>
          <p:nvPr/>
        </p:nvSpPr>
        <p:spPr>
          <a:xfrm>
            <a:off x="580680" y="5378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But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2791800" y="2924280"/>
            <a:ext cx="35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BIG DAT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" dur="3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3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7">
                                  <p:stCondLst>
                                    <p:cond delay="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27">
                                  <p:stCondLst>
                                    <p:cond delay="9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7">
                                  <p:stCondLst>
                                    <p:cond delay="1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3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7">
                                  <p:stCondLst>
                                    <p:cond delay="1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3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27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3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3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3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27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3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xit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3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7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27">
                                  <p:stCondLst>
                                    <p:cond delay="8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27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3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7">
                                  <p:stCondLst>
                                    <p:cond delay="1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xit" presetID="27">
                                  <p:stCondLst>
                                    <p:cond delay="16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3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3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7">
                                  <p:stCondLst>
                                    <p:cond delay="1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xit" presetID="27">
                                  <p:stCondLst>
                                    <p:cond delay="1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xit" presetID="27">
                                  <p:stCondLst>
                                    <p:cond delay="14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3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7">
                                  <p:stCondLst>
                                    <p:cond delay="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27">
                                  <p:stCondLst>
                                    <p:cond delay="4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7">
                                  <p:stCondLst>
                                    <p:cond delay="4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27">
                                  <p:stCondLst>
                                    <p:cond delay="4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7">
                                  <p:stCondLst>
                                    <p:cond delay="5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xit" presetID="27">
                                  <p:stCondLst>
                                    <p:cond delay="56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3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7">
                                  <p:stCondLst>
                                    <p:cond delay="2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27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3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27">
                                  <p:stCondLst>
                                    <p:cond delay="36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3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7">
                                  <p:stCondLst>
                                    <p:cond delay="4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xit" presetID="27">
                                  <p:stCondLst>
                                    <p:cond delay="4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3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27">
                                  <p:stCondLst>
                                    <p:cond delay="51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3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7">
                                  <p:stCondLst>
                                    <p:cond delay="4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27">
                                  <p:stCondLst>
                                    <p:cond delay="4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xit" presetID="27">
                                  <p:stCondLst>
                                    <p:cond delay="55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3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7">
                                  <p:stCondLst>
                                    <p:cond delay="5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7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27">
                                  <p:stCondLst>
                                    <p:cond delay="4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3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7">
                                  <p:stCondLst>
                                    <p:cond delay="3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xit" presetID="27">
                                  <p:stCondLst>
                                    <p:cond delay="37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xit" presetID="27">
                                  <p:stCondLst>
                                    <p:cond delay="5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63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xit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3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27">
                                  <p:stCondLst>
                                    <p:cond delay="2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3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7">
                                  <p:stCondLst>
                                    <p:cond delay="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xit" presetID="27">
                                  <p:stCondLst>
                                    <p:cond delay="7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3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7">
                                  <p:stCondLst>
                                    <p:cond delay="2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27">
                                  <p:stCondLst>
                                    <p:cond delay="2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3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7">
                                  <p:stCondLst>
                                    <p:cond delay="3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xit" presetID="27">
                                  <p:stCondLst>
                                    <p:cond delay="41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3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7">
                                  <p:stCondLst>
                                    <p:cond delay="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xit" presetID="27">
                                  <p:stCondLst>
                                    <p:cond delay="5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23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7">
                                  <p:stCondLst>
                                    <p:cond delay="5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27">
                                  <p:stCondLst>
                                    <p:cond delay="59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3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27">
                                  <p:stCondLst>
                                    <p:cond delay="5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3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7">
                                  <p:stCondLst>
                                    <p:cond delay="3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xit" presetID="27">
                                  <p:stCondLst>
                                    <p:cond delay="39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3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mph" presetID="35" repeatCount="4000">
                                  <p:stCondLst>
                                    <p:cond delay="1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mph" presetID="35" repeatCount="4000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mph" presetID="35" repeatCount="4000">
                                  <p:stCondLst>
                                    <p:cond delay="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2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mph" presetID="35" repeatCount="4000">
                                  <p:stCondLst>
                                    <p:cond delay="29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8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mph" presetID="35" repeatCount="4000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mph" presetID="35" repeatCount="4000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0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mph" presetID="35" repeatCount="4000">
                                  <p:stCondLst>
                                    <p:cond delay="3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mph" presetID="35" repeatCount="4000">
                                  <p:stCondLst>
                                    <p:cond delay="4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mph" presetID="35" repeatCount="4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mph" presetID="35" repeatCount="4000">
                                  <p:stCondLst>
                                    <p:cond delay="5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mph" presetID="35" repeatCount="4000">
                                  <p:stCondLst>
                                    <p:cond delay="6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mph" presetID="35" repeatCount="4000">
                                  <p:stCondLst>
                                    <p:cond delay="6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643-C38E-4D95-8253-05CD29B08E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traight Connector 3"/>
          <p:cNvSpPr/>
          <p:nvPr/>
        </p:nvSpPr>
        <p:spPr>
          <a:xfrm>
            <a:off x="712800" y="5402160"/>
            <a:ext cx="1080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4"/>
          <p:cNvSpPr/>
          <p:nvPr/>
        </p:nvSpPr>
        <p:spPr>
          <a:xfrm flipV="1">
            <a:off x="682560" y="1052280"/>
            <a:ext cx="1800" cy="515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4"/>
          <p:cNvSpPr/>
          <p:nvPr/>
        </p:nvSpPr>
        <p:spPr>
          <a:xfrm flipV="1">
            <a:off x="4643280" y="1904760"/>
            <a:ext cx="1800" cy="73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1681920" y="444816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O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"/>
          <p:cNvSpPr/>
          <p:nvPr/>
        </p:nvSpPr>
        <p:spPr>
          <a:xfrm>
            <a:off x="1901880" y="62244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FTSE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403280" y="1467000"/>
            <a:ext cx="689040" cy="73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1"/>
          <p:cNvSpPr/>
          <p:nvPr/>
        </p:nvSpPr>
        <p:spPr>
          <a:xfrm>
            <a:off x="1835280" y="692280"/>
            <a:ext cx="7272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1"/>
          <p:cNvSpPr/>
          <p:nvPr/>
        </p:nvSpPr>
        <p:spPr>
          <a:xfrm>
            <a:off x="1835280" y="981000"/>
            <a:ext cx="7272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1899360" y="8938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J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1"/>
          <p:cNvSpPr/>
          <p:nvPr/>
        </p:nvSpPr>
        <p:spPr>
          <a:xfrm>
            <a:off x="1835280" y="1282680"/>
            <a:ext cx="7272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1"/>
          <p:cNvSpPr/>
          <p:nvPr/>
        </p:nvSpPr>
        <p:spPr>
          <a:xfrm>
            <a:off x="1849320" y="1585800"/>
            <a:ext cx="7308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908000" y="1201680"/>
            <a:ext cx="16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S&amp;P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2"/>
          <p:cNvSpPr/>
          <p:nvPr/>
        </p:nvSpPr>
        <p:spPr>
          <a:xfrm>
            <a:off x="1508040" y="4546440"/>
            <a:ext cx="73080" cy="73080"/>
          </a:xfrm>
          <a:prstGeom prst="ellipse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1908000" y="150336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SS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047"/>
          <p:cNvSpPr/>
          <p:nvPr/>
        </p:nvSpPr>
        <p:spPr>
          <a:xfrm flipV="1">
            <a:off x="1558800" y="2219040"/>
            <a:ext cx="1789200" cy="234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2051"/>
          <p:cNvSpPr/>
          <p:nvPr/>
        </p:nvSpPr>
        <p:spPr>
          <a:xfrm>
            <a:off x="3348000" y="2205000"/>
            <a:ext cx="934920" cy="64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2053"/>
          <p:cNvSpPr/>
          <p:nvPr/>
        </p:nvSpPr>
        <p:spPr>
          <a:xfrm>
            <a:off x="4282920" y="2852640"/>
            <a:ext cx="936720" cy="1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056"/>
          <p:cNvSpPr/>
          <p:nvPr/>
        </p:nvSpPr>
        <p:spPr>
          <a:xfrm flipV="1">
            <a:off x="5219640" y="691920"/>
            <a:ext cx="1584360" cy="230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8"/>
          <p:cNvSpPr/>
          <p:nvPr/>
        </p:nvSpPr>
        <p:spPr>
          <a:xfrm>
            <a:off x="1705680" y="165744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O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9"/>
          <p:cNvSpPr/>
          <p:nvPr/>
        </p:nvSpPr>
        <p:spPr>
          <a:xfrm>
            <a:off x="1708200" y="1657440"/>
            <a:ext cx="30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M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0"/>
          <p:cNvSpPr/>
          <p:nvPr/>
        </p:nvSpPr>
        <p:spPr>
          <a:xfrm>
            <a:off x="1708200" y="165744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OA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1"/>
          <p:cNvSpPr/>
          <p:nvPr/>
        </p:nvSpPr>
        <p:spPr>
          <a:xfrm>
            <a:off x="1706400" y="165744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O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063"/>
          <p:cNvSpPr/>
          <p:nvPr/>
        </p:nvSpPr>
        <p:spPr>
          <a:xfrm>
            <a:off x="6804000" y="692280"/>
            <a:ext cx="129528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065"/>
          <p:cNvSpPr/>
          <p:nvPr/>
        </p:nvSpPr>
        <p:spPr>
          <a:xfrm flipV="1">
            <a:off x="8101080" y="-4129200"/>
            <a:ext cx="3887640" cy="518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69960" y="-4145040"/>
            <a:ext cx="11339640" cy="10350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09"/>
          <p:cNvSpPr/>
          <p:nvPr/>
        </p:nvSpPr>
        <p:spPr>
          <a:xfrm>
            <a:off x="1045800" y="28558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-1.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0"/>
          <p:cNvSpPr/>
          <p:nvPr/>
        </p:nvSpPr>
        <p:spPr>
          <a:xfrm>
            <a:off x="1048680" y="28558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-4.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1"/>
          <p:cNvSpPr/>
          <p:nvPr/>
        </p:nvSpPr>
        <p:spPr>
          <a:xfrm>
            <a:off x="987120" y="28544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12.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2"/>
          <p:cNvSpPr/>
          <p:nvPr/>
        </p:nvSpPr>
        <p:spPr>
          <a:xfrm>
            <a:off x="998640" y="28544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11.0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3"/>
          <p:cNvSpPr/>
          <p:nvPr/>
        </p:nvSpPr>
        <p:spPr>
          <a:xfrm>
            <a:off x="1047240" y="28558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-3.0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4"/>
          <p:cNvSpPr/>
          <p:nvPr/>
        </p:nvSpPr>
        <p:spPr>
          <a:xfrm>
            <a:off x="987120" y="2855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.0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1923120" y="2708280"/>
            <a:ext cx="11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MS Gothic"/>
              </a:rPr>
              <a:t>Market index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7"/>
          <p:cNvSpPr/>
          <p:nvPr/>
        </p:nvSpPr>
        <p:spPr>
          <a:xfrm>
            <a:off x="235800" y="6243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8"/>
          <p:cNvSpPr/>
          <p:nvPr/>
        </p:nvSpPr>
        <p:spPr>
          <a:xfrm>
            <a:off x="240480" y="6238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9"/>
          <p:cNvSpPr/>
          <p:nvPr/>
        </p:nvSpPr>
        <p:spPr>
          <a:xfrm>
            <a:off x="235800" y="6243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0"/>
          <p:cNvSpPr/>
          <p:nvPr/>
        </p:nvSpPr>
        <p:spPr>
          <a:xfrm>
            <a:off x="240480" y="6245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1"/>
          <p:cNvSpPr/>
          <p:nvPr/>
        </p:nvSpPr>
        <p:spPr>
          <a:xfrm>
            <a:off x="240480" y="62420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2"/>
          <p:cNvSpPr/>
          <p:nvPr/>
        </p:nvSpPr>
        <p:spPr>
          <a:xfrm>
            <a:off x="231120" y="6235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3"/>
          <p:cNvSpPr/>
          <p:nvPr/>
        </p:nvSpPr>
        <p:spPr>
          <a:xfrm>
            <a:off x="234000" y="6245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4"/>
          <p:cNvSpPr/>
          <p:nvPr/>
        </p:nvSpPr>
        <p:spPr>
          <a:xfrm>
            <a:off x="241920" y="624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5"/>
          <p:cNvSpPr/>
          <p:nvPr/>
        </p:nvSpPr>
        <p:spPr>
          <a:xfrm>
            <a:off x="230400" y="624348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98"/>
          <p:cNvSpPr/>
          <p:nvPr/>
        </p:nvSpPr>
        <p:spPr>
          <a:xfrm>
            <a:off x="17640" y="3645000"/>
            <a:ext cx="9091440" cy="25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9"/>
          <p:cNvSpPr/>
          <p:nvPr/>
        </p:nvSpPr>
        <p:spPr>
          <a:xfrm rot="967200">
            <a:off x="434880" y="2567160"/>
            <a:ext cx="252360" cy="120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0"/>
          <p:cNvSpPr/>
          <p:nvPr/>
        </p:nvSpPr>
        <p:spPr>
          <a:xfrm rot="967200">
            <a:off x="949320" y="2406600"/>
            <a:ext cx="252360" cy="150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1"/>
          <p:cNvSpPr/>
          <p:nvPr/>
        </p:nvSpPr>
        <p:spPr>
          <a:xfrm rot="967200">
            <a:off x="1501560" y="2001600"/>
            <a:ext cx="250560" cy="20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2"/>
          <p:cNvSpPr/>
          <p:nvPr/>
        </p:nvSpPr>
        <p:spPr>
          <a:xfrm rot="967200">
            <a:off x="1802880" y="3271680"/>
            <a:ext cx="252720" cy="9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3"/>
          <p:cNvSpPr/>
          <p:nvPr/>
        </p:nvSpPr>
        <p:spPr>
          <a:xfrm rot="967200">
            <a:off x="2301480" y="3228480"/>
            <a:ext cx="25092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4"/>
          <p:cNvSpPr/>
          <p:nvPr/>
        </p:nvSpPr>
        <p:spPr>
          <a:xfrm rot="967200">
            <a:off x="2651040" y="4253040"/>
            <a:ext cx="250920" cy="1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5"/>
          <p:cNvSpPr/>
          <p:nvPr/>
        </p:nvSpPr>
        <p:spPr>
          <a:xfrm rot="967200">
            <a:off x="3193560" y="3876840"/>
            <a:ext cx="250920" cy="70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6"/>
          <p:cNvSpPr/>
          <p:nvPr/>
        </p:nvSpPr>
        <p:spPr>
          <a:xfrm rot="967200">
            <a:off x="3703320" y="3746520"/>
            <a:ext cx="252360" cy="97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7"/>
          <p:cNvSpPr/>
          <p:nvPr/>
        </p:nvSpPr>
        <p:spPr>
          <a:xfrm rot="967200">
            <a:off x="4323960" y="2857320"/>
            <a:ext cx="25092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8"/>
          <p:cNvSpPr/>
          <p:nvPr/>
        </p:nvSpPr>
        <p:spPr>
          <a:xfrm rot="967200">
            <a:off x="4902120" y="2160360"/>
            <a:ext cx="252360" cy="286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5"/>
          <p:cNvSpPr/>
          <p:nvPr/>
        </p:nvSpPr>
        <p:spPr>
          <a:xfrm rot="967200">
            <a:off x="5498640" y="1417680"/>
            <a:ext cx="252360" cy="375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6"/>
          <p:cNvSpPr/>
          <p:nvPr/>
        </p:nvSpPr>
        <p:spPr>
          <a:xfrm rot="967200">
            <a:off x="5800320" y="2776680"/>
            <a:ext cx="252360" cy="250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7"/>
          <p:cNvSpPr/>
          <p:nvPr/>
        </p:nvSpPr>
        <p:spPr>
          <a:xfrm rot="967200">
            <a:off x="6566040" y="853920"/>
            <a:ext cx="252360" cy="461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8"/>
          <p:cNvSpPr/>
          <p:nvPr/>
        </p:nvSpPr>
        <p:spPr>
          <a:xfrm rot="967200">
            <a:off x="6841800" y="2374920"/>
            <a:ext cx="250920" cy="319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9"/>
          <p:cNvSpPr/>
          <p:nvPr/>
        </p:nvSpPr>
        <p:spPr>
          <a:xfrm rot="967200">
            <a:off x="7152840" y="3664080"/>
            <a:ext cx="25236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2"/>
          <p:cNvSpPr/>
          <p:nvPr/>
        </p:nvSpPr>
        <p:spPr>
          <a:xfrm>
            <a:off x="729720" y="527040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DBILY DO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3"/>
          <p:cNvSpPr/>
          <p:nvPr/>
        </p:nvSpPr>
        <p:spPr>
          <a:xfrm>
            <a:off x="734400" y="527040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EBILY DM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5"/>
          <p:cNvSpPr/>
          <p:nvPr/>
        </p:nvSpPr>
        <p:spPr>
          <a:xfrm>
            <a:off x="708120" y="5270400"/>
            <a:ext cx="41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DBILY D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6"/>
          <p:cNvSpPr/>
          <p:nvPr/>
        </p:nvSpPr>
        <p:spPr>
          <a:xfrm>
            <a:off x="693720" y="5272200"/>
            <a:ext cx="41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DAILY D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7"/>
          <p:cNvSpPr/>
          <p:nvPr/>
        </p:nvSpPr>
        <p:spPr>
          <a:xfrm>
            <a:off x="886680" y="6156360"/>
            <a:ext cx="11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MS Gothic"/>
              </a:rPr>
              <a:t>Market index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8"/>
          <p:cNvSpPr/>
          <p:nvPr/>
        </p:nvSpPr>
        <p:spPr>
          <a:xfrm>
            <a:off x="709560" y="5273640"/>
            <a:ext cx="41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DAILY D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9"/>
          <p:cNvSpPr/>
          <p:nvPr/>
        </p:nvSpPr>
        <p:spPr>
          <a:xfrm>
            <a:off x="6861240" y="44672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MS Gothic"/>
              </a:rPr>
              <a:t>-32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0"/>
          <p:cNvSpPr/>
          <p:nvPr/>
        </p:nvSpPr>
        <p:spPr>
          <a:xfrm>
            <a:off x="935640" y="44658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+20.0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1"/>
          <p:cNvSpPr/>
          <p:nvPr/>
        </p:nvSpPr>
        <p:spPr>
          <a:xfrm>
            <a:off x="6841440" y="2039760"/>
            <a:ext cx="15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Arial"/>
                <a:ea typeface="MS Gothic"/>
              </a:rPr>
              <a:t>+50.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2"/>
          <p:cNvSpPr/>
          <p:nvPr/>
        </p:nvSpPr>
        <p:spPr>
          <a:xfrm>
            <a:off x="1481760" y="24400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17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-709200" y="5315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4"/>
          <p:cNvSpPr/>
          <p:nvPr/>
        </p:nvSpPr>
        <p:spPr>
          <a:xfrm>
            <a:off x="-957240" y="40878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-709920" y="632304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fbfbf"/>
                </a:solidFill>
                <a:latin typeface="Calibri"/>
                <a:ea typeface="Calibri"/>
              </a:rPr>
              <a:t>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5"/>
          <p:cNvSpPr/>
          <p:nvPr/>
        </p:nvSpPr>
        <p:spPr>
          <a:xfrm rot="17787000">
            <a:off x="-751320" y="560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8d8"/>
                </a:solidFill>
                <a:latin typeface="Calibri"/>
                <a:ea typeface="Calibri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6"/>
          <p:cNvSpPr/>
          <p:nvPr/>
        </p:nvSpPr>
        <p:spPr>
          <a:xfrm rot="5763600">
            <a:off x="-644040" y="52549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7"/>
          <p:cNvSpPr/>
          <p:nvPr/>
        </p:nvSpPr>
        <p:spPr>
          <a:xfrm rot="17403000">
            <a:off x="-1219320" y="3554280"/>
            <a:ext cx="4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8"/>
          <p:cNvSpPr/>
          <p:nvPr/>
        </p:nvSpPr>
        <p:spPr>
          <a:xfrm rot="17508000">
            <a:off x="-558720" y="647712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9"/>
          <p:cNvSpPr/>
          <p:nvPr/>
        </p:nvSpPr>
        <p:spPr>
          <a:xfrm rot="17787000">
            <a:off x="-1123920" y="598716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8d8"/>
                </a:solidFill>
                <a:latin typeface="Calibri"/>
                <a:ea typeface="Calibri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0"/>
          <p:cNvSpPr/>
          <p:nvPr/>
        </p:nvSpPr>
        <p:spPr>
          <a:xfrm>
            <a:off x="-804960" y="4240080"/>
            <a:ext cx="2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fbfbf"/>
                </a:solidFill>
                <a:latin typeface="Calibri"/>
                <a:ea typeface="Calibri"/>
              </a:rPr>
              <a:t>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1"/>
          <p:cNvSpPr/>
          <p:nvPr/>
        </p:nvSpPr>
        <p:spPr>
          <a:xfrm rot="5763600">
            <a:off x="-1204200" y="52084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2"/>
          <p:cNvSpPr/>
          <p:nvPr/>
        </p:nvSpPr>
        <p:spPr>
          <a:xfrm rot="21232200">
            <a:off x="-477720" y="64580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Calibri"/>
              </a:rPr>
              <a:t>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3"/>
          <p:cNvSpPr/>
          <p:nvPr/>
        </p:nvSpPr>
        <p:spPr>
          <a:xfrm rot="17403000">
            <a:off x="9487800" y="3492000"/>
            <a:ext cx="4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4"/>
          <p:cNvSpPr/>
          <p:nvPr/>
        </p:nvSpPr>
        <p:spPr>
          <a:xfrm rot="5763600">
            <a:off x="9502920" y="514692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5"/>
          <p:cNvSpPr/>
          <p:nvPr/>
        </p:nvSpPr>
        <p:spPr>
          <a:xfrm rot="21232200">
            <a:off x="10231920" y="639612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Calibri"/>
              </a:rPr>
              <a:t>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6"/>
          <p:cNvSpPr/>
          <p:nvPr/>
        </p:nvSpPr>
        <p:spPr>
          <a:xfrm rot="10232400">
            <a:off x="9779760" y="4395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8d8d8"/>
                </a:solidFill>
                <a:latin typeface="Calibri"/>
                <a:ea typeface="Calibri"/>
              </a:rPr>
              <a:t>$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7"/>
          <p:cNvSpPr/>
          <p:nvPr/>
        </p:nvSpPr>
        <p:spPr>
          <a:xfrm rot="2947800">
            <a:off x="9603000" y="6250320"/>
            <a:ext cx="4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Calibri"/>
              </a:rPr>
              <a:t>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8"/>
          <p:cNvSpPr/>
          <p:nvPr/>
        </p:nvSpPr>
        <p:spPr>
          <a:xfrm rot="20893800">
            <a:off x="10122840" y="4046400"/>
            <a:ext cx="4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fbfbf"/>
                </a:solidFill>
                <a:latin typeface="Calibri"/>
                <a:ea typeface="Calibri"/>
              </a:rPr>
              <a:t>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9"/>
          <p:cNvSpPr/>
          <p:nvPr/>
        </p:nvSpPr>
        <p:spPr>
          <a:xfrm rot="11014200">
            <a:off x="10343880" y="46908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mph" presetID="35" repeatCount="10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7" dur="3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mph" presetID="35" repeatCount="10000">
                                  <p:stCondLst>
                                    <p:cond delay="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3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2.59259E-006 L 1.66667E-006 -0.66088 E">
                                      <p:cBhvr>
                                        <p:cTn id="544" dur="7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1.66667E-006 -0.66088 L 1.66667E-006 0.11621 E">
                                      <p:cBhvr>
                                        <p:cTn id="54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mph" presetID="35" repeatCount="10000">
                                  <p:stCondLst>
                                    <p:cond delay="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3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2.59259E-006 L 1.66667E-006 -0.66088 E">
                                      <p:cBhvr>
                                        <p:cTn id="553" dur="7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3.33333E-006 -0.6608 L 3.33333E-006 -0.40439 E">
                                      <p:cBhvr>
                                        <p:cTn id="555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xit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xit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mph" presetID="35" repeatCount="4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7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mph" presetID="35" repeatCount="3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106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77778E-007 2.36994E-006 L 0.16146 2.36994E-006 E">
                                      <p:cBhvr>
                                        <p:cTn id="588" dur="3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mph" presetID="35" repeatCount="36000">
                                  <p:stCondLst>
                                    <p:cond delay="3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path" presetID="63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3.88889E-006 -2.71676E-006 L 0.11875 -2.71676E-006 E">
                                      <p:cBhvr>
                                        <p:cTn id="599" dur="3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mph" presetID="35" repeatCount="4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35" repeatCount="36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88889E-006 -2.71676E-006 L 0.11875 -2.71676E-006 E">
                                      <p:cBhvr>
                                        <p:cTn id="616" dur="3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mph" presetID="35" repeatCount="36000">
                                  <p:stCondLst>
                                    <p:cond delay="3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path" presetID="63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0 4.79769E-006 L 0.11875 4.79769E-006 E">
                                      <p:cBhvr>
                                        <p:cTn id="627" dur="3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35" repeatCount="30000">
                                  <p:stCondLst>
                                    <p:cond delay="5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xit" presetID="1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xit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xit" presetID="1">
                                  <p:stCondLst>
                                    <p:cond delay="725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">
                                  <p:stCondLst>
                                    <p:cond delay="725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xit" presetID="1">
                                  <p:stCondLst>
                                    <p:cond delay="775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22" presetSubtype="8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2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22" presetSubtype="4">
                                  <p:stCondLst>
                                    <p:cond delay="725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path" presetID="42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-0.02952 -0.03145 L -0.46059 0.38821 E">
                                      <p:cBhvr>
                                        <p:cTn id="711" dur="6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mph" presetID="35" repeatCount="4000">
                                  <p:stCondLst>
                                    <p:cond delay="4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2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2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2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2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2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mph" presetID="35" repeatCount="4000">
                                  <p:stCondLst>
                                    <p:cond delay="1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8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xit" presetID="1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mph" presetID="35" repeatCount="4000">
                                  <p:stCondLst>
                                    <p:cond delay="3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4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xit" presetID="1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mph" presetID="35" repeatCount="4000">
                                  <p:stCondLst>
                                    <p:cond delay="1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0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mph" presetID="35" repeatCount="4000">
                                  <p:stCondLst>
                                    <p:cond delay="29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xit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xit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9711E-006 L 0.31563 -0.91445 E">
                                      <p:cBhvr>
                                        <p:cTn id="858" dur="12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mph" presetID="8" repeatCount="3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60" dur="6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5382 -0.00347 L 0.16163 -0.94128 E">
                                      <p:cBhvr>
                                        <p:cTn id="862" dur="13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04 0.20508 L 0.421 -0.77781 E">
                                      <p:cBhvr>
                                        <p:cTn id="866" dur="13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8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1503E-006 L 0.45139 -1.03284 E">
                                      <p:cBhvr>
                                        <p:cTn id="870" dur="11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mph" presetID="8" repeatCount="3000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872" dur="6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5E-006 2.94798E-006 L 0.87917 -0.90729 E">
                                      <p:cBhvr>
                                        <p:cTn id="874" dur="105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mph" presetID="8" repeatCount="3000">
                                  <p:stCondLst>
                                    <p:cond delay="750"/>
                                  </p:stCondLst>
                                  <p:childTnLst>
                                    <p:animRot by="21600000">
                                      <p:cBhvr>
                                        <p:cTn id="876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5E-006 2.02312E-006 L 0.67726 -0.7237 E">
                                      <p:cBhvr>
                                        <p:cTn id="878" dur="135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0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31214E-007 L 0.74652 -1.13087 E">
                                      <p:cBhvr>
                                        <p:cTn id="882" dur="12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4" dur="6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42775E-006 L 0.76024 -1.02844 E">
                                      <p:cBhvr>
                                        <p:cTn id="886" dur="13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mph" presetID="8" repeatCount="3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88" dur="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3.3526E-006 L 0.45243 -0.78821 E">
                                      <p:cBhvr>
                                        <p:cTn id="890" dur="13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mph" presetID="8" repeatCount="3000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892" dur="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2.5E-006 -5.78035E-008 L 0.31562 -0.91445 E">
                                      <p:cBhvr>
                                        <p:cTn id="894" dur="125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6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39306E-006 L 0.48906 -1.14982 E">
                                      <p:cBhvr>
                                        <p:cTn id="898" dur="13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mph" presetID="8" repeatCount="3000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900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-8.33333E-007 -1.44509E-006 L -0.47639 -0.76439 E">
                                      <p:cBhvr>
                                        <p:cTn id="902" dur="115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mph" presetID="8" repeatCount="3000">
                                  <p:stCondLst>
                                    <p:cond delay="3750"/>
                                  </p:stCondLst>
                                  <p:childTnLst>
                                    <p:animRot by="21600000">
                                      <p:cBhvr>
                                        <p:cTn id="904" dur="6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path" presetID="42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4.72222E-006 -2.89017E-006 L -0.64705 -1.02289 E">
                                      <p:cBhvr>
                                        <p:cTn id="906" dur="12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mph" presetID="8" repeatCount="3000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908" dur="6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8.33333E-007 -2.19653E-006 L -0.83524 -1.2867 E">
                                      <p:cBhvr>
                                        <p:cTn id="910" dur="13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mph" presetID="8" repeatCount="3000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912" dur="6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-1.38889E-006 -2.94798E-006 L -0.93698 -0.93341 E">
                                      <p:cBhvr>
                                        <p:cTn id="914" dur="105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916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4.16667E-006 3.93064E-006 L -0.56129 -1.06798 E">
                                      <p:cBhvr>
                                        <p:cTn id="918" dur="12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920" dur="6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22222E-006 -3.46821E-006 L -1.03316 -0.80855 E">
                                      <p:cBhvr>
                                        <p:cTn id="922" dur="11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mph" presetID="8" repeatCount="3000">
                                  <p:stCondLst>
                                    <p:cond delay="3750"/>
                                  </p:stCondLst>
                                  <p:childTnLst>
                                    <p:animRot by="21600000">
                                      <p:cBhvr>
                                        <p:cTn id="924" dur="6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path" presetID="42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4.72222E-006 -2.89017E-006 L -0.64705 -1.02289 E">
                                      <p:cBhvr>
                                        <p:cTn id="926" dur="135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53360" cy="68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72E-6E3D-4DD2-A5AC-9C02A238AF1E}" type="slidenum">
              <a:t>5</a:t>
            </a:fld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6" dur="500" fill="hold"/>
                                        <p:tgtEl>
                                          <p:spTgt spid="1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211640" y="3476520"/>
            <a:ext cx="28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03680" y="3537000"/>
            <a:ext cx="2890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5"/>
          <p:cNvSpPr/>
          <p:nvPr/>
        </p:nvSpPr>
        <p:spPr>
          <a:xfrm>
            <a:off x="4354560" y="3284640"/>
            <a:ext cx="144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7"/>
          <p:cNvSpPr/>
          <p:nvPr/>
        </p:nvSpPr>
        <p:spPr>
          <a:xfrm>
            <a:off x="4729320" y="3368520"/>
            <a:ext cx="1440" cy="70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8"/>
          <p:cNvSpPr/>
          <p:nvPr/>
        </p:nvSpPr>
        <p:spPr>
          <a:xfrm>
            <a:off x="5076720" y="3718080"/>
            <a:ext cx="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932360" y="390852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5292720" y="400536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5683320" y="3562200"/>
            <a:ext cx="2887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33"/>
          <p:cNvSpPr/>
          <p:nvPr/>
        </p:nvSpPr>
        <p:spPr>
          <a:xfrm>
            <a:off x="5435640" y="3537000"/>
            <a:ext cx="1440" cy="8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35"/>
          <p:cNvSpPr/>
          <p:nvPr/>
        </p:nvSpPr>
        <p:spPr>
          <a:xfrm>
            <a:off x="6156360" y="3741840"/>
            <a:ext cx="0" cy="47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6012000" y="4149720"/>
            <a:ext cx="2887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43"/>
          <p:cNvSpPr/>
          <p:nvPr/>
        </p:nvSpPr>
        <p:spPr>
          <a:xfrm>
            <a:off x="5827680" y="3562200"/>
            <a:ext cx="1800" cy="669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45"/>
          <p:cNvSpPr/>
          <p:nvPr/>
        </p:nvSpPr>
        <p:spPr>
          <a:xfrm>
            <a:off x="6458040" y="3743280"/>
            <a:ext cx="1440" cy="9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6319800" y="3854520"/>
            <a:ext cx="28728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47"/>
          <p:cNvSpPr/>
          <p:nvPr/>
        </p:nvSpPr>
        <p:spPr>
          <a:xfrm>
            <a:off x="6799320" y="321300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6661080" y="3854520"/>
            <a:ext cx="287280" cy="7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5075280" y="341136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K-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5062680" y="341316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P-L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5029920" y="3411360"/>
            <a:ext cx="21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U-Li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5024520" y="3413160"/>
            <a:ext cx="21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Q-Ji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4974480" y="341964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G-Ti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4"/>
          <p:cNvSpPr/>
          <p:nvPr/>
        </p:nvSpPr>
        <p:spPr>
          <a:xfrm>
            <a:off x="5116680" y="341136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A-Jih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0"/>
          <p:cNvSpPr/>
          <p:nvPr/>
        </p:nvSpPr>
        <p:spPr>
          <a:xfrm flipV="1">
            <a:off x="0" y="1514160"/>
            <a:ext cx="1295280" cy="215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3"/>
          <p:cNvSpPr/>
          <p:nvPr/>
        </p:nvSpPr>
        <p:spPr>
          <a:xfrm>
            <a:off x="1273320" y="14130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 flipV="1">
            <a:off x="1335240" y="293760"/>
            <a:ext cx="1004760" cy="113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4"/>
          <p:cNvSpPr/>
          <p:nvPr/>
        </p:nvSpPr>
        <p:spPr>
          <a:xfrm>
            <a:off x="2340000" y="260280"/>
            <a:ext cx="7128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37"/>
          <p:cNvSpPr/>
          <p:nvPr/>
        </p:nvSpPr>
        <p:spPr>
          <a:xfrm>
            <a:off x="2368440" y="297000"/>
            <a:ext cx="1581120" cy="25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39"/>
          <p:cNvSpPr/>
          <p:nvPr/>
        </p:nvSpPr>
        <p:spPr>
          <a:xfrm>
            <a:off x="3952800" y="2852640"/>
            <a:ext cx="7164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2"/>
          <p:cNvSpPr/>
          <p:nvPr/>
        </p:nvSpPr>
        <p:spPr>
          <a:xfrm>
            <a:off x="3984480" y="2914560"/>
            <a:ext cx="1814760" cy="217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0"/>
          <p:cNvSpPr/>
          <p:nvPr/>
        </p:nvSpPr>
        <p:spPr>
          <a:xfrm>
            <a:off x="5796000" y="5084640"/>
            <a:ext cx="7128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51"/>
          <p:cNvSpPr/>
          <p:nvPr/>
        </p:nvSpPr>
        <p:spPr>
          <a:xfrm flipV="1">
            <a:off x="3564000" y="549000"/>
            <a:ext cx="1295280" cy="457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52"/>
          <p:cNvSpPr/>
          <p:nvPr/>
        </p:nvSpPr>
        <p:spPr>
          <a:xfrm>
            <a:off x="4844880" y="498600"/>
            <a:ext cx="7308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53"/>
          <p:cNvSpPr/>
          <p:nvPr/>
        </p:nvSpPr>
        <p:spPr>
          <a:xfrm>
            <a:off x="4881600" y="569880"/>
            <a:ext cx="1576440" cy="305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56"/>
          <p:cNvSpPr/>
          <p:nvPr/>
        </p:nvSpPr>
        <p:spPr>
          <a:xfrm>
            <a:off x="6443640" y="3587760"/>
            <a:ext cx="7164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58"/>
          <p:cNvSpPr/>
          <p:nvPr/>
        </p:nvSpPr>
        <p:spPr>
          <a:xfrm flipH="1" flipV="1">
            <a:off x="6473520" y="3619440"/>
            <a:ext cx="105084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63"/>
          <p:cNvSpPr/>
          <p:nvPr/>
        </p:nvSpPr>
        <p:spPr>
          <a:xfrm>
            <a:off x="7516800" y="393876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65"/>
          <p:cNvSpPr/>
          <p:nvPr/>
        </p:nvSpPr>
        <p:spPr>
          <a:xfrm flipV="1">
            <a:off x="7524720" y="2420640"/>
            <a:ext cx="1800360" cy="150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70"/>
          <p:cNvSpPr/>
          <p:nvPr/>
        </p:nvSpPr>
        <p:spPr>
          <a:xfrm>
            <a:off x="-55440" y="3171960"/>
            <a:ext cx="1293840" cy="140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72"/>
          <p:cNvSpPr/>
          <p:nvPr/>
        </p:nvSpPr>
        <p:spPr>
          <a:xfrm>
            <a:off x="1260360" y="4581360"/>
            <a:ext cx="7164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3"/>
          <p:cNvSpPr/>
          <p:nvPr/>
        </p:nvSpPr>
        <p:spPr>
          <a:xfrm flipV="1">
            <a:off x="1282680" y="4479840"/>
            <a:ext cx="1128600" cy="14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76"/>
          <p:cNvSpPr/>
          <p:nvPr/>
        </p:nvSpPr>
        <p:spPr>
          <a:xfrm>
            <a:off x="2411280" y="4437000"/>
            <a:ext cx="7164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77"/>
          <p:cNvSpPr/>
          <p:nvPr/>
        </p:nvSpPr>
        <p:spPr>
          <a:xfrm flipV="1">
            <a:off x="2448000" y="2095200"/>
            <a:ext cx="630000" cy="24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83"/>
          <p:cNvSpPr/>
          <p:nvPr/>
        </p:nvSpPr>
        <p:spPr>
          <a:xfrm>
            <a:off x="3060720" y="206064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84"/>
          <p:cNvSpPr/>
          <p:nvPr/>
        </p:nvSpPr>
        <p:spPr>
          <a:xfrm flipV="1">
            <a:off x="3121200" y="1267920"/>
            <a:ext cx="828360" cy="85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87"/>
          <p:cNvSpPr/>
          <p:nvPr/>
        </p:nvSpPr>
        <p:spPr>
          <a:xfrm>
            <a:off x="3995640" y="1197000"/>
            <a:ext cx="7164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88"/>
          <p:cNvSpPr/>
          <p:nvPr/>
        </p:nvSpPr>
        <p:spPr>
          <a:xfrm flipH="1" flipV="1">
            <a:off x="1763280" y="1231920"/>
            <a:ext cx="932040" cy="4201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91"/>
          <p:cNvSpPr/>
          <p:nvPr/>
        </p:nvSpPr>
        <p:spPr>
          <a:xfrm>
            <a:off x="2685960" y="5373720"/>
            <a:ext cx="7164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2"/>
          <p:cNvSpPr/>
          <p:nvPr/>
        </p:nvSpPr>
        <p:spPr>
          <a:xfrm flipV="1">
            <a:off x="2720880" y="519120"/>
            <a:ext cx="3810240" cy="487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96"/>
          <p:cNvSpPr/>
          <p:nvPr/>
        </p:nvSpPr>
        <p:spPr>
          <a:xfrm>
            <a:off x="6531120" y="476280"/>
            <a:ext cx="71280" cy="73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97"/>
          <p:cNvSpPr/>
          <p:nvPr/>
        </p:nvSpPr>
        <p:spPr>
          <a:xfrm flipH="1" flipV="1">
            <a:off x="6540120" y="537840"/>
            <a:ext cx="1012680" cy="51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00"/>
          <p:cNvSpPr/>
          <p:nvPr/>
        </p:nvSpPr>
        <p:spPr>
          <a:xfrm>
            <a:off x="7567560" y="1022400"/>
            <a:ext cx="71640" cy="73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101"/>
          <p:cNvSpPr/>
          <p:nvPr/>
        </p:nvSpPr>
        <p:spPr>
          <a:xfrm>
            <a:off x="7604280" y="1038240"/>
            <a:ext cx="1539720" cy="2678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6"/>
          <p:cNvSpPr/>
          <p:nvPr/>
        </p:nvSpPr>
        <p:spPr>
          <a:xfrm rot="5400000">
            <a:off x="6145920" y="1494360"/>
            <a:ext cx="131760" cy="3279600"/>
          </a:xfrm>
          <a:custGeom>
            <a:avLst/>
            <a:gdLst>
              <a:gd name="textAreaLeft" fmla="*/ 38520 w 131760"/>
              <a:gd name="textAreaRight" fmla="*/ 132120 w 131760"/>
              <a:gd name="textAreaTop" fmla="*/ 70560 h 3279600"/>
              <a:gd name="textAreaBottom" fmla="*/ 3209040 h 327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"/>
                  <a:pt x="0" y="931"/>
                </a:cubicBezTo>
                <a:lnTo>
                  <a:pt x="0" y="20669"/>
                </a:lnTo>
                <a:cubicBezTo>
                  <a:pt x="0" y="21135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8"/>
          <p:cNvSpPr/>
          <p:nvPr/>
        </p:nvSpPr>
        <p:spPr>
          <a:xfrm flipV="1" rot="16200000">
            <a:off x="6143760" y="3071880"/>
            <a:ext cx="133200" cy="3279600"/>
          </a:xfrm>
          <a:custGeom>
            <a:avLst/>
            <a:gdLst>
              <a:gd name="textAreaLeft" fmla="*/ 39240 w 133200"/>
              <a:gd name="textAreaRight" fmla="*/ 133200 w 133200"/>
              <a:gd name="textAreaTop" fmla="*/ 70560 h 3279600"/>
              <a:gd name="textAreaBottom" fmla="*/ 3209040 h 327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"/>
                  <a:pt x="0" y="931"/>
                </a:cubicBezTo>
                <a:lnTo>
                  <a:pt x="0" y="20669"/>
                </a:lnTo>
                <a:cubicBezTo>
                  <a:pt x="0" y="21135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5"/>
          <p:cNvSpPr/>
          <p:nvPr/>
        </p:nvSpPr>
        <p:spPr>
          <a:xfrm>
            <a:off x="5087880" y="341136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K-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1"/>
          <p:cNvSpPr/>
          <p:nvPr/>
        </p:nvSpPr>
        <p:spPr>
          <a:xfrm>
            <a:off x="4702320" y="1773360"/>
            <a:ext cx="7272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1"/>
          <p:cNvSpPr/>
          <p:nvPr/>
        </p:nvSpPr>
        <p:spPr>
          <a:xfrm>
            <a:off x="4702320" y="2060640"/>
            <a:ext cx="7272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4771080" y="1973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Floor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4702320" y="2363760"/>
            <a:ext cx="7272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1"/>
          <p:cNvSpPr/>
          <p:nvPr/>
        </p:nvSpPr>
        <p:spPr>
          <a:xfrm>
            <a:off x="4716360" y="2665440"/>
            <a:ext cx="7308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6"/>
          <p:cNvSpPr/>
          <p:nvPr/>
        </p:nvSpPr>
        <p:spPr>
          <a:xfrm>
            <a:off x="4775040" y="228276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Closing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4775040" y="258444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Opening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35"/>
          <p:cNvSpPr/>
          <p:nvPr/>
        </p:nvSpPr>
        <p:spPr>
          <a:xfrm>
            <a:off x="4762440" y="1639800"/>
            <a:ext cx="22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Ceiling  Pric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28"/>
          <p:cNvSpPr/>
          <p:nvPr/>
        </p:nvSpPr>
        <p:spPr>
          <a:xfrm>
            <a:off x="539640" y="189000"/>
            <a:ext cx="39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30"/>
          <p:cNvSpPr/>
          <p:nvPr/>
        </p:nvSpPr>
        <p:spPr>
          <a:xfrm>
            <a:off x="539640" y="189000"/>
            <a:ext cx="0" cy="247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052"/>
          <p:cNvSpPr/>
          <p:nvPr/>
        </p:nvSpPr>
        <p:spPr>
          <a:xfrm>
            <a:off x="539640" y="2637000"/>
            <a:ext cx="3961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30"/>
          <p:cNvSpPr/>
          <p:nvPr/>
        </p:nvSpPr>
        <p:spPr>
          <a:xfrm flipH="1">
            <a:off x="4495680" y="189000"/>
            <a:ext cx="5040" cy="2462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2061"/>
          <p:cNvSpPr/>
          <p:nvPr/>
        </p:nvSpPr>
        <p:spPr>
          <a:xfrm>
            <a:off x="3492360" y="236844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5"/>
          <p:cNvSpPr/>
          <p:nvPr/>
        </p:nvSpPr>
        <p:spPr>
          <a:xfrm>
            <a:off x="4348080" y="18590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Gothic"/>
              </a:rPr>
              <a:t>UP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sosceles Triangle 89"/>
          <p:cNvSpPr/>
          <p:nvPr/>
        </p:nvSpPr>
        <p:spPr>
          <a:xfrm flipV="1" rot="5400000">
            <a:off x="4514040" y="1772640"/>
            <a:ext cx="46080" cy="47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sosceles Triangle 90"/>
          <p:cNvSpPr/>
          <p:nvPr/>
        </p:nvSpPr>
        <p:spPr>
          <a:xfrm flipV="1" rot="5400000">
            <a:off x="4730760" y="1773360"/>
            <a:ext cx="46080" cy="46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056"/>
          <p:cNvSpPr/>
          <p:nvPr/>
        </p:nvSpPr>
        <p:spPr>
          <a:xfrm>
            <a:off x="4282920" y="1976400"/>
            <a:ext cx="1800" cy="66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162"/>
          <p:cNvSpPr/>
          <p:nvPr/>
        </p:nvSpPr>
        <p:spPr>
          <a:xfrm flipH="1" flipV="1">
            <a:off x="3701520" y="2008080"/>
            <a:ext cx="497160" cy="87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346040" y="1050840"/>
            <a:ext cx="1930680" cy="7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2"/>
          <p:cNvSpPr/>
          <p:nvPr/>
        </p:nvSpPr>
        <p:spPr>
          <a:xfrm>
            <a:off x="3898800" y="5079960"/>
            <a:ext cx="46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5"/>
          <p:cNvSpPr/>
          <p:nvPr/>
        </p:nvSpPr>
        <p:spPr>
          <a:xfrm>
            <a:off x="3995640" y="5479920"/>
            <a:ext cx="55800" cy="6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6"/>
          <p:cNvSpPr/>
          <p:nvPr/>
        </p:nvSpPr>
        <p:spPr>
          <a:xfrm>
            <a:off x="4102200" y="5022720"/>
            <a:ext cx="5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9"/>
          <p:cNvSpPr/>
          <p:nvPr/>
        </p:nvSpPr>
        <p:spPr>
          <a:xfrm>
            <a:off x="4208400" y="5740560"/>
            <a:ext cx="46080" cy="35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0"/>
          <p:cNvSpPr/>
          <p:nvPr/>
        </p:nvSpPr>
        <p:spPr>
          <a:xfrm>
            <a:off x="4295880" y="5124600"/>
            <a:ext cx="54000" cy="96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3"/>
          <p:cNvSpPr/>
          <p:nvPr/>
        </p:nvSpPr>
        <p:spPr>
          <a:xfrm>
            <a:off x="4394160" y="5473800"/>
            <a:ext cx="55440" cy="61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4"/>
          <p:cNvSpPr/>
          <p:nvPr/>
        </p:nvSpPr>
        <p:spPr>
          <a:xfrm>
            <a:off x="4495680" y="5740560"/>
            <a:ext cx="44640" cy="35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4581360" y="5608800"/>
            <a:ext cx="5580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8"/>
          <p:cNvSpPr/>
          <p:nvPr/>
        </p:nvSpPr>
        <p:spPr>
          <a:xfrm>
            <a:off x="4680000" y="5473800"/>
            <a:ext cx="55440" cy="61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62"/>
          <p:cNvSpPr/>
          <p:nvPr/>
        </p:nvSpPr>
        <p:spPr>
          <a:xfrm flipH="1" flipV="1">
            <a:off x="3634920" y="5229000"/>
            <a:ext cx="1368360" cy="50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716360" y="5159520"/>
            <a:ext cx="2341800" cy="645840"/>
          </a:xfrm>
          <a:prstGeom prst="rect">
            <a:avLst/>
          </a:prstGeom>
          <a:ln w="0">
            <a:noFill/>
          </a:ln>
        </p:spPr>
      </p:pic>
      <p:sp>
        <p:nvSpPr>
          <p:cNvPr id="276" name="Isosceles Triangle 102"/>
          <p:cNvSpPr/>
          <p:nvPr/>
        </p:nvSpPr>
        <p:spPr>
          <a:xfrm>
            <a:off x="7445520" y="4854600"/>
            <a:ext cx="215640" cy="18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Isosceles Triangle 105"/>
          <p:cNvSpPr/>
          <p:nvPr/>
        </p:nvSpPr>
        <p:spPr>
          <a:xfrm flipH="1" flipV="1">
            <a:off x="7242120" y="4861080"/>
            <a:ext cx="216000" cy="193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06"/>
          <p:cNvSpPr/>
          <p:nvPr/>
        </p:nvSpPr>
        <p:spPr>
          <a:xfrm>
            <a:off x="7063560" y="3573360"/>
            <a:ext cx="8665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2371EW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45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3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3D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1WQE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EWQ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07"/>
          <p:cNvSpPr/>
          <p:nvPr/>
        </p:nvSpPr>
        <p:spPr>
          <a:xfrm>
            <a:off x="4915080" y="6572160"/>
            <a:ext cx="376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08"/>
          <p:cNvSpPr/>
          <p:nvPr/>
        </p:nvSpPr>
        <p:spPr>
          <a:xfrm flipH="1" flipV="1">
            <a:off x="8677440" y="4948200"/>
            <a:ext cx="10800" cy="16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948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950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952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954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956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958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960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962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972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974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976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978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980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982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984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986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xit" presetID="22" presetSubtype="4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994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996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998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00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02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04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06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008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018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020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022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24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26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28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30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032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040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042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044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46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48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50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52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054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064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066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068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70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72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74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76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078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xit" presetID="22" presetSubtype="4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086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088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090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92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94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96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98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00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xit" presetID="22" presetSubtype="4">
                                  <p:stCondLst>
                                    <p:cond delay="4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110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112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114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116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118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120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122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24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22" presetSubtype="4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132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134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136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138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140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142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144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46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xit" presetID="22" presetSubtype="4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156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158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160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162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164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166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168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70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2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178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180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182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184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186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188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190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92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xit" presetID="22" presetSubtype="4">
                                  <p:stCondLst>
                                    <p:cond delay="5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02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04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06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208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210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212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214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216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xit" presetID="22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24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26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28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230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232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234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236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238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xit" presetID="22" presetSubtype="4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48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50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52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254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256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258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260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262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xit" presetID="2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70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72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74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276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278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280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282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284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xit" presetID="2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22" presetSubtype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94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96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98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300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302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304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306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308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22" presetSubtype="4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dur="indefinite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1339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xit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mph" presetID="35" repeatCount="3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9" dur="1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mph" presetID="35" repeatCount="30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7" dur="1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dur="indefinite" nodeType="withEffect" fill="hold" presetClass="emph" presetID="35" repeatCount="3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dur="indefinite" nodeType="withEffect" fill="hold" presetClass="emph" presetID="35" repeatCount="30000">
                                  <p:stCondLst>
                                    <p:cond delay="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3" dur="1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75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77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79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1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2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3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4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5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7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9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mph" presetID="35" repeatCount="30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7" dur="1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mph" presetID="35" repeatCount="30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6" dur="indefinite" nodeType="withEffect" fill="hold" presetClass="entr" presetID="2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mph" presetID="35" repeatCount="30000">
                                  <p:stCondLst>
                                    <p:cond delay="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3" dur="1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21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mph" presetID="35" repeatCount="3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6" dur="1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28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33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mph" presetID="35" repeatCount="30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8" dur="1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4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2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4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mph" presetID="35" repeatCount="3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52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57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mph" presetID="35" repeatCount="30000">
                                  <p:stCondLst>
                                    <p:cond delay="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2" dur="1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6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mph" presetID="35" repeatCount="30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2" dur="1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mph" presetID="35" repeatCount="30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0" dur="1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dur="indefinite" nodeType="withEffect" fill="hold" presetClass="entr" presetID="2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mph" presetID="35" repeatCount="30000">
                                  <p:stCondLst>
                                    <p:cond delay="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8" dur="1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ntr" presetID="2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xit" presetID="22" presetSubtype="2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9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xit" presetID="22" presetSubtype="8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2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mph" presetID="35" repeatCount="3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0" dur="106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dur="indefinite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77778E-007 2.36994E-006 L 0.16146 2.36994E-006 E">
                                      <p:cBhvr>
                                        <p:cTn id="1512" dur="3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3" dur="indefinite" nodeType="withEffect" fill="hold" presetClass="exit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emph" presetID="35" repeatCount="36000">
                                  <p:stCondLst>
                                    <p:cond delay="3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1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path" presetID="63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3.88889E-006 -2.71676E-006 L 0.11875 -2.71676E-006 E">
                                      <p:cBhvr>
                                        <p:cTn id="1523" dur="3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dur="indefinite" nodeType="withEffect" fill="hold" presetClass="emph" presetID="35" repeatCount="36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2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88889E-006 -2.71676E-006 L 0.11875 -2.71676E-006 E">
                                      <p:cBhvr>
                                        <p:cTn id="1534" dur="3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dur="indefinite" nodeType="withEffect" fill="hold" presetClass="exit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mph" presetID="35" repeatCount="36000">
                                  <p:stCondLst>
                                    <p:cond delay="3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3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path" presetID="63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0 4.79769E-006 L 0.11875 4.79769E-006 E">
                                      <p:cBhvr>
                                        <p:cTn id="1545" dur="3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dur="indefinite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dur="indefinite" nodeType="withEffect" fill="hold" presetClass="exit" presetID="22" presetSubtype="4">
                                  <p:stCondLst>
                                    <p:cond delay="6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dur="indefinite" nodeType="withEffect" fill="hold" presetClass="entr" presetID="2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ntr" presetID="22" presetSubtype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xit" presetID="22" presetSubtype="2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xit" presetID="22" presetSubtype="1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22" presetSubtype="8">
                                  <p:stCondLst>
                                    <p:cond delay="8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2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ntr" presetID="22" presetSubtype="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dur="indefinite" nodeType="withEffect" fill="hold" presetClass="entr" presetID="22" presetSubtype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dur="indefinite" nodeType="with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2" presetSubtype="2">
                                  <p:stCondLst>
                                    <p:cond delay="8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22" presetSubtype="1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xit" presetID="22" presetSubtype="8">
                                  <p:stCondLst>
                                    <p:cond delay="9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xit" presetID="22" presetSubtype="4">
                                  <p:stCondLst>
                                    <p:cond delay="10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dur="indefinite" nodeType="withEffect" fill="hold" presetClass="emph" presetID="35" repeatCount="4000">
                                  <p:stCondLst>
                                    <p:cond delay="8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7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mph" presetID="35" repeatCount="4000">
                                  <p:stCondLst>
                                    <p:cond delay="8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3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emph" presetID="35" repeatCount="4000">
                                  <p:stCondLst>
                                    <p:cond delay="8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9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dur="indefinite" nodeType="withEffect" fill="hold" presetClass="emph" presetID="35" repeatCount="4000">
                                  <p:stCondLst>
                                    <p:cond delay="8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3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ntr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mph" presetID="35" repeatCount="4000">
                                  <p:stCondLst>
                                    <p:cond delay="8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7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9" dur="7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2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5" dur="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dur="indefinite" nodeType="withEffect" fill="hold" presetClass="emph" presetID="6">
                                  <p:stCondLst>
                                    <p:cond delay="7000"/>
                                  </p:stCondLst>
                                  <p:childTnLst>
                                    <p:animScale>
                                      <p:cBhvr>
                                        <p:cTn id="1651" dur="6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05017 0.04809 L 3.05556E-006 -8.67052E-007 E">
                                      <p:cBhvr>
                                        <p:cTn id="1653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5" dur="7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7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7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ntr" presetID="22" presetSubtype="1">
                                  <p:stCondLst>
                                    <p:cond delay="1125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dur="indefinite" nodeType="withEffect" fill="hold" presetClass="exit" presetID="22" presetSubtype="1">
                                  <p:stCondLst>
                                    <p:cond delay="1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3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ntr" presetID="22" presetSubtype="4" repeatCount="500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ntr" presetID="22" presetSubtype="4" repeatCount="5000">
                                  <p:stCondLst>
                                    <p:cond delay="1225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dur="indefinite" nodeType="withEffect" fill="hold" presetClass="entr" presetID="22" presetSubtype="4" repeatCount="5000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dur="indefinite" nodeType="withEffect" fill="hold" presetClass="entr" presetID="22" presetSubtype="4" repeatCount="5000">
                                  <p:stCondLst>
                                    <p:cond delay="1225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ntr" presetID="22" presetSubtype="4" repeatCount="5000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5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dur="indefinite" nodeType="withEffect" fill="hold" presetClass="entr" presetID="22" presetSubtype="4" repeatCount="500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8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ntr" presetID="22" presetSubtype="4" repeatCount="500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1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dur="indefinite" nodeType="withEffect" fill="hold" presetClass="entr" presetID="22" presetSubtype="4" repeatCount="5000">
                                  <p:stCondLst>
                                    <p:cond delay="1225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ntr" presetID="22" presetSubtype="4" repeatCount="500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dur="indefinite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dur="indefinite" nodeType="withEffect" fill="hold" presetClass="emph" presetID="6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1759" dur="6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60" dur="indefinite" nodeType="withEffect" fill="hold" presetClass="path" presetID="42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5.55556E-007 4.33526E-006 L 0.08073 0.03676 E">
                                      <p:cBhvr>
                                        <p:cTn id="1761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3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5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ntr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mph" presetID="35" repeatCount="4000">
                                  <p:stCondLst>
                                    <p:cond delay="1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2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dur="indefinite" nodeType="withEffect" fill="hold" presetClass="entr" presetID="2" presetSubtype="1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2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dur="indefinite" nodeType="withEffect" fill="hold" presetClass="emph" presetID="35" repeatCount="4000">
                                  <p:stCondLst>
                                    <p:cond delay="1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9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0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1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ntr" presetID="2" presetSubtype="4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mph" presetID="35" repeatCount="4000">
                                  <p:stCondLst>
                                    <p:cond delay="1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8" dur="1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0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entr" presetID="2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ntr" presetID="22" presetSubtype="4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dur="indefinite" nodeType="withEffect" fill="hold" presetClass="exit" presetID="22" presetSubtype="8">
                                  <p:stCondLst>
                                    <p:cond delay="1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dur="indefinite" nodeType="withEffect" fill="hold" presetClass="exit" presetID="2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2"/>
          <p:cNvSpPr/>
          <p:nvPr/>
        </p:nvSpPr>
        <p:spPr>
          <a:xfrm>
            <a:off x="3401280" y="3811680"/>
            <a:ext cx="211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2700360" y="3452760"/>
            <a:ext cx="3459240" cy="487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4"/>
          <p:cNvSpPr/>
          <p:nvPr/>
        </p:nvSpPr>
        <p:spPr>
          <a:xfrm>
            <a:off x="2700360" y="3695760"/>
            <a:ext cx="68400" cy="565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5"/>
          <p:cNvSpPr/>
          <p:nvPr/>
        </p:nvSpPr>
        <p:spPr>
          <a:xfrm flipH="1">
            <a:off x="6091200" y="3695760"/>
            <a:ext cx="68400" cy="565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2768760" y="4016520"/>
            <a:ext cx="3322440" cy="485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7"/>
          <p:cNvSpPr/>
          <p:nvPr/>
        </p:nvSpPr>
        <p:spPr>
          <a:xfrm>
            <a:off x="2768760" y="4260960"/>
            <a:ext cx="360360" cy="39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8"/>
          <p:cNvSpPr/>
          <p:nvPr/>
        </p:nvSpPr>
        <p:spPr>
          <a:xfrm>
            <a:off x="3132000" y="4694400"/>
            <a:ext cx="109800" cy="268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9"/>
          <p:cNvSpPr/>
          <p:nvPr/>
        </p:nvSpPr>
        <p:spPr>
          <a:xfrm flipH="1">
            <a:off x="5779800" y="4687920"/>
            <a:ext cx="5868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5838480" y="4260960"/>
            <a:ext cx="250920" cy="39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21"/>
          <p:cNvSpPr/>
          <p:nvPr/>
        </p:nvSpPr>
        <p:spPr>
          <a:xfrm>
            <a:off x="4500720" y="5086440"/>
            <a:ext cx="0" cy="237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27"/>
          <p:cNvSpPr/>
          <p:nvPr/>
        </p:nvSpPr>
        <p:spPr>
          <a:xfrm>
            <a:off x="3125880" y="4659480"/>
            <a:ext cx="109440" cy="268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32"/>
          <p:cNvSpPr/>
          <p:nvPr/>
        </p:nvSpPr>
        <p:spPr>
          <a:xfrm>
            <a:off x="4861080" y="5086440"/>
            <a:ext cx="0" cy="137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935520" y="4694400"/>
            <a:ext cx="1049400" cy="2444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9"/>
          <p:cNvSpPr/>
          <p:nvPr/>
        </p:nvSpPr>
        <p:spPr>
          <a:xfrm>
            <a:off x="682560" y="13651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S Gothic"/>
              </a:rPr>
              <a:t>See what we can 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6838920" y="352728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Gothic"/>
              </a:rPr>
              <a:t>With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936720" y="4149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Gothic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679"/>
          <p:cNvSpPr/>
          <p:nvPr/>
        </p:nvSpPr>
        <p:spPr>
          <a:xfrm>
            <a:off x="7236000" y="5229360"/>
            <a:ext cx="2879640" cy="287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 rot="2245800">
            <a:off x="-2028960" y="-928440"/>
            <a:ext cx="1285920" cy="749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 rot="1843800">
            <a:off x="-1315800" y="-138384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4"/>
          <a:stretch/>
        </p:blipFill>
        <p:spPr>
          <a:xfrm rot="1843800">
            <a:off x="-3004920" y="-1404720"/>
            <a:ext cx="1285920" cy="749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5"/>
          <a:stretch/>
        </p:blipFill>
        <p:spPr>
          <a:xfrm rot="2053800">
            <a:off x="-2616120" y="26964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"/>
          <p:cNvPicPr/>
          <p:nvPr/>
        </p:nvPicPr>
        <p:blipFill>
          <a:blip r:embed="rId6"/>
          <a:stretch/>
        </p:blipFill>
        <p:spPr>
          <a:xfrm rot="2923200">
            <a:off x="750960" y="-2518920"/>
            <a:ext cx="1285560" cy="749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"/>
          <p:cNvPicPr/>
          <p:nvPr/>
        </p:nvPicPr>
        <p:blipFill>
          <a:blip r:embed="rId7"/>
          <a:stretch/>
        </p:blipFill>
        <p:spPr>
          <a:xfrm rot="1843800">
            <a:off x="-3592080" y="-118548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"/>
          <p:cNvPicPr/>
          <p:nvPr/>
        </p:nvPicPr>
        <p:blipFill>
          <a:blip r:embed="rId8"/>
          <a:stretch/>
        </p:blipFill>
        <p:spPr>
          <a:xfrm rot="2917200">
            <a:off x="141480" y="-2317320"/>
            <a:ext cx="1285560" cy="749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9"/>
          <a:stretch/>
        </p:blipFill>
        <p:spPr>
          <a:xfrm rot="2878200">
            <a:off x="-600840" y="-1973520"/>
            <a:ext cx="1285920" cy="747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10"/>
          <a:stretch/>
        </p:blipFill>
        <p:spPr>
          <a:xfrm rot="1843800">
            <a:off x="-3330720" y="197136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"/>
          <p:cNvPicPr/>
          <p:nvPr/>
        </p:nvPicPr>
        <p:blipFill>
          <a:blip r:embed="rId11"/>
          <a:stretch/>
        </p:blipFill>
        <p:spPr>
          <a:xfrm rot="2245800">
            <a:off x="-1166400" y="-496440"/>
            <a:ext cx="1284120" cy="747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12"/>
          <a:stretch/>
        </p:blipFill>
        <p:spPr>
          <a:xfrm rot="1843800">
            <a:off x="-604800" y="-952200"/>
            <a:ext cx="1284120" cy="749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"/>
          <p:cNvPicPr/>
          <p:nvPr/>
        </p:nvPicPr>
        <p:blipFill>
          <a:blip r:embed="rId13"/>
          <a:stretch/>
        </p:blipFill>
        <p:spPr>
          <a:xfrm rot="1843800">
            <a:off x="-2649240" y="-496800"/>
            <a:ext cx="1285920" cy="74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14"/>
          <a:stretch/>
        </p:blipFill>
        <p:spPr>
          <a:xfrm rot="2053800">
            <a:off x="-1905120" y="104904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15"/>
          <a:stretch/>
        </p:blipFill>
        <p:spPr>
          <a:xfrm rot="2977200">
            <a:off x="1461960" y="-20869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"/>
          <p:cNvPicPr/>
          <p:nvPr/>
        </p:nvPicPr>
        <p:blipFill>
          <a:blip r:embed="rId16"/>
          <a:stretch/>
        </p:blipFill>
        <p:spPr>
          <a:xfrm rot="1843800">
            <a:off x="-2462040" y="1396800"/>
            <a:ext cx="1285560" cy="749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17"/>
          <a:stretch/>
        </p:blipFill>
        <p:spPr>
          <a:xfrm rot="2778000">
            <a:off x="852480" y="-1885680"/>
            <a:ext cx="1285920" cy="7495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18"/>
          <a:stretch/>
        </p:blipFill>
        <p:spPr>
          <a:xfrm rot="2499000">
            <a:off x="109440" y="-154296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19"/>
          <a:stretch/>
        </p:blipFill>
        <p:spPr>
          <a:xfrm rot="1843800">
            <a:off x="-2619360" y="205560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0"/>
          <a:stretch/>
        </p:blipFill>
        <p:spPr>
          <a:xfrm rot="3249000">
            <a:off x="2481120" y="-25171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21"/>
          <a:stretch/>
        </p:blipFill>
        <p:spPr>
          <a:xfrm rot="3762600">
            <a:off x="3292200" y="-26269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22"/>
          <a:stretch/>
        </p:blipFill>
        <p:spPr>
          <a:xfrm rot="917400">
            <a:off x="-3357720" y="39355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3"/>
          <a:stretch/>
        </p:blipFill>
        <p:spPr>
          <a:xfrm rot="1416600">
            <a:off x="-3278160" y="29275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4"/>
          <a:stretch/>
        </p:blipFill>
        <p:spPr>
          <a:xfrm>
            <a:off x="2703600" y="3443400"/>
            <a:ext cx="3481200" cy="402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25"/>
          <a:stretch/>
        </p:blipFill>
        <p:spPr>
          <a:xfrm rot="2245800">
            <a:off x="-1900080" y="-1338120"/>
            <a:ext cx="1285560" cy="749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"/>
          <p:cNvPicPr/>
          <p:nvPr/>
        </p:nvPicPr>
        <p:blipFill>
          <a:blip r:embed="rId26"/>
          <a:stretch/>
        </p:blipFill>
        <p:spPr>
          <a:xfrm rot="1645200">
            <a:off x="-2803680" y="674280"/>
            <a:ext cx="1285920" cy="74952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dur="indefinite" nodeType="withEffect" fill="hold" presetClass="emph" presetID="35" repeatCount="4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6" dur="1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dur="indefinite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2" dur="1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dur="indefinite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2699820">
                                      <p:cBhvr>
                                        <p:cTn id="1894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5E-006 -8.67052E-007 L 0.54166 0.20439 E">
                                      <p:cBhvr>
                                        <p:cTn id="1896" dur="9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2200"/>
                            </p:stCondLst>
                            <p:childTnLst>
                              <p:par>
                                <p:cTn id="1898" dur="indefinite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dur="indefinite" nodeType="withEffect" fill="hold" presetClass="emph" presetID="26" repeatCount="400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1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2" dur="1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3" dur="indefinite" nodeType="withEffect" fill="hold" presetClass="path" presetID="42" repeatCount="3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66667E-006 2.19653E-006 L 1.16146 1.12878 E">
                                      <p:cBhvr>
                                        <p:cTn id="1904" dur="18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5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23699E-006 L 1.14079 1.22358 E">
                                      <p:cBhvr>
                                        <p:cTn id="1906" dur="185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7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16667E-006 4.85549E-006 L 1.45105 1.26196 E">
                                      <p:cBhvr>
                                        <p:cTn id="1908" dur="185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path" presetID="42" repeatCount="3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2.22222E-006 1.32948E-006 L 1.25139 0.9422 E">
                                      <p:cBhvr>
                                        <p:cTn id="1910" dur="185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2.36994E-006 L 0.95399 1.37849 E">
                                      <p:cBhvr>
                                        <p:cTn id="1912" dur="185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3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0289E-006 L 1.45277 1.23653 E">
                                      <p:cBhvr>
                                        <p:cTn id="1914" dur="185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path" presetID="42" repeatCount="3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2.5E-006 -1.79191E-006 L 0.94948 1.30729 E">
                                      <p:cBhvr>
                                        <p:cTn id="1916" dur="185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88889E-006 4.79769E-006 L 1.07032 1.38289 E">
                                      <p:cBhvr>
                                        <p:cTn id="1918" dur="185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10405E-006 L 1.36893 0.75538 E">
                                      <p:cBhvr>
                                        <p:cTn id="1920" dur="185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path" presetID="42" repeatCount="3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2.19653E-006 L 1.16146 1.12878 E">
                                      <p:cBhvr>
                                        <p:cTn id="1922" dur="185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3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23699E-006 L 1.14079 1.22358 E">
                                      <p:cBhvr>
                                        <p:cTn id="1924" dur="185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5" dur="indefinite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4.85549E-006 L 1.45105 1.26196 E">
                                      <p:cBhvr>
                                        <p:cTn id="1926" dur="185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7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1.32948E-006 L 1.25139 0.9422 E">
                                      <p:cBhvr>
                                        <p:cTn id="1928" dur="185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2.36994E-006 L 0.95399 1.37849 E">
                                      <p:cBhvr>
                                        <p:cTn id="1930" dur="185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46821E-007 L 1.35174 0.88301 E">
                                      <p:cBhvr>
                                        <p:cTn id="1932" dur="185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3" dur="indefinite" nodeType="withEffect" fill="hold" presetClass="path" presetID="42" repeatCount="3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2.5E-006 -1.79191E-006 L 0.94948 1.30729 E">
                                      <p:cBhvr>
                                        <p:cTn id="1934" dur="185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5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88889E-006 4.79769E-006 L 1.07032 1.38289 E">
                                      <p:cBhvr>
                                        <p:cTn id="1936" dur="185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7" dur="indefinite" nodeType="withEffect" fill="hold" presetClass="path" presetID="42" repeatCount="3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-4.10405E-006 L 1.36893 0.75538 E">
                                      <p:cBhvr>
                                        <p:cTn id="1938" dur="185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-5.78035E-008 L 0.81181 1.48301 E">
                                      <p:cBhvr>
                                        <p:cTn id="1940" dur="185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1" dur="indefinite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94444E-006 3.69942E-006 L 0.72327 1.50936 E">
                                      <p:cBhvr>
                                        <p:cTn id="1942" dur="185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3" dur="indefinite" nodeType="withEffect" fill="hold" presetClass="path" presetID="42" repeatCount="3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22222E-006 4.33526E-006 L 1.46666 0.40647 E">
                                      <p:cBhvr>
                                        <p:cTn id="1944" dur="185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5" dur="indefinite" nodeType="withEffect" fill="hold" presetClass="path" presetID="42" repeatCount="3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1.66667E-006 -3.64162E-006 L 1.34774 0.58497 E">
                                      <p:cBhvr>
                                        <p:cTn id="1946" dur="185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7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66667E-006 2.19653E-006 L 1.16146 1.12878 E">
                                      <p:cBhvr>
                                        <p:cTn id="1948" dur="185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path" presetID="42" repeatCount="3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77778E-007 -1.7341E-006 L 1.3316 0.91676 E">
                                      <p:cBhvr>
                                        <p:cTn id="1950" dur="185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rapezoid 3"/>
          <p:cNvSpPr/>
          <p:nvPr/>
        </p:nvSpPr>
        <p:spPr>
          <a:xfrm flipV="1" rot="7099200">
            <a:off x="1919880" y="-2091240"/>
            <a:ext cx="5473800" cy="11307600"/>
          </a:xfrm>
          <a:custGeom>
            <a:avLst/>
            <a:gdLst>
              <a:gd name="textAreaLeft" fmla="*/ 1203480 w 5473800"/>
              <a:gd name="textAreaRight" fmla="*/ 4270320 w 5473800"/>
              <a:gd name="textAreaTop" fmla="*/ 2486520 h 11307600"/>
              <a:gd name="textAreaBottom" fmla="*/ 8821080 h 1130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2f2f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rapezoid 9"/>
          <p:cNvSpPr/>
          <p:nvPr/>
        </p:nvSpPr>
        <p:spPr>
          <a:xfrm flipV="1" rot="7099200">
            <a:off x="2431440" y="-2147400"/>
            <a:ext cx="3989160" cy="11131560"/>
          </a:xfrm>
          <a:custGeom>
            <a:avLst/>
            <a:gdLst>
              <a:gd name="textAreaLeft" fmla="*/ 877320 w 3989160"/>
              <a:gd name="textAreaRight" fmla="*/ 3111840 w 3989160"/>
              <a:gd name="textAreaTop" fmla="*/ 2447640 h 11131560"/>
              <a:gd name="textAreaBottom" fmla="*/ 8683920 h 1113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2f2f2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 rot="1683000">
            <a:off x="-1238400" y="2426760"/>
            <a:ext cx="11430000" cy="226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9"/>
          <p:cNvSpPr/>
          <p:nvPr/>
        </p:nvSpPr>
        <p:spPr>
          <a:xfrm rot="1683000">
            <a:off x="-1284120" y="-1816200"/>
            <a:ext cx="11430000" cy="1106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66800" y="907920"/>
            <a:ext cx="523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ock reactions after ########- a case study ######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179880" y="4437000"/>
            <a:ext cx="32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Tutor: M####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tudent: 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tudent I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MS PGothic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94##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Date: July 31 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3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4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6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8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9" dur="125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1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2" dur="125" autoRev="1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4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5" dur="125" autoRev="1" fill="hold"/>
                                        <p:tgtEl>
                                          <p:spTgt spid="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ntr" presetID="6" presetSubtype="3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1T13:4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3:23Z</dcterms:modified>
  <cp:revision>13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