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C56-5D4D-4598-B7FA-301FC29C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D58-E2F0-463D-857C-BB6DF5D2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FE1-7AD2-498C-ACF9-ADFD31CE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A56-F2AA-484A-84E2-EA00D103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90A-74D6-4E6E-87EF-EBB6B848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773-7704-4582-89F2-12AB0D1E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672-5BA5-4FBC-B789-9868BD17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BDE-91A6-4AEB-92AE-66F61D7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382-A74A-4B7D-99E5-CA1938D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B0A-27E2-42FD-B899-04707CD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AFA-09B7-4D25-AFEC-3ADB18A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435-7548-4702-BA71-73EE674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喵呜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755-DB50-41CB-BEF9-742D564894C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975-527A-4A83-8314-A98BE0715D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ibo.com/2195627255/z16x9zgWJ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ibo.com/1678215552/z5AMWvS8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ibo.com/1863751194/z8ldsDNDZ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eibo.com/1863751194/z8ldsDNDZ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23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1200" y="2381400"/>
            <a:ext cx="85345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学生如何控微博</a:t>
            </a:r>
            <a:r>
              <a:rPr b="0" lang="en-US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如何在微博上做一个有价值的高转发传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611280" y="1413000"/>
            <a:ext cx="7993080" cy="2195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0" b="819"/>
          <a:stretch/>
        </p:blipFill>
        <p:spPr>
          <a:xfrm>
            <a:off x="682560" y="1496880"/>
            <a:ext cx="7848720" cy="3856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一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78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猜测：一个粉丝不足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40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的官博活动转发多少？加粉多少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rcRect l="0" t="0" r="0" b="47579"/>
          <a:stretch/>
        </p:blipFill>
        <p:spPr>
          <a:xfrm>
            <a:off x="682560" y="1484280"/>
            <a:ext cx="7848720" cy="203832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3060720" y="3608280"/>
            <a:ext cx="5472000" cy="17431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小时内微博转发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学联粉丝增加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政府影响力排行（团委）全国第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最终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92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破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这是怎样做到的？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找准热点，借势宣传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天时：奥运会刚刚结束时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地利：孙杨是浙江杭州人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人和：帅气双料冠军无敌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880240" y="2924280"/>
            <a:ext cx="261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提前 准备，整合资源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29" name="椭圆 3"/>
          <p:cNvSpPr/>
          <p:nvPr/>
        </p:nvSpPr>
        <p:spPr>
          <a:xfrm>
            <a:off x="1763640" y="1628640"/>
            <a:ext cx="7201080" cy="4680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内容占位符 2"/>
          <p:cNvSpPr/>
          <p:nvPr/>
        </p:nvSpPr>
        <p:spPr>
          <a:xfrm>
            <a:off x="2630520" y="1851120"/>
            <a:ext cx="12970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粉丝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内容占位符 2"/>
          <p:cNvSpPr/>
          <p:nvPr/>
        </p:nvSpPr>
        <p:spPr>
          <a:xfrm>
            <a:off x="234000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校园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内容占位符 2"/>
          <p:cNvSpPr/>
          <p:nvPr/>
        </p:nvSpPr>
        <p:spPr>
          <a:xfrm>
            <a:off x="2771640" y="4797360"/>
            <a:ext cx="129564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媒体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067280" y="1851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利用知微工具分析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孙杨 账户下活跃学生粉丝提前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067280" y="33606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加强和自己微博中本地活跃粉丝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052880" y="25606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孙杨粉丝后援团 求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4057560" y="497052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和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杭州校园 建立联盟合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044960" y="3821040"/>
            <a:ext cx="47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搜索浙江本地活跃学生微博提前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4067280" y="5405400"/>
            <a:ext cx="42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广大校园账户请求转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11280" y="1233360"/>
            <a:ext cx="7993080" cy="1638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二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82560" y="1349280"/>
            <a:ext cx="7848720" cy="1425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6"/>
          <p:cNvSpPr/>
          <p:nvPr/>
        </p:nvSpPr>
        <p:spPr>
          <a:xfrm>
            <a:off x="3059280" y="2048040"/>
            <a:ext cx="5472000" cy="7268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秋叶语录 用了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月时间粉丝终于成功突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612720" y="3068640"/>
            <a:ext cx="7991640" cy="3384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682560" y="3139920"/>
            <a:ext cx="7848720" cy="32259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1"/>
          <p:cNvSpPr/>
          <p:nvPr/>
        </p:nvSpPr>
        <p:spPr>
          <a:xfrm>
            <a:off x="3038400" y="5637240"/>
            <a:ext cx="5472360" cy="7286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小罗说色彩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月时间粉丝从不到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小罗是谁？这不科学！？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微博装修，突出定位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名换性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@O_OzZ2 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到 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小罗说色彩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称换介：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老版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fly me to the moon,and let me play among…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新版：《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分钟色彩速成班》系列作者，欢迎大家提出各种建议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头换面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52" name="Picture 2" descr="小罗说色彩"/>
          <p:cNvPicPr/>
          <p:nvPr/>
        </p:nvPicPr>
        <p:blipFill>
          <a:blip r:embed="rId1"/>
          <a:stretch/>
        </p:blipFill>
        <p:spPr>
          <a:xfrm>
            <a:off x="6746760" y="48099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上箭头 5"/>
          <p:cNvSpPr/>
          <p:nvPr/>
        </p:nvSpPr>
        <p:spPr>
          <a:xfrm rot="5400000">
            <a:off x="5970600" y="5373720"/>
            <a:ext cx="503280" cy="5889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2"/>
          <a:stretch/>
        </p:blipFill>
        <p:spPr>
          <a:xfrm>
            <a:off x="3995640" y="48099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原创干货，系列发布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7" name="椭圆 3"/>
          <p:cNvSpPr/>
          <p:nvPr/>
        </p:nvSpPr>
        <p:spPr>
          <a:xfrm>
            <a:off x="1763640" y="1628640"/>
            <a:ext cx="7201080" cy="4680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内容占位符 2"/>
          <p:cNvSpPr/>
          <p:nvPr/>
        </p:nvSpPr>
        <p:spPr>
          <a:xfrm>
            <a:off x="2630520" y="1851120"/>
            <a:ext cx="12970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234000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内容占位符 2"/>
          <p:cNvSpPr/>
          <p:nvPr/>
        </p:nvSpPr>
        <p:spPr>
          <a:xfrm>
            <a:off x="2771640" y="4797360"/>
            <a:ext cx="129564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140360" y="22161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独特的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140360" y="37497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生活的气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4202280" y="5229360"/>
            <a:ext cx="42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节奏的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大号推手，转化能量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140360" y="2216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推手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秋叶语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4140360" y="37497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帮忙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.... @... @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202280" y="5229360"/>
            <a:ext cx="45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互动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Excel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全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Rongson_Chart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这才是能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上箭头 10"/>
          <p:cNvSpPr/>
          <p:nvPr/>
        </p:nvSpPr>
        <p:spPr>
          <a:xfrm rot="10800000">
            <a:off x="5688000" y="2909880"/>
            <a:ext cx="504720" cy="588960"/>
          </a:xfrm>
          <a:prstGeom prst="upArrow">
            <a:avLst>
              <a:gd name="adj1" fmla="val 50000"/>
              <a:gd name="adj2" fmla="val 49971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上箭头 11"/>
          <p:cNvSpPr/>
          <p:nvPr/>
        </p:nvSpPr>
        <p:spPr>
          <a:xfrm rot="10800000">
            <a:off x="5662440" y="4437000"/>
            <a:ext cx="503280" cy="5889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11280" y="1233360"/>
            <a:ext cx="7993080" cy="3760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假如你真的想控微博—先做专业的人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11280" y="506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秦阳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Winning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的微博为什么转发那么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63480" y="1297080"/>
            <a:ext cx="7885080" cy="3644640"/>
          </a:xfrm>
          <a:prstGeom prst="rect">
            <a:avLst/>
          </a:prstGeom>
          <a:ln w="0">
            <a:noFill/>
          </a:ln>
        </p:spPr>
      </p:pic>
      <p:sp>
        <p:nvSpPr>
          <p:cNvPr id="176" name="矩形 9"/>
          <p:cNvSpPr/>
          <p:nvPr/>
        </p:nvSpPr>
        <p:spPr>
          <a:xfrm>
            <a:off x="2124000" y="3860640"/>
            <a:ext cx="642456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秦阳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Winning 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平均一天一篇微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粉丝突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时候，每篇微博转发都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14240" y="630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今天的四个话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963720" y="1773360"/>
            <a:ext cx="6919920" cy="792000"/>
            <a:chOff x="963720" y="1773360"/>
            <a:chExt cx="6919920" cy="792000"/>
          </a:xfrm>
        </p:grpSpPr>
        <p:sp>
          <p:nvSpPr>
            <p:cNvPr id="47" name="圆角矩形 2"/>
            <p:cNvSpPr/>
            <p:nvPr/>
          </p:nvSpPr>
          <p:spPr>
            <a:xfrm>
              <a:off x="1230120" y="1773360"/>
              <a:ext cx="6653520" cy="792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三个万次转发微博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流程图: 联系 7"/>
            <p:cNvSpPr/>
            <p:nvPr/>
          </p:nvSpPr>
          <p:spPr>
            <a:xfrm>
              <a:off x="963720" y="1879200"/>
              <a:ext cx="539640" cy="540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963720" y="2936880"/>
            <a:ext cx="6127560" cy="790560"/>
            <a:chOff x="963720" y="2936880"/>
            <a:chExt cx="6127560" cy="790560"/>
          </a:xfrm>
        </p:grpSpPr>
        <p:sp>
          <p:nvSpPr>
            <p:cNvPr id="50" name="圆角矩形 4"/>
            <p:cNvSpPr/>
            <p:nvPr/>
          </p:nvSpPr>
          <p:spPr>
            <a:xfrm>
              <a:off x="1231560" y="2936880"/>
              <a:ext cx="5859720" cy="79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微博运营目的到底是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8"/>
            <p:cNvSpPr/>
            <p:nvPr/>
          </p:nvSpPr>
          <p:spPr>
            <a:xfrm>
              <a:off x="963720" y="3083400"/>
              <a:ext cx="539640" cy="538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963720" y="4098960"/>
            <a:ext cx="5551560" cy="792000"/>
            <a:chOff x="963720" y="4098960"/>
            <a:chExt cx="5551560" cy="792000"/>
          </a:xfrm>
        </p:grpSpPr>
        <p:sp>
          <p:nvSpPr>
            <p:cNvPr id="53" name="圆角矩形 5"/>
            <p:cNvSpPr/>
            <p:nvPr/>
          </p:nvSpPr>
          <p:spPr>
            <a:xfrm>
              <a:off x="1208520" y="4098960"/>
              <a:ext cx="5306760" cy="792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什么是有价值的传播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流程图: 联系 9"/>
            <p:cNvSpPr/>
            <p:nvPr/>
          </p:nvSpPr>
          <p:spPr>
            <a:xfrm>
              <a:off x="963720" y="4224960"/>
              <a:ext cx="539640" cy="540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963720" y="5264280"/>
            <a:ext cx="5048280" cy="790560"/>
            <a:chOff x="963720" y="5264280"/>
            <a:chExt cx="5048280" cy="790560"/>
          </a:xfrm>
        </p:grpSpPr>
        <p:sp>
          <p:nvSpPr>
            <p:cNvPr id="56" name="圆角矩形 6"/>
            <p:cNvSpPr/>
            <p:nvPr/>
          </p:nvSpPr>
          <p:spPr>
            <a:xfrm>
              <a:off x="1228680" y="5264280"/>
              <a:ext cx="4783320" cy="79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五组案例背后的故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流程图: 联系 10"/>
            <p:cNvSpPr/>
            <p:nvPr/>
          </p:nvSpPr>
          <p:spPr>
            <a:xfrm>
              <a:off x="963720" y="5371920"/>
              <a:ext cx="540000" cy="538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71400" y="1314360"/>
            <a:ext cx="7859880" cy="4143600"/>
          </a:xfrm>
          <a:prstGeom prst="rect">
            <a:avLst/>
          </a:prstGeom>
          <a:ln w="0">
            <a:noFill/>
          </a:ln>
        </p:spPr>
      </p:pic>
      <p:sp>
        <p:nvSpPr>
          <p:cNvPr id="179" name="矩形 3"/>
          <p:cNvSpPr/>
          <p:nvPr/>
        </p:nvSpPr>
        <p:spPr>
          <a:xfrm>
            <a:off x="611280" y="1233360"/>
            <a:ext cx="7993080" cy="42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三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5867280" y="5157720"/>
            <a:ext cx="1081080" cy="2872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06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611280" y="5705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娱乐话题十万转发，政治话题一万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抽奖话题一千转发，公益话题一百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当时粉丝才三万？你怎么逆天的？！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整合传播，密集互动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755640" y="185112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发起忠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75564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诱发官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内容占位符 2"/>
          <p:cNvSpPr/>
          <p:nvPr/>
        </p:nvSpPr>
        <p:spPr>
          <a:xfrm>
            <a:off x="755640" y="4797360"/>
            <a:ext cx="129528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公益推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266920" y="1989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传播能量取决于你的忠实粉丝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2266920" y="3500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让全国图书馆官博关注并参与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2266920" y="501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推出公益捐助立人图书馆活动扩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416720" y="267012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7419960" y="419400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419960" y="564192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0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304200" y="2063880"/>
            <a:ext cx="7694640" cy="4029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9304200" y="3413160"/>
            <a:ext cx="7834320" cy="2679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9304200" y="3448080"/>
            <a:ext cx="778212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9325080" y="3498840"/>
            <a:ext cx="7429320" cy="259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"/>
          <p:cNvPicPr/>
          <p:nvPr/>
        </p:nvPicPr>
        <p:blipFill>
          <a:blip r:embed="rId5"/>
          <a:srcRect l="1107" t="6325" r="0" b="0"/>
          <a:stretch/>
        </p:blipFill>
        <p:spPr>
          <a:xfrm>
            <a:off x="9325080" y="5013360"/>
            <a:ext cx="8280360" cy="144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6"/>
          <a:stretch/>
        </p:blipFill>
        <p:spPr>
          <a:xfrm>
            <a:off x="9304200" y="5410080"/>
            <a:ext cx="8624880" cy="11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7"/>
          <a:srcRect l="0" t="0" r="0" b="20404"/>
          <a:stretch/>
        </p:blipFill>
        <p:spPr>
          <a:xfrm>
            <a:off x="9328320" y="3728880"/>
            <a:ext cx="8278560" cy="1463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"/>
          <p:cNvPicPr/>
          <p:nvPr/>
        </p:nvPicPr>
        <p:blipFill>
          <a:blip r:embed="rId8"/>
          <a:srcRect l="0" t="10913" r="0" b="0"/>
          <a:stretch/>
        </p:blipFill>
        <p:spPr>
          <a:xfrm>
            <a:off x="9344160" y="3570120"/>
            <a:ext cx="8621640" cy="80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9"/>
          <a:stretch/>
        </p:blipFill>
        <p:spPr>
          <a:xfrm>
            <a:off x="9328320" y="5641920"/>
            <a:ext cx="8316720" cy="87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10"/>
          <a:stretch/>
        </p:blipFill>
        <p:spPr>
          <a:xfrm>
            <a:off x="9350280" y="4871880"/>
            <a:ext cx="76359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3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4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5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6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8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9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30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31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611280" y="1233360"/>
            <a:ext cx="7993080" cy="42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这种方法经常被我复制—万方数据库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867280" y="3230640"/>
            <a:ext cx="108108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06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611280" y="5705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微博的文案对转发结果影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848720" cy="4165560"/>
          </a:xfrm>
          <a:prstGeom prst="rect">
            <a:avLst/>
          </a:prstGeom>
          <a:ln w="0">
            <a:noFill/>
          </a:ln>
        </p:spPr>
      </p:pic>
      <p:sp>
        <p:nvSpPr>
          <p:cNvPr id="212" name="矩形 6"/>
          <p:cNvSpPr/>
          <p:nvPr/>
        </p:nvSpPr>
        <p:spPr>
          <a:xfrm>
            <a:off x="5867280" y="5084640"/>
            <a:ext cx="1081080" cy="2890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75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549440" y="272412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原文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：大学是知识的海洋，学术的殿堂，大学里神圣的图书馆你了解多少呢？你知道图书馆里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万方数据知识服务平台 这样的电子文献数据库吗？它能让你的论文写作之旅充满愉悦！想知道如何活用它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82560" y="1935000"/>
            <a:ext cx="7839000" cy="3816360"/>
          </a:xfrm>
          <a:prstGeom prst="rect">
            <a:avLst/>
          </a:prstGeom>
          <a:ln w="0">
            <a:noFill/>
          </a:ln>
        </p:spPr>
      </p:pic>
      <p:sp>
        <p:nvSpPr>
          <p:cNvPr id="216" name="矩形 3"/>
          <p:cNvSpPr/>
          <p:nvPr/>
        </p:nvSpPr>
        <p:spPr>
          <a:xfrm>
            <a:off x="611280" y="1881360"/>
            <a:ext cx="7993080" cy="392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四个正能量的传播案例—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3059280" y="501336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秋叶语录 第一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786800" cy="3805560"/>
          </a:xfrm>
          <a:prstGeom prst="rect">
            <a:avLst/>
          </a:prstGeom>
          <a:ln w="0">
            <a:noFill/>
          </a:ln>
        </p:spPr>
      </p:pic>
      <p:sp>
        <p:nvSpPr>
          <p:cNvPr id="221" name="矩形 3"/>
          <p:cNvSpPr/>
          <p:nvPr/>
        </p:nvSpPr>
        <p:spPr>
          <a:xfrm>
            <a:off x="611280" y="1881360"/>
            <a:ext cx="7993080" cy="392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之中国杯帆船赛掀起高潮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3029040" y="501336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号第四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14240" y="1930320"/>
            <a:ext cx="7786800" cy="4098960"/>
          </a:xfrm>
          <a:prstGeom prst="rect">
            <a:avLst/>
          </a:prstGeom>
          <a:ln w="0">
            <a:noFill/>
          </a:ln>
        </p:spPr>
      </p:pic>
      <p:sp>
        <p:nvSpPr>
          <p:cNvPr id="226" name="矩形 3"/>
          <p:cNvSpPr/>
          <p:nvPr/>
        </p:nvSpPr>
        <p:spPr>
          <a:xfrm>
            <a:off x="611280" y="1881360"/>
            <a:ext cx="7993080" cy="4211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之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WPS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奥运活动影响力下滑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3029040" y="530208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号第五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后来…</a:t>
            </a: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.</a:t>
            </a: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后来就没有了…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审美疲劳，刺激增强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3203640" y="191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564000" y="26384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5"/>
          <p:cNvSpPr/>
          <p:nvPr/>
        </p:nvSpPr>
        <p:spPr>
          <a:xfrm>
            <a:off x="378000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3780000" y="40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7"/>
          <p:cNvSpPr/>
          <p:nvPr/>
        </p:nvSpPr>
        <p:spPr>
          <a:xfrm>
            <a:off x="3564000" y="48704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3203640" y="5591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14240" y="1619280"/>
            <a:ext cx="7786800" cy="4268880"/>
          </a:xfrm>
          <a:prstGeom prst="rect">
            <a:avLst/>
          </a:prstGeom>
          <a:ln w="0">
            <a:noFill/>
          </a:ln>
        </p:spPr>
      </p:pic>
      <p:sp>
        <p:nvSpPr>
          <p:cNvPr id="241" name="矩形 3"/>
          <p:cNvSpPr/>
          <p:nvPr/>
        </p:nvSpPr>
        <p:spPr>
          <a:xfrm>
            <a:off x="611280" y="1557360"/>
            <a:ext cx="7993080" cy="439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把人才都挖掘出来—中国好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er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3708360" y="5160960"/>
            <a:ext cx="4792680" cy="5000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最大收获：发现中国的优质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三国杀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560" y="3666960"/>
            <a:ext cx="822960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累积转发超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次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唐三藏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AI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从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15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到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00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为什么狂转不加粉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6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080" y="1557360"/>
            <a:ext cx="7756560" cy="165564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611280" y="1413000"/>
            <a:ext cx="7993080" cy="1944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796000" y="2924280"/>
            <a:ext cx="108108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29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五个正能量传播案例—近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年最火的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11280" y="1177920"/>
          <a:ext cx="8459640" cy="5573880"/>
        </p:xfrm>
        <a:graphic>
          <a:graphicData uri="http://schemas.openxmlformats.org/drawingml/2006/table">
            <a:tbl>
              <a:tblPr/>
              <a:tblGrid>
                <a:gridCol w="792000"/>
                <a:gridCol w="3095640"/>
                <a:gridCol w="1584360"/>
                <a:gridCol w="298764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年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作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传播手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效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如何成为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PPT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高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病毒式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索取邮件累积超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父亲的忠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长微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盗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8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后的独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视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优酷首页推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地震中日本人告诉我们的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视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理解如何借势名人和草根高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给大学新生的忠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博客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发现长期的经营话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工作型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PPT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该这样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网盘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@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微盘 建立良好合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鸡蛋的故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娱乐恶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学会保护作品的权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大学新生入学指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口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引起广泛关注和媒体报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方韩大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话题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引起大号的关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如何阅读一本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微博博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被教育微博盗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魏斯曼演示圣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植入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让出版圈认识传播的能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年终工作总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长微博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被跨界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喵呜体"/>
              </a:rPr>
              <a:t>追求爆发？不，要坚持！写好段子，不，要整合！</a:t>
            </a:r>
            <a:endParaRPr b="1" lang="en-US" sz="54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9" name="直接连接符 3"/>
          <p:cNvSpPr/>
          <p:nvPr/>
        </p:nvSpPr>
        <p:spPr>
          <a:xfrm>
            <a:off x="-320760" y="3465360"/>
            <a:ext cx="1000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喵呜体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的粉丝来源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457200" y="1339920"/>
            <a:ext cx="8229600" cy="4527360"/>
            <a:chOff x="457200" y="1339920"/>
            <a:chExt cx="8229600" cy="4527360"/>
          </a:xfrm>
        </p:grpSpPr>
        <p:sp>
          <p:nvSpPr>
            <p:cNvPr id="253" name="Rectangle 6"/>
            <p:cNvSpPr/>
            <p:nvPr/>
          </p:nvSpPr>
          <p:spPr>
            <a:xfrm>
              <a:off x="5312160" y="1339920"/>
              <a:ext cx="33746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微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115000" y="4083840"/>
              <a:ext cx="449964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rm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整合传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457200" y="1579680"/>
              <a:ext cx="33746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说服力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P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圆角矩形标注 4"/>
          <p:cNvSpPr/>
          <p:nvPr/>
        </p:nvSpPr>
        <p:spPr>
          <a:xfrm>
            <a:off x="6156360" y="1339920"/>
            <a:ext cx="2305080" cy="1081080"/>
          </a:xfrm>
          <a:prstGeom prst="wedgeRoundRectCallout">
            <a:avLst>
              <a:gd name="adj1" fmla="val -50717"/>
              <a:gd name="adj2" fmla="val 729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网友推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名气越大效果越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标注 7"/>
          <p:cNvSpPr/>
          <p:nvPr/>
        </p:nvSpPr>
        <p:spPr>
          <a:xfrm>
            <a:off x="682560" y="1339920"/>
            <a:ext cx="2305080" cy="1081080"/>
          </a:xfrm>
          <a:prstGeom prst="wedgeRoundRectCallout">
            <a:avLst>
              <a:gd name="adj1" fmla="val 45300"/>
              <a:gd name="adj2" fmla="val 8026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图书读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因为有用所以粉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标注 8"/>
          <p:cNvSpPr/>
          <p:nvPr/>
        </p:nvSpPr>
        <p:spPr>
          <a:xfrm>
            <a:off x="6156360" y="5084640"/>
            <a:ext cx="2305080" cy="936720"/>
          </a:xfrm>
          <a:prstGeom prst="wedgeRoundRectCallout">
            <a:avLst>
              <a:gd name="adj1" fmla="val -74680"/>
              <a:gd name="adj2" fmla="val -54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百度文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异质圈子精准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536400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控，控微博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</a:rPr>
              <a:t>微博有风险，刷屏需谨慎</a:t>
            </a:r>
            <a:endParaRPr b="0" lang="en-US" sz="28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5580000" y="1123920"/>
            <a:ext cx="792360" cy="13334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333440"/>
              <a:gd name="textAreaBottom" fmla="*/ 1294920 h 1333440"/>
            </a:gdLst>
            <a:ahLst/>
            <a:rect l="textAreaLeft" t="textAreaTop" r="textAreaRight" b="textAreaBottom"/>
            <a:pathLst>
              <a:path w="21600" h="36343">
                <a:moveTo>
                  <a:pt x="3600" y="0"/>
                </a:moveTo>
                <a:arcTo wR="3600" hR="3600" stAng="16200000" swAng="-5400000"/>
                <a:lnTo>
                  <a:pt x="0" y="32743"/>
                </a:lnTo>
                <a:arcTo wR="3600" hR="3600" stAng="10800000" swAng="-5400000"/>
                <a:lnTo>
                  <a:pt x="18000" y="36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5"/>
          <p:cNvSpPr/>
          <p:nvPr/>
        </p:nvSpPr>
        <p:spPr>
          <a:xfrm>
            <a:off x="5651640" y="1187280"/>
            <a:ext cx="649080" cy="10051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005120"/>
              <a:gd name="textAreaBottom" fmla="*/ 973440 h 1005120"/>
            </a:gdLst>
            <a:ahLst/>
            <a:rect l="textAreaLeft" t="textAreaTop" r="textAreaRight" b="textAreaBottom"/>
            <a:pathLst>
              <a:path w="21600" h="33442">
                <a:moveTo>
                  <a:pt x="3600" y="0"/>
                </a:moveTo>
                <a:arcTo wR="3600" hR="3600" stAng="16200000" swAng="-5400000"/>
                <a:lnTo>
                  <a:pt x="0" y="29842"/>
                </a:lnTo>
                <a:arcTo wR="3600" hR="3600" stAng="10800000" swAng="-5400000"/>
                <a:lnTo>
                  <a:pt x="18000" y="33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4"/>
          <p:cNvSpPr/>
          <p:nvPr/>
        </p:nvSpPr>
        <p:spPr>
          <a:xfrm>
            <a:off x="5904000" y="2241720"/>
            <a:ext cx="144360" cy="14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5796000" y="1160640"/>
            <a:ext cx="792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内容占位符 2"/>
          <p:cNvSpPr/>
          <p:nvPr/>
        </p:nvSpPr>
        <p:spPr>
          <a:xfrm>
            <a:off x="447840" y="29242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优秀微博运营人员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联想活跃     幽默风趣     行动敏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有勇有谋     喜欢琢磨     热爱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面试门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6560" y="3306600"/>
            <a:ext cx="822960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转发超破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4.5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，一面倒攻击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刘瑶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 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从不足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到破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为什么负面不掉粉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6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080" y="1484280"/>
            <a:ext cx="7756560" cy="1349280"/>
          </a:xfrm>
          <a:prstGeom prst="rect">
            <a:avLst/>
          </a:prstGeom>
          <a:ln w="0">
            <a:noFill/>
          </a:ln>
        </p:spPr>
      </p:pic>
      <p:sp>
        <p:nvSpPr>
          <p:cNvPr id="68" name="矩形 4"/>
          <p:cNvSpPr/>
          <p:nvPr/>
        </p:nvSpPr>
        <p:spPr>
          <a:xfrm>
            <a:off x="611280" y="1413000"/>
            <a:ext cx="7993080" cy="1493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651640" y="2492280"/>
            <a:ext cx="1081080" cy="2890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5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愤怒体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6560" y="4005000"/>
            <a:ext cx="82296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神州租车老总向对手发飙！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陆正耀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 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天增加了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粉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能不能双赢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611280" y="1413000"/>
            <a:ext cx="7993080" cy="2268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>
            <a:hlinkClick r:id="rId1"/>
          </p:cNvPr>
          <p:cNvPicPr/>
          <p:nvPr/>
        </p:nvPicPr>
        <p:blipFill>
          <a:blip r:embed="rId2"/>
          <a:srcRect l="0" t="0" r="0" b="45369"/>
          <a:stretch/>
        </p:blipFill>
        <p:spPr>
          <a:xfrm>
            <a:off x="682560" y="1471680"/>
            <a:ext cx="7837560" cy="158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>
            <a:hlinkClick r:id="rId3"/>
          </p:cNvPr>
          <p:cNvPicPr/>
          <p:nvPr/>
        </p:nvPicPr>
        <p:blipFill>
          <a:blip r:embed="rId4"/>
          <a:srcRect l="0" t="71132" r="0" b="0"/>
          <a:stretch/>
        </p:blipFill>
        <p:spPr>
          <a:xfrm>
            <a:off x="682560" y="2781360"/>
            <a:ext cx="783756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5724360" y="3284640"/>
            <a:ext cx="107964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8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0" t="0" r="0" b="57523"/>
          <a:stretch/>
        </p:blipFill>
        <p:spPr>
          <a:xfrm>
            <a:off x="760320" y="1339920"/>
            <a:ext cx="7699320" cy="1457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@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小巴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_1990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的三篇干货微博对你有何启发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615960" y="1197000"/>
            <a:ext cx="7993080" cy="4968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6012000" y="2460600"/>
            <a:ext cx="24494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rcRect l="0" t="0" r="0" b="62563"/>
          <a:stretch/>
        </p:blipFill>
        <p:spPr>
          <a:xfrm>
            <a:off x="755640" y="3090960"/>
            <a:ext cx="7705800" cy="127476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6012000" y="4027320"/>
            <a:ext cx="24494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760320" y="4653000"/>
            <a:ext cx="7743960" cy="1368360"/>
          </a:xfrm>
          <a:prstGeom prst="rect">
            <a:avLst/>
          </a:prstGeom>
          <a:ln w="0">
            <a:noFill/>
          </a:ln>
        </p:spPr>
      </p:pic>
      <p:sp>
        <p:nvSpPr>
          <p:cNvPr id="85" name="矩形 16"/>
          <p:cNvSpPr/>
          <p:nvPr/>
        </p:nvSpPr>
        <p:spPr>
          <a:xfrm>
            <a:off x="6056280" y="5700600"/>
            <a:ext cx="2448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71640" y="4797360"/>
          <a:ext cx="7008840" cy="51768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  <a:gridCol w="2336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垃圾广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骚扰客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有奖钓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8" name="椭圆 1"/>
          <p:cNvSpPr/>
          <p:nvPr/>
        </p:nvSpPr>
        <p:spPr>
          <a:xfrm>
            <a:off x="2482920" y="1947960"/>
            <a:ext cx="3600360" cy="136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加粉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or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转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4"/>
          <p:cNvCxnSpPr/>
          <p:nvPr/>
        </p:nvCxnSpPr>
        <p:spPr>
          <a:xfrm>
            <a:off x="4282560" y="3315960"/>
            <a:ext cx="25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0" name="直接箭头连接符 5"/>
          <p:cNvCxnSpPr/>
          <p:nvPr/>
        </p:nvCxnSpPr>
        <p:spPr>
          <a:xfrm flipH="1">
            <a:off x="2482560" y="3315960"/>
            <a:ext cx="18007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直接箭头连接符 6"/>
          <p:cNvCxnSpPr/>
          <p:nvPr/>
        </p:nvCxnSpPr>
        <p:spPr>
          <a:xfrm>
            <a:off x="4248000" y="3315960"/>
            <a:ext cx="183744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2" name="Freeform 10"/>
          <p:cNvSpPr/>
          <p:nvPr/>
        </p:nvSpPr>
        <p:spPr>
          <a:xfrm>
            <a:off x="4052880" y="5356080"/>
            <a:ext cx="198360" cy="160560"/>
          </a:xfrm>
          <a:custGeom>
            <a:avLst/>
            <a:gdLst>
              <a:gd name="textAreaLeft" fmla="*/ 0 w 198360"/>
              <a:gd name="textAreaRight" fmla="*/ 198720 w 1983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50" h="204">
                <a:moveTo>
                  <a:pt x="92" y="66"/>
                </a:moveTo>
                <a:lnTo>
                  <a:pt x="0" y="66"/>
                </a:lnTo>
                <a:lnTo>
                  <a:pt x="125" y="204"/>
                </a:lnTo>
                <a:lnTo>
                  <a:pt x="250" y="66"/>
                </a:lnTo>
                <a:lnTo>
                  <a:pt x="159" y="66"/>
                </a:lnTo>
                <a:lnTo>
                  <a:pt x="159" y="0"/>
                </a:lnTo>
                <a:lnTo>
                  <a:pt x="92" y="0"/>
                </a:lnTo>
                <a:lnTo>
                  <a:pt x="9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运营的目的到底是什么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71640" y="4815000"/>
          <a:ext cx="7008840" cy="51732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  <a:gridCol w="2336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品牌曝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服务客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在线交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6" name="椭圆 1"/>
          <p:cNvSpPr/>
          <p:nvPr/>
        </p:nvSpPr>
        <p:spPr>
          <a:xfrm>
            <a:off x="2482920" y="1947960"/>
            <a:ext cx="3600360" cy="136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口碑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or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4"/>
          <p:cNvCxnSpPr/>
          <p:nvPr/>
        </p:nvCxnSpPr>
        <p:spPr>
          <a:xfrm>
            <a:off x="4282560" y="3315960"/>
            <a:ext cx="25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8" name="直接箭头连接符 5"/>
          <p:cNvCxnSpPr/>
          <p:nvPr/>
        </p:nvCxnSpPr>
        <p:spPr>
          <a:xfrm flipH="1">
            <a:off x="2482560" y="3315960"/>
            <a:ext cx="18007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直接箭头连接符 6"/>
          <p:cNvCxnSpPr/>
          <p:nvPr/>
        </p:nvCxnSpPr>
        <p:spPr>
          <a:xfrm>
            <a:off x="4248000" y="3315960"/>
            <a:ext cx="183744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0" name="Freeform 10"/>
          <p:cNvSpPr/>
          <p:nvPr/>
        </p:nvSpPr>
        <p:spPr>
          <a:xfrm>
            <a:off x="4052880" y="5356080"/>
            <a:ext cx="198360" cy="160560"/>
          </a:xfrm>
          <a:custGeom>
            <a:avLst/>
            <a:gdLst>
              <a:gd name="textAreaLeft" fmla="*/ 0 w 198360"/>
              <a:gd name="textAreaRight" fmla="*/ 198720 w 1983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50" h="204">
                <a:moveTo>
                  <a:pt x="92" y="66"/>
                </a:moveTo>
                <a:lnTo>
                  <a:pt x="0" y="66"/>
                </a:lnTo>
                <a:lnTo>
                  <a:pt x="125" y="204"/>
                </a:lnTo>
                <a:lnTo>
                  <a:pt x="250" y="66"/>
                </a:lnTo>
                <a:lnTo>
                  <a:pt x="159" y="66"/>
                </a:lnTo>
                <a:lnTo>
                  <a:pt x="159" y="0"/>
                </a:lnTo>
                <a:lnTo>
                  <a:pt x="92" y="0"/>
                </a:lnTo>
                <a:lnTo>
                  <a:pt x="9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运营的目的到底是什么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什么是有价值的传播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210280" y="178272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传递影响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积累能量        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结识人脉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形成品牌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4635360" y="1622160"/>
            <a:ext cx="442440" cy="765360"/>
            <a:chOff x="4635360" y="1622160"/>
            <a:chExt cx="442440" cy="765360"/>
          </a:xfrm>
        </p:grpSpPr>
        <p:sp>
          <p:nvSpPr>
            <p:cNvPr id="106" name="圆角矩形 4"/>
            <p:cNvSpPr/>
            <p:nvPr/>
          </p:nvSpPr>
          <p:spPr>
            <a:xfrm rot="17428200">
              <a:off x="4469040" y="2018520"/>
              <a:ext cx="649080" cy="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5"/>
            <p:cNvSpPr/>
            <p:nvPr/>
          </p:nvSpPr>
          <p:spPr>
            <a:xfrm rot="19935000">
              <a:off x="4739040" y="1672560"/>
              <a:ext cx="288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上箭头 7"/>
          <p:cNvSpPr/>
          <p:nvPr/>
        </p:nvSpPr>
        <p:spPr>
          <a:xfrm rot="1507800">
            <a:off x="4503600" y="2909880"/>
            <a:ext cx="505080" cy="588960"/>
          </a:xfrm>
          <a:prstGeom prst="upArrow">
            <a:avLst>
              <a:gd name="adj1" fmla="val 50000"/>
              <a:gd name="adj2" fmla="val 49936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8"/>
          <p:cNvSpPr/>
          <p:nvPr/>
        </p:nvSpPr>
        <p:spPr>
          <a:xfrm>
            <a:off x="4481640" y="4116240"/>
            <a:ext cx="549000" cy="549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9"/>
          <p:cNvSpPr/>
          <p:nvPr/>
        </p:nvSpPr>
        <p:spPr>
          <a:xfrm>
            <a:off x="4861080" y="4273560"/>
            <a:ext cx="142560" cy="36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6394" h="114153">
                <a:moveTo>
                  <a:pt x="59447" y="112591"/>
                </a:moveTo>
                <a:cubicBezTo>
                  <a:pt x="24277" y="114935"/>
                  <a:pt x="-10892" y="117280"/>
                  <a:pt x="3176" y="98523"/>
                </a:cubicBezTo>
                <a:cubicBezTo>
                  <a:pt x="17244" y="79766"/>
                  <a:pt x="101650" y="-2296"/>
                  <a:pt x="143853" y="49"/>
                </a:cubicBezTo>
                <a:cubicBezTo>
                  <a:pt x="186056" y="2394"/>
                  <a:pt x="221225" y="57492"/>
                  <a:pt x="256394" y="112591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0"/>
          <p:cNvSpPr/>
          <p:nvPr/>
        </p:nvSpPr>
        <p:spPr>
          <a:xfrm>
            <a:off x="4572000" y="4276800"/>
            <a:ext cx="144360" cy="36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6394" h="114153">
                <a:moveTo>
                  <a:pt x="59447" y="112591"/>
                </a:moveTo>
                <a:cubicBezTo>
                  <a:pt x="24277" y="114935"/>
                  <a:pt x="-10892" y="117280"/>
                  <a:pt x="3176" y="98523"/>
                </a:cubicBezTo>
                <a:cubicBezTo>
                  <a:pt x="17244" y="79766"/>
                  <a:pt x="101650" y="-2296"/>
                  <a:pt x="143853" y="49"/>
                </a:cubicBezTo>
                <a:cubicBezTo>
                  <a:pt x="186056" y="2394"/>
                  <a:pt x="221225" y="57492"/>
                  <a:pt x="256394" y="112591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"/>
          <p:cNvSpPr/>
          <p:nvPr/>
        </p:nvSpPr>
        <p:spPr>
          <a:xfrm>
            <a:off x="4627440" y="4430880"/>
            <a:ext cx="304920" cy="112680"/>
          </a:xfrm>
          <a:custGeom>
            <a:avLst/>
            <a:gdLst>
              <a:gd name="textAreaLeft" fmla="*/ 0 w 304920"/>
              <a:gd name="textAreaRight" fmla="*/ 305280 w 304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4800" h="113099">
                <a:moveTo>
                  <a:pt x="0" y="22577"/>
                </a:moveTo>
                <a:cubicBezTo>
                  <a:pt x="59267" y="69614"/>
                  <a:pt x="118534" y="116651"/>
                  <a:pt x="169334" y="112888"/>
                </a:cubicBezTo>
                <a:cubicBezTo>
                  <a:pt x="220134" y="109125"/>
                  <a:pt x="262467" y="54562"/>
                  <a:pt x="304800" y="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13"/>
          <p:cNvSpPr/>
          <p:nvPr/>
        </p:nvSpPr>
        <p:spPr>
          <a:xfrm>
            <a:off x="4564080" y="5170320"/>
            <a:ext cx="431640" cy="649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3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58:26Z</dcterms:modified>
  <cp:revision>4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