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7.jpeg" ContentType="image/jpeg"/>
  <Override PartName="/ppt/media/image18.png" ContentType="image/png"/>
  <Override PartName="/ppt/media/image19.jpeg" ContentType="image/jpeg"/>
  <Override PartName="/ppt/media/image1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1578-674F-4B35-BF91-C9CBA502D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476F-E53F-46FB-AEDD-9E8582A47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B22EB9-565F-40B2-868B-2525EBF04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CB859D-CAA1-4CB8-8CCB-F439A1458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82AD9C-8F72-4BC3-BF58-E634C2132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335A32-64DA-4623-B89D-04D9AD830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909D75-1E8F-4AC0-B15E-AB06BD47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E12C88-067F-4483-9425-A8C533629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2769DA-513B-4366-9A9E-F8AE0FC07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56E905-B030-4DF1-87DB-1DEDA7AD4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14B365-AD21-404C-97DB-AC637DAF4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BC46-DFBF-4D31-A078-55DB940E1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9F51-A6DF-45D9-83F1-7018E6767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FC359-7B19-4200-B3D4-09AC57836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41D1D-06E5-4093-95EB-B8B05DBD5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8186B-602F-4C26-9A79-D8BC23CB8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529D1-7763-4F11-8288-B7613FCF8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8C38C-349C-4DE9-9DDB-1281A97D6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A561B-C31D-4A6C-BEE4-BF447FF05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DFBA0-8B9C-4CCE-928C-914DE6237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37E2-F105-4F3C-9610-4AD23FE75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840B0-597B-47B0-8FAE-A72CD17D6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1BEFF-1596-4523-96F5-190E67558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1CCCD-5F2C-4804-85B4-002F2E1B1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3E50B-25F9-4E72-9661-4F7C54368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76FD7-7FF0-4FA9-9F71-0ADDD10C6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14067-1DC8-4E3B-ABA8-B9B251238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27EB1-2364-4DB0-8103-0257B5C72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00EEC-61A7-4FAF-8C77-2CEB95648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6A6EE-9D57-4D4E-9EB5-50AE43212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4C20A-F050-4DC8-8297-114FF1174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36D3-BA2B-4ADE-97AE-2E2D24855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31236-718C-4F0C-92A1-B4DEDF612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F93BF-CA27-428E-A126-0C4C5F9EB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42C2E-F81C-49DB-88AD-22EB42391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1BF8B-82D6-431A-8C48-95AA243C8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9B063-C551-491E-9BCE-01F458402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3E5BD-AF93-4393-960E-633B4A802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98351-DF2A-475C-A097-7A603CC41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5F541-398A-4648-86D8-57546CDF8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381EC-64E5-4566-BAA1-64CF3B196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3AF56-CC8D-4DE8-8866-BEF857CB4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FEC0-004E-46F1-9637-FB7FB5A21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17A8D-6B51-4F8A-A719-7658AAEC4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66789-4DCC-4D4A-B705-34CB7001D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9A00F-BAB1-49CC-8725-CA7E85C0B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09608-7CE2-473F-9A35-7FA745728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40465-5C05-4BC8-9A58-015F1924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F1E9F-FDC2-4290-B62A-B3720F3FE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75643-01D0-4BAE-ACD4-7422BBC18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5D6E5-6448-4011-8A94-537AA4382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53707-E815-4077-B37A-907181F7C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51AB30-75AA-468D-9B54-0AACB93A7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5BCB-908A-40E1-BB58-E6115DA78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C1A816-C526-468A-BBD7-567D718FE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339CEF-0060-47C7-8E45-0AEACFE70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C023CE-DAA1-47C1-A20E-4656CBE70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766A18-1BC8-49E2-AD69-35871D7F4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E07094-00FF-486E-BE08-571002137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9D0EF6-E6EA-4ED5-BD39-936C43D70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DDB3BA-7B37-465C-9EC1-5ABC4C3AB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630C3D-D821-44C8-8187-DC159F2B7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1FFE0E-15C1-4753-BB2A-14BDCF01D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EEE119-2285-40DF-A798-7B2E2A04B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1093-7022-4FA1-B3A9-D630FF965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20F606-FDE6-499B-BEE2-3C51CB42B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121828-4EAA-492C-84EC-EAC4D6A8D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C08512-D1B0-4C3F-8960-451381B55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F51D82-15D0-48EA-9459-8357AA29E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60DE65-1FCB-4E09-B355-1B0F6670E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4963A2-58DA-4E8D-B6C6-591DB3519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3474BB-A20D-4FB8-91CC-6E5F905C3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4C4C22-5F0A-4D99-8770-5CFB6A79B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250522-E275-494D-B170-A13162CEE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ABF910-8915-43E6-AD6F-618A80565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F1F3-90ED-48D1-B1E6-F6670A0C7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A0AE51-2341-41B9-8296-25DA87234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0C1987-4EDD-4BC3-8259-247EE9444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1B46A4-C66D-4B79-A244-7286336B3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13102A-5631-4DC9-B982-C696F3046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646ED4-7361-4884-A1BE-0F8425911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71F8D9-EBF4-4D9B-9D60-B2BCC745D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E0C037-1FAB-4E7D-ACCB-EFF92C8B0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0994F3-6D7E-416B-BED7-640F4EAF9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7E986A-4741-4741-8B3A-F216D213A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DF9801-D3D1-40DE-A2B4-6F0694AE7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7F28-14E3-42FF-98F7-62CB293AA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233CB8-77C9-447A-97E6-458012A95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294464-6CD9-406E-B40B-1EB379A19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A356E5-81D3-4302-BA2D-9DFAA51A8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B2E080-366B-48D5-9D5E-EF5E2EBDE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88D71D-0570-4834-84E3-CCE10931A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127DC0-D18B-4CD6-9795-424E90F78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72C911-62C4-469C-824A-671B25612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4785B3-70A7-408A-A4FB-ECE6C4823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11C931-2F67-4F9C-B251-B2ABFD323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6A3FA5-9DE2-4C80-B71B-87A40E9E2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F0B6-25C3-49E6-A2D8-C29941A91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CA408B-3E9F-42D6-A01B-77C36B18A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B271A7-0941-4FFE-A217-724FA9893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D35F50-8F5F-49B7-8AA4-7A0108F7E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326425-61FD-40A2-8E31-3CB6329CE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FAC14D-0CD0-45A4-AAFF-958EF9072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4F87B8-A73A-49FA-849F-BC12EAED5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1A2665-F9A5-4C02-8B03-E3FC22880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CDDBC9-A940-42B0-851D-966EA500D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248D50-2EAE-4A8C-A7E4-5A32EB397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76ECCA-86CE-4435-B56B-58E8E1E14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51F3C-AA8C-4228-9D92-A800120622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470BC-C068-4F6C-ADCF-F0DF8E00F3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FB678-894E-4B4B-BB77-30133B231E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D64AB-81F6-4FBE-9AAA-8DAC27380F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B68E3-E6B8-413F-ADC9-A9879BD97C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B527C-2891-4BC4-8B3D-6149F6F19D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50196"/>
                </a:srgbClr>
              </a:gs>
              <a:gs pos="100000">
                <a:srgbClr val="918415">
                  <a:alpha val="4000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50196"/>
                </a:srgbClr>
              </a:gs>
              <a:gs pos="100000">
                <a:srgbClr val="918415">
                  <a:alpha val="4000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8"/>
          <p:cNvSpPr/>
          <p:nvPr/>
        </p:nvSpPr>
        <p:spPr>
          <a:xfrm>
            <a:off x="685800" y="3197160"/>
            <a:ext cx="77724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20000"/>
                </a:srgbClr>
              </a:gs>
              <a:gs pos="100000">
                <a:srgbClr val="dcd9cc">
                  <a:alpha val="5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D4FF3-4A66-498F-8E4F-44AB880A8F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50196"/>
                </a:srgbClr>
              </a:gs>
              <a:gs pos="100000">
                <a:srgbClr val="918415">
                  <a:alpha val="4000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50196"/>
                </a:srgbClr>
              </a:gs>
              <a:gs pos="100000">
                <a:srgbClr val="918415">
                  <a:alpha val="4000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20000"/>
                </a:srgbClr>
              </a:gs>
              <a:gs pos="100000">
                <a:srgbClr val="dcd9cc">
                  <a:alpha val="5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22"/>
          </p:nvPr>
        </p:nvSpPr>
        <p:spPr>
          <a:xfrm>
            <a:off x="7308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3"/>
          </p:nvPr>
        </p:nvSpPr>
        <p:spPr>
          <a:xfrm>
            <a:off x="5330880" y="6400440"/>
            <a:ext cx="373392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4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19063-16B4-412E-9D2B-9314AC452E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4" name="直接连接符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35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"/>
            <p:cNvSpPr/>
            <p:nvPr/>
          </p:nvSpPr>
          <p:spPr>
            <a:xfrm>
              <a:off x="51408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直接连接符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38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"/>
            <p:cNvSpPr/>
            <p:nvPr/>
          </p:nvSpPr>
          <p:spPr>
            <a:xfrm>
              <a:off x="51408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直接连接符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341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51408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26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27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A0BD7-D76D-48A9-B67C-3DBB37A25B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2" descr="pic_141434"/>
          <p:cNvPicPr/>
          <p:nvPr/>
        </p:nvPicPr>
        <p:blipFill>
          <a:blip r:embed="rId1"/>
          <a:srcRect l="0" t="53244" r="0" b="681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5" name="WordArt 3" descr=""/>
          <p:cNvPicPr/>
          <p:nvPr/>
        </p:nvPicPr>
        <p:blipFill>
          <a:blip r:embed="rId2"/>
          <a:stretch/>
        </p:blipFill>
        <p:spPr>
          <a:xfrm>
            <a:off x="914400" y="1054080"/>
            <a:ext cx="7175520" cy="262728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/>
          <p:nvPr/>
        </p:nvSpPr>
        <p:spPr>
          <a:xfrm>
            <a:off x="10800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1201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440" name="Text Box 4"/>
          <p:cNvSpPr/>
          <p:nvPr/>
        </p:nvSpPr>
        <p:spPr>
          <a:xfrm>
            <a:off x="539640" y="1143000"/>
            <a:ext cx="860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幼圆"/>
              </a:rPr>
              <a:t>　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为什么说林务官的命令给森林带来了灾难了呢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5"/>
          <p:cNvSpPr/>
          <p:nvPr/>
        </p:nvSpPr>
        <p:spPr>
          <a:xfrm>
            <a:off x="1143000" y="407196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黑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提示：仔细阅读第５、６自然段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Text Box 4"/>
          <p:cNvSpPr/>
          <p:nvPr/>
        </p:nvSpPr>
        <p:spPr>
          <a:xfrm>
            <a:off x="324000" y="189000"/>
            <a:ext cx="860400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0" lang="zh-CN" sz="3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不想森林却从此遭了殃。几年过去了，橡树和菩提树的叶子越来越少，光秃秃的像一把把扫帚，有些树木甚至干枯了。</a:t>
            </a:r>
            <a:br>
              <a:rPr sz="3000"/>
            </a:br>
            <a:r>
              <a:rPr b="0" lang="zh-CN" sz="3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　　这究竟是怎么回事呢？是林务官异想天开的命令给森林带来了灾难。</a:t>
            </a:r>
            <a:br>
              <a:rPr sz="3000"/>
            </a:br>
            <a:r>
              <a:rPr b="0" lang="zh-CN" sz="3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　　原来，大自然中的一切事物都是互相联系的。这样，才能保持大自然的生态平衡。枯枝败叶，看起来是脏东西，其实，它们腐烂之后，变成了腐殖质，能增强土壤的肥力。它们还是一些小动物的食物和隐蔽场所。矮树丛也是许多动物栖息的地方。森林里的灌木和野草多了，昆虫、鸟类、兽类也就多了。许多动物以植物为食，像甲虫和毛毛虫吃树叶、嫩枝，而鸟儿在矮树丛里营巢，捕食森林里的害虫。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5"/>
          <p:cNvSpPr/>
          <p:nvPr/>
        </p:nvSpPr>
        <p:spPr>
          <a:xfrm>
            <a:off x="3708360" y="189000"/>
            <a:ext cx="151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遭了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6"/>
          <p:cNvSpPr/>
          <p:nvPr/>
        </p:nvSpPr>
        <p:spPr>
          <a:xfrm>
            <a:off x="5435640" y="692280"/>
            <a:ext cx="3240000" cy="0"/>
          </a:xfrm>
          <a:prstGeom prst="line">
            <a:avLst/>
          </a:prstGeom>
          <a:ln w="34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7"/>
          <p:cNvSpPr/>
          <p:nvPr/>
        </p:nvSpPr>
        <p:spPr>
          <a:xfrm>
            <a:off x="468360" y="1197000"/>
            <a:ext cx="8136000" cy="0"/>
          </a:xfrm>
          <a:prstGeom prst="line">
            <a:avLst/>
          </a:prstGeom>
          <a:ln w="34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8"/>
          <p:cNvSpPr/>
          <p:nvPr/>
        </p:nvSpPr>
        <p:spPr>
          <a:xfrm>
            <a:off x="468360" y="1628640"/>
            <a:ext cx="3382920" cy="0"/>
          </a:xfrm>
          <a:prstGeom prst="line">
            <a:avLst/>
          </a:prstGeom>
          <a:ln w="34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AutoShape 9"/>
          <p:cNvSpPr/>
          <p:nvPr/>
        </p:nvSpPr>
        <p:spPr>
          <a:xfrm>
            <a:off x="1044720" y="1700280"/>
            <a:ext cx="71280" cy="360360"/>
          </a:xfrm>
          <a:custGeom>
            <a:avLst/>
            <a:gdLst>
              <a:gd name="textAreaLeft" fmla="*/ 20880 w 71280"/>
              <a:gd name="textAreaRight" fmla="*/ 71640 w 71280"/>
              <a:gd name="textAreaTop" fmla="*/ 14760 h 360360"/>
              <a:gd name="textAreaBottom" fmla="*/ 345600 h 3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10"/>
          <p:cNvSpPr/>
          <p:nvPr/>
        </p:nvSpPr>
        <p:spPr>
          <a:xfrm>
            <a:off x="3995640" y="2133720"/>
            <a:ext cx="71640" cy="431640"/>
          </a:xfrm>
          <a:custGeom>
            <a:avLst/>
            <a:gdLst>
              <a:gd name="textAreaLeft" fmla="*/ 0 w 71640"/>
              <a:gd name="textAreaRight" fmla="*/ 50400 w 71640"/>
              <a:gd name="textAreaTop" fmla="*/ 18000 h 431640"/>
              <a:gd name="textAreaBottom" fmla="*/ 414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1"/>
          <p:cNvSpPr/>
          <p:nvPr/>
        </p:nvSpPr>
        <p:spPr>
          <a:xfrm>
            <a:off x="4932000" y="204624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设问句，承上启下的过渡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2"/>
          <p:cNvSpPr/>
          <p:nvPr/>
        </p:nvSpPr>
        <p:spPr>
          <a:xfrm>
            <a:off x="1044360" y="2637000"/>
            <a:ext cx="73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~~~~~~~~~~~~~~~~~~~~~~~~~~~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3"/>
          <p:cNvSpPr/>
          <p:nvPr/>
        </p:nvSpPr>
        <p:spPr>
          <a:xfrm>
            <a:off x="357480" y="3141720"/>
            <a:ext cx="60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~~~~~~~~~~~~~~~~~~~~~~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圆角矩形标注 11"/>
          <p:cNvSpPr/>
          <p:nvPr/>
        </p:nvSpPr>
        <p:spPr>
          <a:xfrm>
            <a:off x="0" y="2143080"/>
            <a:ext cx="1071720" cy="571680"/>
          </a:xfrm>
          <a:prstGeom prst="wedgeRoundRectCallout">
            <a:avLst>
              <a:gd name="adj1" fmla="val 45231"/>
              <a:gd name="adj2" fmla="val 96046"/>
              <a:gd name="adj3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中心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 Box 2"/>
          <p:cNvSpPr/>
          <p:nvPr/>
        </p:nvSpPr>
        <p:spPr>
          <a:xfrm>
            <a:off x="1100520" y="7128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Arial"/>
                <a:ea typeface="黑体"/>
              </a:rPr>
              <a:t>生态平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WordArt 3"/>
          <p:cNvSpPr txBox="1"/>
          <p:nvPr/>
        </p:nvSpPr>
        <p:spPr>
          <a:xfrm>
            <a:off x="2987640" y="1484280"/>
            <a:ext cx="18716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ff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7000"/>
                    </a:srgbClr>
                  </a:outerShdw>
                </a:effectLst>
                <a:latin typeface="宋体"/>
              </a:rPr>
              <a:t>树叶</a:t>
            </a:r>
            <a:endParaRPr b="0" lang="en-US" sz="1800" spc="-1" strike="noStrike">
              <a:ln w="9360">
                <a:solidFill>
                  <a:srgbClr val="00ff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55" name="WordArt 4"/>
          <p:cNvSpPr txBox="1"/>
          <p:nvPr/>
        </p:nvSpPr>
        <p:spPr>
          <a:xfrm>
            <a:off x="5364000" y="2781360"/>
            <a:ext cx="20894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000000">
                      <a:alpha val="50000"/>
                    </a:srgbClr>
                  </a:outerShdw>
                </a:effectLst>
                <a:latin typeface="宋体"/>
              </a:rPr>
              <a:t>腐殖质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000000">
                    <a:alpha val="5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56" name="WordArt 5"/>
          <p:cNvSpPr txBox="1"/>
          <p:nvPr/>
        </p:nvSpPr>
        <p:spPr>
          <a:xfrm>
            <a:off x="1116000" y="2852640"/>
            <a:ext cx="1368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963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77000"/>
                    </a:srgbClr>
                  </a:outerShdw>
                </a:effectLst>
                <a:latin typeface="宋体"/>
              </a:rPr>
              <a:t>害虫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57" name="WordArt 6"/>
          <p:cNvSpPr txBox="1"/>
          <p:nvPr/>
        </p:nvSpPr>
        <p:spPr>
          <a:xfrm>
            <a:off x="2124000" y="5018040"/>
            <a:ext cx="1008000" cy="107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27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鸟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458" name="WordArt 7"/>
          <p:cNvSpPr txBox="1"/>
          <p:nvPr/>
        </p:nvSpPr>
        <p:spPr>
          <a:xfrm>
            <a:off x="4572000" y="5013360"/>
            <a:ext cx="3527280" cy="127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25560">
                  <a:solidFill>
                    <a:srgbClr val="808000"/>
                  </a:solidFill>
                  <a:miter/>
                </a:ln>
                <a:gradFill rotWithShape="0">
                  <a:gsLst>
                    <a:gs pos="0">
                      <a:srgbClr val="8f0603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67000"/>
                    </a:srgbClr>
                  </a:outerShdw>
                </a:effectLst>
                <a:latin typeface="宋体"/>
              </a:rPr>
              <a:t>矮树丛、树林</a:t>
            </a:r>
            <a:endParaRPr b="1" lang="en-US" sz="1800" spc="1" strike="noStrike">
              <a:ln w="25560">
                <a:solidFill>
                  <a:srgbClr val="808000"/>
                </a:solidFill>
                <a:miter/>
              </a:ln>
              <a:gradFill rotWithShape="0">
                <a:gsLst>
                  <a:gs pos="0">
                    <a:srgbClr val="8f0603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6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59" name="AutoShape 8"/>
          <p:cNvSpPr/>
          <p:nvPr/>
        </p:nvSpPr>
        <p:spPr>
          <a:xfrm rot="18712800">
            <a:off x="5274360" y="1789920"/>
            <a:ext cx="341280" cy="1222200"/>
          </a:xfrm>
          <a:custGeom>
            <a:avLst/>
            <a:gdLst>
              <a:gd name="textAreaLeft" fmla="*/ 49680 w 341280"/>
              <a:gd name="textAreaRight" fmla="*/ 291600 w 341280"/>
              <a:gd name="textAreaTop" fmla="*/ 178920 h 1222200"/>
              <a:gd name="textAreaBottom" fmla="*/ 1043280 h 1222200"/>
            </a:gdLst>
            <a:ahLst/>
            <a:rect l="textAreaLeft" t="textAreaTop" r="textAreaRight" b="textAreaBottom"/>
            <a:pathLst>
              <a:path w="22749" h="18936">
                <a:moveTo>
                  <a:pt x="17320" y="14227"/>
                </a:moveTo>
                <a:cubicBezTo>
                  <a:pt x="17876" y="13170"/>
                  <a:pt x="18167" y="11994"/>
                  <a:pt x="18167" y="10800"/>
                </a:cubicBezTo>
                <a:cubicBezTo>
                  <a:pt x="18167" y="8262"/>
                  <a:pt x="16860" y="5902"/>
                  <a:pt x="14709" y="4556"/>
                </a:cubicBezTo>
                <a:lnTo>
                  <a:pt x="16531" y="1646"/>
                </a:lnTo>
                <a:cubicBezTo>
                  <a:pt x="19684" y="3620"/>
                  <a:pt x="21600" y="7079"/>
                  <a:pt x="21600" y="10800"/>
                </a:cubicBezTo>
                <a:cubicBezTo>
                  <a:pt x="21600" y="12550"/>
                  <a:pt x="21174" y="14275"/>
                  <a:pt x="20359" y="15825"/>
                </a:cubicBezTo>
                <a:lnTo>
                  <a:pt x="22749" y="17081"/>
                </a:lnTo>
                <a:lnTo>
                  <a:pt x="16785" y="18936"/>
                </a:lnTo>
                <a:lnTo>
                  <a:pt x="14930" y="12971"/>
                </a:lnTo>
                <a:lnTo>
                  <a:pt x="17320" y="14227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AutoShape 9"/>
          <p:cNvSpPr/>
          <p:nvPr/>
        </p:nvSpPr>
        <p:spPr>
          <a:xfrm rot="834000">
            <a:off x="6019920" y="3852720"/>
            <a:ext cx="341280" cy="1222560"/>
          </a:xfrm>
          <a:custGeom>
            <a:avLst/>
            <a:gdLst>
              <a:gd name="textAreaLeft" fmla="*/ 49680 w 341280"/>
              <a:gd name="textAreaRight" fmla="*/ 291600 w 341280"/>
              <a:gd name="textAreaTop" fmla="*/ 178920 h 1222560"/>
              <a:gd name="textAreaBottom" fmla="*/ 1043640 h 1222560"/>
            </a:gdLst>
            <a:ahLst/>
            <a:rect l="textAreaLeft" t="textAreaTop" r="textAreaRight" b="textAreaBottom"/>
            <a:pathLst>
              <a:path w="22749" h="18936">
                <a:moveTo>
                  <a:pt x="17320" y="14227"/>
                </a:moveTo>
                <a:cubicBezTo>
                  <a:pt x="17876" y="13170"/>
                  <a:pt x="18167" y="11994"/>
                  <a:pt x="18167" y="10800"/>
                </a:cubicBezTo>
                <a:cubicBezTo>
                  <a:pt x="18167" y="8262"/>
                  <a:pt x="16860" y="5902"/>
                  <a:pt x="14709" y="4556"/>
                </a:cubicBezTo>
                <a:lnTo>
                  <a:pt x="16531" y="1646"/>
                </a:lnTo>
                <a:cubicBezTo>
                  <a:pt x="19684" y="3620"/>
                  <a:pt x="21600" y="7079"/>
                  <a:pt x="21600" y="10800"/>
                </a:cubicBezTo>
                <a:cubicBezTo>
                  <a:pt x="21600" y="12550"/>
                  <a:pt x="21174" y="14275"/>
                  <a:pt x="20359" y="15825"/>
                </a:cubicBezTo>
                <a:lnTo>
                  <a:pt x="22749" y="17081"/>
                </a:lnTo>
                <a:lnTo>
                  <a:pt x="16785" y="18936"/>
                </a:lnTo>
                <a:lnTo>
                  <a:pt x="14930" y="12971"/>
                </a:lnTo>
                <a:lnTo>
                  <a:pt x="17320" y="14227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10"/>
          <p:cNvSpPr/>
          <p:nvPr/>
        </p:nvSpPr>
        <p:spPr>
          <a:xfrm rot="9568200">
            <a:off x="1834920" y="3790800"/>
            <a:ext cx="341280" cy="1222560"/>
          </a:xfrm>
          <a:custGeom>
            <a:avLst/>
            <a:gdLst>
              <a:gd name="textAreaLeft" fmla="*/ 49680 w 341280"/>
              <a:gd name="textAreaRight" fmla="*/ 291600 w 341280"/>
              <a:gd name="textAreaTop" fmla="*/ 178920 h 1222560"/>
              <a:gd name="textAreaBottom" fmla="*/ 1043640 h 1222560"/>
            </a:gdLst>
            <a:ahLst/>
            <a:rect l="textAreaLeft" t="textAreaTop" r="textAreaRight" b="textAreaBottom"/>
            <a:pathLst>
              <a:path w="22749" h="18936">
                <a:moveTo>
                  <a:pt x="17320" y="14227"/>
                </a:moveTo>
                <a:cubicBezTo>
                  <a:pt x="17876" y="13170"/>
                  <a:pt x="18167" y="11994"/>
                  <a:pt x="18167" y="10800"/>
                </a:cubicBezTo>
                <a:cubicBezTo>
                  <a:pt x="18167" y="8262"/>
                  <a:pt x="16860" y="5902"/>
                  <a:pt x="14709" y="4556"/>
                </a:cubicBezTo>
                <a:lnTo>
                  <a:pt x="16531" y="1646"/>
                </a:lnTo>
                <a:cubicBezTo>
                  <a:pt x="19684" y="3620"/>
                  <a:pt x="21600" y="7079"/>
                  <a:pt x="21600" y="10800"/>
                </a:cubicBezTo>
                <a:cubicBezTo>
                  <a:pt x="21600" y="12550"/>
                  <a:pt x="21174" y="14275"/>
                  <a:pt x="20359" y="15825"/>
                </a:cubicBezTo>
                <a:lnTo>
                  <a:pt x="22749" y="17081"/>
                </a:lnTo>
                <a:lnTo>
                  <a:pt x="16785" y="18936"/>
                </a:lnTo>
                <a:lnTo>
                  <a:pt x="14930" y="12971"/>
                </a:lnTo>
                <a:lnTo>
                  <a:pt x="17320" y="14227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utoShape 11"/>
          <p:cNvSpPr/>
          <p:nvPr/>
        </p:nvSpPr>
        <p:spPr>
          <a:xfrm flipV="1" rot="5052000">
            <a:off x="3790080" y="5094720"/>
            <a:ext cx="341280" cy="1221840"/>
          </a:xfrm>
          <a:custGeom>
            <a:avLst/>
            <a:gdLst>
              <a:gd name="textAreaLeft" fmla="*/ 49680 w 341280"/>
              <a:gd name="textAreaRight" fmla="*/ 291600 w 341280"/>
              <a:gd name="textAreaTop" fmla="*/ 178920 h 1221840"/>
              <a:gd name="textAreaBottom" fmla="*/ 1042920 h 1221840"/>
            </a:gdLst>
            <a:ahLst/>
            <a:rect l="textAreaLeft" t="textAreaTop" r="textAreaRight" b="textAreaBottom"/>
            <a:pathLst>
              <a:path w="22749" h="18936">
                <a:moveTo>
                  <a:pt x="17320" y="14227"/>
                </a:moveTo>
                <a:cubicBezTo>
                  <a:pt x="17876" y="13170"/>
                  <a:pt x="18167" y="11994"/>
                  <a:pt x="18167" y="10800"/>
                </a:cubicBezTo>
                <a:cubicBezTo>
                  <a:pt x="18167" y="8262"/>
                  <a:pt x="16860" y="5902"/>
                  <a:pt x="14709" y="4556"/>
                </a:cubicBezTo>
                <a:lnTo>
                  <a:pt x="16531" y="1646"/>
                </a:lnTo>
                <a:cubicBezTo>
                  <a:pt x="19684" y="3620"/>
                  <a:pt x="21600" y="7079"/>
                  <a:pt x="21600" y="10800"/>
                </a:cubicBezTo>
                <a:cubicBezTo>
                  <a:pt x="21600" y="12550"/>
                  <a:pt x="21174" y="14275"/>
                  <a:pt x="20359" y="15825"/>
                </a:cubicBezTo>
                <a:lnTo>
                  <a:pt x="22749" y="17081"/>
                </a:lnTo>
                <a:lnTo>
                  <a:pt x="16785" y="18936"/>
                </a:lnTo>
                <a:lnTo>
                  <a:pt x="14930" y="12971"/>
                </a:lnTo>
                <a:lnTo>
                  <a:pt x="17320" y="14227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AutoShape 12"/>
          <p:cNvSpPr/>
          <p:nvPr/>
        </p:nvSpPr>
        <p:spPr>
          <a:xfrm rot="14109000">
            <a:off x="2275560" y="1836000"/>
            <a:ext cx="341280" cy="1222200"/>
          </a:xfrm>
          <a:custGeom>
            <a:avLst/>
            <a:gdLst>
              <a:gd name="textAreaLeft" fmla="*/ 49680 w 341280"/>
              <a:gd name="textAreaRight" fmla="*/ 291600 w 341280"/>
              <a:gd name="textAreaTop" fmla="*/ 178920 h 1222200"/>
              <a:gd name="textAreaBottom" fmla="*/ 1043280 h 1222200"/>
            </a:gdLst>
            <a:ahLst/>
            <a:rect l="textAreaLeft" t="textAreaTop" r="textAreaRight" b="textAreaBottom"/>
            <a:pathLst>
              <a:path w="22749" h="18936">
                <a:moveTo>
                  <a:pt x="17320" y="14227"/>
                </a:moveTo>
                <a:cubicBezTo>
                  <a:pt x="17876" y="13170"/>
                  <a:pt x="18167" y="11994"/>
                  <a:pt x="18167" y="10800"/>
                </a:cubicBezTo>
                <a:cubicBezTo>
                  <a:pt x="18167" y="8262"/>
                  <a:pt x="16860" y="5902"/>
                  <a:pt x="14709" y="4556"/>
                </a:cubicBezTo>
                <a:lnTo>
                  <a:pt x="16531" y="1646"/>
                </a:lnTo>
                <a:cubicBezTo>
                  <a:pt x="19684" y="3620"/>
                  <a:pt x="21600" y="7079"/>
                  <a:pt x="21600" y="10800"/>
                </a:cubicBezTo>
                <a:cubicBezTo>
                  <a:pt x="21600" y="12550"/>
                  <a:pt x="21174" y="14275"/>
                  <a:pt x="20359" y="15825"/>
                </a:cubicBezTo>
                <a:lnTo>
                  <a:pt x="22749" y="17081"/>
                </a:lnTo>
                <a:lnTo>
                  <a:pt x="16785" y="18936"/>
                </a:lnTo>
                <a:lnTo>
                  <a:pt x="14930" y="12971"/>
                </a:lnTo>
                <a:lnTo>
                  <a:pt x="17320" y="14227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13"/>
          <p:cNvSpPr/>
          <p:nvPr/>
        </p:nvSpPr>
        <p:spPr>
          <a:xfrm>
            <a:off x="5710320" y="1844640"/>
            <a:ext cx="561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腐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14"/>
          <p:cNvSpPr/>
          <p:nvPr/>
        </p:nvSpPr>
        <p:spPr>
          <a:xfrm>
            <a:off x="3478320" y="6002280"/>
            <a:ext cx="561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营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15"/>
          <p:cNvSpPr/>
          <p:nvPr/>
        </p:nvSpPr>
        <p:spPr>
          <a:xfrm>
            <a:off x="1397160" y="4346640"/>
            <a:ext cx="371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吃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16"/>
          <p:cNvSpPr/>
          <p:nvPr/>
        </p:nvSpPr>
        <p:spPr>
          <a:xfrm>
            <a:off x="6904080" y="4202280"/>
            <a:ext cx="1323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增强土壤肥力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17"/>
          <p:cNvSpPr/>
          <p:nvPr/>
        </p:nvSpPr>
        <p:spPr>
          <a:xfrm>
            <a:off x="1684440" y="1898640"/>
            <a:ext cx="371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吃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0,117,-6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3,-4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4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0,117,-6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3,-4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80"/>
                                        <p:tgtEl>
                                          <p:spTgt spid="4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8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1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Text Box 2"/>
          <p:cNvSpPr/>
          <p:nvPr/>
        </p:nvSpPr>
        <p:spPr>
          <a:xfrm>
            <a:off x="611280" y="104760"/>
            <a:ext cx="267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Arial"/>
                <a:ea typeface="黑体"/>
              </a:rPr>
              <a:t>生态平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WordArt 3"/>
          <p:cNvSpPr txBox="1"/>
          <p:nvPr/>
        </p:nvSpPr>
        <p:spPr>
          <a:xfrm>
            <a:off x="2987640" y="1484280"/>
            <a:ext cx="18716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ff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7000"/>
                    </a:srgbClr>
                  </a:outerShdw>
                </a:effectLst>
                <a:latin typeface="宋体"/>
              </a:rPr>
              <a:t>树叶</a:t>
            </a:r>
            <a:endParaRPr b="0" lang="en-US" sz="1800" spc="-1" strike="noStrike">
              <a:ln w="9360">
                <a:solidFill>
                  <a:srgbClr val="00ff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72" name="WordArt 4"/>
          <p:cNvSpPr txBox="1"/>
          <p:nvPr/>
        </p:nvSpPr>
        <p:spPr>
          <a:xfrm>
            <a:off x="5364000" y="2781360"/>
            <a:ext cx="20894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000000">
                      <a:alpha val="50000"/>
                    </a:srgbClr>
                  </a:outerShdw>
                </a:effectLst>
                <a:latin typeface="宋体"/>
              </a:rPr>
              <a:t>腐殖质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000000">
                    <a:alpha val="5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73" name="WordArt 5"/>
          <p:cNvSpPr txBox="1"/>
          <p:nvPr/>
        </p:nvSpPr>
        <p:spPr>
          <a:xfrm>
            <a:off x="826920" y="2492280"/>
            <a:ext cx="935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963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77000"/>
                    </a:srgbClr>
                  </a:outerShdw>
                </a:effectLst>
                <a:latin typeface="宋体"/>
              </a:rPr>
              <a:t>害虫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74" name="WordArt 6"/>
          <p:cNvSpPr txBox="1"/>
          <p:nvPr/>
        </p:nvSpPr>
        <p:spPr>
          <a:xfrm>
            <a:off x="2124000" y="5018040"/>
            <a:ext cx="1008000" cy="107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27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鸟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475" name="WordArt 7"/>
          <p:cNvSpPr txBox="1"/>
          <p:nvPr/>
        </p:nvSpPr>
        <p:spPr>
          <a:xfrm>
            <a:off x="4572000" y="5013360"/>
            <a:ext cx="3527280" cy="127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25560">
                  <a:solidFill>
                    <a:srgbClr val="808000"/>
                  </a:solidFill>
                  <a:miter/>
                </a:ln>
                <a:gradFill rotWithShape="0">
                  <a:gsLst>
                    <a:gs pos="0">
                      <a:srgbClr val="8f0603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67000"/>
                    </a:srgbClr>
                  </a:outerShdw>
                </a:effectLst>
                <a:latin typeface="宋体"/>
              </a:rPr>
              <a:t>矮树丛、树林</a:t>
            </a:r>
            <a:endParaRPr b="1" lang="en-US" sz="1800" spc="1" strike="noStrike">
              <a:ln w="25560">
                <a:solidFill>
                  <a:srgbClr val="808000"/>
                </a:solidFill>
                <a:miter/>
              </a:ln>
              <a:gradFill rotWithShape="0">
                <a:gsLst>
                  <a:gs pos="0">
                    <a:srgbClr val="8f0603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6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76" name="AutoShape 8"/>
          <p:cNvSpPr/>
          <p:nvPr/>
        </p:nvSpPr>
        <p:spPr>
          <a:xfrm rot="18712800">
            <a:off x="5274360" y="1789920"/>
            <a:ext cx="341280" cy="1222200"/>
          </a:xfrm>
          <a:custGeom>
            <a:avLst/>
            <a:gdLst>
              <a:gd name="textAreaLeft" fmla="*/ 49680 w 341280"/>
              <a:gd name="textAreaRight" fmla="*/ 291600 w 341280"/>
              <a:gd name="textAreaTop" fmla="*/ 178920 h 1222200"/>
              <a:gd name="textAreaBottom" fmla="*/ 1043280 h 1222200"/>
            </a:gdLst>
            <a:ahLst/>
            <a:rect l="textAreaLeft" t="textAreaTop" r="textAreaRight" b="textAreaBottom"/>
            <a:pathLst>
              <a:path w="22749" h="18936">
                <a:moveTo>
                  <a:pt x="17320" y="14227"/>
                </a:moveTo>
                <a:cubicBezTo>
                  <a:pt x="17876" y="13170"/>
                  <a:pt x="18167" y="11994"/>
                  <a:pt x="18167" y="10800"/>
                </a:cubicBezTo>
                <a:cubicBezTo>
                  <a:pt x="18167" y="8262"/>
                  <a:pt x="16860" y="5902"/>
                  <a:pt x="14709" y="4556"/>
                </a:cubicBezTo>
                <a:lnTo>
                  <a:pt x="16531" y="1646"/>
                </a:lnTo>
                <a:cubicBezTo>
                  <a:pt x="19684" y="3620"/>
                  <a:pt x="21600" y="7079"/>
                  <a:pt x="21600" y="10800"/>
                </a:cubicBezTo>
                <a:cubicBezTo>
                  <a:pt x="21600" y="12550"/>
                  <a:pt x="21174" y="14275"/>
                  <a:pt x="20359" y="15825"/>
                </a:cubicBezTo>
                <a:lnTo>
                  <a:pt x="22749" y="17081"/>
                </a:lnTo>
                <a:lnTo>
                  <a:pt x="16785" y="18936"/>
                </a:lnTo>
                <a:lnTo>
                  <a:pt x="14930" y="12971"/>
                </a:lnTo>
                <a:lnTo>
                  <a:pt x="17320" y="14227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AutoShape 9"/>
          <p:cNvSpPr/>
          <p:nvPr/>
        </p:nvSpPr>
        <p:spPr>
          <a:xfrm rot="834000">
            <a:off x="6019920" y="3852720"/>
            <a:ext cx="341280" cy="1222560"/>
          </a:xfrm>
          <a:custGeom>
            <a:avLst/>
            <a:gdLst>
              <a:gd name="textAreaLeft" fmla="*/ 49680 w 341280"/>
              <a:gd name="textAreaRight" fmla="*/ 291600 w 341280"/>
              <a:gd name="textAreaTop" fmla="*/ 178920 h 1222560"/>
              <a:gd name="textAreaBottom" fmla="*/ 1043640 h 1222560"/>
            </a:gdLst>
            <a:ahLst/>
            <a:rect l="textAreaLeft" t="textAreaTop" r="textAreaRight" b="textAreaBottom"/>
            <a:pathLst>
              <a:path w="22749" h="18936">
                <a:moveTo>
                  <a:pt x="17320" y="14227"/>
                </a:moveTo>
                <a:cubicBezTo>
                  <a:pt x="17876" y="13170"/>
                  <a:pt x="18167" y="11994"/>
                  <a:pt x="18167" y="10800"/>
                </a:cubicBezTo>
                <a:cubicBezTo>
                  <a:pt x="18167" y="8262"/>
                  <a:pt x="16860" y="5902"/>
                  <a:pt x="14709" y="4556"/>
                </a:cubicBezTo>
                <a:lnTo>
                  <a:pt x="16531" y="1646"/>
                </a:lnTo>
                <a:cubicBezTo>
                  <a:pt x="19684" y="3620"/>
                  <a:pt x="21600" y="7079"/>
                  <a:pt x="21600" y="10800"/>
                </a:cubicBezTo>
                <a:cubicBezTo>
                  <a:pt x="21600" y="12550"/>
                  <a:pt x="21174" y="14275"/>
                  <a:pt x="20359" y="15825"/>
                </a:cubicBezTo>
                <a:lnTo>
                  <a:pt x="22749" y="17081"/>
                </a:lnTo>
                <a:lnTo>
                  <a:pt x="16785" y="18936"/>
                </a:lnTo>
                <a:lnTo>
                  <a:pt x="14930" y="12971"/>
                </a:lnTo>
                <a:lnTo>
                  <a:pt x="17320" y="14227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AutoShape 10"/>
          <p:cNvSpPr/>
          <p:nvPr/>
        </p:nvSpPr>
        <p:spPr>
          <a:xfrm rot="9568200">
            <a:off x="1834920" y="3790800"/>
            <a:ext cx="341280" cy="1222560"/>
          </a:xfrm>
          <a:custGeom>
            <a:avLst/>
            <a:gdLst>
              <a:gd name="textAreaLeft" fmla="*/ 49680 w 341280"/>
              <a:gd name="textAreaRight" fmla="*/ 291600 w 341280"/>
              <a:gd name="textAreaTop" fmla="*/ 178920 h 1222560"/>
              <a:gd name="textAreaBottom" fmla="*/ 1043640 h 1222560"/>
            </a:gdLst>
            <a:ahLst/>
            <a:rect l="textAreaLeft" t="textAreaTop" r="textAreaRight" b="textAreaBottom"/>
            <a:pathLst>
              <a:path w="22749" h="18936">
                <a:moveTo>
                  <a:pt x="17320" y="14227"/>
                </a:moveTo>
                <a:cubicBezTo>
                  <a:pt x="17876" y="13170"/>
                  <a:pt x="18167" y="11994"/>
                  <a:pt x="18167" y="10800"/>
                </a:cubicBezTo>
                <a:cubicBezTo>
                  <a:pt x="18167" y="8262"/>
                  <a:pt x="16860" y="5902"/>
                  <a:pt x="14709" y="4556"/>
                </a:cubicBezTo>
                <a:lnTo>
                  <a:pt x="16531" y="1646"/>
                </a:lnTo>
                <a:cubicBezTo>
                  <a:pt x="19684" y="3620"/>
                  <a:pt x="21600" y="7079"/>
                  <a:pt x="21600" y="10800"/>
                </a:cubicBezTo>
                <a:cubicBezTo>
                  <a:pt x="21600" y="12550"/>
                  <a:pt x="21174" y="14275"/>
                  <a:pt x="20359" y="15825"/>
                </a:cubicBezTo>
                <a:lnTo>
                  <a:pt x="22749" y="17081"/>
                </a:lnTo>
                <a:lnTo>
                  <a:pt x="16785" y="18936"/>
                </a:lnTo>
                <a:lnTo>
                  <a:pt x="14930" y="12971"/>
                </a:lnTo>
                <a:lnTo>
                  <a:pt x="17320" y="14227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11"/>
          <p:cNvSpPr/>
          <p:nvPr/>
        </p:nvSpPr>
        <p:spPr>
          <a:xfrm flipV="1" rot="5052000">
            <a:off x="3790080" y="5094720"/>
            <a:ext cx="341280" cy="1221840"/>
          </a:xfrm>
          <a:custGeom>
            <a:avLst/>
            <a:gdLst>
              <a:gd name="textAreaLeft" fmla="*/ 49680 w 341280"/>
              <a:gd name="textAreaRight" fmla="*/ 291600 w 341280"/>
              <a:gd name="textAreaTop" fmla="*/ 178920 h 1221840"/>
              <a:gd name="textAreaBottom" fmla="*/ 1042920 h 1221840"/>
            </a:gdLst>
            <a:ahLst/>
            <a:rect l="textAreaLeft" t="textAreaTop" r="textAreaRight" b="textAreaBottom"/>
            <a:pathLst>
              <a:path w="22749" h="18936">
                <a:moveTo>
                  <a:pt x="17320" y="14227"/>
                </a:moveTo>
                <a:cubicBezTo>
                  <a:pt x="17876" y="13170"/>
                  <a:pt x="18167" y="11994"/>
                  <a:pt x="18167" y="10800"/>
                </a:cubicBezTo>
                <a:cubicBezTo>
                  <a:pt x="18167" y="8262"/>
                  <a:pt x="16860" y="5902"/>
                  <a:pt x="14709" y="4556"/>
                </a:cubicBezTo>
                <a:lnTo>
                  <a:pt x="16531" y="1646"/>
                </a:lnTo>
                <a:cubicBezTo>
                  <a:pt x="19684" y="3620"/>
                  <a:pt x="21600" y="7079"/>
                  <a:pt x="21600" y="10800"/>
                </a:cubicBezTo>
                <a:cubicBezTo>
                  <a:pt x="21600" y="12550"/>
                  <a:pt x="21174" y="14275"/>
                  <a:pt x="20359" y="15825"/>
                </a:cubicBezTo>
                <a:lnTo>
                  <a:pt x="22749" y="17081"/>
                </a:lnTo>
                <a:lnTo>
                  <a:pt x="16785" y="18936"/>
                </a:lnTo>
                <a:lnTo>
                  <a:pt x="14930" y="12971"/>
                </a:lnTo>
                <a:lnTo>
                  <a:pt x="17320" y="14227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12"/>
          <p:cNvSpPr/>
          <p:nvPr/>
        </p:nvSpPr>
        <p:spPr>
          <a:xfrm rot="14109000">
            <a:off x="2275560" y="1836000"/>
            <a:ext cx="341280" cy="1222200"/>
          </a:xfrm>
          <a:custGeom>
            <a:avLst/>
            <a:gdLst>
              <a:gd name="textAreaLeft" fmla="*/ 49680 w 341280"/>
              <a:gd name="textAreaRight" fmla="*/ 291600 w 341280"/>
              <a:gd name="textAreaTop" fmla="*/ 178920 h 1222200"/>
              <a:gd name="textAreaBottom" fmla="*/ 1043280 h 1222200"/>
            </a:gdLst>
            <a:ahLst/>
            <a:rect l="textAreaLeft" t="textAreaTop" r="textAreaRight" b="textAreaBottom"/>
            <a:pathLst>
              <a:path w="22749" h="18936">
                <a:moveTo>
                  <a:pt x="17320" y="14227"/>
                </a:moveTo>
                <a:cubicBezTo>
                  <a:pt x="17876" y="13170"/>
                  <a:pt x="18167" y="11994"/>
                  <a:pt x="18167" y="10800"/>
                </a:cubicBezTo>
                <a:cubicBezTo>
                  <a:pt x="18167" y="8262"/>
                  <a:pt x="16860" y="5902"/>
                  <a:pt x="14709" y="4556"/>
                </a:cubicBezTo>
                <a:lnTo>
                  <a:pt x="16531" y="1646"/>
                </a:lnTo>
                <a:cubicBezTo>
                  <a:pt x="19684" y="3620"/>
                  <a:pt x="21600" y="7079"/>
                  <a:pt x="21600" y="10800"/>
                </a:cubicBezTo>
                <a:cubicBezTo>
                  <a:pt x="21600" y="12550"/>
                  <a:pt x="21174" y="14275"/>
                  <a:pt x="20359" y="15825"/>
                </a:cubicBezTo>
                <a:lnTo>
                  <a:pt x="22749" y="17081"/>
                </a:lnTo>
                <a:lnTo>
                  <a:pt x="16785" y="18936"/>
                </a:lnTo>
                <a:lnTo>
                  <a:pt x="14930" y="12971"/>
                </a:lnTo>
                <a:lnTo>
                  <a:pt x="17320" y="14227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13"/>
          <p:cNvSpPr/>
          <p:nvPr/>
        </p:nvSpPr>
        <p:spPr>
          <a:xfrm>
            <a:off x="5710320" y="1844640"/>
            <a:ext cx="561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腐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14"/>
          <p:cNvSpPr/>
          <p:nvPr/>
        </p:nvSpPr>
        <p:spPr>
          <a:xfrm>
            <a:off x="3478320" y="6002280"/>
            <a:ext cx="561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营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15"/>
          <p:cNvSpPr/>
          <p:nvPr/>
        </p:nvSpPr>
        <p:spPr>
          <a:xfrm>
            <a:off x="1397160" y="4346640"/>
            <a:ext cx="371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吃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16"/>
          <p:cNvSpPr/>
          <p:nvPr/>
        </p:nvSpPr>
        <p:spPr>
          <a:xfrm>
            <a:off x="6904080" y="4202280"/>
            <a:ext cx="1323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增强土壤肥力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17"/>
          <p:cNvSpPr/>
          <p:nvPr/>
        </p:nvSpPr>
        <p:spPr>
          <a:xfrm>
            <a:off x="1684440" y="1898640"/>
            <a:ext cx="371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吃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WordArt 18"/>
          <p:cNvSpPr txBox="1"/>
          <p:nvPr/>
        </p:nvSpPr>
        <p:spPr>
          <a:xfrm>
            <a:off x="1835280" y="2708280"/>
            <a:ext cx="9349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963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77000"/>
                    </a:srgbClr>
                  </a:outerShdw>
                </a:effectLst>
                <a:latin typeface="宋体"/>
              </a:rPr>
              <a:t>害虫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87" name="WordArt 19"/>
          <p:cNvSpPr txBox="1"/>
          <p:nvPr/>
        </p:nvSpPr>
        <p:spPr>
          <a:xfrm>
            <a:off x="250920" y="2924280"/>
            <a:ext cx="9349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963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77000"/>
                    </a:srgbClr>
                  </a:outerShdw>
                </a:effectLst>
                <a:latin typeface="宋体"/>
              </a:rPr>
              <a:t>害虫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88" name="WordArt 20"/>
          <p:cNvSpPr txBox="1"/>
          <p:nvPr/>
        </p:nvSpPr>
        <p:spPr>
          <a:xfrm>
            <a:off x="324000" y="3357720"/>
            <a:ext cx="9349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963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77000"/>
                    </a:srgbClr>
                  </a:outerShdw>
                </a:effectLst>
                <a:latin typeface="宋体"/>
              </a:rPr>
              <a:t>害虫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89" name="WordArt 21"/>
          <p:cNvSpPr txBox="1"/>
          <p:nvPr/>
        </p:nvSpPr>
        <p:spPr>
          <a:xfrm>
            <a:off x="1476360" y="3141720"/>
            <a:ext cx="9349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963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77000"/>
                    </a:srgbClr>
                  </a:outerShdw>
                </a:effectLst>
                <a:latin typeface="宋体"/>
              </a:rPr>
              <a:t>害虫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90" name="WordArt 22"/>
          <p:cNvSpPr txBox="1"/>
          <p:nvPr/>
        </p:nvSpPr>
        <p:spPr>
          <a:xfrm>
            <a:off x="1042920" y="2852640"/>
            <a:ext cx="935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963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77000"/>
                    </a:srgbClr>
                  </a:outerShdw>
                </a:effectLst>
                <a:latin typeface="宋体"/>
              </a:rPr>
              <a:t>害虫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91" name="WordArt 23"/>
          <p:cNvSpPr txBox="1"/>
          <p:nvPr/>
        </p:nvSpPr>
        <p:spPr>
          <a:xfrm>
            <a:off x="1332000" y="3500280"/>
            <a:ext cx="9349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963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77000"/>
                    </a:srgbClr>
                  </a:outerShdw>
                </a:effectLst>
                <a:latin typeface="宋体"/>
              </a:rPr>
              <a:t>害虫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92" name="WordArt 24"/>
          <p:cNvSpPr txBox="1"/>
          <p:nvPr/>
        </p:nvSpPr>
        <p:spPr>
          <a:xfrm>
            <a:off x="1474920" y="3139920"/>
            <a:ext cx="9349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963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77000"/>
                    </a:srgbClr>
                  </a:outerShdw>
                </a:effectLst>
                <a:latin typeface="宋体"/>
              </a:rPr>
              <a:t>害虫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0,117,-6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3,-4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0,117,-6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3,-4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8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2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5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9" dur="500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5" dur="50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2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6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4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0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3000"/>
                            </p:stCondLst>
                            <p:childTnLst>
                              <p:par>
                                <p:cTn id="45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4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4000"/>
                            </p:stCondLst>
                            <p:childTnLst>
                              <p:par>
                                <p:cTn id="45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8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5000"/>
                            </p:stCondLst>
                            <p:childTnLst>
                              <p:par>
                                <p:cTn id="46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2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6000"/>
                            </p:stCondLst>
                            <p:childTnLst>
                              <p:par>
                                <p:cTn id="46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6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0" dur="500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Text Box 2"/>
          <p:cNvSpPr/>
          <p:nvPr/>
        </p:nvSpPr>
        <p:spPr>
          <a:xfrm>
            <a:off x="324000" y="549360"/>
            <a:ext cx="860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0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林务官把灌木丛砍了，把野草锄了，鸟儿飞走了，森林里的害虫就逞凶啦。它们大量繁殖，成群地向树木进攻，吃树叶，咬树根，钻树心。没有天敌来制服害虫，树林就渐渐给毁了。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Oval 12"/>
          <p:cNvSpPr/>
          <p:nvPr/>
        </p:nvSpPr>
        <p:spPr>
          <a:xfrm>
            <a:off x="7667640" y="2924280"/>
            <a:ext cx="649440" cy="647640"/>
          </a:xfrm>
          <a:prstGeom prst="ellipse">
            <a:avLst/>
          </a:prstGeom>
          <a:noFill/>
          <a:ln w="475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Oval 13"/>
          <p:cNvSpPr/>
          <p:nvPr/>
        </p:nvSpPr>
        <p:spPr>
          <a:xfrm>
            <a:off x="2268360" y="3645000"/>
            <a:ext cx="649440" cy="647640"/>
          </a:xfrm>
          <a:prstGeom prst="ellipse">
            <a:avLst/>
          </a:prstGeom>
          <a:noFill/>
          <a:ln w="475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Oval 14"/>
          <p:cNvSpPr/>
          <p:nvPr/>
        </p:nvSpPr>
        <p:spPr>
          <a:xfrm>
            <a:off x="4716360" y="3645000"/>
            <a:ext cx="649440" cy="647640"/>
          </a:xfrm>
          <a:prstGeom prst="ellipse">
            <a:avLst/>
          </a:prstGeom>
          <a:noFill/>
          <a:ln w="475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Oval 15"/>
          <p:cNvSpPr/>
          <p:nvPr/>
        </p:nvSpPr>
        <p:spPr>
          <a:xfrm>
            <a:off x="971640" y="5084640"/>
            <a:ext cx="649080" cy="648000"/>
          </a:xfrm>
          <a:prstGeom prst="ellipse">
            <a:avLst/>
          </a:prstGeom>
          <a:noFill/>
          <a:ln w="475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16"/>
          <p:cNvSpPr/>
          <p:nvPr/>
        </p:nvSpPr>
        <p:spPr>
          <a:xfrm>
            <a:off x="2580840" y="6095880"/>
            <a:ext cx="453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这四个动词，能交换位置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3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Picture 4" descr="无标题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2" name="WordArt 5"/>
          <p:cNvSpPr txBox="1"/>
          <p:nvPr/>
        </p:nvSpPr>
        <p:spPr>
          <a:xfrm>
            <a:off x="250920" y="333360"/>
            <a:ext cx="5041800" cy="126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77000"/>
                    </a:srgbClr>
                  </a:outerShdw>
                </a:effectLst>
                <a:latin typeface="宋体"/>
              </a:rPr>
              <a:t>交流感悟</a:t>
            </a:r>
            <a:endParaRPr b="1" lang="en-US" sz="9600" spc="-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03" name="Text Box 6"/>
          <p:cNvSpPr/>
          <p:nvPr/>
        </p:nvSpPr>
        <p:spPr>
          <a:xfrm>
            <a:off x="503280" y="1700280"/>
            <a:ext cx="864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学了这篇文章，你获得了大自然的什么启示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Text Box 2"/>
          <p:cNvSpPr/>
          <p:nvPr/>
        </p:nvSpPr>
        <p:spPr>
          <a:xfrm>
            <a:off x="642960" y="571680"/>
            <a:ext cx="792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大自然中的一切事物都是互相联系的。我们要遵循大自然的规律，这样，才能保持大自然的生态平衡。否则只会好心办坏事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3b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WordArt 2"/>
          <p:cNvSpPr txBox="1"/>
          <p:nvPr/>
        </p:nvSpPr>
        <p:spPr>
          <a:xfrm>
            <a:off x="250920" y="333360"/>
            <a:ext cx="5041800" cy="126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77000"/>
                    </a:srgbClr>
                  </a:outerShdw>
                </a:effectLst>
                <a:latin typeface="宋体"/>
              </a:rPr>
              <a:t>主要内容</a:t>
            </a:r>
            <a:endParaRPr b="1" lang="en-US" sz="9600" spc="-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06" name="Text Box 3"/>
          <p:cNvSpPr/>
          <p:nvPr/>
        </p:nvSpPr>
        <p:spPr>
          <a:xfrm>
            <a:off x="357120" y="2000160"/>
            <a:ext cx="85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en-US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《</a:t>
            </a: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人类的老师</a:t>
            </a:r>
            <a:r>
              <a:rPr b="1" lang="en-US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》</a:t>
            </a: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通过生动的试验，介绍了科学家从蜻蜓、鲸等动物身上得到启示，有所发明、有所创造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矩形 4"/>
          <p:cNvSpPr/>
          <p:nvPr/>
        </p:nvSpPr>
        <p:spPr>
          <a:xfrm>
            <a:off x="3791160" y="492912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cc"/>
                </a:solidFill>
                <a:latin typeface="Arial"/>
                <a:ea typeface="黑体"/>
              </a:rPr>
              <a:t>你能用课文的一句话来概括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10"/>
          <p:cNvSpPr/>
          <p:nvPr/>
        </p:nvSpPr>
        <p:spPr>
          <a:xfrm>
            <a:off x="571680" y="5715000"/>
            <a:ext cx="857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3300"/>
                </a:solidFill>
                <a:latin typeface="Arial"/>
                <a:ea typeface="黑体"/>
              </a:rPr>
              <a:t>生物真是人类的好老师啊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7" dur="2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9" name=""/>
          <p:cNvGrpSpPr/>
          <p:nvPr/>
        </p:nvGrpSpPr>
        <p:grpSpPr>
          <a:xfrm>
            <a:off x="274680" y="189000"/>
            <a:ext cx="8613720" cy="1725480"/>
            <a:chOff x="274680" y="189000"/>
            <a:chExt cx="8613720" cy="1725480"/>
          </a:xfrm>
        </p:grpSpPr>
        <p:pic>
          <p:nvPicPr>
            <p:cNvPr id="510" name="Rectangle 2" descr=""/>
            <p:cNvPicPr/>
            <p:nvPr/>
          </p:nvPicPr>
          <p:blipFill>
            <a:blip r:embed="rId2"/>
            <a:stretch/>
          </p:blipFill>
          <p:spPr>
            <a:xfrm>
              <a:off x="274680" y="189000"/>
              <a:ext cx="8613720" cy="172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1" name=""/>
            <p:cNvSpPr txBox="1"/>
            <p:nvPr/>
          </p:nvSpPr>
          <p:spPr>
            <a:xfrm>
              <a:off x="274680" y="189000"/>
              <a:ext cx="8613720" cy="1725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4e3b30"/>
                </a:solidFill>
                <a:latin typeface="Franklin Gothic Medium"/>
              </a:endParaRPr>
            </a:p>
          </p:txBody>
        </p:sp>
      </p:grpSp>
      <p:sp>
        <p:nvSpPr>
          <p:cNvPr id="512" name=""/>
          <p:cNvSpPr txBox="1"/>
          <p:nvPr/>
        </p:nvSpPr>
        <p:spPr>
          <a:xfrm>
            <a:off x="539280" y="2276280"/>
            <a:ext cx="820908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3b30"/>
                </a:solidFill>
                <a:latin typeface="Franklin Gothic Book"/>
              </a:rPr>
              <a:t>1</a:t>
            </a:r>
            <a:r>
              <a:rPr b="1" lang="zh-CN" sz="3600" spc="-1" strike="noStrike">
                <a:solidFill>
                  <a:srgbClr val="4e3b30"/>
                </a:solidFill>
                <a:latin typeface="Franklin Gothic Book"/>
              </a:rPr>
              <a:t>、研究蜻蜓的翅膀</a:t>
            </a:r>
            <a:r>
              <a:rPr b="1" lang="en-US" sz="3600" spc="-1" strike="noStrike">
                <a:solidFill>
                  <a:srgbClr val="4e3b30"/>
                </a:solidFill>
                <a:latin typeface="Franklin Gothic Book"/>
              </a:rPr>
              <a:t>——</a:t>
            </a:r>
            <a:r>
              <a:rPr b="1" lang="zh-CN" sz="3600" spc="-1" strike="noStrike">
                <a:solidFill>
                  <a:srgbClr val="4e3b30"/>
                </a:solidFill>
                <a:latin typeface="Franklin Gothic Book"/>
              </a:rPr>
              <a:t>解决飞机机翼因剧烈抖动而破碎的问题。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3b30"/>
                </a:solidFill>
                <a:latin typeface="Franklin Gothic Book"/>
              </a:rPr>
              <a:t>2</a:t>
            </a:r>
            <a:r>
              <a:rPr b="1" lang="zh-CN" sz="3600" spc="-1" strike="noStrike">
                <a:solidFill>
                  <a:srgbClr val="4e3b30"/>
                </a:solidFill>
                <a:latin typeface="Franklin Gothic Book"/>
              </a:rPr>
              <a:t>、研究鲸的“流线型”的外形</a:t>
            </a:r>
            <a:r>
              <a:rPr b="1" lang="en-US" sz="3600" spc="-1" strike="noStrike">
                <a:solidFill>
                  <a:srgbClr val="4e3b30"/>
                </a:solidFill>
                <a:latin typeface="Franklin Gothic Book"/>
              </a:rPr>
              <a:t>——</a:t>
            </a:r>
            <a:r>
              <a:rPr b="1" lang="zh-CN" sz="3600" spc="-1" strike="noStrike">
                <a:solidFill>
                  <a:srgbClr val="4e3b30"/>
                </a:solidFill>
                <a:latin typeface="Franklin Gothic Book"/>
              </a:rPr>
              <a:t>减少船只在水中的阻力，大大提高了航行的速度 。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B21E67-14CD-4F45-8C88-853AC94CF11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19" descr="无标题3"/>
          <p:cNvPicPr/>
          <p:nvPr/>
        </p:nvPicPr>
        <p:blipFill>
          <a:blip r:embed="rId1"/>
          <a:stretch/>
        </p:blipFill>
        <p:spPr>
          <a:xfrm>
            <a:off x="-214200" y="0"/>
            <a:ext cx="9747000" cy="7315200"/>
          </a:xfrm>
          <a:prstGeom prst="rect">
            <a:avLst/>
          </a:prstGeom>
          <a:ln w="0">
            <a:noFill/>
          </a:ln>
        </p:spPr>
      </p:pic>
      <p:sp>
        <p:nvSpPr>
          <p:cNvPr id="388" name="Text Box 2"/>
          <p:cNvSpPr/>
          <p:nvPr/>
        </p:nvSpPr>
        <p:spPr>
          <a:xfrm>
            <a:off x="1258920" y="476280"/>
            <a:ext cx="633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自由读课文，读准字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3"/>
          <p:cNvSpPr/>
          <p:nvPr/>
        </p:nvSpPr>
        <p:spPr>
          <a:xfrm>
            <a:off x="250920" y="2781360"/>
            <a:ext cx="230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幼圆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遭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4"/>
          <p:cNvSpPr/>
          <p:nvPr/>
        </p:nvSpPr>
        <p:spPr>
          <a:xfrm>
            <a:off x="2700360" y="2781360"/>
            <a:ext cx="208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扫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5"/>
          <p:cNvSpPr/>
          <p:nvPr/>
        </p:nvSpPr>
        <p:spPr>
          <a:xfrm>
            <a:off x="4932360" y="2781360"/>
            <a:ext cx="210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腐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6"/>
          <p:cNvSpPr/>
          <p:nvPr/>
        </p:nvSpPr>
        <p:spPr>
          <a:xfrm>
            <a:off x="6588000" y="2781360"/>
            <a:ext cx="320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土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7"/>
          <p:cNvSpPr/>
          <p:nvPr/>
        </p:nvSpPr>
        <p:spPr>
          <a:xfrm>
            <a:off x="611280" y="4292640"/>
            <a:ext cx="216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机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8"/>
          <p:cNvSpPr/>
          <p:nvPr/>
        </p:nvSpPr>
        <p:spPr>
          <a:xfrm>
            <a:off x="2484360" y="429264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省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9"/>
          <p:cNvSpPr/>
          <p:nvPr/>
        </p:nvSpPr>
        <p:spPr>
          <a:xfrm>
            <a:off x="4643280" y="4292640"/>
            <a:ext cx="29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关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0"/>
          <p:cNvSpPr/>
          <p:nvPr/>
        </p:nvSpPr>
        <p:spPr>
          <a:xfrm>
            <a:off x="6694560" y="4292640"/>
            <a:ext cx="244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幼圆"/>
              </a:rPr>
              <a:t>　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鲸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1"/>
          <p:cNvSpPr/>
          <p:nvPr/>
        </p:nvSpPr>
        <p:spPr>
          <a:xfrm>
            <a:off x="826920" y="198900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yān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12"/>
          <p:cNvSpPr/>
          <p:nvPr/>
        </p:nvSpPr>
        <p:spPr>
          <a:xfrm>
            <a:off x="2987640" y="2000160"/>
            <a:ext cx="1441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zhǒ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13"/>
          <p:cNvSpPr/>
          <p:nvPr/>
        </p:nvSpPr>
        <p:spPr>
          <a:xfrm>
            <a:off x="4932360" y="2016000"/>
            <a:ext cx="113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f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4"/>
          <p:cNvSpPr/>
          <p:nvPr/>
        </p:nvSpPr>
        <p:spPr>
          <a:xfrm>
            <a:off x="7020000" y="2060640"/>
            <a:ext cx="161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rǎn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15"/>
          <p:cNvSpPr/>
          <p:nvPr/>
        </p:nvSpPr>
        <p:spPr>
          <a:xfrm>
            <a:off x="1187280" y="3643200"/>
            <a:ext cx="88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y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16"/>
          <p:cNvSpPr/>
          <p:nvPr/>
        </p:nvSpPr>
        <p:spPr>
          <a:xfrm>
            <a:off x="2987640" y="3645000"/>
            <a:ext cx="122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lü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7"/>
          <p:cNvSpPr/>
          <p:nvPr/>
        </p:nvSpPr>
        <p:spPr>
          <a:xfrm>
            <a:off x="5076720" y="3716280"/>
            <a:ext cx="151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jià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8"/>
          <p:cNvSpPr/>
          <p:nvPr/>
        </p:nvSpPr>
        <p:spPr>
          <a:xfrm>
            <a:off x="7020000" y="3716280"/>
            <a:ext cx="187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jīn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32"/>
          <p:cNvSpPr/>
          <p:nvPr/>
        </p:nvSpPr>
        <p:spPr>
          <a:xfrm>
            <a:off x="1643040" y="5130720"/>
            <a:ext cx="235764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ǎ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扫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à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33"/>
          <p:cNvSpPr/>
          <p:nvPr/>
        </p:nvSpPr>
        <p:spPr>
          <a:xfrm>
            <a:off x="2857680" y="5143680"/>
            <a:ext cx="302544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扫地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扫帚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2"/>
          <p:cNvSpPr/>
          <p:nvPr/>
        </p:nvSpPr>
        <p:spPr>
          <a:xfrm>
            <a:off x="2854800" y="1006920"/>
            <a:ext cx="415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9900"/>
                </a:solidFill>
                <a:latin typeface="Arial"/>
                <a:ea typeface="黑体"/>
              </a:rPr>
              <a:t>总结全文，拓展延伸</a:t>
            </a:r>
            <a:r>
              <a:rPr b="0" lang="zh-CN" sz="3600" spc="-1" strike="noStrike">
                <a:solidFill>
                  <a:srgbClr val="ff9900"/>
                </a:solidFill>
                <a:latin typeface="Arial"/>
                <a:ea typeface="幼圆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179280" y="372204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99"/>
                </a:solidFill>
                <a:latin typeface="Arial"/>
                <a:ea typeface="幼圆"/>
              </a:rPr>
              <a:t>　　</a:t>
            </a:r>
            <a:r>
              <a:rPr b="0" lang="zh-CN" sz="3600" spc="-1" strike="noStrike">
                <a:solidFill>
                  <a:srgbClr val="ffff99"/>
                </a:solidFill>
                <a:latin typeface="黑体"/>
                <a:ea typeface="黑体"/>
              </a:rPr>
              <a:t>林务官打扫森林，结果给森林带来了灾难；人们从蜻蜓、鲸等动物身上得到启示，有所发明，有所创造。</a:t>
            </a:r>
            <a:r>
              <a:rPr b="0" lang="zh-CN" sz="3600" spc="-1" strike="noStrike">
                <a:solidFill>
                  <a:srgbClr val="ff9900"/>
                </a:solidFill>
                <a:latin typeface="黑体"/>
                <a:ea typeface="黑体"/>
              </a:rPr>
              <a:t>可见如果我们任意破坏大自然的生态平衡，就会遭到大自然的惩罚；如果我们拜大自然为师，虚心地向它学习，就能从中得到启发，造福人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Text Box 4"/>
          <p:cNvSpPr/>
          <p:nvPr/>
        </p:nvSpPr>
        <p:spPr>
          <a:xfrm>
            <a:off x="1571760" y="571680"/>
            <a:ext cx="607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大自然不愧是人类的老师，它警示我们要按自然规律办事，维护生态平衡，让人与自然和谐相处；它启迪我们的智慧，让我们人类有所发明，有所创造，促进了人类科技的进步，改善了人类的日常生活条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4"/>
          <p:cNvSpPr/>
          <p:nvPr/>
        </p:nvSpPr>
        <p:spPr>
          <a:xfrm>
            <a:off x="755640" y="310752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黑体"/>
                <a:ea typeface="黑体"/>
              </a:rPr>
              <a:t>　　其实大自然带给我们的启示，远不止今天课文中所说的这些，希望同学们在综合性学习活动中继续探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2" descr="6"/>
          <p:cNvPicPr/>
          <p:nvPr/>
        </p:nvPicPr>
        <p:blipFill>
          <a:blip r:embed="rId1"/>
          <a:srcRect l="11249" t="14910" r="15978" b="50003"/>
          <a:stretch/>
        </p:blipFill>
        <p:spPr>
          <a:xfrm>
            <a:off x="228600" y="990720"/>
            <a:ext cx="8429760" cy="263520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3" descr="2005317115806"/>
          <p:cNvPicPr/>
          <p:nvPr/>
        </p:nvPicPr>
        <p:blipFill>
          <a:blip r:embed="rId2"/>
          <a:stretch/>
        </p:blipFill>
        <p:spPr>
          <a:xfrm>
            <a:off x="611280" y="3860640"/>
            <a:ext cx="7993080" cy="2708280"/>
          </a:xfrm>
          <a:prstGeom prst="rect">
            <a:avLst/>
          </a:prstGeom>
          <a:ln w="0">
            <a:noFill/>
          </a:ln>
        </p:spPr>
      </p:pic>
      <p:sp>
        <p:nvSpPr>
          <p:cNvPr id="523" name="WordArt 4"/>
          <p:cNvSpPr txBox="1"/>
          <p:nvPr/>
        </p:nvSpPr>
        <p:spPr>
          <a:xfrm>
            <a:off x="2895480" y="228600"/>
            <a:ext cx="29718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9900cc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蜻蜓与仿生</a:t>
            </a:r>
            <a:endParaRPr b="1" lang="en-US" sz="1800" spc="-1" strike="noStrike">
              <a:ln w="0">
                <a:noFill/>
              </a:ln>
              <a:solidFill>
                <a:srgbClr val="9900cc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2" descr="13"/>
          <p:cNvPicPr/>
          <p:nvPr/>
        </p:nvPicPr>
        <p:blipFill>
          <a:blip r:embed="rId1"/>
          <a:srcRect l="0" t="0" r="0" b="866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8" name="Text Box 3"/>
          <p:cNvSpPr/>
          <p:nvPr/>
        </p:nvSpPr>
        <p:spPr>
          <a:xfrm>
            <a:off x="6516720" y="4869000"/>
            <a:ext cx="9936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Arial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6" descr="无标题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0" name="WordArt 3"/>
          <p:cNvSpPr txBox="1"/>
          <p:nvPr/>
        </p:nvSpPr>
        <p:spPr>
          <a:xfrm>
            <a:off x="1042920" y="1125360"/>
            <a:ext cx="7315200" cy="126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77000"/>
                    </a:srgbClr>
                  </a:outerShdw>
                </a:effectLst>
                <a:latin typeface="宋体"/>
              </a:rPr>
              <a:t>大自然的启示</a:t>
            </a:r>
            <a:endParaRPr b="1" lang="en-US" sz="9600" spc="-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11" name="Text Box 5"/>
          <p:cNvSpPr/>
          <p:nvPr/>
        </p:nvSpPr>
        <p:spPr>
          <a:xfrm>
            <a:off x="1134000" y="3357720"/>
            <a:ext cx="24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0" lang="zh-CN" sz="5400" spc="-1" strike="noStrike">
                <a:solidFill>
                  <a:srgbClr val="0000ff"/>
                </a:solidFill>
                <a:latin typeface="Arial"/>
                <a:ea typeface="黑体"/>
              </a:rPr>
              <a:t>打扫”森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7"/>
          <p:cNvSpPr/>
          <p:nvPr/>
        </p:nvSpPr>
        <p:spPr>
          <a:xfrm>
            <a:off x="5330880" y="3357720"/>
            <a:ext cx="22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  <a:ea typeface="黑体"/>
              </a:rPr>
              <a:t>人类的老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WordArt 10"/>
          <p:cNvSpPr txBox="1"/>
          <p:nvPr/>
        </p:nvSpPr>
        <p:spPr>
          <a:xfrm>
            <a:off x="1332000" y="4508640"/>
            <a:ext cx="46656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宋体"/>
              </a:rPr>
              <a:t>？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14" name="WordArt 11"/>
          <p:cNvSpPr txBox="1"/>
          <p:nvPr/>
        </p:nvSpPr>
        <p:spPr>
          <a:xfrm>
            <a:off x="4716360" y="4437000"/>
            <a:ext cx="46692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宋体"/>
              </a:rPr>
              <a:t>？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15" name="Text Box 12"/>
          <p:cNvSpPr/>
          <p:nvPr/>
        </p:nvSpPr>
        <p:spPr>
          <a:xfrm>
            <a:off x="2124360" y="4869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Arial"/>
                <a:ea typeface="楷体_GB2312"/>
              </a:rPr>
              <a:t>怎么打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3"/>
          <p:cNvSpPr/>
          <p:nvPr/>
        </p:nvSpPr>
        <p:spPr>
          <a:xfrm>
            <a:off x="5941080" y="479736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Arial"/>
                <a:ea typeface="楷体_GB2312"/>
              </a:rPr>
              <a:t>什么是人类的老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2" descr="无标题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8" name="WordArt 3"/>
          <p:cNvSpPr txBox="1"/>
          <p:nvPr/>
        </p:nvSpPr>
        <p:spPr>
          <a:xfrm>
            <a:off x="250920" y="333360"/>
            <a:ext cx="5041800" cy="126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77000"/>
                    </a:srgbClr>
                  </a:outerShdw>
                </a:effectLst>
                <a:latin typeface="宋体"/>
              </a:rPr>
              <a:t>初读感知</a:t>
            </a:r>
            <a:endParaRPr b="1" lang="en-US" sz="9600" spc="-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19" name="Text Box 10"/>
          <p:cNvSpPr/>
          <p:nvPr/>
        </p:nvSpPr>
        <p:spPr>
          <a:xfrm>
            <a:off x="503280" y="1700280"/>
            <a:ext cx="864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en-US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默读课文，说说每篇短文的主要内容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en-US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画出自己感受最深的句子，在旁边做批注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4" descr="12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1" name="Rectangle 5"/>
          <p:cNvSpPr/>
          <p:nvPr/>
        </p:nvSpPr>
        <p:spPr>
          <a:xfrm>
            <a:off x="2911680" y="260280"/>
            <a:ext cx="1018800" cy="1099440"/>
          </a:xfrm>
          <a:prstGeom prst="rect">
            <a:avLst/>
          </a:prstGeom>
          <a:gradFill rotWithShape="0">
            <a:gsLst>
              <a:gs pos="0">
                <a:srgbClr val="ffffff">
                  <a:alpha val="70196"/>
                </a:srgbClr>
              </a:gs>
              <a:gs pos="100000">
                <a:srgbClr val="ffffff">
                  <a:alpha val="7137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黑体"/>
              </a:rPr>
              <a:t>课文分析（一）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6"/>
          <p:cNvSpPr/>
          <p:nvPr/>
        </p:nvSpPr>
        <p:spPr>
          <a:xfrm>
            <a:off x="395280" y="1700280"/>
            <a:ext cx="8748720" cy="1922760"/>
          </a:xfrm>
          <a:prstGeom prst="rect">
            <a:avLst/>
          </a:prstGeom>
          <a:gradFill rotWithShape="0">
            <a:gsLst>
              <a:gs pos="0">
                <a:srgbClr val="ffffff">
                  <a:alpha val="56078"/>
                </a:srgbClr>
              </a:gs>
              <a:gs pos="100000">
                <a:srgbClr val="ffffff">
                  <a:alpha val="6235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0000"/>
                </a:solidFill>
                <a:latin typeface="Arial"/>
                <a:ea typeface="幼圆"/>
              </a:rPr>
              <a:t>　　</a:t>
            </a:r>
            <a:r>
              <a:rPr b="0" lang="zh-CN" sz="6000" spc="-1" strike="noStrike">
                <a:solidFill>
                  <a:srgbClr val="800000"/>
                </a:solidFill>
                <a:latin typeface="Arial"/>
                <a:ea typeface="黑体"/>
              </a:rPr>
              <a:t>１、默读</a:t>
            </a:r>
            <a:r>
              <a:rPr b="0" lang="en-US" sz="6000" spc="-1" strike="noStrike">
                <a:solidFill>
                  <a:srgbClr val="800000"/>
                </a:solidFill>
                <a:latin typeface="Arial"/>
                <a:ea typeface="黑体"/>
              </a:rPr>
              <a:t>《“</a:t>
            </a:r>
            <a:r>
              <a:rPr b="0" lang="zh-CN" sz="6000" spc="-1" strike="noStrike">
                <a:solidFill>
                  <a:srgbClr val="800000"/>
                </a:solidFill>
                <a:latin typeface="Arial"/>
                <a:ea typeface="黑体"/>
              </a:rPr>
              <a:t>打扫”森林</a:t>
            </a:r>
            <a:r>
              <a:rPr b="0" lang="en-US" sz="6000" spc="-1" strike="noStrike">
                <a:solidFill>
                  <a:srgbClr val="800000"/>
                </a:solidFill>
                <a:latin typeface="Arial"/>
                <a:ea typeface="黑体"/>
              </a:rPr>
              <a:t>》</a:t>
            </a:r>
            <a:r>
              <a:rPr b="0" lang="zh-CN" sz="6000" spc="-1" strike="noStrike">
                <a:solidFill>
                  <a:srgbClr val="800000"/>
                </a:solidFill>
                <a:latin typeface="Arial"/>
                <a:ea typeface="黑体"/>
              </a:rPr>
              <a:t>，想想它主要讲了什么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7"/>
          <p:cNvSpPr/>
          <p:nvPr/>
        </p:nvSpPr>
        <p:spPr>
          <a:xfrm>
            <a:off x="324000" y="5013360"/>
            <a:ext cx="8351640" cy="825120"/>
          </a:xfrm>
          <a:prstGeom prst="rect">
            <a:avLst/>
          </a:prstGeom>
          <a:gradFill rotWithShape="0">
            <a:gsLst>
              <a:gs pos="0">
                <a:srgbClr val="ffffff">
                  <a:alpha val="41176"/>
                </a:srgbClr>
              </a:gs>
              <a:gs pos="100000">
                <a:srgbClr val="ffffff">
                  <a:alpha val="4117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　　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提示：可采用将各部分连起来的方法概括文章大意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2"/>
          <p:cNvGrpSpPr/>
          <p:nvPr/>
        </p:nvGrpSpPr>
        <p:grpSpPr>
          <a:xfrm>
            <a:off x="357120" y="214200"/>
            <a:ext cx="8678880" cy="3989160"/>
            <a:chOff x="357120" y="214200"/>
            <a:chExt cx="8678880" cy="3989160"/>
          </a:xfrm>
        </p:grpSpPr>
        <p:sp>
          <p:nvSpPr>
            <p:cNvPr id="425" name="Text Box 3"/>
            <p:cNvSpPr/>
            <p:nvPr/>
          </p:nvSpPr>
          <p:spPr>
            <a:xfrm>
              <a:off x="431640" y="1062000"/>
              <a:ext cx="8604360" cy="31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从前（                  ）有个林务官，一上任就命令护林工人把森林里（                      ）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（                ）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（                        ）砍光除尽，结果此举破坏了（                             ），好心办了（           ）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把森林渐渐给（           ）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4"/>
            <p:cNvSpPr/>
            <p:nvPr/>
          </p:nvSpPr>
          <p:spPr>
            <a:xfrm>
              <a:off x="357120" y="214200"/>
              <a:ext cx="3286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课文主要讲 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Text Box 5"/>
          <p:cNvSpPr/>
          <p:nvPr/>
        </p:nvSpPr>
        <p:spPr>
          <a:xfrm>
            <a:off x="3419640" y="1052640"/>
            <a:ext cx="151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德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6"/>
          <p:cNvSpPr/>
          <p:nvPr/>
        </p:nvSpPr>
        <p:spPr>
          <a:xfrm>
            <a:off x="1835280" y="227664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灌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7"/>
          <p:cNvSpPr/>
          <p:nvPr/>
        </p:nvSpPr>
        <p:spPr>
          <a:xfrm>
            <a:off x="6362640" y="22766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杂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8"/>
          <p:cNvSpPr/>
          <p:nvPr/>
        </p:nvSpPr>
        <p:spPr>
          <a:xfrm>
            <a:off x="1692360" y="2924280"/>
            <a:ext cx="28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枯枝败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9"/>
          <p:cNvSpPr/>
          <p:nvPr/>
        </p:nvSpPr>
        <p:spPr>
          <a:xfrm>
            <a:off x="3492360" y="3500280"/>
            <a:ext cx="45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大自然的生态平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0"/>
          <p:cNvSpPr/>
          <p:nvPr/>
        </p:nvSpPr>
        <p:spPr>
          <a:xfrm>
            <a:off x="3203640" y="4076640"/>
            <a:ext cx="14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坏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11"/>
          <p:cNvSpPr/>
          <p:nvPr/>
        </p:nvSpPr>
        <p:spPr>
          <a:xfrm>
            <a:off x="1187280" y="4653000"/>
            <a:ext cx="151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毁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357120" y="1071720"/>
            <a:ext cx="8353440" cy="54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为什么题目“打扫”用上双引号？它具体指的是什么？找出课文的句子读一读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灌木统统砍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把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杂草统统除尽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连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地上的枯枝烂叶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也不放过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的双引号属于什么用法？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特殊含义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微软雅黑"/>
                <a:ea typeface="微软雅黑"/>
              </a:rPr>
              <a:t>提示：①从词语的意思出发：扫除；清理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微软雅黑"/>
                <a:ea typeface="微软雅黑"/>
              </a:rPr>
              <a:t>②</a:t>
            </a:r>
            <a:r>
              <a:rPr b="1" lang="zh-CN" sz="3200" spc="-1" strike="noStrike">
                <a:solidFill>
                  <a:srgbClr val="ff3399"/>
                </a:solidFill>
                <a:latin typeface="微软雅黑"/>
                <a:ea typeface="微软雅黑"/>
              </a:rPr>
              <a:t>而森林需不需要打扫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微软雅黑"/>
                <a:ea typeface="微软雅黑"/>
              </a:rPr>
              <a:t>   </a:t>
            </a:r>
            <a:r>
              <a:rPr b="1" lang="zh-CN" sz="3200" spc="-1" strike="noStrike">
                <a:solidFill>
                  <a:srgbClr val="ff3399"/>
                </a:solidFill>
                <a:latin typeface="微软雅黑"/>
                <a:ea typeface="微软雅黑"/>
              </a:rPr>
              <a:t>这里的“打扫”含有批评之意，这一“打扫”对森林有着致命的破坏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4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468000" y="404280"/>
            <a:ext cx="835164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Franklin Gothic Book"/>
              </a:rPr>
              <a:t>被打扫过的森林变得怎样？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齐读）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森林面貌顿时改观了：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林子里又宽敞又洁净，连一根杂草也没有。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想森林却从此遭了殃。几年过去了，橡树和菩提树的叶子</a:t>
            </a:r>
            <a:r>
              <a:rPr b="1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越来越少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光秃秃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像一把把扫帚，有些树木甚至干枯了。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6" name="Rectangle 5"/>
          <p:cNvSpPr/>
          <p:nvPr/>
        </p:nvSpPr>
        <p:spPr>
          <a:xfrm>
            <a:off x="1073880" y="48690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越来越少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7"/>
          <p:cNvSpPr/>
          <p:nvPr/>
        </p:nvSpPr>
        <p:spPr>
          <a:xfrm>
            <a:off x="1126080" y="5661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光秃秃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8"/>
          <p:cNvSpPr/>
          <p:nvPr/>
        </p:nvSpPr>
        <p:spPr>
          <a:xfrm>
            <a:off x="3059280" y="5229360"/>
            <a:ext cx="57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能写出相同结构的词语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6:47:23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8-23T08:42:27Z</dcterms:modified>
  <cp:revision>2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