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D7EA-83F1-443E-8367-D20985A4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F14B-744C-44BE-82C3-B3EBAE29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7A98-08B4-4A81-A0C9-4531B168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1848-5CB2-405F-9CC6-3C0B4EF5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6FC5-0AB2-4400-9DB9-56FF371C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1C4C-E50C-4393-86CD-AE0F85B2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0EE9-2F7B-4A4A-94F9-CC53756F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E388-CB5C-47F8-AEF0-06C18C3B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89AC-0994-48B0-976C-0B0D3FB7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D456-C76A-4B82-8A4F-DA0575DF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8CE4-0D80-4D61-9A14-4D0177C4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E943-1241-4775-A41D-0A31E9EC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E23B-E605-4FDC-80F3-D2ABF8EF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801C-B990-4752-A033-BD125EC5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A210-3A1C-4ACF-98F3-9ECF4950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C89D-4EAE-40CA-890F-8490996C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C527-BB34-417A-88DF-6878F0B6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AFA1-1940-4AF5-8D70-E86F3A29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0AB-16A0-4B7C-BC1F-09BC34D7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844-4CC9-4FE8-8047-1B626F3C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046-1AAC-4822-A390-ED30B1B5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8FB8-DA8F-48A9-A3F8-692DC3A1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7297-4CBB-40A5-B92F-F4923641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F6CA-D808-4736-813E-14B8149D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1FBF-85E0-44E7-B667-6FD0531138D5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370E-428A-4497-9B2B-9AEBA38208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932120" y="4102200"/>
            <a:ext cx="23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3134"/>
                </a:solidFill>
                <a:latin typeface="Showcard Gothic"/>
                <a:ea typeface="宋体"/>
              </a:rPr>
              <a:t>Simp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657520" y="2759040"/>
            <a:ext cx="325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3134"/>
                </a:solidFill>
                <a:latin typeface="Showcard Gothic"/>
                <a:ea typeface="宋体"/>
              </a:rPr>
              <a:t> </a:t>
            </a:r>
            <a:r>
              <a:rPr b="0" lang="en-US" sz="5400" spc="-1" strike="noStrike">
                <a:solidFill>
                  <a:srgbClr val="1f3134"/>
                </a:solidFill>
                <a:latin typeface="Showcard Gothic"/>
                <a:ea typeface="宋体"/>
              </a:rPr>
              <a:t>Powerfu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721400" y="3554280"/>
            <a:ext cx="235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3134"/>
                </a:solidFill>
                <a:latin typeface="Showcard Gothic"/>
                <a:ea typeface="宋体"/>
              </a:rPr>
              <a:t> </a:t>
            </a:r>
            <a:r>
              <a:rPr b="0" lang="en-US" sz="5400" spc="-1" strike="noStrike">
                <a:solidFill>
                  <a:srgbClr val="1f3134"/>
                </a:solidFill>
                <a:latin typeface="Showcard Gothic"/>
                <a:ea typeface="宋体"/>
              </a:rPr>
              <a:t>&amp; fr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12880" y="20480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44600" y="112536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非主流动态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656000" y="3068640"/>
            <a:ext cx="32364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1f3134"/>
                </a:solidFill>
                <a:latin typeface="Segoe Print"/>
                <a:ea typeface="宋体"/>
              </a:rPr>
              <a:t>Index...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011320" y="4091040"/>
            <a:ext cx="35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3134"/>
                </a:solidFill>
                <a:latin typeface="Segoe Print"/>
                <a:ea typeface="宋体"/>
              </a:rPr>
              <a:t>Part1:  The free working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283480" y="4375080"/>
            <a:ext cx="49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3134"/>
                </a:solidFill>
                <a:latin typeface="Segoe Print"/>
                <a:ea typeface="宋体"/>
              </a:rPr>
              <a:t>Part2:  The relaxed working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547000" y="4664160"/>
            <a:ext cx="50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3134"/>
                </a:solidFill>
                <a:latin typeface="Segoe Print"/>
                <a:ea typeface="宋体"/>
              </a:rPr>
              <a:t>Part3:  The pleastant working atm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537372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4888080" y="40464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3134"/>
                </a:solidFill>
                <a:latin typeface="Segoe Print"/>
                <a:ea typeface="宋体"/>
              </a:rPr>
              <a:t>Part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004560" y="1415880"/>
            <a:ext cx="48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3134"/>
                </a:solidFill>
                <a:latin typeface="Segoe Print"/>
                <a:ea typeface="宋体"/>
              </a:rPr>
              <a:t>The relaxed working environment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3492360" y="65246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F455-6C9E-407A-A438-4BF5142C8C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292200" y="2514600"/>
            <a:ext cx="352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3134"/>
                </a:solidFill>
                <a:latin typeface="Showcard Gothic"/>
                <a:ea typeface="宋体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269880" y="3214800"/>
            <a:ext cx="122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3134"/>
                </a:solidFill>
                <a:latin typeface="Showcard Gothic"/>
                <a:ea typeface="宋体"/>
              </a:rPr>
              <a:t>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252600" y="3935520"/>
            <a:ext cx="332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3134"/>
                </a:solidFill>
                <a:latin typeface="Showcard Gothic"/>
                <a:ea typeface="宋体"/>
              </a:rPr>
              <a:t> </a:t>
            </a:r>
            <a:r>
              <a:rPr b="0" lang="en-US" sz="5400" spc="-1" strike="noStrike">
                <a:solidFill>
                  <a:srgbClr val="1f3134"/>
                </a:solidFill>
                <a:latin typeface="Showcard Gothic"/>
                <a:ea typeface="宋体"/>
              </a:rPr>
              <a:t>watch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44:26Z</dcterms:modified>
  <cp:revision>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