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0A69-7D83-45E1-90C8-C363E11B2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F7E9-F544-49B5-B64C-27610A32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2736-CE64-4205-92EC-C51E0979D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FE30-91DF-40F8-A890-DAD211D12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9A54-BF30-4F89-8450-F31E3016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9C31-2832-4C33-AE9C-09C41983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D161-BCDC-4B65-8E36-34DC16E9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31CC-A72D-4FA3-A56C-E501186E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EA0A-A3CD-4064-8F95-C039565D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2568-07B6-448A-8837-6121BCA9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BD10-D76E-4895-9CE1-712391DB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07F4-DD9A-49CE-8006-B1C55383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0EC6-F616-461B-849E-DF6579BB17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hyperlink" Target="http://www.eeppt.com/beijing/" TargetMode="Externa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3.png"/><Relationship Id="rId8" Type="http://schemas.openxmlformats.org/officeDocument/2006/relationships/image" Target="../media/image8.png"/><Relationship Id="rId9" Type="http://schemas.openxmlformats.org/officeDocument/2006/relationships/image" Target="../media/image3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hyperlink" Target="http://www.eeppt.com" TargetMode="External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2" name="矩形 54"/>
          <p:cNvSpPr/>
          <p:nvPr/>
        </p:nvSpPr>
        <p:spPr>
          <a:xfrm>
            <a:off x="0" y="1450800"/>
            <a:ext cx="9144000" cy="45252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55"/>
          <p:cNvSpPr/>
          <p:nvPr/>
        </p:nvSpPr>
        <p:spPr>
          <a:xfrm>
            <a:off x="0" y="1903320"/>
            <a:ext cx="9144000" cy="4539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56"/>
          <p:cNvSpPr/>
          <p:nvPr/>
        </p:nvSpPr>
        <p:spPr>
          <a:xfrm>
            <a:off x="0" y="2355840"/>
            <a:ext cx="9144000" cy="4557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57"/>
          <p:cNvSpPr/>
          <p:nvPr/>
        </p:nvSpPr>
        <p:spPr>
          <a:xfrm>
            <a:off x="0" y="2809800"/>
            <a:ext cx="9144000" cy="4539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58"/>
          <p:cNvSpPr/>
          <p:nvPr/>
        </p:nvSpPr>
        <p:spPr>
          <a:xfrm>
            <a:off x="-15840" y="3263760"/>
            <a:ext cx="9142200" cy="447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59"/>
          <p:cNvSpPr/>
          <p:nvPr/>
        </p:nvSpPr>
        <p:spPr>
          <a:xfrm>
            <a:off x="-1440" y="3711600"/>
            <a:ext cx="9142200" cy="45252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矩形 60"/>
          <p:cNvSpPr/>
          <p:nvPr/>
        </p:nvSpPr>
        <p:spPr>
          <a:xfrm>
            <a:off x="-17640" y="4164120"/>
            <a:ext cx="9142560" cy="37620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组合 63"/>
          <p:cNvGrpSpPr/>
          <p:nvPr/>
        </p:nvGrpSpPr>
        <p:grpSpPr>
          <a:xfrm>
            <a:off x="3500280" y="592200"/>
            <a:ext cx="1997280" cy="711000"/>
            <a:chOff x="3500280" y="592200"/>
            <a:chExt cx="1997280" cy="711000"/>
          </a:xfrm>
        </p:grpSpPr>
        <p:sp>
          <p:nvSpPr>
            <p:cNvPr id="50" name="TextBox 61"/>
            <p:cNvSpPr/>
            <p:nvPr/>
          </p:nvSpPr>
          <p:spPr>
            <a:xfrm>
              <a:off x="3645360" y="592200"/>
              <a:ext cx="185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f2f2"/>
                  </a:solidFill>
                  <a:latin typeface="方正综艺简体(视频)"/>
                  <a:ea typeface="方正综艺简体(视频)"/>
                </a:rPr>
                <a:t>LOGO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Box 62"/>
            <p:cNvSpPr/>
            <p:nvPr/>
          </p:nvSpPr>
          <p:spPr>
            <a:xfrm>
              <a:off x="3500280" y="1041840"/>
              <a:ext cx="1620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logo her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" name="TextBox 67"/>
          <p:cNvSpPr/>
          <p:nvPr/>
        </p:nvSpPr>
        <p:spPr>
          <a:xfrm>
            <a:off x="1646280" y="2185920"/>
            <a:ext cx="585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综艺简体(视频)"/>
                <a:ea typeface="方正综艺简体(视频)"/>
              </a:rPr>
              <a:t>单击添加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68"/>
          <p:cNvSpPr/>
          <p:nvPr/>
        </p:nvSpPr>
        <p:spPr>
          <a:xfrm>
            <a:off x="1650960" y="2922480"/>
            <a:ext cx="585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综艺简体(视频)"/>
                <a:ea typeface="方正综艺简体(视频)"/>
              </a:rPr>
              <a:t>单击添加副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5292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3524760" y="1222200"/>
            <a:ext cx="24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光斑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52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52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52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52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52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4" presetSubtype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38" name="矩形 29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5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0" name="组合 52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341" name="矩形 12"/>
            <p:cNvSpPr/>
            <p:nvPr/>
          </p:nvSpPr>
          <p:spPr>
            <a:xfrm>
              <a:off x="-20160" y="14508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矩形 22"/>
            <p:cNvSpPr/>
            <p:nvPr/>
          </p:nvSpPr>
          <p:spPr>
            <a:xfrm>
              <a:off x="-20160" y="19044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矩形 27"/>
            <p:cNvSpPr/>
            <p:nvPr/>
          </p:nvSpPr>
          <p:spPr>
            <a:xfrm>
              <a:off x="-20160" y="23580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矩形 32"/>
            <p:cNvSpPr/>
            <p:nvPr/>
          </p:nvSpPr>
          <p:spPr>
            <a:xfrm>
              <a:off x="-20160" y="28116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矩形 37"/>
            <p:cNvSpPr/>
            <p:nvPr/>
          </p:nvSpPr>
          <p:spPr>
            <a:xfrm>
              <a:off x="-20160" y="32655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矩形 42"/>
            <p:cNvSpPr/>
            <p:nvPr/>
          </p:nvSpPr>
          <p:spPr>
            <a:xfrm>
              <a:off x="-20160" y="37191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矩形 47"/>
            <p:cNvSpPr/>
            <p:nvPr/>
          </p:nvSpPr>
          <p:spPr>
            <a:xfrm>
              <a:off x="-39600" y="41727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8" name="组合 51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349" name="TextBox 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TextBox 23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TextBox 2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TextBox 33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TextBox 38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TextBox 43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TextBox 48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6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Box 34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36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Box 39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Box 41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Box 44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6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49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455292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66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矩形 10"/>
          <p:cNvSpPr/>
          <p:nvPr/>
        </p:nvSpPr>
        <p:spPr>
          <a:xfrm rot="19548000">
            <a:off x="-6787800" y="1281240"/>
            <a:ext cx="1014732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8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369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3" name="TextBox 14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0" name="组合 27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381" name="矩形 28"/>
            <p:cNvSpPr/>
            <p:nvPr/>
          </p:nvSpPr>
          <p:spPr>
            <a:xfrm>
              <a:off x="-20160" y="14508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矩形 29"/>
            <p:cNvSpPr/>
            <p:nvPr/>
          </p:nvSpPr>
          <p:spPr>
            <a:xfrm>
              <a:off x="-20160" y="19044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矩形 30"/>
            <p:cNvSpPr/>
            <p:nvPr/>
          </p:nvSpPr>
          <p:spPr>
            <a:xfrm>
              <a:off x="-20160" y="23580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矩形 31"/>
            <p:cNvSpPr/>
            <p:nvPr/>
          </p:nvSpPr>
          <p:spPr>
            <a:xfrm>
              <a:off x="-20160" y="28116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矩形 32"/>
            <p:cNvSpPr/>
            <p:nvPr/>
          </p:nvSpPr>
          <p:spPr>
            <a:xfrm>
              <a:off x="-20160" y="32655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矩形 33"/>
            <p:cNvSpPr/>
            <p:nvPr/>
          </p:nvSpPr>
          <p:spPr>
            <a:xfrm>
              <a:off x="-20160" y="37191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矩形 34"/>
            <p:cNvSpPr/>
            <p:nvPr/>
          </p:nvSpPr>
          <p:spPr>
            <a:xfrm>
              <a:off x="-39600" y="41727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8" name="组合 35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389" name="TextBox 3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TextBox 37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TextBox 3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TextBox 39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TextBox 40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TextBox 41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TextBox 42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6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Box 52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Box 53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Box 54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Box 55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Box 56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57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58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393" dur="75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4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395" dur="75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25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25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1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05" dur="25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25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411" dur="1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13" dur="25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25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419" dur="1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21" dur="25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25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427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29" dur="25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25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435" dur="1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37" dur="25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5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443" dur="1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45" dur="25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5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451" dur="1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53" dur="25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05" name="矩形 30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5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7" name="组合 52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408" name="矩形 12"/>
            <p:cNvSpPr/>
            <p:nvPr/>
          </p:nvSpPr>
          <p:spPr>
            <a:xfrm>
              <a:off x="-20160" y="14508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矩形 22"/>
            <p:cNvSpPr/>
            <p:nvPr/>
          </p:nvSpPr>
          <p:spPr>
            <a:xfrm>
              <a:off x="-20160" y="19044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矩形 27"/>
            <p:cNvSpPr/>
            <p:nvPr/>
          </p:nvSpPr>
          <p:spPr>
            <a:xfrm>
              <a:off x="-20160" y="23580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矩形 32"/>
            <p:cNvSpPr/>
            <p:nvPr/>
          </p:nvSpPr>
          <p:spPr>
            <a:xfrm>
              <a:off x="-20160" y="28116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矩形 37"/>
            <p:cNvSpPr/>
            <p:nvPr/>
          </p:nvSpPr>
          <p:spPr>
            <a:xfrm>
              <a:off x="-20160" y="32655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矩形 42"/>
            <p:cNvSpPr/>
            <p:nvPr/>
          </p:nvSpPr>
          <p:spPr>
            <a:xfrm>
              <a:off x="-20160" y="37191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矩形 47"/>
            <p:cNvSpPr/>
            <p:nvPr/>
          </p:nvSpPr>
          <p:spPr>
            <a:xfrm>
              <a:off x="-39600" y="41727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5" name="组合 51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416" name="TextBox 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TextBox 23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TextBox 2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TextBox 33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TextBox 38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TextBox 43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TextBox 48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3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Box 34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Box 36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39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Box 41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TextBox 44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TextBox 46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49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10"/>
          <p:cNvSpPr/>
          <p:nvPr/>
        </p:nvSpPr>
        <p:spPr>
          <a:xfrm rot="19548000">
            <a:off x="-6787800" y="1281240"/>
            <a:ext cx="1014732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4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435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TextBox 14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6" name="组合 27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447" name="矩形 28"/>
            <p:cNvSpPr/>
            <p:nvPr/>
          </p:nvSpPr>
          <p:spPr>
            <a:xfrm>
              <a:off x="-20160" y="14508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矩形 29"/>
            <p:cNvSpPr/>
            <p:nvPr/>
          </p:nvSpPr>
          <p:spPr>
            <a:xfrm>
              <a:off x="-20160" y="19044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矩形 30"/>
            <p:cNvSpPr/>
            <p:nvPr/>
          </p:nvSpPr>
          <p:spPr>
            <a:xfrm>
              <a:off x="-20160" y="23580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矩形 31"/>
            <p:cNvSpPr/>
            <p:nvPr/>
          </p:nvSpPr>
          <p:spPr>
            <a:xfrm>
              <a:off x="-20160" y="28116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矩形 32"/>
            <p:cNvSpPr/>
            <p:nvPr/>
          </p:nvSpPr>
          <p:spPr>
            <a:xfrm>
              <a:off x="-20160" y="32655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矩形 33"/>
            <p:cNvSpPr/>
            <p:nvPr/>
          </p:nvSpPr>
          <p:spPr>
            <a:xfrm>
              <a:off x="-20160" y="37191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矩形 34"/>
            <p:cNvSpPr/>
            <p:nvPr/>
          </p:nvSpPr>
          <p:spPr>
            <a:xfrm>
              <a:off x="-39600" y="41727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4" name="组合 35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455" name="TextBox 3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TextBox 37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TextBox 3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TextBox 39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TextBox 40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TextBox 41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TextBox 42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2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Box 52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Box 53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Box 54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Box 55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Box 56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extBox 57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Box 58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"/>
          <p:cNvSpPr/>
          <p:nvPr/>
        </p:nvSpPr>
        <p:spPr>
          <a:xfrm>
            <a:off x="927000" y="4581360"/>
            <a:ext cx="5661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好看的ppt背景图片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460" dur="75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462" dur="75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25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25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0" dur="1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72" dur="25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5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478" dur="1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0" dur="25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25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486" dur="1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8" dur="25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25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494" dur="1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96" dur="25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5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502" dur="1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04" dur="25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25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510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12" dur="25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25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518" dur="1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20" dur="25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72" name="矩形 29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4" name="组合 52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475" name="矩形 12"/>
            <p:cNvSpPr/>
            <p:nvPr/>
          </p:nvSpPr>
          <p:spPr>
            <a:xfrm>
              <a:off x="-20160" y="14508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矩形 22"/>
            <p:cNvSpPr/>
            <p:nvPr/>
          </p:nvSpPr>
          <p:spPr>
            <a:xfrm>
              <a:off x="-20160" y="19044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矩形 27"/>
            <p:cNvSpPr/>
            <p:nvPr/>
          </p:nvSpPr>
          <p:spPr>
            <a:xfrm>
              <a:off x="-20160" y="23580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矩形 32"/>
            <p:cNvSpPr/>
            <p:nvPr/>
          </p:nvSpPr>
          <p:spPr>
            <a:xfrm>
              <a:off x="-20160" y="28116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矩形 37"/>
            <p:cNvSpPr/>
            <p:nvPr/>
          </p:nvSpPr>
          <p:spPr>
            <a:xfrm>
              <a:off x="-20160" y="32655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矩形 42"/>
            <p:cNvSpPr/>
            <p:nvPr/>
          </p:nvSpPr>
          <p:spPr>
            <a:xfrm>
              <a:off x="-20160" y="37191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矩形 47"/>
            <p:cNvSpPr/>
            <p:nvPr/>
          </p:nvSpPr>
          <p:spPr>
            <a:xfrm>
              <a:off x="-39600" y="41727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2" name="组合 51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483" name="TextBox 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TextBox 23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TextBox 2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TextBox 33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TextBox 38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TextBox 43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TextBox 48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0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TextBox 34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TextBox 36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TextBox 39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Box 41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TextBox 44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TextBox 46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49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D6AE-91DA-486C-A5C3-1C907FE335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02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矩形 10"/>
          <p:cNvSpPr/>
          <p:nvPr/>
        </p:nvSpPr>
        <p:spPr>
          <a:xfrm rot="19548000">
            <a:off x="-6787800" y="1281240"/>
            <a:ext cx="1014732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4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505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9" name="TextBox 14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6" name="组合 27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517" name="矩形 28"/>
            <p:cNvSpPr/>
            <p:nvPr/>
          </p:nvSpPr>
          <p:spPr>
            <a:xfrm>
              <a:off x="-20160" y="14508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矩形 29"/>
            <p:cNvSpPr/>
            <p:nvPr/>
          </p:nvSpPr>
          <p:spPr>
            <a:xfrm>
              <a:off x="-20160" y="19044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矩形 30"/>
            <p:cNvSpPr/>
            <p:nvPr/>
          </p:nvSpPr>
          <p:spPr>
            <a:xfrm>
              <a:off x="-20160" y="23580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矩形 31"/>
            <p:cNvSpPr/>
            <p:nvPr/>
          </p:nvSpPr>
          <p:spPr>
            <a:xfrm>
              <a:off x="-20160" y="28116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矩形 32"/>
            <p:cNvSpPr/>
            <p:nvPr/>
          </p:nvSpPr>
          <p:spPr>
            <a:xfrm>
              <a:off x="-20160" y="32655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矩形 33"/>
            <p:cNvSpPr/>
            <p:nvPr/>
          </p:nvSpPr>
          <p:spPr>
            <a:xfrm>
              <a:off x="-20160" y="37191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矩形 34"/>
            <p:cNvSpPr/>
            <p:nvPr/>
          </p:nvSpPr>
          <p:spPr>
            <a:xfrm>
              <a:off x="-39600" y="41727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4" name="组合 35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525" name="TextBox 3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TextBox 37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TextBox 3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TextBox 39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TextBox 40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TextBox 41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TextBox 42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2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TextBox 52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Box 53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Box 54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Box 55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Box 56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57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Box 58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455292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527" dur="75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8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529" dur="750" fill="hold"/>
                                        <p:tgtEl>
                                          <p:spTgt spid="5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25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25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7" dur="1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39" dur="25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25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545" dur="1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47" dur="25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25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553" dur="1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55" dur="25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25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561" dur="1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63" dur="25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25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569" dur="1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0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71" dur="25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25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577" dur="1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79" dur="25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25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585" dur="1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87" dur="25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42" name="TextBox 5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3" name="组合 52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544" name="矩形 12"/>
            <p:cNvSpPr/>
            <p:nvPr/>
          </p:nvSpPr>
          <p:spPr>
            <a:xfrm>
              <a:off x="-20160" y="14508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矩形 22"/>
            <p:cNvSpPr/>
            <p:nvPr/>
          </p:nvSpPr>
          <p:spPr>
            <a:xfrm>
              <a:off x="-20160" y="19044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矩形 27"/>
            <p:cNvSpPr/>
            <p:nvPr/>
          </p:nvSpPr>
          <p:spPr>
            <a:xfrm>
              <a:off x="-20160" y="23580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矩形 32"/>
            <p:cNvSpPr/>
            <p:nvPr/>
          </p:nvSpPr>
          <p:spPr>
            <a:xfrm>
              <a:off x="-20160" y="28116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矩形 37"/>
            <p:cNvSpPr/>
            <p:nvPr/>
          </p:nvSpPr>
          <p:spPr>
            <a:xfrm>
              <a:off x="-20160" y="32655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矩形 42"/>
            <p:cNvSpPr/>
            <p:nvPr/>
          </p:nvSpPr>
          <p:spPr>
            <a:xfrm>
              <a:off x="-20160" y="37191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矩形 47"/>
            <p:cNvSpPr/>
            <p:nvPr/>
          </p:nvSpPr>
          <p:spPr>
            <a:xfrm>
              <a:off x="-39600" y="41727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1" name="组合 51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552" name="TextBox 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TextBox 23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TextBox 2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TextBox 33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TextBox 38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TextBox 43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TextBox 48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9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TextBox 34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Box 36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TextBox 39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Box 41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Box 44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Box 46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矩形 30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Box 49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69" name="矩形 54"/>
          <p:cNvSpPr/>
          <p:nvPr/>
        </p:nvSpPr>
        <p:spPr>
          <a:xfrm>
            <a:off x="0" y="1450800"/>
            <a:ext cx="9144000" cy="45252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矩形 55"/>
          <p:cNvSpPr/>
          <p:nvPr/>
        </p:nvSpPr>
        <p:spPr>
          <a:xfrm>
            <a:off x="0" y="1903320"/>
            <a:ext cx="9144000" cy="4539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矩形 56"/>
          <p:cNvSpPr/>
          <p:nvPr/>
        </p:nvSpPr>
        <p:spPr>
          <a:xfrm>
            <a:off x="0" y="2355840"/>
            <a:ext cx="9144000" cy="4557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矩形 57"/>
          <p:cNvSpPr/>
          <p:nvPr/>
        </p:nvSpPr>
        <p:spPr>
          <a:xfrm>
            <a:off x="0" y="2809800"/>
            <a:ext cx="9144000" cy="4539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矩形 58"/>
          <p:cNvSpPr/>
          <p:nvPr/>
        </p:nvSpPr>
        <p:spPr>
          <a:xfrm>
            <a:off x="-15840" y="3263760"/>
            <a:ext cx="9142200" cy="447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矩形 59"/>
          <p:cNvSpPr/>
          <p:nvPr/>
        </p:nvSpPr>
        <p:spPr>
          <a:xfrm>
            <a:off x="-1440" y="3711600"/>
            <a:ext cx="9142200" cy="45252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矩形 60"/>
          <p:cNvSpPr/>
          <p:nvPr/>
        </p:nvSpPr>
        <p:spPr>
          <a:xfrm>
            <a:off x="-17640" y="4164120"/>
            <a:ext cx="9142560" cy="37620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6" name="组合 63"/>
          <p:cNvGrpSpPr/>
          <p:nvPr/>
        </p:nvGrpSpPr>
        <p:grpSpPr>
          <a:xfrm>
            <a:off x="3500280" y="592200"/>
            <a:ext cx="1997280" cy="711000"/>
            <a:chOff x="3500280" y="592200"/>
            <a:chExt cx="1997280" cy="711000"/>
          </a:xfrm>
        </p:grpSpPr>
        <p:sp>
          <p:nvSpPr>
            <p:cNvPr id="577" name="TextBox 61"/>
            <p:cNvSpPr/>
            <p:nvPr/>
          </p:nvSpPr>
          <p:spPr>
            <a:xfrm>
              <a:off x="3645360" y="592200"/>
              <a:ext cx="185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f2f2"/>
                  </a:solidFill>
                  <a:latin typeface="方正综艺简体(视频)"/>
                  <a:ea typeface="方正综艺简体(视频)"/>
                </a:rPr>
                <a:t>LOGO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TextBox 62"/>
            <p:cNvSpPr/>
            <p:nvPr/>
          </p:nvSpPr>
          <p:spPr>
            <a:xfrm>
              <a:off x="3500280" y="1041840"/>
              <a:ext cx="1620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logo her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9" name="TextBox 67"/>
          <p:cNvSpPr/>
          <p:nvPr/>
        </p:nvSpPr>
        <p:spPr>
          <a:xfrm>
            <a:off x="1646280" y="2185920"/>
            <a:ext cx="585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综艺简体(视频)"/>
                <a:ea typeface="方正综艺简体(视频)"/>
              </a:rPr>
              <a:t>谢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68"/>
          <p:cNvSpPr/>
          <p:nvPr/>
        </p:nvSpPr>
        <p:spPr>
          <a:xfrm>
            <a:off x="1650960" y="2922480"/>
            <a:ext cx="585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综艺简体(视频)"/>
                <a:ea typeface="方正综艺简体(视频)"/>
              </a:rPr>
              <a:t>THANK YO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4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4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4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4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3" presetSubtype="52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4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4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4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4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3" presetSubtype="52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4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4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4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4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3" presetSubtype="52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4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4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4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4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4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4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4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4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3" presetSubtype="52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4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4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4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4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3" presetSubtype="52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4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4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4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4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4" presetSubtype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82" name="TextBox 14"/>
          <p:cNvSpPr/>
          <p:nvPr/>
        </p:nvSpPr>
        <p:spPr>
          <a:xfrm>
            <a:off x="1187280" y="1779480"/>
            <a:ext cx="712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c6e20"/>
                </a:solidFill>
                <a:latin typeface="宋体"/>
              </a:rPr>
              <a:t>zzplovezzp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3" name="组合 15"/>
          <p:cNvGrpSpPr/>
          <p:nvPr/>
        </p:nvGrpSpPr>
        <p:grpSpPr>
          <a:xfrm>
            <a:off x="2208240" y="1111320"/>
            <a:ext cx="565200" cy="709200"/>
            <a:chOff x="2208240" y="1111320"/>
            <a:chExt cx="565200" cy="709200"/>
          </a:xfrm>
        </p:grpSpPr>
        <p:grpSp>
          <p:nvGrpSpPr>
            <p:cNvPr id="584" name="椭圆 16"/>
            <p:cNvGrpSpPr/>
            <p:nvPr/>
          </p:nvGrpSpPr>
          <p:grpSpPr>
            <a:xfrm>
              <a:off x="2208240" y="1194840"/>
              <a:ext cx="565200" cy="566280"/>
              <a:chOff x="2208240" y="1194840"/>
              <a:chExt cx="565200" cy="566280"/>
            </a:xfrm>
          </p:grpSpPr>
          <p:pic>
            <p:nvPicPr>
              <p:cNvPr id="585" name="椭圆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2208240" y="1194840"/>
                <a:ext cx="565200" cy="56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6" name=""/>
              <p:cNvSpPr/>
              <p:nvPr/>
            </p:nvSpPr>
            <p:spPr>
              <a:xfrm>
                <a:off x="2292120" y="1276560"/>
                <a:ext cx="398880" cy="39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87" name="椭圆 17"/>
            <p:cNvSpPr/>
            <p:nvPr/>
          </p:nvSpPr>
          <p:spPr>
            <a:xfrm>
              <a:off x="2463480" y="1438920"/>
              <a:ext cx="6156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8" name="组合 19"/>
            <p:cNvGrpSpPr/>
            <p:nvPr/>
          </p:nvGrpSpPr>
          <p:grpSpPr>
            <a:xfrm>
              <a:off x="2481120" y="1111320"/>
              <a:ext cx="24480" cy="709200"/>
              <a:chOff x="2481120" y="1111320"/>
              <a:chExt cx="24480" cy="709200"/>
            </a:xfrm>
          </p:grpSpPr>
          <p:sp>
            <p:nvSpPr>
              <p:cNvPr id="589" name="等腰三角形 29"/>
              <p:cNvSpPr/>
              <p:nvPr/>
            </p:nvSpPr>
            <p:spPr>
              <a:xfrm flipH="1" rot="10800000">
                <a:off x="2480760" y="1462320"/>
                <a:ext cx="24120" cy="3582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等腰三角形 30"/>
              <p:cNvSpPr/>
              <p:nvPr/>
            </p:nvSpPr>
            <p:spPr>
              <a:xfrm flipH="1">
                <a:off x="2481120" y="1111320"/>
                <a:ext cx="24120" cy="3582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1" name="组合 20"/>
            <p:cNvGrpSpPr/>
            <p:nvPr/>
          </p:nvGrpSpPr>
          <p:grpSpPr>
            <a:xfrm>
              <a:off x="2235600" y="1456920"/>
              <a:ext cx="525600" cy="25200"/>
              <a:chOff x="2235600" y="1456920"/>
              <a:chExt cx="525600" cy="25200"/>
            </a:xfrm>
          </p:grpSpPr>
          <p:sp>
            <p:nvSpPr>
              <p:cNvPr id="592" name="等腰三角形 27"/>
              <p:cNvSpPr/>
              <p:nvPr/>
            </p:nvSpPr>
            <p:spPr>
              <a:xfrm flipH="1" rot="5400000">
                <a:off x="2616840" y="1337400"/>
                <a:ext cx="24480" cy="2631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3" name="等腰三角形 28"/>
              <p:cNvSpPr/>
              <p:nvPr/>
            </p:nvSpPr>
            <p:spPr>
              <a:xfrm rot="16200000">
                <a:off x="2354760" y="1338120"/>
                <a:ext cx="24480" cy="2631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4" name="组合 21"/>
            <p:cNvGrpSpPr/>
            <p:nvPr/>
          </p:nvGrpSpPr>
          <p:grpSpPr>
            <a:xfrm>
              <a:off x="2400120" y="1338840"/>
              <a:ext cx="190440" cy="289080"/>
              <a:chOff x="2400120" y="1338840"/>
              <a:chExt cx="190440" cy="289080"/>
            </a:xfrm>
          </p:grpSpPr>
          <p:sp>
            <p:nvSpPr>
              <p:cNvPr id="595" name="等腰三角形 25"/>
              <p:cNvSpPr/>
              <p:nvPr/>
            </p:nvSpPr>
            <p:spPr>
              <a:xfrm flipH="1" rot="12716400">
                <a:off x="2441880" y="1468080"/>
                <a:ext cx="17280" cy="167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等腰三角形 26"/>
              <p:cNvSpPr/>
              <p:nvPr/>
            </p:nvSpPr>
            <p:spPr>
              <a:xfrm rot="1955400">
                <a:off x="2529360" y="1330200"/>
                <a:ext cx="17280" cy="167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7" name="组合 22"/>
            <p:cNvGrpSpPr/>
            <p:nvPr/>
          </p:nvGrpSpPr>
          <p:grpSpPr>
            <a:xfrm>
              <a:off x="2336760" y="1368360"/>
              <a:ext cx="276480" cy="188280"/>
              <a:chOff x="2336760" y="1368360"/>
              <a:chExt cx="276480" cy="188280"/>
            </a:xfrm>
          </p:grpSpPr>
          <p:sp>
            <p:nvSpPr>
              <p:cNvPr id="598" name="等腰三角形 23"/>
              <p:cNvSpPr/>
              <p:nvPr/>
            </p:nvSpPr>
            <p:spPr>
              <a:xfrm flipH="1" rot="7386600">
                <a:off x="2534760" y="1427760"/>
                <a:ext cx="16200" cy="157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等腰三角形 24"/>
              <p:cNvSpPr/>
              <p:nvPr/>
            </p:nvSpPr>
            <p:spPr>
              <a:xfrm flipH="1" rot="18164400">
                <a:off x="2399040" y="1338480"/>
                <a:ext cx="16200" cy="156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00" name="椭圆 31"/>
          <p:cNvGrpSpPr/>
          <p:nvPr/>
        </p:nvGrpSpPr>
        <p:grpSpPr>
          <a:xfrm>
            <a:off x="4383000" y="2743200"/>
            <a:ext cx="1054080" cy="1054080"/>
            <a:chOff x="4383000" y="2743200"/>
            <a:chExt cx="1054080" cy="1054080"/>
          </a:xfrm>
        </p:grpSpPr>
        <p:pic>
          <p:nvPicPr>
            <p:cNvPr id="601" name="椭圆 31" descr=""/>
            <p:cNvPicPr/>
            <p:nvPr/>
          </p:nvPicPr>
          <p:blipFill>
            <a:blip r:embed="rId3"/>
            <a:stretch/>
          </p:blipFill>
          <p:spPr>
            <a:xfrm>
              <a:off x="4383000" y="2743200"/>
              <a:ext cx="10540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4535280" y="2895480"/>
              <a:ext cx="74628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3" name="组合 32"/>
          <p:cNvGrpSpPr/>
          <p:nvPr/>
        </p:nvGrpSpPr>
        <p:grpSpPr>
          <a:xfrm>
            <a:off x="4902120" y="2611440"/>
            <a:ext cx="46080" cy="1325160"/>
            <a:chOff x="4902120" y="2611440"/>
            <a:chExt cx="46080" cy="1325160"/>
          </a:xfrm>
        </p:grpSpPr>
        <p:sp>
          <p:nvSpPr>
            <p:cNvPr id="604" name="等腰三角形 33"/>
            <p:cNvSpPr/>
            <p:nvPr/>
          </p:nvSpPr>
          <p:spPr>
            <a:xfrm flipH="1" rot="10800000">
              <a:off x="4902120" y="3267360"/>
              <a:ext cx="46080" cy="669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等腰三角形 34"/>
            <p:cNvSpPr/>
            <p:nvPr/>
          </p:nvSpPr>
          <p:spPr>
            <a:xfrm flipH="1">
              <a:off x="4902120" y="2611440"/>
              <a:ext cx="46080" cy="669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6" name="组合 35"/>
          <p:cNvGrpSpPr/>
          <p:nvPr/>
        </p:nvGrpSpPr>
        <p:grpSpPr>
          <a:xfrm>
            <a:off x="4456080" y="3219120"/>
            <a:ext cx="983880" cy="47520"/>
            <a:chOff x="4456080" y="3219120"/>
            <a:chExt cx="983880" cy="47520"/>
          </a:xfrm>
        </p:grpSpPr>
        <p:sp>
          <p:nvSpPr>
            <p:cNvPr id="607" name="等腰三角形 36"/>
            <p:cNvSpPr/>
            <p:nvPr/>
          </p:nvSpPr>
          <p:spPr>
            <a:xfrm flipH="1" rot="5400000">
              <a:off x="5170320" y="2996280"/>
              <a:ext cx="46440" cy="49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等腰三角形 37"/>
            <p:cNvSpPr/>
            <p:nvPr/>
          </p:nvSpPr>
          <p:spPr>
            <a:xfrm rot="16200000">
              <a:off x="4678920" y="2997360"/>
              <a:ext cx="46440" cy="49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9" name="组合 38"/>
          <p:cNvGrpSpPr/>
          <p:nvPr/>
        </p:nvGrpSpPr>
        <p:grpSpPr>
          <a:xfrm>
            <a:off x="4754520" y="2995560"/>
            <a:ext cx="357840" cy="540720"/>
            <a:chOff x="4754520" y="2995560"/>
            <a:chExt cx="357840" cy="540720"/>
          </a:xfrm>
        </p:grpSpPr>
        <p:sp>
          <p:nvSpPr>
            <p:cNvPr id="610" name="等腰三角形 39"/>
            <p:cNvSpPr/>
            <p:nvPr/>
          </p:nvSpPr>
          <p:spPr>
            <a:xfrm flipH="1" rot="12716400">
              <a:off x="4834080" y="3237840"/>
              <a:ext cx="32760" cy="313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等腰三角形 40"/>
            <p:cNvSpPr/>
            <p:nvPr/>
          </p:nvSpPr>
          <p:spPr>
            <a:xfrm rot="1955400">
              <a:off x="4997520" y="2979720"/>
              <a:ext cx="32760" cy="313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2" name="组合 41"/>
          <p:cNvGrpSpPr/>
          <p:nvPr/>
        </p:nvGrpSpPr>
        <p:grpSpPr>
          <a:xfrm>
            <a:off x="4649760" y="3065760"/>
            <a:ext cx="519120" cy="353520"/>
            <a:chOff x="4649760" y="3065760"/>
            <a:chExt cx="519120" cy="353520"/>
          </a:xfrm>
        </p:grpSpPr>
        <p:sp>
          <p:nvSpPr>
            <p:cNvPr id="613" name="等腰三角形 42"/>
            <p:cNvSpPr/>
            <p:nvPr/>
          </p:nvSpPr>
          <p:spPr>
            <a:xfrm flipH="1" rot="7386600">
              <a:off x="5021280" y="3178800"/>
              <a:ext cx="30600" cy="294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等腰三角形 43"/>
            <p:cNvSpPr/>
            <p:nvPr/>
          </p:nvSpPr>
          <p:spPr>
            <a:xfrm flipH="1" rot="18164400">
              <a:off x="4766400" y="3011040"/>
              <a:ext cx="30600" cy="294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5" name="椭圆 44"/>
          <p:cNvGrpSpPr/>
          <p:nvPr/>
        </p:nvGrpSpPr>
        <p:grpSpPr>
          <a:xfrm>
            <a:off x="4791240" y="3103560"/>
            <a:ext cx="257040" cy="255600"/>
            <a:chOff x="4791240" y="3103560"/>
            <a:chExt cx="257040" cy="255600"/>
          </a:xfrm>
        </p:grpSpPr>
        <p:pic>
          <p:nvPicPr>
            <p:cNvPr id="616" name="椭圆 44" descr=""/>
            <p:cNvPicPr/>
            <p:nvPr/>
          </p:nvPicPr>
          <p:blipFill>
            <a:blip r:embed="rId4"/>
            <a:stretch/>
          </p:blipFill>
          <p:spPr>
            <a:xfrm>
              <a:off x="4791240" y="3103560"/>
              <a:ext cx="257040" cy="2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4896000" y="3205080"/>
              <a:ext cx="493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8" name="椭圆 45"/>
          <p:cNvGrpSpPr/>
          <p:nvPr/>
        </p:nvGrpSpPr>
        <p:grpSpPr>
          <a:xfrm>
            <a:off x="2341440" y="2127240"/>
            <a:ext cx="1882800" cy="1884240"/>
            <a:chOff x="2341440" y="2127240"/>
            <a:chExt cx="1882800" cy="1884240"/>
          </a:xfrm>
        </p:grpSpPr>
        <p:pic>
          <p:nvPicPr>
            <p:cNvPr id="619" name="椭圆 45" descr=""/>
            <p:cNvPicPr/>
            <p:nvPr/>
          </p:nvPicPr>
          <p:blipFill>
            <a:blip r:embed="rId5"/>
            <a:stretch/>
          </p:blipFill>
          <p:spPr>
            <a:xfrm>
              <a:off x="2341440" y="2127240"/>
              <a:ext cx="1882800" cy="18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2617560" y="2405160"/>
              <a:ext cx="1332000" cy="13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1" name="组合 46"/>
          <p:cNvGrpSpPr/>
          <p:nvPr/>
        </p:nvGrpSpPr>
        <p:grpSpPr>
          <a:xfrm>
            <a:off x="3249720" y="2108160"/>
            <a:ext cx="46080" cy="1834920"/>
            <a:chOff x="3249720" y="2108160"/>
            <a:chExt cx="46080" cy="1834920"/>
          </a:xfrm>
        </p:grpSpPr>
        <p:sp>
          <p:nvSpPr>
            <p:cNvPr id="622" name="等腰三角形 47"/>
            <p:cNvSpPr/>
            <p:nvPr/>
          </p:nvSpPr>
          <p:spPr>
            <a:xfrm>
              <a:off x="3249720" y="2108160"/>
              <a:ext cx="46080" cy="971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等腰三角形 48"/>
            <p:cNvSpPr/>
            <p:nvPr/>
          </p:nvSpPr>
          <p:spPr>
            <a:xfrm rot="10800000">
              <a:off x="3249720" y="3079440"/>
              <a:ext cx="46080" cy="863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4" name="组合 49"/>
          <p:cNvGrpSpPr/>
          <p:nvPr/>
        </p:nvGrpSpPr>
        <p:grpSpPr>
          <a:xfrm>
            <a:off x="2474280" y="3020760"/>
            <a:ext cx="1640160" cy="50760"/>
            <a:chOff x="2474280" y="3020760"/>
            <a:chExt cx="1640160" cy="50760"/>
          </a:xfrm>
        </p:grpSpPr>
        <p:sp>
          <p:nvSpPr>
            <p:cNvPr id="625" name="等腰三角形 50"/>
            <p:cNvSpPr/>
            <p:nvPr/>
          </p:nvSpPr>
          <p:spPr>
            <a:xfrm flipH="1" rot="5400000">
              <a:off x="3679920" y="2637360"/>
              <a:ext cx="50760" cy="817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等腰三角形 51"/>
            <p:cNvSpPr/>
            <p:nvPr/>
          </p:nvSpPr>
          <p:spPr>
            <a:xfrm flipH="1" rot="16200000">
              <a:off x="2859480" y="2635560"/>
              <a:ext cx="46440" cy="817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7" name="椭圆 52"/>
          <p:cNvGrpSpPr/>
          <p:nvPr/>
        </p:nvGrpSpPr>
        <p:grpSpPr>
          <a:xfrm>
            <a:off x="3067200" y="2840040"/>
            <a:ext cx="414360" cy="415800"/>
            <a:chOff x="3067200" y="2840040"/>
            <a:chExt cx="414360" cy="415800"/>
          </a:xfrm>
        </p:grpSpPr>
        <p:pic>
          <p:nvPicPr>
            <p:cNvPr id="628" name="椭圆 52" descr=""/>
            <p:cNvPicPr/>
            <p:nvPr/>
          </p:nvPicPr>
          <p:blipFill>
            <a:blip r:embed="rId6"/>
            <a:stretch/>
          </p:blipFill>
          <p:spPr>
            <a:xfrm>
              <a:off x="3067200" y="2840040"/>
              <a:ext cx="41436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3191040" y="2963880"/>
              <a:ext cx="16344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0" name="组合 53"/>
          <p:cNvGrpSpPr/>
          <p:nvPr/>
        </p:nvGrpSpPr>
        <p:grpSpPr>
          <a:xfrm>
            <a:off x="2941920" y="2660760"/>
            <a:ext cx="680760" cy="742320"/>
            <a:chOff x="2941920" y="2660760"/>
            <a:chExt cx="680760" cy="742320"/>
          </a:xfrm>
        </p:grpSpPr>
        <p:sp>
          <p:nvSpPr>
            <p:cNvPr id="631" name="等腰三角形 64"/>
            <p:cNvSpPr/>
            <p:nvPr/>
          </p:nvSpPr>
          <p:spPr>
            <a:xfrm flipH="1" rot="2486400">
              <a:off x="3436560" y="2620440"/>
              <a:ext cx="45720" cy="440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等腰三角形 65"/>
            <p:cNvSpPr/>
            <p:nvPr/>
          </p:nvSpPr>
          <p:spPr>
            <a:xfrm flipH="1" rot="13327800">
              <a:off x="3083400" y="3004200"/>
              <a:ext cx="45720" cy="440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3" name="组合 66"/>
          <p:cNvGrpSpPr/>
          <p:nvPr/>
        </p:nvGrpSpPr>
        <p:grpSpPr>
          <a:xfrm>
            <a:off x="6138720" y="392040"/>
            <a:ext cx="567000" cy="711360"/>
            <a:chOff x="6138720" y="392040"/>
            <a:chExt cx="567000" cy="711360"/>
          </a:xfrm>
        </p:grpSpPr>
        <p:grpSp>
          <p:nvGrpSpPr>
            <p:cNvPr id="634" name="椭圆 69"/>
            <p:cNvGrpSpPr/>
            <p:nvPr/>
          </p:nvGrpSpPr>
          <p:grpSpPr>
            <a:xfrm>
              <a:off x="6138720" y="475200"/>
              <a:ext cx="567000" cy="567720"/>
              <a:chOff x="6138720" y="475200"/>
              <a:chExt cx="567000" cy="567720"/>
            </a:xfrm>
          </p:grpSpPr>
          <p:pic>
            <p:nvPicPr>
              <p:cNvPr id="635" name="椭圆 69" descr=""/>
              <p:cNvPicPr/>
              <p:nvPr/>
            </p:nvPicPr>
            <p:blipFill>
              <a:blip r:embed="rId7"/>
              <a:stretch/>
            </p:blipFill>
            <p:spPr>
              <a:xfrm>
                <a:off x="6138720" y="475200"/>
                <a:ext cx="567000" cy="56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6" name=""/>
              <p:cNvSpPr/>
              <p:nvPr/>
            </p:nvSpPr>
            <p:spPr>
              <a:xfrm>
                <a:off x="6221880" y="557640"/>
                <a:ext cx="39996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7" name="椭圆 70"/>
            <p:cNvSpPr/>
            <p:nvPr/>
          </p:nvSpPr>
          <p:spPr>
            <a:xfrm>
              <a:off x="6393600" y="720720"/>
              <a:ext cx="6192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组合 71"/>
            <p:cNvGrpSpPr/>
            <p:nvPr/>
          </p:nvGrpSpPr>
          <p:grpSpPr>
            <a:xfrm>
              <a:off x="6412680" y="392040"/>
              <a:ext cx="24480" cy="711360"/>
              <a:chOff x="6412680" y="392040"/>
              <a:chExt cx="24480" cy="711360"/>
            </a:xfrm>
          </p:grpSpPr>
          <p:sp>
            <p:nvSpPr>
              <p:cNvPr id="639" name="等腰三角形 81"/>
              <p:cNvSpPr/>
              <p:nvPr/>
            </p:nvSpPr>
            <p:spPr>
              <a:xfrm flipH="1" rot="10800000">
                <a:off x="6412680" y="744120"/>
                <a:ext cx="2448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等腰三角形 82"/>
              <p:cNvSpPr/>
              <p:nvPr/>
            </p:nvSpPr>
            <p:spPr>
              <a:xfrm flipH="1">
                <a:off x="6412680" y="392040"/>
                <a:ext cx="2448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1" name="组合 72"/>
            <p:cNvGrpSpPr/>
            <p:nvPr/>
          </p:nvGrpSpPr>
          <p:grpSpPr>
            <a:xfrm>
              <a:off x="6165360" y="738720"/>
              <a:ext cx="527040" cy="25200"/>
              <a:chOff x="6165360" y="738720"/>
              <a:chExt cx="527040" cy="25200"/>
            </a:xfrm>
          </p:grpSpPr>
          <p:sp>
            <p:nvSpPr>
              <p:cNvPr id="642" name="等腰三角形 79"/>
              <p:cNvSpPr/>
              <p:nvPr/>
            </p:nvSpPr>
            <p:spPr>
              <a:xfrm flipH="1" rot="5400000">
                <a:off x="6547680" y="618840"/>
                <a:ext cx="24480" cy="2638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等腰三角形 80"/>
              <p:cNvSpPr/>
              <p:nvPr/>
            </p:nvSpPr>
            <p:spPr>
              <a:xfrm rot="16200000">
                <a:off x="6284880" y="619560"/>
                <a:ext cx="24480" cy="2638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4" name="组合 73"/>
            <p:cNvGrpSpPr/>
            <p:nvPr/>
          </p:nvGrpSpPr>
          <p:grpSpPr>
            <a:xfrm>
              <a:off x="6330600" y="619920"/>
              <a:ext cx="191160" cy="290160"/>
              <a:chOff x="6330600" y="619920"/>
              <a:chExt cx="191160" cy="290160"/>
            </a:xfrm>
          </p:grpSpPr>
          <p:sp>
            <p:nvSpPr>
              <p:cNvPr id="645" name="等腰三角形 77"/>
              <p:cNvSpPr/>
              <p:nvPr/>
            </p:nvSpPr>
            <p:spPr>
              <a:xfrm flipH="1" rot="12716400">
                <a:off x="6372720" y="74916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等腰三角形 78"/>
              <p:cNvSpPr/>
              <p:nvPr/>
            </p:nvSpPr>
            <p:spPr>
              <a:xfrm rot="1955400">
                <a:off x="6460560" y="61128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7" name="组合 74"/>
            <p:cNvGrpSpPr/>
            <p:nvPr/>
          </p:nvGrpSpPr>
          <p:grpSpPr>
            <a:xfrm>
              <a:off x="6267600" y="649440"/>
              <a:ext cx="277200" cy="189000"/>
              <a:chOff x="6267600" y="649440"/>
              <a:chExt cx="277200" cy="189000"/>
            </a:xfrm>
          </p:grpSpPr>
          <p:sp>
            <p:nvSpPr>
              <p:cNvPr id="648" name="等腰三角形 75"/>
              <p:cNvSpPr/>
              <p:nvPr/>
            </p:nvSpPr>
            <p:spPr>
              <a:xfrm flipH="1" rot="7386600">
                <a:off x="6465960" y="709200"/>
                <a:ext cx="162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等腰三角形 76"/>
              <p:cNvSpPr/>
              <p:nvPr/>
            </p:nvSpPr>
            <p:spPr>
              <a:xfrm flipH="1" rot="18164400">
                <a:off x="6330240" y="619200"/>
                <a:ext cx="162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0" name="组合 83"/>
          <p:cNvGrpSpPr/>
          <p:nvPr/>
        </p:nvGrpSpPr>
        <p:grpSpPr>
          <a:xfrm>
            <a:off x="1743120" y="2316240"/>
            <a:ext cx="565200" cy="710640"/>
            <a:chOff x="1743120" y="2316240"/>
            <a:chExt cx="565200" cy="710640"/>
          </a:xfrm>
        </p:grpSpPr>
        <p:grpSp>
          <p:nvGrpSpPr>
            <p:cNvPr id="651" name="椭圆 84"/>
            <p:cNvGrpSpPr/>
            <p:nvPr/>
          </p:nvGrpSpPr>
          <p:grpSpPr>
            <a:xfrm>
              <a:off x="1743120" y="2401920"/>
              <a:ext cx="565200" cy="561240"/>
              <a:chOff x="1743120" y="2401920"/>
              <a:chExt cx="565200" cy="561240"/>
            </a:xfrm>
          </p:grpSpPr>
          <p:pic>
            <p:nvPicPr>
              <p:cNvPr id="652" name="椭圆 84" descr=""/>
              <p:cNvPicPr/>
              <p:nvPr/>
            </p:nvPicPr>
            <p:blipFill>
              <a:blip r:embed="rId8"/>
              <a:stretch/>
            </p:blipFill>
            <p:spPr>
              <a:xfrm>
                <a:off x="1743120" y="2401920"/>
                <a:ext cx="565200" cy="56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"/>
              <p:cNvSpPr/>
              <p:nvPr/>
            </p:nvSpPr>
            <p:spPr>
              <a:xfrm>
                <a:off x="1825200" y="2481840"/>
                <a:ext cx="398880" cy="40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4" name="椭圆 85"/>
            <p:cNvSpPr/>
            <p:nvPr/>
          </p:nvSpPr>
          <p:spPr>
            <a:xfrm>
              <a:off x="1996560" y="2644560"/>
              <a:ext cx="6156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5" name="组合 86"/>
            <p:cNvGrpSpPr/>
            <p:nvPr/>
          </p:nvGrpSpPr>
          <p:grpSpPr>
            <a:xfrm>
              <a:off x="2014560" y="2316240"/>
              <a:ext cx="24480" cy="710640"/>
              <a:chOff x="2014560" y="2316240"/>
              <a:chExt cx="24480" cy="710640"/>
            </a:xfrm>
          </p:grpSpPr>
          <p:sp>
            <p:nvSpPr>
              <p:cNvPr id="656" name="等腰三角形 96"/>
              <p:cNvSpPr/>
              <p:nvPr/>
            </p:nvSpPr>
            <p:spPr>
              <a:xfrm flipH="1" rot="10800000">
                <a:off x="2014200" y="2667960"/>
                <a:ext cx="24120" cy="35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等腰三角形 97"/>
              <p:cNvSpPr/>
              <p:nvPr/>
            </p:nvSpPr>
            <p:spPr>
              <a:xfrm flipH="1">
                <a:off x="2014560" y="2316240"/>
                <a:ext cx="24120" cy="35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组合 87"/>
            <p:cNvGrpSpPr/>
            <p:nvPr/>
          </p:nvGrpSpPr>
          <p:grpSpPr>
            <a:xfrm>
              <a:off x="1768680" y="2662560"/>
              <a:ext cx="525600" cy="25200"/>
              <a:chOff x="1768680" y="2662560"/>
              <a:chExt cx="525600" cy="25200"/>
            </a:xfrm>
          </p:grpSpPr>
          <p:sp>
            <p:nvSpPr>
              <p:cNvPr id="659" name="等腰三角形 94"/>
              <p:cNvSpPr/>
              <p:nvPr/>
            </p:nvSpPr>
            <p:spPr>
              <a:xfrm flipH="1" rot="5400000">
                <a:off x="2149920" y="2543040"/>
                <a:ext cx="24480" cy="2631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等腰三角形 95"/>
              <p:cNvSpPr/>
              <p:nvPr/>
            </p:nvSpPr>
            <p:spPr>
              <a:xfrm rot="16200000">
                <a:off x="1887840" y="2543760"/>
                <a:ext cx="24480" cy="2631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1" name="组合 88"/>
            <p:cNvGrpSpPr/>
            <p:nvPr/>
          </p:nvGrpSpPr>
          <p:grpSpPr>
            <a:xfrm>
              <a:off x="1933560" y="2544120"/>
              <a:ext cx="190440" cy="289440"/>
              <a:chOff x="1933560" y="2544120"/>
              <a:chExt cx="190440" cy="289440"/>
            </a:xfrm>
          </p:grpSpPr>
          <p:sp>
            <p:nvSpPr>
              <p:cNvPr id="662" name="等腰三角形 92"/>
              <p:cNvSpPr/>
              <p:nvPr/>
            </p:nvSpPr>
            <p:spPr>
              <a:xfrm flipH="1" rot="12716400">
                <a:off x="1975680" y="2673000"/>
                <a:ext cx="17280" cy="168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3" name="等腰三角形 93"/>
              <p:cNvSpPr/>
              <p:nvPr/>
            </p:nvSpPr>
            <p:spPr>
              <a:xfrm rot="1955400">
                <a:off x="2062800" y="2535480"/>
                <a:ext cx="17280" cy="168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4" name="组合 89"/>
            <p:cNvGrpSpPr/>
            <p:nvPr/>
          </p:nvGrpSpPr>
          <p:grpSpPr>
            <a:xfrm>
              <a:off x="1870200" y="2574000"/>
              <a:ext cx="276480" cy="188640"/>
              <a:chOff x="1870200" y="2574000"/>
              <a:chExt cx="276480" cy="188640"/>
            </a:xfrm>
          </p:grpSpPr>
          <p:sp>
            <p:nvSpPr>
              <p:cNvPr id="665" name="等腰三角形 90"/>
              <p:cNvSpPr/>
              <p:nvPr/>
            </p:nvSpPr>
            <p:spPr>
              <a:xfrm flipH="1" rot="7386600">
                <a:off x="2068200" y="2633760"/>
                <a:ext cx="16200" cy="157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等腰三角形 91"/>
              <p:cNvSpPr/>
              <p:nvPr/>
            </p:nvSpPr>
            <p:spPr>
              <a:xfrm flipH="1" rot="18164400">
                <a:off x="1932480" y="2544120"/>
                <a:ext cx="16200" cy="156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67" name="组合 98"/>
          <p:cNvGrpSpPr/>
          <p:nvPr/>
        </p:nvGrpSpPr>
        <p:grpSpPr>
          <a:xfrm>
            <a:off x="6784920" y="2593800"/>
            <a:ext cx="565200" cy="711360"/>
            <a:chOff x="6784920" y="2593800"/>
            <a:chExt cx="565200" cy="711360"/>
          </a:xfrm>
        </p:grpSpPr>
        <p:grpSp>
          <p:nvGrpSpPr>
            <p:cNvPr id="668" name="椭圆 99"/>
            <p:cNvGrpSpPr/>
            <p:nvPr/>
          </p:nvGrpSpPr>
          <p:grpSpPr>
            <a:xfrm>
              <a:off x="6784920" y="2675880"/>
              <a:ext cx="565200" cy="567720"/>
              <a:chOff x="6784920" y="2675880"/>
              <a:chExt cx="565200" cy="567720"/>
            </a:xfrm>
          </p:grpSpPr>
          <p:pic>
            <p:nvPicPr>
              <p:cNvPr id="669" name="椭圆 99" descr=""/>
              <p:cNvPicPr/>
              <p:nvPr/>
            </p:nvPicPr>
            <p:blipFill>
              <a:blip r:embed="rId9"/>
              <a:stretch/>
            </p:blipFill>
            <p:spPr>
              <a:xfrm>
                <a:off x="6784920" y="2675880"/>
                <a:ext cx="565200" cy="56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>
                <a:off x="6867360" y="2759760"/>
                <a:ext cx="3988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71" name="椭圆 100"/>
            <p:cNvSpPr/>
            <p:nvPr/>
          </p:nvSpPr>
          <p:spPr>
            <a:xfrm>
              <a:off x="7038720" y="2922480"/>
              <a:ext cx="6156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2" name="组合 101"/>
            <p:cNvGrpSpPr/>
            <p:nvPr/>
          </p:nvGrpSpPr>
          <p:grpSpPr>
            <a:xfrm>
              <a:off x="7056720" y="2593800"/>
              <a:ext cx="24480" cy="711360"/>
              <a:chOff x="7056720" y="2593800"/>
              <a:chExt cx="24480" cy="711360"/>
            </a:xfrm>
          </p:grpSpPr>
          <p:sp>
            <p:nvSpPr>
              <p:cNvPr id="673" name="等腰三角形 111"/>
              <p:cNvSpPr/>
              <p:nvPr/>
            </p:nvSpPr>
            <p:spPr>
              <a:xfrm flipH="1" rot="10800000">
                <a:off x="7056360" y="2945880"/>
                <a:ext cx="2412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等腰三角形 112"/>
              <p:cNvSpPr/>
              <p:nvPr/>
            </p:nvSpPr>
            <p:spPr>
              <a:xfrm flipH="1">
                <a:off x="7056720" y="2593800"/>
                <a:ext cx="2412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5" name="组合 102"/>
            <p:cNvGrpSpPr/>
            <p:nvPr/>
          </p:nvGrpSpPr>
          <p:grpSpPr>
            <a:xfrm>
              <a:off x="6810840" y="2940480"/>
              <a:ext cx="525600" cy="25200"/>
              <a:chOff x="6810840" y="2940480"/>
              <a:chExt cx="525600" cy="25200"/>
            </a:xfrm>
          </p:grpSpPr>
          <p:sp>
            <p:nvSpPr>
              <p:cNvPr id="676" name="等腰三角形 109"/>
              <p:cNvSpPr/>
              <p:nvPr/>
            </p:nvSpPr>
            <p:spPr>
              <a:xfrm flipH="1" rot="5400000">
                <a:off x="7192080" y="2820960"/>
                <a:ext cx="24480" cy="2631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等腰三角形 110"/>
              <p:cNvSpPr/>
              <p:nvPr/>
            </p:nvSpPr>
            <p:spPr>
              <a:xfrm rot="16200000">
                <a:off x="6930000" y="2821680"/>
                <a:ext cx="24480" cy="2631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8" name="组合 103"/>
            <p:cNvGrpSpPr/>
            <p:nvPr/>
          </p:nvGrpSpPr>
          <p:grpSpPr>
            <a:xfrm>
              <a:off x="6975720" y="2821680"/>
              <a:ext cx="190800" cy="290160"/>
              <a:chOff x="6975720" y="2821680"/>
              <a:chExt cx="190800" cy="290160"/>
            </a:xfrm>
          </p:grpSpPr>
          <p:sp>
            <p:nvSpPr>
              <p:cNvPr id="679" name="等腰三角形 107"/>
              <p:cNvSpPr/>
              <p:nvPr/>
            </p:nvSpPr>
            <p:spPr>
              <a:xfrm flipH="1" rot="12716400">
                <a:off x="7017840" y="295092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等腰三角形 108"/>
              <p:cNvSpPr/>
              <p:nvPr/>
            </p:nvSpPr>
            <p:spPr>
              <a:xfrm rot="1955400">
                <a:off x="7105320" y="281304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1" name="组合 104"/>
            <p:cNvGrpSpPr/>
            <p:nvPr/>
          </p:nvGrpSpPr>
          <p:grpSpPr>
            <a:xfrm>
              <a:off x="6912360" y="2851560"/>
              <a:ext cx="276480" cy="188640"/>
              <a:chOff x="6912360" y="2851560"/>
              <a:chExt cx="276480" cy="188640"/>
            </a:xfrm>
          </p:grpSpPr>
          <p:sp>
            <p:nvSpPr>
              <p:cNvPr id="682" name="等腰三角形 105"/>
              <p:cNvSpPr/>
              <p:nvPr/>
            </p:nvSpPr>
            <p:spPr>
              <a:xfrm flipH="1" rot="7386600">
                <a:off x="7110360" y="2911320"/>
                <a:ext cx="16200" cy="157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等腰三角形 106"/>
              <p:cNvSpPr/>
              <p:nvPr/>
            </p:nvSpPr>
            <p:spPr>
              <a:xfrm flipH="1" rot="18164400">
                <a:off x="6974640" y="2821680"/>
                <a:ext cx="16200" cy="156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4" name="椭圆 113"/>
          <p:cNvGrpSpPr/>
          <p:nvPr/>
        </p:nvGrpSpPr>
        <p:grpSpPr>
          <a:xfrm>
            <a:off x="6973920" y="1627200"/>
            <a:ext cx="1060560" cy="1055520"/>
            <a:chOff x="6973920" y="1627200"/>
            <a:chExt cx="1060560" cy="1055520"/>
          </a:xfrm>
        </p:grpSpPr>
        <p:pic>
          <p:nvPicPr>
            <p:cNvPr id="685" name="椭圆 113" descr=""/>
            <p:cNvPicPr/>
            <p:nvPr/>
          </p:nvPicPr>
          <p:blipFill>
            <a:blip r:embed="rId10"/>
            <a:stretch/>
          </p:blipFill>
          <p:spPr>
            <a:xfrm>
              <a:off x="6973920" y="1627200"/>
              <a:ext cx="1060560" cy="10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"/>
            <p:cNvSpPr/>
            <p:nvPr/>
          </p:nvSpPr>
          <p:spPr>
            <a:xfrm>
              <a:off x="7131240" y="1781280"/>
              <a:ext cx="74592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7" name="组合 114"/>
          <p:cNvGrpSpPr/>
          <p:nvPr/>
        </p:nvGrpSpPr>
        <p:grpSpPr>
          <a:xfrm>
            <a:off x="7481160" y="1512720"/>
            <a:ext cx="44640" cy="1325880"/>
            <a:chOff x="7481160" y="1512720"/>
            <a:chExt cx="44640" cy="1325880"/>
          </a:xfrm>
        </p:grpSpPr>
        <p:sp>
          <p:nvSpPr>
            <p:cNvPr id="688" name="等腰三角形 115"/>
            <p:cNvSpPr/>
            <p:nvPr/>
          </p:nvSpPr>
          <p:spPr>
            <a:xfrm flipH="1" rot="10800000">
              <a:off x="7480800" y="2169000"/>
              <a:ext cx="44280" cy="669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等腰三角形 116"/>
            <p:cNvSpPr/>
            <p:nvPr/>
          </p:nvSpPr>
          <p:spPr>
            <a:xfrm flipH="1">
              <a:off x="7481160" y="1512720"/>
              <a:ext cx="44280" cy="669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0" name="组合 117"/>
          <p:cNvGrpSpPr/>
          <p:nvPr/>
        </p:nvGrpSpPr>
        <p:grpSpPr>
          <a:xfrm>
            <a:off x="7035840" y="2120760"/>
            <a:ext cx="982440" cy="47880"/>
            <a:chOff x="7035840" y="2120760"/>
            <a:chExt cx="982440" cy="47880"/>
          </a:xfrm>
        </p:grpSpPr>
        <p:sp>
          <p:nvSpPr>
            <p:cNvPr id="691" name="等腰三角形 118"/>
            <p:cNvSpPr/>
            <p:nvPr/>
          </p:nvSpPr>
          <p:spPr>
            <a:xfrm flipH="1" rot="5400000">
              <a:off x="7748640" y="1898280"/>
              <a:ext cx="46800" cy="491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等腰三角形 119"/>
            <p:cNvSpPr/>
            <p:nvPr/>
          </p:nvSpPr>
          <p:spPr>
            <a:xfrm rot="16200000">
              <a:off x="7257960" y="1899360"/>
              <a:ext cx="46800" cy="491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3" name="组合 120"/>
          <p:cNvGrpSpPr/>
          <p:nvPr/>
        </p:nvGrpSpPr>
        <p:grpSpPr>
          <a:xfrm>
            <a:off x="7332480" y="1897200"/>
            <a:ext cx="358200" cy="540360"/>
            <a:chOff x="7332480" y="1897200"/>
            <a:chExt cx="358200" cy="540360"/>
          </a:xfrm>
        </p:grpSpPr>
        <p:sp>
          <p:nvSpPr>
            <p:cNvPr id="694" name="等腰三角形 121"/>
            <p:cNvSpPr/>
            <p:nvPr/>
          </p:nvSpPr>
          <p:spPr>
            <a:xfrm flipH="1" rot="12716400">
              <a:off x="7412040" y="2139120"/>
              <a:ext cx="32760" cy="313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等腰三角形 122"/>
            <p:cNvSpPr/>
            <p:nvPr/>
          </p:nvSpPr>
          <p:spPr>
            <a:xfrm rot="1955400">
              <a:off x="7575840" y="1881360"/>
              <a:ext cx="32760" cy="313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6" name="组合 123"/>
          <p:cNvGrpSpPr/>
          <p:nvPr/>
        </p:nvGrpSpPr>
        <p:grpSpPr>
          <a:xfrm>
            <a:off x="7228080" y="1967400"/>
            <a:ext cx="519120" cy="353520"/>
            <a:chOff x="7228080" y="1967400"/>
            <a:chExt cx="519120" cy="353520"/>
          </a:xfrm>
        </p:grpSpPr>
        <p:sp>
          <p:nvSpPr>
            <p:cNvPr id="697" name="等腰三角形 124"/>
            <p:cNvSpPr/>
            <p:nvPr/>
          </p:nvSpPr>
          <p:spPr>
            <a:xfrm flipH="1" rot="7386600">
              <a:off x="7599600" y="2080440"/>
              <a:ext cx="30600" cy="294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等腰三角形 125"/>
            <p:cNvSpPr/>
            <p:nvPr/>
          </p:nvSpPr>
          <p:spPr>
            <a:xfrm flipH="1" rot="18164400">
              <a:off x="7344720" y="1912680"/>
              <a:ext cx="30600" cy="294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9" name="椭圆 126"/>
          <p:cNvGrpSpPr/>
          <p:nvPr/>
        </p:nvGrpSpPr>
        <p:grpSpPr>
          <a:xfrm>
            <a:off x="7370640" y="2004840"/>
            <a:ext cx="255600" cy="250920"/>
            <a:chOff x="7370640" y="2004840"/>
            <a:chExt cx="255600" cy="250920"/>
          </a:xfrm>
        </p:grpSpPr>
        <p:pic>
          <p:nvPicPr>
            <p:cNvPr id="700" name="椭圆 126" descr=""/>
            <p:cNvPicPr/>
            <p:nvPr/>
          </p:nvPicPr>
          <p:blipFill>
            <a:blip r:embed="rId11"/>
            <a:stretch/>
          </p:blipFill>
          <p:spPr>
            <a:xfrm>
              <a:off x="7370640" y="2004840"/>
              <a:ext cx="255600" cy="2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"/>
            <p:cNvSpPr/>
            <p:nvPr/>
          </p:nvSpPr>
          <p:spPr>
            <a:xfrm>
              <a:off x="7473960" y="2106360"/>
              <a:ext cx="4896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2" name="组合 127"/>
          <p:cNvGrpSpPr/>
          <p:nvPr/>
        </p:nvGrpSpPr>
        <p:grpSpPr>
          <a:xfrm>
            <a:off x="6280200" y="2984400"/>
            <a:ext cx="565200" cy="711360"/>
            <a:chOff x="6280200" y="2984400"/>
            <a:chExt cx="565200" cy="711360"/>
          </a:xfrm>
        </p:grpSpPr>
        <p:grpSp>
          <p:nvGrpSpPr>
            <p:cNvPr id="703" name="椭圆 128"/>
            <p:cNvGrpSpPr/>
            <p:nvPr/>
          </p:nvGrpSpPr>
          <p:grpSpPr>
            <a:xfrm>
              <a:off x="6280200" y="3065760"/>
              <a:ext cx="565200" cy="567720"/>
              <a:chOff x="6280200" y="3065760"/>
              <a:chExt cx="565200" cy="567720"/>
            </a:xfrm>
          </p:grpSpPr>
          <p:pic>
            <p:nvPicPr>
              <p:cNvPr id="704" name="椭圆 128" descr=""/>
              <p:cNvPicPr/>
              <p:nvPr/>
            </p:nvPicPr>
            <p:blipFill>
              <a:blip r:embed="rId12"/>
              <a:stretch/>
            </p:blipFill>
            <p:spPr>
              <a:xfrm>
                <a:off x="6280200" y="3065760"/>
                <a:ext cx="565200" cy="56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5" name=""/>
              <p:cNvSpPr/>
              <p:nvPr/>
            </p:nvSpPr>
            <p:spPr>
              <a:xfrm>
                <a:off x="6363720" y="3150000"/>
                <a:ext cx="3988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06" name="椭圆 129"/>
            <p:cNvSpPr/>
            <p:nvPr/>
          </p:nvSpPr>
          <p:spPr>
            <a:xfrm>
              <a:off x="6534720" y="3313080"/>
              <a:ext cx="6156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7" name="组合 130"/>
            <p:cNvGrpSpPr/>
            <p:nvPr/>
          </p:nvGrpSpPr>
          <p:grpSpPr>
            <a:xfrm>
              <a:off x="6552720" y="2984400"/>
              <a:ext cx="24480" cy="711360"/>
              <a:chOff x="6552720" y="2984400"/>
              <a:chExt cx="24480" cy="711360"/>
            </a:xfrm>
          </p:grpSpPr>
          <p:sp>
            <p:nvSpPr>
              <p:cNvPr id="708" name="等腰三角形 140"/>
              <p:cNvSpPr/>
              <p:nvPr/>
            </p:nvSpPr>
            <p:spPr>
              <a:xfrm flipH="1" rot="10800000">
                <a:off x="6552360" y="3336480"/>
                <a:ext cx="2412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等腰三角形 141"/>
              <p:cNvSpPr/>
              <p:nvPr/>
            </p:nvSpPr>
            <p:spPr>
              <a:xfrm flipH="1">
                <a:off x="6552720" y="2984400"/>
                <a:ext cx="2412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10" name="组合 131"/>
            <p:cNvGrpSpPr/>
            <p:nvPr/>
          </p:nvGrpSpPr>
          <p:grpSpPr>
            <a:xfrm>
              <a:off x="6307200" y="3331080"/>
              <a:ext cx="525600" cy="25200"/>
              <a:chOff x="6307200" y="3331080"/>
              <a:chExt cx="525600" cy="25200"/>
            </a:xfrm>
          </p:grpSpPr>
          <p:sp>
            <p:nvSpPr>
              <p:cNvPr id="711" name="等腰三角形 138"/>
              <p:cNvSpPr/>
              <p:nvPr/>
            </p:nvSpPr>
            <p:spPr>
              <a:xfrm flipH="1" rot="5400000">
                <a:off x="6688440" y="3211560"/>
                <a:ext cx="24480" cy="2631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等腰三角形 139"/>
              <p:cNvSpPr/>
              <p:nvPr/>
            </p:nvSpPr>
            <p:spPr>
              <a:xfrm rot="16200000">
                <a:off x="6426360" y="3212280"/>
                <a:ext cx="24480" cy="2631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13" name="组合 132"/>
            <p:cNvGrpSpPr/>
            <p:nvPr/>
          </p:nvGrpSpPr>
          <p:grpSpPr>
            <a:xfrm>
              <a:off x="6471720" y="3212280"/>
              <a:ext cx="190800" cy="290160"/>
              <a:chOff x="6471720" y="3212280"/>
              <a:chExt cx="190800" cy="290160"/>
            </a:xfrm>
          </p:grpSpPr>
          <p:sp>
            <p:nvSpPr>
              <p:cNvPr id="714" name="等腰三角形 136"/>
              <p:cNvSpPr/>
              <p:nvPr/>
            </p:nvSpPr>
            <p:spPr>
              <a:xfrm flipH="1" rot="12716400">
                <a:off x="6513840" y="334152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等腰三角形 137"/>
              <p:cNvSpPr/>
              <p:nvPr/>
            </p:nvSpPr>
            <p:spPr>
              <a:xfrm rot="1955400">
                <a:off x="6601320" y="320364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16" name="组合 133"/>
            <p:cNvGrpSpPr/>
            <p:nvPr/>
          </p:nvGrpSpPr>
          <p:grpSpPr>
            <a:xfrm>
              <a:off x="6408360" y="3242160"/>
              <a:ext cx="276480" cy="188640"/>
              <a:chOff x="6408360" y="3242160"/>
              <a:chExt cx="276480" cy="188640"/>
            </a:xfrm>
          </p:grpSpPr>
          <p:sp>
            <p:nvSpPr>
              <p:cNvPr id="717" name="等腰三角形 134"/>
              <p:cNvSpPr/>
              <p:nvPr/>
            </p:nvSpPr>
            <p:spPr>
              <a:xfrm flipH="1" rot="7386600">
                <a:off x="6606360" y="3301920"/>
                <a:ext cx="16200" cy="157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8" name="等腰三角形 135"/>
              <p:cNvSpPr/>
              <p:nvPr/>
            </p:nvSpPr>
            <p:spPr>
              <a:xfrm flipH="1" rot="18164400">
                <a:off x="6470640" y="3212280"/>
                <a:ext cx="16200" cy="156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19" name="组合 142"/>
          <p:cNvGrpSpPr/>
          <p:nvPr/>
        </p:nvGrpSpPr>
        <p:grpSpPr>
          <a:xfrm>
            <a:off x="5702400" y="2368440"/>
            <a:ext cx="565200" cy="711360"/>
            <a:chOff x="5702400" y="2368440"/>
            <a:chExt cx="565200" cy="711360"/>
          </a:xfrm>
        </p:grpSpPr>
        <p:grpSp>
          <p:nvGrpSpPr>
            <p:cNvPr id="720" name="椭圆 143"/>
            <p:cNvGrpSpPr/>
            <p:nvPr/>
          </p:nvGrpSpPr>
          <p:grpSpPr>
            <a:xfrm>
              <a:off x="5702400" y="2449800"/>
              <a:ext cx="565200" cy="567720"/>
              <a:chOff x="5702400" y="2449800"/>
              <a:chExt cx="565200" cy="567720"/>
            </a:xfrm>
          </p:grpSpPr>
          <p:pic>
            <p:nvPicPr>
              <p:cNvPr id="721" name="椭圆 143" descr=""/>
              <p:cNvPicPr/>
              <p:nvPr/>
            </p:nvPicPr>
            <p:blipFill>
              <a:blip r:embed="rId13"/>
              <a:stretch/>
            </p:blipFill>
            <p:spPr>
              <a:xfrm>
                <a:off x="5702400" y="2449800"/>
                <a:ext cx="565200" cy="56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2" name=""/>
              <p:cNvSpPr/>
              <p:nvPr/>
            </p:nvSpPr>
            <p:spPr>
              <a:xfrm>
                <a:off x="5787000" y="2534040"/>
                <a:ext cx="3988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3" name="椭圆 144"/>
            <p:cNvSpPr/>
            <p:nvPr/>
          </p:nvSpPr>
          <p:spPr>
            <a:xfrm>
              <a:off x="5958000" y="2697120"/>
              <a:ext cx="6156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4" name="组合 145"/>
            <p:cNvGrpSpPr/>
            <p:nvPr/>
          </p:nvGrpSpPr>
          <p:grpSpPr>
            <a:xfrm>
              <a:off x="5976000" y="2368440"/>
              <a:ext cx="24480" cy="711360"/>
              <a:chOff x="5976000" y="2368440"/>
              <a:chExt cx="24480" cy="711360"/>
            </a:xfrm>
          </p:grpSpPr>
          <p:sp>
            <p:nvSpPr>
              <p:cNvPr id="725" name="等腰三角形 155"/>
              <p:cNvSpPr/>
              <p:nvPr/>
            </p:nvSpPr>
            <p:spPr>
              <a:xfrm flipH="1" rot="10800000">
                <a:off x="5975640" y="2720520"/>
                <a:ext cx="2412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6" name="等腰三角形 156"/>
              <p:cNvSpPr/>
              <p:nvPr/>
            </p:nvSpPr>
            <p:spPr>
              <a:xfrm flipH="1">
                <a:off x="5976000" y="2368440"/>
                <a:ext cx="2412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27" name="组合 146"/>
            <p:cNvGrpSpPr/>
            <p:nvPr/>
          </p:nvGrpSpPr>
          <p:grpSpPr>
            <a:xfrm>
              <a:off x="5730480" y="2715120"/>
              <a:ext cx="525600" cy="25200"/>
              <a:chOff x="5730480" y="2715120"/>
              <a:chExt cx="525600" cy="25200"/>
            </a:xfrm>
          </p:grpSpPr>
          <p:sp>
            <p:nvSpPr>
              <p:cNvPr id="728" name="等腰三角形 153"/>
              <p:cNvSpPr/>
              <p:nvPr/>
            </p:nvSpPr>
            <p:spPr>
              <a:xfrm flipH="1" rot="5400000">
                <a:off x="6111720" y="2595600"/>
                <a:ext cx="24480" cy="2631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等腰三角形 154"/>
              <p:cNvSpPr/>
              <p:nvPr/>
            </p:nvSpPr>
            <p:spPr>
              <a:xfrm rot="16200000">
                <a:off x="5849640" y="2596320"/>
                <a:ext cx="24480" cy="2631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30" name="组合 147"/>
            <p:cNvGrpSpPr/>
            <p:nvPr/>
          </p:nvGrpSpPr>
          <p:grpSpPr>
            <a:xfrm>
              <a:off x="5895000" y="2596320"/>
              <a:ext cx="190800" cy="290160"/>
              <a:chOff x="5895000" y="2596320"/>
              <a:chExt cx="190800" cy="290160"/>
            </a:xfrm>
          </p:grpSpPr>
          <p:sp>
            <p:nvSpPr>
              <p:cNvPr id="731" name="等腰三角形 151"/>
              <p:cNvSpPr/>
              <p:nvPr/>
            </p:nvSpPr>
            <p:spPr>
              <a:xfrm flipH="1" rot="12716400">
                <a:off x="5937120" y="272556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等腰三角形 152"/>
              <p:cNvSpPr/>
              <p:nvPr/>
            </p:nvSpPr>
            <p:spPr>
              <a:xfrm rot="1955400">
                <a:off x="6024600" y="258768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33" name="组合 148"/>
            <p:cNvGrpSpPr/>
            <p:nvPr/>
          </p:nvGrpSpPr>
          <p:grpSpPr>
            <a:xfrm>
              <a:off x="5831640" y="2626200"/>
              <a:ext cx="276480" cy="188640"/>
              <a:chOff x="5831640" y="2626200"/>
              <a:chExt cx="276480" cy="188640"/>
            </a:xfrm>
          </p:grpSpPr>
          <p:sp>
            <p:nvSpPr>
              <p:cNvPr id="734" name="等腰三角形 149"/>
              <p:cNvSpPr/>
              <p:nvPr/>
            </p:nvSpPr>
            <p:spPr>
              <a:xfrm flipH="1" rot="7386600">
                <a:off x="6029640" y="2685960"/>
                <a:ext cx="16200" cy="157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等腰三角形 150"/>
              <p:cNvSpPr/>
              <p:nvPr/>
            </p:nvSpPr>
            <p:spPr>
              <a:xfrm flipH="1" rot="18164400">
                <a:off x="5893920" y="2596320"/>
                <a:ext cx="16200" cy="156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36" name=""/>
          <p:cNvSpPr/>
          <p:nvPr/>
        </p:nvSpPr>
        <p:spPr>
          <a:xfrm>
            <a:off x="1601640" y="4641840"/>
            <a:ext cx="676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1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25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1 0.01482 L 0.01979 0.01358 E">
                                      <p:cBhvr>
                                        <p:cTn id="654" dur="625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3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8">
                                  <p:stCondLst>
                                    <p:cond delay="1250"/>
                                  </p:stCondLst>
                                  <p:childTnLst>
                                    <p:animRot by="-2159820">
                                      <p:cBhvr>
                                        <p:cTn id="666" dur="425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10">
                                  <p:stCondLst>
                                    <p:cond delay="4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8" dur="125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75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75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75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75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75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75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2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2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4500000">
                                      <p:cBhvr>
                                        <p:cTn id="697" dur="2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2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4500000">
                                      <p:cBhvr>
                                        <p:cTn id="703" dur="2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2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-10799819">
                                      <p:cBhvr>
                                        <p:cTn id="709" dur="2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0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-10799819">
                                      <p:cBhvr>
                                        <p:cTn id="711" dur="2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2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2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1" dur="75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4" dur="75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7" dur="75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0" dur="75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3" dur="75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6" dur="75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75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75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75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75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75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75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19820">
                                      <p:cBhvr>
                                        <p:cTn id="753" dur="175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75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75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75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19820">
                                      <p:cBhvr>
                                        <p:cTn id="762" dur="175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75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75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75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480000">
                                      <p:cBhvr>
                                        <p:cTn id="771" dur="175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75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75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75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0" dur="75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3" dur="75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6" dur="75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9" dur="75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2" dur="75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5" dur="75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75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9" dur="75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75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3" dur="75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75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7" dur="75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75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1" dur="75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75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175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75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75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">
                                      <p:cBhvr>
                                        <p:cTn id="822" dur="2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10">
                                  <p:stCondLst>
                                    <p:cond delay="2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4" dur="75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25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3" presetSubtype="16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25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25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-2159820">
                                      <p:cBhvr>
                                        <p:cTn id="834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5" nodeType="withEffect" fill="hold" presetClass="exit" presetID="10">
                                  <p:stCondLst>
                                    <p:cond delay="3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6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mph" presetID="8">
                                  <p:stCondLst>
                                    <p:cond delay="1250"/>
                                  </p:stCondLst>
                                  <p:childTnLst>
                                    <p:animRot by="2160000">
                                      <p:cBhvr>
                                        <p:cTn id="846" dur="125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8" dur="75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4500000">
                                      <p:cBhvr>
                                        <p:cTn id="877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4500000">
                                      <p:cBhvr>
                                        <p:cTn id="883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-10799819">
                                      <p:cBhvr>
                                        <p:cTn id="889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0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-10799819">
                                      <p:cBhvr>
                                        <p:cTn id="891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7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3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6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1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-2159820">
                                      <p:cBhvr>
                                        <p:cTn id="926" dur="2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10">
                                  <p:stCondLst>
                                    <p:cond delay="3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8" dur="75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0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23" presetSubtype="16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2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2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mph" presetID="8">
                                  <p:stCondLst>
                                    <p:cond delay="3750"/>
                                  </p:stCondLst>
                                  <p:childTnLst>
                                    <p:animRot by="2160000">
                                      <p:cBhvr>
                                        <p:cTn id="938" dur="275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10">
                                  <p:stCondLst>
                                    <p:cond delay="5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0" dur="75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7" name="矩形 54"/>
          <p:cNvSpPr/>
          <p:nvPr/>
        </p:nvSpPr>
        <p:spPr>
          <a:xfrm>
            <a:off x="0" y="1450800"/>
            <a:ext cx="9144000" cy="45252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 55"/>
          <p:cNvSpPr/>
          <p:nvPr/>
        </p:nvSpPr>
        <p:spPr>
          <a:xfrm>
            <a:off x="0" y="1903320"/>
            <a:ext cx="9144000" cy="4539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56"/>
          <p:cNvSpPr/>
          <p:nvPr/>
        </p:nvSpPr>
        <p:spPr>
          <a:xfrm>
            <a:off x="0" y="2355840"/>
            <a:ext cx="9144000" cy="4557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矩形 57"/>
          <p:cNvSpPr/>
          <p:nvPr/>
        </p:nvSpPr>
        <p:spPr>
          <a:xfrm>
            <a:off x="0" y="2809800"/>
            <a:ext cx="9144000" cy="4539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矩形 58"/>
          <p:cNvSpPr/>
          <p:nvPr/>
        </p:nvSpPr>
        <p:spPr>
          <a:xfrm>
            <a:off x="-15840" y="3263760"/>
            <a:ext cx="9142200" cy="447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矩形 59"/>
          <p:cNvSpPr/>
          <p:nvPr/>
        </p:nvSpPr>
        <p:spPr>
          <a:xfrm>
            <a:off x="-1440" y="3711600"/>
            <a:ext cx="9142200" cy="45252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矩形 60"/>
          <p:cNvSpPr/>
          <p:nvPr/>
        </p:nvSpPr>
        <p:spPr>
          <a:xfrm>
            <a:off x="-17640" y="4164120"/>
            <a:ext cx="9142560" cy="37620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组合 63"/>
          <p:cNvGrpSpPr/>
          <p:nvPr/>
        </p:nvGrpSpPr>
        <p:grpSpPr>
          <a:xfrm>
            <a:off x="3500280" y="592200"/>
            <a:ext cx="1997280" cy="711000"/>
            <a:chOff x="3500280" y="592200"/>
            <a:chExt cx="1997280" cy="711000"/>
          </a:xfrm>
        </p:grpSpPr>
        <p:sp>
          <p:nvSpPr>
            <p:cNvPr id="65" name="TextBox 61"/>
            <p:cNvSpPr/>
            <p:nvPr/>
          </p:nvSpPr>
          <p:spPr>
            <a:xfrm>
              <a:off x="3645360" y="592200"/>
              <a:ext cx="185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f2f2"/>
                  </a:solidFill>
                  <a:latin typeface="方正综艺简体(视频)"/>
                  <a:ea typeface="方正综艺简体(视频)"/>
                </a:rPr>
                <a:t>LOGO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TextBox 62"/>
            <p:cNvSpPr/>
            <p:nvPr/>
          </p:nvSpPr>
          <p:spPr>
            <a:xfrm>
              <a:off x="3500280" y="1041840"/>
              <a:ext cx="1620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logo her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组合 1"/>
          <p:cNvGrpSpPr/>
          <p:nvPr/>
        </p:nvGrpSpPr>
        <p:grpSpPr>
          <a:xfrm>
            <a:off x="1646280" y="2185920"/>
            <a:ext cx="5856120" cy="1105200"/>
            <a:chOff x="1646280" y="2185920"/>
            <a:chExt cx="5856120" cy="1105200"/>
          </a:xfrm>
        </p:grpSpPr>
        <p:sp>
          <p:nvSpPr>
            <p:cNvPr id="68" name="TextBox 67"/>
            <p:cNvSpPr/>
            <p:nvPr/>
          </p:nvSpPr>
          <p:spPr>
            <a:xfrm>
              <a:off x="1646280" y="2185920"/>
              <a:ext cx="5851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方正综艺简体(视频)"/>
                  <a:ea typeface="方正综艺简体(视频)"/>
                </a:rPr>
                <a:t>单击添加标题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68"/>
            <p:cNvSpPr/>
            <p:nvPr/>
          </p:nvSpPr>
          <p:spPr>
            <a:xfrm>
              <a:off x="1650960" y="2922840"/>
              <a:ext cx="585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综艺简体(视频)"/>
                  <a:ea typeface="方正综艺简体(视频)"/>
                </a:rPr>
                <a:t>单击添加副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组合 15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grpSp>
          <p:nvGrpSpPr>
            <p:cNvPr id="71" name="组合 16"/>
            <p:cNvGrpSpPr/>
            <p:nvPr/>
          </p:nvGrpSpPr>
          <p:grpSpPr>
            <a:xfrm>
              <a:off x="-286920" y="1379520"/>
              <a:ext cx="898560" cy="520560"/>
              <a:chOff x="-286920" y="1379520"/>
              <a:chExt cx="898560" cy="520560"/>
            </a:xfrm>
          </p:grpSpPr>
          <p:sp>
            <p:nvSpPr>
              <p:cNvPr id="72" name="矩形 36"/>
              <p:cNvSpPr/>
              <p:nvPr/>
            </p:nvSpPr>
            <p:spPr>
              <a:xfrm>
                <a:off x="-19800" y="1450080"/>
                <a:ext cx="361800" cy="37692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TextBox 37"/>
              <p:cNvSpPr/>
              <p:nvPr/>
            </p:nvSpPr>
            <p:spPr>
              <a:xfrm>
                <a:off x="-286920" y="1379520"/>
                <a:ext cx="89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4" name="组合 17"/>
            <p:cNvGrpSpPr/>
            <p:nvPr/>
          </p:nvGrpSpPr>
          <p:grpSpPr>
            <a:xfrm>
              <a:off x="-286920" y="1833120"/>
              <a:ext cx="898560" cy="520560"/>
              <a:chOff x="-286920" y="1833120"/>
              <a:chExt cx="898560" cy="520560"/>
            </a:xfrm>
          </p:grpSpPr>
          <p:sp>
            <p:nvSpPr>
              <p:cNvPr id="75" name="矩形 34"/>
              <p:cNvSpPr/>
              <p:nvPr/>
            </p:nvSpPr>
            <p:spPr>
              <a:xfrm>
                <a:off x="-19800" y="1903680"/>
                <a:ext cx="361800" cy="37692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TextBox 35"/>
              <p:cNvSpPr/>
              <p:nvPr/>
            </p:nvSpPr>
            <p:spPr>
              <a:xfrm>
                <a:off x="-286920" y="1833120"/>
                <a:ext cx="89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" name="组合 19"/>
            <p:cNvGrpSpPr/>
            <p:nvPr/>
          </p:nvGrpSpPr>
          <p:grpSpPr>
            <a:xfrm>
              <a:off x="-286920" y="2286720"/>
              <a:ext cx="898560" cy="520560"/>
              <a:chOff x="-286920" y="2286720"/>
              <a:chExt cx="898560" cy="520560"/>
            </a:xfrm>
          </p:grpSpPr>
          <p:sp>
            <p:nvSpPr>
              <p:cNvPr id="78" name="矩形 32"/>
              <p:cNvSpPr/>
              <p:nvPr/>
            </p:nvSpPr>
            <p:spPr>
              <a:xfrm>
                <a:off x="-19800" y="2357280"/>
                <a:ext cx="361800" cy="37692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TextBox 33"/>
              <p:cNvSpPr/>
              <p:nvPr/>
            </p:nvSpPr>
            <p:spPr>
              <a:xfrm>
                <a:off x="-286920" y="2286720"/>
                <a:ext cx="89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0" name="组合 20"/>
            <p:cNvGrpSpPr/>
            <p:nvPr/>
          </p:nvGrpSpPr>
          <p:grpSpPr>
            <a:xfrm>
              <a:off x="-286920" y="2740320"/>
              <a:ext cx="898560" cy="520560"/>
              <a:chOff x="-286920" y="2740320"/>
              <a:chExt cx="898560" cy="520560"/>
            </a:xfrm>
          </p:grpSpPr>
          <p:sp>
            <p:nvSpPr>
              <p:cNvPr id="81" name="矩形 30"/>
              <p:cNvSpPr/>
              <p:nvPr/>
            </p:nvSpPr>
            <p:spPr>
              <a:xfrm>
                <a:off x="-19800" y="2810880"/>
                <a:ext cx="361800" cy="37692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TextBox 31"/>
              <p:cNvSpPr/>
              <p:nvPr/>
            </p:nvSpPr>
            <p:spPr>
              <a:xfrm>
                <a:off x="-286920" y="2740320"/>
                <a:ext cx="89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4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3" name="组合 21"/>
            <p:cNvGrpSpPr/>
            <p:nvPr/>
          </p:nvGrpSpPr>
          <p:grpSpPr>
            <a:xfrm>
              <a:off x="-286920" y="3194280"/>
              <a:ext cx="898560" cy="520560"/>
              <a:chOff x="-286920" y="3194280"/>
              <a:chExt cx="898560" cy="520560"/>
            </a:xfrm>
          </p:grpSpPr>
          <p:sp>
            <p:nvSpPr>
              <p:cNvPr id="84" name="矩形 28"/>
              <p:cNvSpPr/>
              <p:nvPr/>
            </p:nvSpPr>
            <p:spPr>
              <a:xfrm>
                <a:off x="-19800" y="3264840"/>
                <a:ext cx="361800" cy="37692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TextBox 29"/>
              <p:cNvSpPr/>
              <p:nvPr/>
            </p:nvSpPr>
            <p:spPr>
              <a:xfrm>
                <a:off x="-286920" y="3194280"/>
                <a:ext cx="89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5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6" name="组合 22"/>
            <p:cNvGrpSpPr/>
            <p:nvPr/>
          </p:nvGrpSpPr>
          <p:grpSpPr>
            <a:xfrm>
              <a:off x="-286920" y="3647880"/>
              <a:ext cx="898560" cy="520560"/>
              <a:chOff x="-286920" y="3647880"/>
              <a:chExt cx="898560" cy="520560"/>
            </a:xfrm>
          </p:grpSpPr>
          <p:sp>
            <p:nvSpPr>
              <p:cNvPr id="87" name="矩形 26"/>
              <p:cNvSpPr/>
              <p:nvPr/>
            </p:nvSpPr>
            <p:spPr>
              <a:xfrm>
                <a:off x="-19800" y="3718440"/>
                <a:ext cx="361800" cy="37692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TextBox 27"/>
              <p:cNvSpPr/>
              <p:nvPr/>
            </p:nvSpPr>
            <p:spPr>
              <a:xfrm>
                <a:off x="-286920" y="3647880"/>
                <a:ext cx="89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6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9" name="组合 23"/>
            <p:cNvGrpSpPr/>
            <p:nvPr/>
          </p:nvGrpSpPr>
          <p:grpSpPr>
            <a:xfrm>
              <a:off x="-306360" y="4101480"/>
              <a:ext cx="898560" cy="520560"/>
              <a:chOff x="-306360" y="4101480"/>
              <a:chExt cx="898560" cy="520560"/>
            </a:xfrm>
          </p:grpSpPr>
          <p:sp>
            <p:nvSpPr>
              <p:cNvPr id="90" name="矩形 24"/>
              <p:cNvSpPr/>
              <p:nvPr/>
            </p:nvSpPr>
            <p:spPr>
              <a:xfrm>
                <a:off x="-39240" y="4172040"/>
                <a:ext cx="361800" cy="37692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TextBox 25"/>
              <p:cNvSpPr/>
              <p:nvPr/>
            </p:nvSpPr>
            <p:spPr>
              <a:xfrm>
                <a:off x="-306360" y="4101480"/>
                <a:ext cx="89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7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2" name="TextBox 38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9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40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1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42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43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44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3 0.00093 L -0.40296 0.00155 E">
                                      <p:cBhvr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8" dur="4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22" presetSubtype="2">
                                  <p:stCondLst>
                                    <p:cond delay="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71" dur="4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22" presetSubtype="2">
                                  <p:stCondLst>
                                    <p:cond delay="1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74" dur="4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22" presetSubtype="2">
                                  <p:stCondLst>
                                    <p:cond delay="1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77" dur="4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2" presetSubtype="2">
                                  <p:stCondLst>
                                    <p:cond delay="2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0" dur="4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3" dur="4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6" dur="4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3" presetSubtype="16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5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5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3" presetSubtype="16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5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5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95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00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10"/>
          <p:cNvSpPr/>
          <p:nvPr/>
        </p:nvSpPr>
        <p:spPr>
          <a:xfrm rot="19548000">
            <a:off x="-6787800" y="1281240"/>
            <a:ext cx="1014732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103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TextBox 14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组合 27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115" name="矩形 28"/>
            <p:cNvSpPr/>
            <p:nvPr/>
          </p:nvSpPr>
          <p:spPr>
            <a:xfrm>
              <a:off x="-20160" y="14508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矩形 29"/>
            <p:cNvSpPr/>
            <p:nvPr/>
          </p:nvSpPr>
          <p:spPr>
            <a:xfrm>
              <a:off x="-20160" y="19044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矩形 30"/>
            <p:cNvSpPr/>
            <p:nvPr/>
          </p:nvSpPr>
          <p:spPr>
            <a:xfrm>
              <a:off x="-20160" y="23580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矩形 31"/>
            <p:cNvSpPr/>
            <p:nvPr/>
          </p:nvSpPr>
          <p:spPr>
            <a:xfrm>
              <a:off x="-20160" y="28116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矩形 32"/>
            <p:cNvSpPr/>
            <p:nvPr/>
          </p:nvSpPr>
          <p:spPr>
            <a:xfrm>
              <a:off x="-20160" y="32655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矩形 33"/>
            <p:cNvSpPr/>
            <p:nvPr/>
          </p:nvSpPr>
          <p:spPr>
            <a:xfrm>
              <a:off x="-20160" y="37191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矩形 34"/>
            <p:cNvSpPr/>
            <p:nvPr/>
          </p:nvSpPr>
          <p:spPr>
            <a:xfrm>
              <a:off x="-39600" y="41727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组合 35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123" name="TextBox 3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Box 37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TextBox 3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TextBox 39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TextBox 40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Box 41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TextBox 42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0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52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53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54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55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56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57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58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125" dur="75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127" dur="75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25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7" dur="25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143" dur="1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5" dur="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5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151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3" dur="25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2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159" dur="1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2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25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167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9" dur="25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2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175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77" dur="2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183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85" dur="2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39" name="矩形 53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组合 52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142" name="矩形 12"/>
            <p:cNvSpPr/>
            <p:nvPr/>
          </p:nvSpPr>
          <p:spPr>
            <a:xfrm>
              <a:off x="-20160" y="14508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矩形 22"/>
            <p:cNvSpPr/>
            <p:nvPr/>
          </p:nvSpPr>
          <p:spPr>
            <a:xfrm>
              <a:off x="-20160" y="19044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矩形 27"/>
            <p:cNvSpPr/>
            <p:nvPr/>
          </p:nvSpPr>
          <p:spPr>
            <a:xfrm>
              <a:off x="-20160" y="23580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矩形 32"/>
            <p:cNvSpPr/>
            <p:nvPr/>
          </p:nvSpPr>
          <p:spPr>
            <a:xfrm>
              <a:off x="-20160" y="28116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矩形 37"/>
            <p:cNvSpPr/>
            <p:nvPr/>
          </p:nvSpPr>
          <p:spPr>
            <a:xfrm>
              <a:off x="-20160" y="32655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矩形 42"/>
            <p:cNvSpPr/>
            <p:nvPr/>
          </p:nvSpPr>
          <p:spPr>
            <a:xfrm>
              <a:off x="-20160" y="37191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矩形 47"/>
            <p:cNvSpPr/>
            <p:nvPr/>
          </p:nvSpPr>
          <p:spPr>
            <a:xfrm>
              <a:off x="-39600" y="41727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组合 51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150" name="TextBox 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Box 23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TextBox 2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TextBox 33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TextBox 38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TextBox 43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TextBox 48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7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34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36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9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41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44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6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49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66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10"/>
          <p:cNvSpPr/>
          <p:nvPr/>
        </p:nvSpPr>
        <p:spPr>
          <a:xfrm rot="19548000">
            <a:off x="-6787800" y="1281240"/>
            <a:ext cx="1014732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8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169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TextBox 14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0" name="组合 27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181" name="矩形 28"/>
            <p:cNvSpPr/>
            <p:nvPr/>
          </p:nvSpPr>
          <p:spPr>
            <a:xfrm>
              <a:off x="-20160" y="14508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矩形 29"/>
            <p:cNvSpPr/>
            <p:nvPr/>
          </p:nvSpPr>
          <p:spPr>
            <a:xfrm>
              <a:off x="-20160" y="19044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矩形 30"/>
            <p:cNvSpPr/>
            <p:nvPr/>
          </p:nvSpPr>
          <p:spPr>
            <a:xfrm>
              <a:off x="-20160" y="23580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矩形 31"/>
            <p:cNvSpPr/>
            <p:nvPr/>
          </p:nvSpPr>
          <p:spPr>
            <a:xfrm>
              <a:off x="-20160" y="28116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矩形 32"/>
            <p:cNvSpPr/>
            <p:nvPr/>
          </p:nvSpPr>
          <p:spPr>
            <a:xfrm>
              <a:off x="-20160" y="32655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矩形 33"/>
            <p:cNvSpPr/>
            <p:nvPr/>
          </p:nvSpPr>
          <p:spPr>
            <a:xfrm>
              <a:off x="-20160" y="37191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矩形 34"/>
            <p:cNvSpPr/>
            <p:nvPr/>
          </p:nvSpPr>
          <p:spPr>
            <a:xfrm>
              <a:off x="-39600" y="41727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组合 35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189" name="TextBox 3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TextBox 37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Box 3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TextBox 39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TextBox 40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TextBox 41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Box 42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52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53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54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55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56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57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58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192" dur="75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194" dur="75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5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25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25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25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210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12" dur="25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25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218" dur="1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0" dur="25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25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226" dur="1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8" dur="25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25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234" dur="1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36" dur="25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25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242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44" dur="25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25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250" dur="1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2" dur="25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05" name="矩形 29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7" name="组合 52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208" name="矩形 12"/>
            <p:cNvSpPr/>
            <p:nvPr/>
          </p:nvSpPr>
          <p:spPr>
            <a:xfrm>
              <a:off x="-20160" y="14508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矩形 22"/>
            <p:cNvSpPr/>
            <p:nvPr/>
          </p:nvSpPr>
          <p:spPr>
            <a:xfrm>
              <a:off x="-20160" y="19044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矩形 27"/>
            <p:cNvSpPr/>
            <p:nvPr/>
          </p:nvSpPr>
          <p:spPr>
            <a:xfrm>
              <a:off x="-20160" y="23580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矩形 32"/>
            <p:cNvSpPr/>
            <p:nvPr/>
          </p:nvSpPr>
          <p:spPr>
            <a:xfrm>
              <a:off x="-20160" y="28116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矩形 37"/>
            <p:cNvSpPr/>
            <p:nvPr/>
          </p:nvSpPr>
          <p:spPr>
            <a:xfrm>
              <a:off x="-20160" y="32655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矩形 42"/>
            <p:cNvSpPr/>
            <p:nvPr/>
          </p:nvSpPr>
          <p:spPr>
            <a:xfrm>
              <a:off x="-20160" y="37191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矩形 47"/>
            <p:cNvSpPr/>
            <p:nvPr/>
          </p:nvSpPr>
          <p:spPr>
            <a:xfrm>
              <a:off x="-39600" y="41727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组合 51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216" name="TextBox 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TextBox 23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TextBox 2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TextBox 33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TextBox 38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TextBox 43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TextBox 48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3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34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36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39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41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44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46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49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455292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33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10"/>
          <p:cNvSpPr/>
          <p:nvPr/>
        </p:nvSpPr>
        <p:spPr>
          <a:xfrm rot="19548000">
            <a:off x="-6787800" y="1281240"/>
            <a:ext cx="1014732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236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TextBox 14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7" name="组合 27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248" name="矩形 28"/>
            <p:cNvSpPr/>
            <p:nvPr/>
          </p:nvSpPr>
          <p:spPr>
            <a:xfrm>
              <a:off x="-20160" y="14508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矩形 29"/>
            <p:cNvSpPr/>
            <p:nvPr/>
          </p:nvSpPr>
          <p:spPr>
            <a:xfrm>
              <a:off x="-20160" y="19044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矩形 30"/>
            <p:cNvSpPr/>
            <p:nvPr/>
          </p:nvSpPr>
          <p:spPr>
            <a:xfrm>
              <a:off x="-20160" y="23580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矩形 31"/>
            <p:cNvSpPr/>
            <p:nvPr/>
          </p:nvSpPr>
          <p:spPr>
            <a:xfrm>
              <a:off x="-20160" y="28116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矩形 32"/>
            <p:cNvSpPr/>
            <p:nvPr/>
          </p:nvSpPr>
          <p:spPr>
            <a:xfrm>
              <a:off x="-20160" y="32655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矩形 33"/>
            <p:cNvSpPr/>
            <p:nvPr/>
          </p:nvSpPr>
          <p:spPr>
            <a:xfrm>
              <a:off x="-20160" y="37191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矩形 34"/>
            <p:cNvSpPr/>
            <p:nvPr/>
          </p:nvSpPr>
          <p:spPr>
            <a:xfrm>
              <a:off x="-39600" y="41727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组合 35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256" name="TextBox 3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TextBox 37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TextBox 3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TextBox 39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TextBox 40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TextBox 41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TextBox 42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3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52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53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54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55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56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57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58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259" dur="75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261" dur="75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25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25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1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1" dur="25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25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277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9" dur="25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25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285" dur="1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87" dur="25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2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293" dur="1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5" dur="2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25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301" dur="1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03" dur="25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25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309" dur="1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25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2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317" dur="1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9" dur="2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72" name="矩形 30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5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4" name="组合 52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275" name="矩形 12"/>
            <p:cNvSpPr/>
            <p:nvPr/>
          </p:nvSpPr>
          <p:spPr>
            <a:xfrm>
              <a:off x="-20160" y="14508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矩形 22"/>
            <p:cNvSpPr/>
            <p:nvPr/>
          </p:nvSpPr>
          <p:spPr>
            <a:xfrm>
              <a:off x="-20160" y="19044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矩形 27"/>
            <p:cNvSpPr/>
            <p:nvPr/>
          </p:nvSpPr>
          <p:spPr>
            <a:xfrm>
              <a:off x="-20160" y="23580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矩形 32"/>
            <p:cNvSpPr/>
            <p:nvPr/>
          </p:nvSpPr>
          <p:spPr>
            <a:xfrm>
              <a:off x="-20160" y="28116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矩形 37"/>
            <p:cNvSpPr/>
            <p:nvPr/>
          </p:nvSpPr>
          <p:spPr>
            <a:xfrm>
              <a:off x="-20160" y="32655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矩形 42"/>
            <p:cNvSpPr/>
            <p:nvPr/>
          </p:nvSpPr>
          <p:spPr>
            <a:xfrm>
              <a:off x="-20160" y="37191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矩形 47"/>
            <p:cNvSpPr/>
            <p:nvPr/>
          </p:nvSpPr>
          <p:spPr>
            <a:xfrm>
              <a:off x="-39600" y="41727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2" name="组合 51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283" name="TextBox 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TextBox 23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TextBox 2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TextBox 33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TextBox 38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TextBox 43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TextBox 48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0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34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36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39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41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44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46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49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99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矩形 10"/>
          <p:cNvSpPr/>
          <p:nvPr/>
        </p:nvSpPr>
        <p:spPr>
          <a:xfrm rot="19548000">
            <a:off x="-6787800" y="1281240"/>
            <a:ext cx="1014732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302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TextBox 14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3" name="组合 27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314" name="矩形 28"/>
            <p:cNvSpPr/>
            <p:nvPr/>
          </p:nvSpPr>
          <p:spPr>
            <a:xfrm>
              <a:off x="-20160" y="14508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矩形 29"/>
            <p:cNvSpPr/>
            <p:nvPr/>
          </p:nvSpPr>
          <p:spPr>
            <a:xfrm>
              <a:off x="-20160" y="19044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矩形 30"/>
            <p:cNvSpPr/>
            <p:nvPr/>
          </p:nvSpPr>
          <p:spPr>
            <a:xfrm>
              <a:off x="-20160" y="23580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矩形 31"/>
            <p:cNvSpPr/>
            <p:nvPr/>
          </p:nvSpPr>
          <p:spPr>
            <a:xfrm>
              <a:off x="-20160" y="28116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矩形 32"/>
            <p:cNvSpPr/>
            <p:nvPr/>
          </p:nvSpPr>
          <p:spPr>
            <a:xfrm>
              <a:off x="-20160" y="32655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矩形 33"/>
            <p:cNvSpPr/>
            <p:nvPr/>
          </p:nvSpPr>
          <p:spPr>
            <a:xfrm>
              <a:off x="-20160" y="37191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矩形 34"/>
            <p:cNvSpPr/>
            <p:nvPr/>
          </p:nvSpPr>
          <p:spPr>
            <a:xfrm>
              <a:off x="-39600" y="41727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1" name="组合 35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322" name="TextBox 3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TextBox 37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TextBox 3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TextBox 39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TextBox 40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TextBox 41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TextBox 42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9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52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53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54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55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56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57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58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326" dur="75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328" dur="75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25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25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1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38" dur="25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25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344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46" dur="25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5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352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54" dur="25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25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360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62" dur="25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25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368" dur="1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0" dur="25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25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376" dur="1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25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25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384" dur="1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86" dur="25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05:50:4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03T09:35:15Z</dcterms:modified>
  <cp:revision>1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