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B82-90D6-40B2-9FDD-E184AFC4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BE8-D715-4915-A4AE-F474393E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2F8-8B1C-4036-99D5-A26324EA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950-B34D-4F0E-A606-B56536C9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06C-3FFF-4529-9444-44CAFCE7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BF4-0516-4812-AE93-C0C0B99E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A8C-1FF5-48EE-9B97-2EA2B04E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0FE-5EAE-41DC-AAFB-F70B362B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96F-9E43-4401-85AA-AD0E45E2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791-199E-4AE9-9E71-3423AA78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B1B-1667-4A1A-AFD1-A8FFD34B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0BE-8F2B-4937-A3CE-394CA61A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D416-A3AF-45A5-B3EE-CFD5DD778E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3" descr="感恩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Oval 40"/>
          <p:cNvSpPr/>
          <p:nvPr/>
        </p:nvSpPr>
        <p:spPr>
          <a:xfrm>
            <a:off x="357120" y="571680"/>
            <a:ext cx="3657600" cy="5333760"/>
          </a:xfrm>
          <a:prstGeom prst="ellipse">
            <a:avLst/>
          </a:prstGeom>
          <a:solidFill>
            <a:srgbClr val="ffffff">
              <a:alpha val="20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  <a:ea typeface="楷体"/>
              </a:rPr>
              <a:t> </a:t>
            </a:r>
            <a:r>
              <a:rPr b="0" lang="zh-CN" sz="8800" spc="-1" strike="noStrike">
                <a:solidFill>
                  <a:srgbClr val="000000"/>
                </a:solidFill>
                <a:latin typeface="Calibri"/>
                <a:ea typeface="楷体"/>
              </a:rPr>
              <a:t>感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  <a:ea typeface="楷体"/>
              </a:rPr>
              <a:t> </a:t>
            </a:r>
            <a:r>
              <a:rPr b="0" lang="zh-CN" sz="8800" spc="-1" strike="noStrike">
                <a:solidFill>
                  <a:srgbClr val="000000"/>
                </a:solidFill>
                <a:latin typeface="Calibri"/>
                <a:ea typeface="楷体"/>
              </a:rPr>
              <a:t>父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轻音乐-迷情仙境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矩形 1"/>
          <p:cNvSpPr/>
          <p:nvPr/>
        </p:nvSpPr>
        <p:spPr>
          <a:xfrm>
            <a:off x="1715760" y="35712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感恩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节日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4" descr="001aa0e28af90b9ee85505.jpg"/>
          <p:cNvPicPr/>
          <p:nvPr/>
        </p:nvPicPr>
        <p:blipFill>
          <a:blip r:embed="rId2"/>
          <a:stretch/>
        </p:blipFill>
        <p:spPr>
          <a:xfrm>
            <a:off x="2928960" y="785880"/>
            <a:ext cx="5079960" cy="36702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794960" y="785880"/>
            <a:ext cx="6069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可这又何尝不是一种爱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6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6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3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3"/>
          <p:cNvSpPr/>
          <p:nvPr/>
        </p:nvSpPr>
        <p:spPr>
          <a:xfrm>
            <a:off x="250920" y="260280"/>
            <a:ext cx="357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许，你会觉得他们很烦，会觉得他们很  啰嗦，不了解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但请不要责怪他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push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4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971640" y="2997360"/>
            <a:ext cx="59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世界上有一些事情，当我们年轻的时候无法懂得，当我们懂得的时候，已不再年轻。世界上有些东西可以弥补，有些东西永无弥补。父母的爱，便是我们无法偿还的</a:t>
            </a:r>
            <a:r>
              <a:rPr b="0" lang="en-US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heel spokes="8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3" descr="7ab6b07b110483706e3d5261cce7befa.jpg"/>
          <p:cNvPicPr/>
          <p:nvPr/>
        </p:nvPicPr>
        <p:blipFill>
          <a:blip r:embed="rId2"/>
          <a:stretch/>
        </p:blipFill>
        <p:spPr>
          <a:xfrm>
            <a:off x="2771640" y="260280"/>
            <a:ext cx="4372200" cy="3305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642960" y="150012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所以，让我们学会</a:t>
            </a: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5" descr="感恩1.jpg"/>
          <p:cNvPicPr/>
          <p:nvPr/>
        </p:nvPicPr>
        <p:blipFill>
          <a:blip r:embed="rId3"/>
          <a:stretch/>
        </p:blipFill>
        <p:spPr>
          <a:xfrm>
            <a:off x="250920" y="3552840"/>
            <a:ext cx="4371840" cy="33051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" descr="5e1c0d4e7dd1c365727ffbfa96fcff23.jpg"/>
          <p:cNvPicPr/>
          <p:nvPr/>
        </p:nvPicPr>
        <p:blipFill>
          <a:blip r:embed="rId4"/>
          <a:stretch/>
        </p:blipFill>
        <p:spPr>
          <a:xfrm>
            <a:off x="4643280" y="3552840"/>
            <a:ext cx="4372200" cy="33051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trips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3"/>
          <p:cNvSpPr/>
          <p:nvPr/>
        </p:nvSpPr>
        <p:spPr>
          <a:xfrm>
            <a:off x="2500200" y="0"/>
            <a:ext cx="4286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恩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谢你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把我带到了这个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谢你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给了我自由的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谢你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谆谆的教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殷殷的嘱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我长大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而你们却老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谁言寸草心 报得三春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我会向你们献上一片诚挚的孝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祝你们永远健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871640" y="6354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blinds dir="horz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矩形 1" descr=""/>
          <p:cNvPicPr/>
          <p:nvPr/>
        </p:nvPicPr>
        <p:blipFill>
          <a:blip r:embed="rId2"/>
          <a:stretch/>
        </p:blipFill>
        <p:spPr>
          <a:xfrm>
            <a:off x="1152360" y="974880"/>
            <a:ext cx="6748560" cy="2000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hecker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内容占位符 5" descr="200705131700028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651960" y="500040"/>
            <a:ext cx="60696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记得小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" descr="dbef8d8af937d7a557635c15c1e490f9.jpg"/>
          <p:cNvPicPr/>
          <p:nvPr/>
        </p:nvPicPr>
        <p:blipFill>
          <a:blip r:embed="rId2"/>
          <a:stretch/>
        </p:blipFill>
        <p:spPr>
          <a:xfrm>
            <a:off x="1643040" y="2286000"/>
            <a:ext cx="3795840" cy="3786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871640" y="6354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内容占位符 3" descr="20100102192818446.jpg"/>
          <p:cNvPicPr/>
          <p:nvPr/>
        </p:nvPicPr>
        <p:blipFill>
          <a:blip r:embed="rId2"/>
          <a:stretch/>
        </p:blipFill>
        <p:spPr>
          <a:xfrm>
            <a:off x="3571920" y="500040"/>
            <a:ext cx="4429080" cy="33735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000bcdb955590c646bb208.jpg"/>
          <p:cNvPicPr/>
          <p:nvPr/>
        </p:nvPicPr>
        <p:blipFill>
          <a:blip r:embed="rId3"/>
          <a:stretch/>
        </p:blipFill>
        <p:spPr>
          <a:xfrm>
            <a:off x="539640" y="3357720"/>
            <a:ext cx="3759480" cy="2933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500040" y="178596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是他们给你喂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checke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内容占位符 3" descr="2_135957_1.jpg"/>
          <p:cNvPicPr/>
          <p:nvPr/>
        </p:nvPicPr>
        <p:blipFill>
          <a:blip r:embed="rId2"/>
          <a:stretch/>
        </p:blipFill>
        <p:spPr>
          <a:xfrm>
            <a:off x="1258920" y="1484280"/>
            <a:ext cx="4762440" cy="3971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68360" y="6922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教你写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Ba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内容占位符 3" descr="xinsrc_1820504160818468318915.jpg"/>
          <p:cNvPicPr/>
          <p:nvPr/>
        </p:nvPicPr>
        <p:blipFill>
          <a:blip r:embed="rId2"/>
          <a:stretch/>
        </p:blipFill>
        <p:spPr>
          <a:xfrm>
            <a:off x="3714840" y="642960"/>
            <a:ext cx="361152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714240" y="185724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教你做人的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5" descr="xin_42110428105332310931.jpg"/>
          <p:cNvPicPr/>
          <p:nvPr/>
        </p:nvPicPr>
        <p:blipFill>
          <a:blip r:embed="rId3"/>
          <a:stretch/>
        </p:blipFill>
        <p:spPr>
          <a:xfrm>
            <a:off x="857160" y="2786040"/>
            <a:ext cx="3171960" cy="31528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mb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内容占位符 3" descr="3359966796995784370.jpg"/>
          <p:cNvPicPr/>
          <p:nvPr/>
        </p:nvPicPr>
        <p:blipFill>
          <a:blip r:embed="rId2"/>
          <a:stretch/>
        </p:blipFill>
        <p:spPr>
          <a:xfrm>
            <a:off x="3143160" y="1071720"/>
            <a:ext cx="5072040" cy="3357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796680" y="642960"/>
            <a:ext cx="10335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下雨天，是他们给你送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">
    <p:blinds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6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6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内容占位符 3" descr="1293589818099.jpg"/>
          <p:cNvPicPr/>
          <p:nvPr/>
        </p:nvPicPr>
        <p:blipFill>
          <a:blip r:embed="rId2"/>
          <a:stretch/>
        </p:blipFill>
        <p:spPr>
          <a:xfrm>
            <a:off x="2286000" y="1571760"/>
            <a:ext cx="471492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720720" y="714240"/>
            <a:ext cx="103356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7933c"/>
                </a:solidFill>
                <a:latin typeface="华文新魏"/>
                <a:ea typeface="华文新魏"/>
              </a:rPr>
              <a:t>天冷时，是他们给你送来温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4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4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4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4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内容占位符 3" descr="W020080319340062947223.jpg"/>
          <p:cNvPicPr/>
          <p:nvPr/>
        </p:nvPicPr>
        <p:blipFill>
          <a:blip r:embed="rId2"/>
          <a:stretch/>
        </p:blipFill>
        <p:spPr>
          <a:xfrm>
            <a:off x="4214880" y="214200"/>
            <a:ext cx="3786120" cy="3357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28760" y="1071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是他们，给我们一个快乐的童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5" descr="Img241403439.jpg"/>
          <p:cNvPicPr/>
          <p:nvPr/>
        </p:nvPicPr>
        <p:blipFill>
          <a:blip r:embed="rId3"/>
          <a:stretch/>
        </p:blipFill>
        <p:spPr>
          <a:xfrm>
            <a:off x="1619280" y="3141720"/>
            <a:ext cx="2305080" cy="30481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split dir="out" orient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内容占位符 3" descr="4eb5413c-8027-4354-831d-9a6ac8cef82b.jpg"/>
          <p:cNvPicPr/>
          <p:nvPr/>
        </p:nvPicPr>
        <p:blipFill>
          <a:blip r:embed="rId2"/>
          <a:stretch/>
        </p:blipFill>
        <p:spPr>
          <a:xfrm>
            <a:off x="5076720" y="1341360"/>
            <a:ext cx="3457800" cy="40957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" descr="2009459536681.jpg"/>
          <p:cNvPicPr/>
          <p:nvPr/>
        </p:nvPicPr>
        <p:blipFill>
          <a:blip r:embed="rId3"/>
          <a:stretch/>
        </p:blipFill>
        <p:spPr>
          <a:xfrm>
            <a:off x="1979640" y="2637000"/>
            <a:ext cx="2786040" cy="364320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357120" y="17146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华文新魏"/>
                <a:ea typeface="华文新魏"/>
              </a:rPr>
              <a:t>有时，他们会对我们发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871640" y="6138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amond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3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2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2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10:07:2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53:52Z</dcterms:modified>
  <cp:revision>6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