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634-B311-4A46-861F-957D75B9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C65-46CB-4536-8571-4479507D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96D5-AEBC-4B2C-95AC-358E0E21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561-0160-4CE2-9436-1D9CC0A6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32FC-23AD-4087-92EA-F41BD2B5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DBD-BD92-419A-9594-FA399636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D68F-8AD4-409D-B85C-49FF6198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707A-92FB-4E02-93FE-E23E5FC1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6045-EC52-4491-951A-585408FD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59F-1855-4AEB-8894-E4B1095F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41E-BD4C-4238-BC3D-B3B98A60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0A2-FCE2-446D-9847-4229DB17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A503-3D02-406E-AAA7-B07253CF3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2004217163450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9528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矩形 1" descr=""/>
          <p:cNvPicPr/>
          <p:nvPr/>
        </p:nvPicPr>
        <p:blipFill>
          <a:blip r:embed="rId5"/>
          <a:stretch/>
        </p:blipFill>
        <p:spPr>
          <a:xfrm>
            <a:off x="684360" y="3573360"/>
            <a:ext cx="7877160" cy="1017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10880" y="2276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古诗两首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103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2" descr="燕子图.jpg"/>
          <p:cNvPicPr/>
          <p:nvPr/>
        </p:nvPicPr>
        <p:blipFill>
          <a:blip r:embed="rId1"/>
          <a:stretch/>
        </p:blipFill>
        <p:spPr>
          <a:xfrm>
            <a:off x="500040" y="285840"/>
            <a:ext cx="8001000" cy="621504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1" descr=""/>
          <p:cNvPicPr/>
          <p:nvPr/>
        </p:nvPicPr>
        <p:blipFill>
          <a:blip r:embed="rId2"/>
          <a:stretch/>
        </p:blipFill>
        <p:spPr>
          <a:xfrm>
            <a:off x="1116000" y="646200"/>
            <a:ext cx="675324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332000" y="620640"/>
            <a:ext cx="70563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黄鹤楼送孟浩然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之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广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〕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李    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103480" y="2503440"/>
            <a:ext cx="11732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人物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事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地点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987640" y="23954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孟浩然和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987640" y="303840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李白送孟浩然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去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广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87640" y="3753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黄鹤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6"/>
          <p:cNvSpPr/>
          <p:nvPr/>
        </p:nvSpPr>
        <p:spPr>
          <a:xfrm>
            <a:off x="2313000" y="331308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4" descr="黄鹤楼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53" name="曲线连接符 13"/>
          <p:cNvCxnSpPr/>
          <p:nvPr/>
        </p:nvCxnSpPr>
        <p:spPr>
          <a:xfrm flipH="1" flipV="1" rot="5400000">
            <a:off x="1784520" y="3999960"/>
            <a:ext cx="929520" cy="78660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曲线连接符 15"/>
          <p:cNvCxnSpPr/>
          <p:nvPr/>
        </p:nvCxnSpPr>
        <p:spPr>
          <a:xfrm flipH="1" flipV="1" rot="5400000">
            <a:off x="4821120" y="1463760"/>
            <a:ext cx="1500840" cy="1143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55" name="组合 16"/>
          <p:cNvGrpSpPr/>
          <p:nvPr/>
        </p:nvGrpSpPr>
        <p:grpSpPr>
          <a:xfrm>
            <a:off x="1500120" y="356400"/>
            <a:ext cx="2643120" cy="1143360"/>
            <a:chOff x="1500120" y="356400"/>
            <a:chExt cx="2643120" cy="1143360"/>
          </a:xfrm>
        </p:grpSpPr>
        <p:cxnSp>
          <p:nvCxnSpPr>
            <p:cNvPr id="56" name="直接箭头连接符 3"/>
            <p:cNvCxnSpPr/>
            <p:nvPr/>
          </p:nvCxnSpPr>
          <p:spPr>
            <a:xfrm>
              <a:off x="1928520" y="998640"/>
              <a:ext cx="128664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" name="直接箭头连接符 7"/>
            <p:cNvCxnSpPr/>
            <p:nvPr/>
          </p:nvCxnSpPr>
          <p:spPr>
            <a:xfrm flipV="1">
              <a:off x="2498760" y="356400"/>
              <a:ext cx="3600" cy="11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8" name="TextBox 8"/>
            <p:cNvSpPr/>
            <p:nvPr/>
          </p:nvSpPr>
          <p:spPr>
            <a:xfrm>
              <a:off x="1500120" y="84420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11"/>
            <p:cNvSpPr/>
            <p:nvPr/>
          </p:nvSpPr>
          <p:spPr>
            <a:xfrm>
              <a:off x="3286080" y="856440"/>
              <a:ext cx="8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Picture 12" descr="D:\Program Files\Microsoft Office\MEDIA\CAGCAT10\j0195534.wmf"/>
          <p:cNvPicPr/>
          <p:nvPr/>
        </p:nvPicPr>
        <p:blipFill>
          <a:blip r:embed="rId2"/>
          <a:stretch/>
        </p:blipFill>
        <p:spPr>
          <a:xfrm>
            <a:off x="1857240" y="4857840"/>
            <a:ext cx="857520" cy="1071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D:\Program Files\Microsoft Office\MEDIA\CAGCAT10\j0292152.wmf"/>
          <p:cNvPicPr/>
          <p:nvPr/>
        </p:nvPicPr>
        <p:blipFill>
          <a:blip r:embed="rId3"/>
          <a:stretch/>
        </p:blipFill>
        <p:spPr>
          <a:xfrm>
            <a:off x="785880" y="5286240"/>
            <a:ext cx="649080" cy="770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D:\Program Files\Microsoft Office\MEDIA\CAGCAT10\j0297185.wmf"/>
          <p:cNvPicPr/>
          <p:nvPr/>
        </p:nvPicPr>
        <p:blipFill>
          <a:blip r:embed="rId4"/>
          <a:stretch/>
        </p:blipFill>
        <p:spPr>
          <a:xfrm>
            <a:off x="6643800" y="1429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63" name="TextBox 12"/>
          <p:cNvSpPr/>
          <p:nvPr/>
        </p:nvSpPr>
        <p:spPr>
          <a:xfrm rot="19437600">
            <a:off x="1256760" y="296820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长                            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05 -0.0564 C 0.02952 -0.09154 0.03715 -0.12598 0.05538 -0.14817 C 0.07361 -0.17037 0.10729 -0.16667 0.1309 -0.18955 C 0.15452 -0.2129 0.1757 -0.26607 0.19757 -0.28733 C 0.21945 -0.3086 0.24202 -0.30606 0.26198 -0.31692 C 0.28195 -0.32779 0.29722 -0.33749 0.31754 -0.35229 C 0.33785 -0.36708 0.36059 -0.38789 0.3842 -0.40592 C 0.40781 -0.42349 0.44445 -0.43551 0.45972 -0.45885 C 0.475 -0.48266 0.4632 -0.52381 0.47535 -0.54762 C 0.4875 -0.57143 0.51979 -0.5883 0.53316 -0.60102 C 0.54653 -0.61373 0.54983 -0.60726 0.55538 -0.6246 C 0.56094 -0.64193 0.54983 -0.68239 0.56649 -0.70458 C 0.58316 -0.72677 0.64236 -0.75035 0.65538 -0.75774 C 0.6684 -0.76514 0.64462 -0.74988 0.64427 -0.74896 E">
                                      <p:cBhvr>
                                        <p:cTn id="35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258920" y="112536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鹤    孟   陵   辞   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84472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564000" y="836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370400" y="865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219640" y="901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867280" y="9018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2357280" y="2852640"/>
            <a:ext cx="595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孟   浩   陵   辞   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500040" y="11430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要求读的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428760" y="2928960"/>
            <a:ext cx="16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要求写的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357120" y="42876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000"/>
                </a:solidFill>
                <a:latin typeface="Arial"/>
              </a:rPr>
              <a:t>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000080" y="8571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学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928800" y="178596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根据课后注解理解诗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体会诗歌的感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623F-BAE3-4EDD-AB24-3E5580A958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6"/>
          <p:cNvSpPr/>
          <p:nvPr/>
        </p:nvSpPr>
        <p:spPr>
          <a:xfrm>
            <a:off x="2068560" y="4762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－ 老朋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016000" y="141300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－向西辞别（面向西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058840" y="2637000"/>
            <a:ext cx="37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－烟雾迷蒙   繁花似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130480" y="3500280"/>
            <a:ext cx="23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－顺水而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71800" y="450072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－消失   没有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201760" y="564372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－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1143000" y="428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故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1143000" y="141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西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1428840" y="564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1357200" y="4500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1357200" y="3500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1214280" y="2610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烟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8" descr="D:\素材库\图案\按钮背景\button106.gi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763120" y="6477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5" descr="图片1.png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14200" y="150012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帆影已经消失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··········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214200" y="20001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诗人还在翘首相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285840" y="271476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似乎要把自己对朋友的深深思念之情托付江水，陪伴行舟，将友人送到目的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285840" y="4143240"/>
            <a:ext cx="44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此时此刻，李白在想什么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？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芙蓉江"/>
          <p:cNvPicPr/>
          <p:nvPr/>
        </p:nvPicPr>
        <p:blipFill>
          <a:blip r:embed="rId1"/>
          <a:stretch/>
        </p:blipFill>
        <p:spPr>
          <a:xfrm>
            <a:off x="468360" y="692280"/>
            <a:ext cx="7848720" cy="58896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684360" y="5157720"/>
            <a:ext cx="73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ff"/>
                </a:solidFill>
                <a:latin typeface="宋体"/>
              </a:rPr>
              <a:t>相见时难</a:t>
            </a:r>
            <a:r>
              <a:rPr b="1" lang="zh-CN" sz="9600" spc="-1" strike="noStrike">
                <a:solidFill>
                  <a:srgbClr val="ff0000"/>
                </a:solidFill>
                <a:latin typeface="宋体"/>
              </a:rPr>
              <a:t>别</a:t>
            </a:r>
            <a:r>
              <a:rPr b="1" lang="zh-CN" sz="7200" spc="-1" strike="noStrike">
                <a:solidFill>
                  <a:srgbClr val="ff66ff"/>
                </a:solidFill>
                <a:latin typeface="宋体"/>
              </a:rPr>
              <a:t>亦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相见时难别亦难.mp3" descr=""/>
          <p:cNvPicPr/>
          <p:nvPr/>
        </p:nvPicPr>
        <p:blipFill>
          <a:blip r:embed="rId2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6804000" y="1773360"/>
            <a:ext cx="36036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659640" y="2205000"/>
            <a:ext cx="7207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6804000" y="2708280"/>
            <a:ext cx="50472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948360" y="1052640"/>
            <a:ext cx="93672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6804000" y="3213000"/>
            <a:ext cx="2890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 flipV="1">
            <a:off x="6732720" y="3068640"/>
            <a:ext cx="985680" cy="20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084720" y="1844640"/>
            <a:ext cx="574920" cy="324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5364000" y="3716280"/>
            <a:ext cx="792360" cy="15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364000" y="2708280"/>
            <a:ext cx="648000" cy="115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5270400" y="1778040"/>
            <a:ext cx="663840" cy="977760"/>
          </a:xfrm>
          <a:custGeom>
            <a:avLst/>
            <a:gdLst/>
            <a:ahLst/>
            <a:rect l="l" t="t" r="r" b="b"/>
            <a:pathLst>
              <a:path w="418" h="616">
                <a:moveTo>
                  <a:pt x="270" y="584"/>
                </a:moveTo>
                <a:cubicBezTo>
                  <a:pt x="228" y="578"/>
                  <a:pt x="181" y="582"/>
                  <a:pt x="144" y="561"/>
                </a:cubicBezTo>
                <a:cubicBezTo>
                  <a:pt x="127" y="552"/>
                  <a:pt x="97" y="529"/>
                  <a:pt x="97" y="529"/>
                </a:cubicBezTo>
                <a:cubicBezTo>
                  <a:pt x="86" y="513"/>
                  <a:pt x="76" y="498"/>
                  <a:pt x="65" y="482"/>
                </a:cubicBezTo>
                <a:cubicBezTo>
                  <a:pt x="60" y="474"/>
                  <a:pt x="49" y="458"/>
                  <a:pt x="49" y="458"/>
                </a:cubicBezTo>
                <a:cubicBezTo>
                  <a:pt x="54" y="336"/>
                  <a:pt x="0" y="220"/>
                  <a:pt x="120" y="245"/>
                </a:cubicBezTo>
                <a:cubicBezTo>
                  <a:pt x="117" y="234"/>
                  <a:pt x="116" y="223"/>
                  <a:pt x="112" y="213"/>
                </a:cubicBezTo>
                <a:cubicBezTo>
                  <a:pt x="108" y="205"/>
                  <a:pt x="98" y="199"/>
                  <a:pt x="97" y="190"/>
                </a:cubicBezTo>
                <a:cubicBezTo>
                  <a:pt x="92" y="156"/>
                  <a:pt x="121" y="135"/>
                  <a:pt x="144" y="119"/>
                </a:cubicBezTo>
                <a:cubicBezTo>
                  <a:pt x="163" y="62"/>
                  <a:pt x="174" y="80"/>
                  <a:pt x="136" y="56"/>
                </a:cubicBezTo>
                <a:cubicBezTo>
                  <a:pt x="183" y="25"/>
                  <a:pt x="235" y="39"/>
                  <a:pt x="286" y="56"/>
                </a:cubicBezTo>
                <a:cubicBezTo>
                  <a:pt x="289" y="45"/>
                  <a:pt x="287" y="33"/>
                  <a:pt x="294" y="24"/>
                </a:cubicBezTo>
                <a:cubicBezTo>
                  <a:pt x="313" y="0"/>
                  <a:pt x="350" y="30"/>
                  <a:pt x="365" y="40"/>
                </a:cubicBezTo>
                <a:cubicBezTo>
                  <a:pt x="368" y="56"/>
                  <a:pt x="363" y="75"/>
                  <a:pt x="373" y="87"/>
                </a:cubicBezTo>
                <a:cubicBezTo>
                  <a:pt x="382" y="97"/>
                  <a:pt x="404" y="84"/>
                  <a:pt x="412" y="95"/>
                </a:cubicBezTo>
                <a:cubicBezTo>
                  <a:pt x="418" y="103"/>
                  <a:pt x="400" y="110"/>
                  <a:pt x="396" y="119"/>
                </a:cubicBezTo>
                <a:cubicBezTo>
                  <a:pt x="392" y="126"/>
                  <a:pt x="390" y="134"/>
                  <a:pt x="388" y="142"/>
                </a:cubicBezTo>
                <a:cubicBezTo>
                  <a:pt x="375" y="184"/>
                  <a:pt x="354" y="221"/>
                  <a:pt x="341" y="261"/>
                </a:cubicBezTo>
                <a:cubicBezTo>
                  <a:pt x="344" y="306"/>
                  <a:pt x="343" y="351"/>
                  <a:pt x="349" y="395"/>
                </a:cubicBezTo>
                <a:cubicBezTo>
                  <a:pt x="351" y="411"/>
                  <a:pt x="365" y="442"/>
                  <a:pt x="365" y="442"/>
                </a:cubicBezTo>
                <a:cubicBezTo>
                  <a:pt x="350" y="487"/>
                  <a:pt x="367" y="540"/>
                  <a:pt x="349" y="584"/>
                </a:cubicBezTo>
                <a:cubicBezTo>
                  <a:pt x="343" y="599"/>
                  <a:pt x="318" y="595"/>
                  <a:pt x="302" y="600"/>
                </a:cubicBezTo>
                <a:cubicBezTo>
                  <a:pt x="270" y="611"/>
                  <a:pt x="281" y="616"/>
                  <a:pt x="270" y="584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1703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1:44:1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04:39Z</dcterms:modified>
  <cp:revision>4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