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7B3F-6885-441C-9FE7-3167614B3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3AE5-6339-4234-96F5-554E1609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E92D-356D-4BB3-B055-FB61BCF09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6C1C-0B43-44FC-B2ED-1F869D60F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39E4-16D0-4E3B-94C2-562331EC1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3AF9-AF46-4017-A1BD-1B71B8B1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3D122-CEF4-4A67-A4EA-D1638142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198E7-5B88-4C35-84B8-1C12A704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C79DF-F7CE-4E20-900E-33099D90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F0E2-033C-419F-A6BA-7C89A867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6CFE-6751-4429-84DF-FAF2D20A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52F8-6FBD-4EAD-8D82-01FB421B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97FC-FDBF-423C-86E9-1FC396E8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5A74-E0A3-4F9F-9A1A-2F9788F3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1FC7C-EEEA-4318-9769-32014202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881A-4BD1-46B4-BD7E-C85EB0156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7AFC-C356-4892-8FF9-A77E248D6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D801F-778C-4023-9248-6A6BA3887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73938-C4C2-4CED-ACC0-2F670457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909A1-3263-4A91-A243-90F335D9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21DA1-27D6-4AA5-ACDB-3CF025D3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B37DF-3F93-4EC9-B394-F60CA684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A627-B112-4AE6-BADC-6023A55E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2141F-52EC-4E41-BCAF-B914EA4E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E468D-F69A-4619-B6C0-4726A1FE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FC39B-920E-46E1-A66E-22508F5E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F5B37-5F60-46BB-B155-C313B4E2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99010-A6EA-4681-B7F7-D51B552C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FA23D-9F76-45E3-B48F-33713FDFB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167DD-D10E-48E0-89C0-9F1CE602A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A7C0A-33C3-49C5-91D3-414BA4B3D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DFE44-D31A-4EBB-AA9D-97F99C18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198B4-00BF-4FA0-AA86-BE7BC630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46EF-29F9-47DD-93D4-DDDB89C6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859BE-5F4E-4EE7-8792-95E46723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747B1-1299-45F9-A7BA-DD5CFD2E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01F5C-D016-4ADB-A30E-7E96D3C0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7FAEC-BDA3-4282-B35C-EE81FE91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A27D2-D90C-41AD-9309-A242DEDE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49EB4-A595-4EC5-8F24-F2D43E5A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9CFCD-639E-4BD0-836F-3B32E3DF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63F21-5DAC-4664-8BBA-5866725E4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DBEB2-C394-4C3B-9C3C-AA1707B4E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CA637-0D12-44EC-9D26-2322608B6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F049-80EC-424C-8274-BF47A0DA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AA49D-73B3-42A7-A904-59E9B6F9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1F6EA-A307-40B2-8001-A06EA45A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BD38D-B75F-4A66-8702-FCF64C1E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0BD4E-CBD8-48AC-B7B4-020909CD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73171-7DAD-4D61-A82A-84413FB5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A71FA-C8B6-4169-A877-8697431F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D676A-7630-4D60-A628-74B5A2B6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A6E14-5ABB-44F0-8F3A-BDB36E90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78E2C-E775-42B9-9A1F-79816E64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ED8AB-D377-4848-A1F4-B553310BF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4222-FF3D-4479-8DBB-1719C4DF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4B0EE-A035-424F-AF07-5A53625A6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55E11-D506-40DC-BBB8-B84007994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2494B-7F93-4AB5-8E6B-E0B703A9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B3BDE-9711-47BE-B4E4-6EAD3958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0A350-E887-42DD-9DD4-F1087E43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97CFA-F256-4CCC-83DD-F6E4F95D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BE03B-FB07-4A85-B3D1-5796707E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CC441-ACA2-4427-B623-8D56CF20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F6B87-F2F2-4AB7-9A27-73F77A42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5BE47-D372-40FA-80F4-70E4C534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0DAA-D969-46B9-B1B9-C599312E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F2F0D-9125-4B58-8C83-094B2432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7F9F3-886C-465F-BC26-0BFC1CD28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9438B-2733-49C2-995D-B3A3271DA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A5FF6-A40E-410A-903B-7B04E5C23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8853A-B56E-4031-8337-CB66ABB4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4B5AB-1563-4A66-B45F-DAE357B1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A40A2-CAC9-4082-94BF-E0EEB3E0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F5B19-3798-43A0-9C56-C7CEF5E1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E6A73-7E8D-40E2-90B0-72EAC547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41A41-1D28-4230-AB58-3CF54472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DA0F-AFA2-4990-A28E-32A7BDE4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5BA57-C44B-404C-B2CA-0ECDACF9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9A156-FBB5-430F-9F35-6D73E97C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20B85-05AD-4DEB-AE15-FF8D522D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1F38A-25B6-4091-92F3-DB93607A5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53223-6815-4058-8DD0-01FFC66DD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FC6B-38DD-4254-9140-BCCA8DE4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:\公用模板\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B757-0D5F-440F-AC8C-9144F151417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:\公用模板\2.jpg"/>
          <p:cNvPicPr/>
          <p:nvPr/>
        </p:nvPicPr>
        <p:blipFill>
          <a:blip r:embed="rId2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244D-A4D3-4CC5-B943-9295E574600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E:\公用模板\3.jp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2195-FD6C-4F12-825D-AE71263C756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E:\公用模板\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F601-CB7A-42C3-8E9E-FD1E3DD210B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E:\公用模板\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DADB-5732-472E-895D-E8111377695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E:\公用模板\6.jpg"/>
          <p:cNvPicPr/>
          <p:nvPr/>
        </p:nvPicPr>
        <p:blipFill>
          <a:blip r:embed="rId2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3BCD-246B-4200-AAF5-1A076AA9C6F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E:\公用模板\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45B1-28C8-4063-A596-BE8297C4CEB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beijing/" TargetMode="External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609120" y="4076280"/>
            <a:ext cx="324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066760" y="3068640"/>
            <a:ext cx="35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关于爱情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8"/>
          <p:cNvSpPr/>
          <p:nvPr/>
        </p:nvSpPr>
        <p:spPr>
          <a:xfrm>
            <a:off x="2195640" y="19177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　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1645F-BD49-4D16-9E9E-74B1804B19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340000" y="5877000"/>
            <a:ext cx="5807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背景图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7"/>
          <p:cNvSpPr/>
          <p:nvPr/>
        </p:nvSpPr>
        <p:spPr>
          <a:xfrm>
            <a:off x="2333520" y="3252960"/>
            <a:ext cx="147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观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08:57:2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07:51:05Z</dcterms:modified>
  <cp:revision>23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